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892-15F2-4D52-B1B3-39CCD93A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398-3DF1-4AC3-8B04-BAF5181E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55A-B9B2-4F61-8708-B411F888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F62-E520-49FF-AD0C-52C6B7D8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2DC1-F470-450B-B698-FEAFFD18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A410-A50D-46A5-9B49-19F95199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54DB-B37A-4DA3-8643-A7A297AC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E11D-42C5-4DCB-A329-44A6E07B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7472-B1E4-44FD-90BA-1925A67D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0846-7F92-4789-B99C-0B31C30A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3DC4-3887-4108-9D9F-FABABDCB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3B8-4FAC-49BE-97F4-58802FD3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768B-BA11-427C-A28A-BE950C98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F835-EDCC-4119-A6FA-ED6B83B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301B-40FB-4A9F-86AB-6951732D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C3D6-D9A6-4D9D-BE39-5879B0F4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C86E-E193-4B29-A4C6-F8D7F6DE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65FB-966B-45EA-8E67-2A28F6BD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21D76-4B9F-4D62-962D-40F608F7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0C67-24F0-47C8-9900-9E5698E5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5146-0938-4E72-9CA2-CF1F974A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189FE-A945-44D1-9427-5D637204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E9A-B7D8-49E8-899C-FB267C57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824A6-0914-4449-86F9-7F5B0FF4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93B6-1107-45CA-8011-C9AE4D8E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1B60-56AB-42E7-A0F5-AC25D8C9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2E392-13EA-4F62-9C75-3E706F5F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326F3-B78C-48F8-B2B3-C2D0D413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5FF0-CB1A-4DCD-9F86-FE98E534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9BAA-53AD-4D48-A747-64B89EFE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ABFC-16B9-4360-847D-D417AAD3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D067-8F9C-4140-B9C6-C720846C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C0D79-2ED5-42E3-9390-E00782D6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7B2-49DB-41FC-96AF-642D719C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39DE7-A342-4B48-B626-86CD999C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CFF07-FC9A-44DB-B8DB-B184C53E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81D38-5C82-4EC3-85BB-763485DA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39A4C-D497-4335-BCA2-D385BD3C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804F1-1CCB-45FE-9301-D5D84615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9330C-0D0B-47F4-89C0-3C981784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CF5C1-E679-4206-B9C7-6B4D9224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C6536-90F3-4CA8-B296-3E75230A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6E881-D1F9-4EC3-9CA1-5087B4ED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6DFAF-F936-4392-AC4A-49F5E4BA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3BC-F525-4BA0-A28B-402D56EF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690C3-5DB4-44BD-84B7-140715AE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C739B-D263-49C3-9B02-8E826F46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16393-08DD-4C5E-937C-FAB6B135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57C13-8D76-40A3-B361-176C4CC2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73BCF-5981-4887-9A7A-8CDC3D37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39DD4-DB79-4F40-B591-B0F6C45B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96D9A-5B53-4C6C-AEAC-515D6681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2F06D-F4E3-48CC-8CE3-62DCE036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BA01C-2F3A-431B-B144-7ED3C56A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CC3C3-B65C-4EE7-92AB-BA20ECC0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1C5-2F94-4AFC-BA1F-BDB2B0DC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423C6-7E4A-40C2-81FD-8633C66F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569-31E0-49DD-B40F-F5D60537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745-501E-444D-9BCC-342DDD82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E81-8593-47B3-A6A5-67DDDF15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5531-2902-4213-ABED-C4AEFC41F216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A250-4BD3-4293-BFD1-EE7E283C6759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0898-2732-4520-9692-5C01F3667C5E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B86B-4C46-468F-BD72-37DB500C7621}" type="slidenum">
              <a:rPr b="0" lang="fr-FR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B3E6-682F-4ACA-BDD0-BA29E341D543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214360"/>
            <a:ext cx="7024680" cy="1469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 И МЕТОДИКА ПРОВЕДЕНИЯ ЗАНЯТИЙ ПО ЛЫЖНОЙ ПОДГОТОВК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ДОШКОЛЬНИКАМИ 6 – 7 ЛЕТ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5292720" y="5300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ребенцева 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о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изкуль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ОУ«ДС № 68 г. Челябин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Этапы лыжной подготовк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пражнения на снежной целине (без лыжни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пражнения на лыжн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пражнения на пересеченной местности,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2771640" y="1946160"/>
            <a:ext cx="3745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пражнения на снежной целин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ередвижение ступающим шагом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(ходьба на лыжах с поочередным приподниманием носков лыж, прижимая задний конец лыжи к снегу, правая рука выносится вперед вместе с левой ногой и наоборот, туловище несколько наклонено вперед) -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азвитие «чувства лыж» и «чувства снега»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пражнения на месте в шеренгах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«Гармошка»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передвижение приставными шагами вправо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 влево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«Посадка лыжника»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- ноги слегка согнуты в коленях, лыжи прямо, туловище немного наклонено вперед, руки полусогнуты и опущены, смотреть прямо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жнения на снежной целине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Пружинка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пружинистые полуприседания на всей стопе без работы рук, с ритмичными взмахами рук вдоль туловища «Подпрыгивание»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Цапля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поочередно поднимать правую  и левую ногу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Утюг – разглаживаем снег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движения вперед – назад, в сторону одной лыжей, потом другой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Веер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поворот на месте переступанием влево и вправо вокруг пяток лыж на 180 градусов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Снежинка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поворот на месте вокруг пяток лыж на 360 градусов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Приседание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вначале наклонить туловище, потом присесть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жнения на снежной целине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жнения в движении :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Посадка лыжника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передвижение в посадке лыжника, передвижение в посадке с работой рук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Ёлочка» и «полуёлочка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ходьба ступающим шагом, слегка  разворачивая носки (носок) лыж наруж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Приседание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– разбежаться, присесть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Кто быстрее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– бег на скорость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Слалом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обходить змейкой фишк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«Воротики» – проходить через ворота из лыжных палок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Игры: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«Ходьба парами, тройками» - дети передвигаются по снежной целине, держась за руки, вдвоем, втроем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«Самокат» – передвигаются  на одной лыже. 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пражнения на лыжн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ередвижение скользящим шагом - скольжение на лыжах с поочередным отталкиванием то левой, то правой ногой. При отталкивании левой ногой правая сгибается в колене и выносится вперед, на нее переносится вес тела и происходит скольжение на правой лыже. Затем этот же цикл повторяется, но уже скользит левая нога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5" name="Рисунок 4" descr="C:\Users\Olga\Desktop\20171213_220416-1.jpg"/>
          <p:cNvPicPr/>
          <p:nvPr/>
        </p:nvPicPr>
        <p:blipFill>
          <a:blip r:embed="rId2"/>
          <a:stretch/>
        </p:blipFill>
        <p:spPr>
          <a:xfrm>
            <a:off x="971640" y="3141720"/>
            <a:ext cx="7416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жнения на лыжне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Посадка лыжника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скольжение в посадке лыжника, скольжение в посадке с работой рук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У кого меньше шагов»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- преодолеть отрезок лыжни за возможно меньшее количество длинных накатанных шагов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Чем дальше, тем лучше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– разбег, потом скольжение на двух лыжах до полной остановки в основной или низкой посадке лыжника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Кто быстрее» 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- скольжение парами, тройками на скорость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Торможение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ором – пятка одной лыжи выдвигается вперед в сторону, лыжа ставится на ребро и ею производится торможение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Franklin Gothic Book"/>
              </a:rPr>
              <a:t>«Повороты»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ереступанием в движении – смена направления движения, не теряя скорост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пражнения на лыжн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гра «Сороконожка» – соревнование колоннами, результат определяется по последнему участнику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стречная эстафета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вободное скольжение по лыжн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кольжение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 изменением темпа 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«быстро – медленно»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кольжение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«руки за спиной»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кольжение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 гимнастическими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алками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Picture 5" descr="C:\Users\Admin\Desktop\hello_html_36750b98.png"/>
          <p:cNvPicPr/>
          <p:nvPr/>
        </p:nvPicPr>
        <p:blipFill>
          <a:blip r:embed="rId2"/>
          <a:stretch/>
        </p:blipFill>
        <p:spPr>
          <a:xfrm>
            <a:off x="5364000" y="1916280"/>
            <a:ext cx="27972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жнения на пересеченной местност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ередвижение ступающим и скользящим шагом по пересеченной местности. Пересеченная местность – это участок со сложными условиями передвижения (подъёмами и спусками), предполагающими преодоление препятствий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одъёмы: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тупающим шагом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«лесенкой»,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«ёлочкой»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«полуёлочкой»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пуски: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 основной и низкой стойках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ередвижение «след в след»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4915080" y="2293920"/>
            <a:ext cx="4216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2816280" y="249228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708360" y="115560"/>
            <a:ext cx="4835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МОРОЗ НЕ ВЕЛИК, А СТОЯТЬ НЕ ВЕЛИТ»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ССКАЯ ПОСЛОВИЦА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ысокая двигательная активность детей на воздухе: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активизирует деятельность сердечнососудистой и дыхательной систем, обеспечивает повышенную доставку кислорода к органам и тканям, стимулирует обмен веществ, совершенствует деятельность центральной нервной системы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закаливает организм, придает бодрость, повышает   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аботоспособность и выносливост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тание на лыжах: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азвивает функцию равновес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пособствует развитию ориентировки в пространстве,                                         координации движений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крепляет голеностопный сустав, улучшает осанк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носит  удовольствие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ДЕТСТВО: ПРИМЕРНАЯ ОБРАЗОВАТЕЛЬНАЯ ПРОГРАММА ДОШКОЛЬНОГО ОБРАЗОВАНИЯ / Т. И. БАБАЕВА, А. Г. ГОГОБЕРИДЗЕ, О. В. СОЛНЦЕВА И ДР. — СПБ. 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ООО «ИЗДАТЕЛЬСТВО «ДЕТСТВО-ПРЕСС», 2014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В СООТВЕТСТВИИ С ФГОС ДО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Образовательная область «Физическое развитие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 – 4 года: ступающий шаг и повороты на месте на лыжах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 – 5 лет:  ходьба на лыжах — скользящий шаг, повороты на месте, подъемы на гору ступающим шагом и полуелочкой, правила надевания и переноса лыж под рукой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 – 6 лет: скользящий переменный лыжный ход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6 – 7 лет: ходьба на лыжах: скользящий попеременный двухшаговый ход на лыжах с палками, подъемы и спуски с горы в низкой и высокой стойк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29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РАБОЧАЯ ПРОГРАММА ПО ФИЗИЧЕСКОЙ КУЛЬТУР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ДЛЯ ДЕТЕЙ ПОДГОТОВИТЕЛЬНОЙ ГРУППЫ (6 -7 ЛЕТ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1300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Franklin Gothic Book"/>
              </a:rPr>
              <a:t>Лыжная подготовка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авила обращения с лыжами (способы переноски, формирование умения скреплять, надевать и снимать), основные требования к занятиям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ередвижение ступающим и скользящим шагом в различном темпе по снежной целине, лыжне, пересеченной местност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овороты переступанием вокруг пяток лыж на месте и в движени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одъёмы лесенкой, полуёлочкой, ёлочкой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пуски в основной и низкой стойках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Торможение упором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жнения, игры и эстафеты на лыжах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29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ПРЕДВАРИТЕЛЬНАЯ ПОДГОТОВКА К ЗАНЯТИЯМ ПО ЛЫЖАМ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ъявление родителям, содержащее требования к одежде лыжник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оверка исправности, ремонт, подбор и маркировка лыж для каждого ребенк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водное занятие (проводится в зале или на площадке в теплую безветренную погоду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5064120" y="3141720"/>
            <a:ext cx="354024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Medium"/>
              </a:rPr>
              <a:t>ОБЪЯВЛЕНИЕ РОДИТЕЛЯМ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62028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важаемые родители!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от и выпал долгожданный снежок! На следующей неделе начинаются занятия по лыжной подготовке. Пожалуйста, приготовьте для ребенка соответствующую одежду и обувь. Верхняя одежда (куртка и брюки) из непроницаемой ткани. Футболка, рубашка, свитер, колготки и шерстяные носки должны быть по размеру, плотно прилегать к телу. Варежки теплые, в меру свободные, желательно обшитые водонепроницаемой тканью. Шапочка вязаная шерстяная, закрывающая уши. Шарф лучше заменить свитером с высоким воротом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увь не должна быть тесной и тяжелой. Приготовьте обувь, в которой ребенок будет кататься на лыжах к (указать день), чтобы подогнать под неё крепление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29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ПОДБОР И МАРКИРОВКА ЛЫЖ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052280"/>
            <a:ext cx="822960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ля детей старшего дошкольного возраста длина лыж определяется с помощью поднятой вверх руки без учета кисти. Крепление может быть мягким, с резиновой петлей сзади или полужестким. Проследите, чтобы лыжи не имели сучков, трещин, шероховатостей на скользящей поверхности. Детские лыжи должны легко сниматься и одеваться. Плохо подогнанные лыжные крепления затрудняют передвижение детей по снегу, они быстро устают, раздражаются, отказываются от лыжных заняти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Лыжи подходят как деревянные, так и пластиковые. Особенно удобны пластиковые лыжи с чешуйчатой скользящей поверхностью: они не требуют смазки при изменении погоды. У каждого ребенка должны быть одни определенные (промаркированные) лыж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ВВОДНОЕ ЗАНЯТ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26828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Знакомство с лыжами, формирование умения надевать, снимать, скреплять, переносить лыж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авила передвижения на лыжах (соблюдать интервал, не отставать и не наезжать на лыжи впереди идущего; при падении во время передвижения постараться  быстро встать и продолжить движение; если слетело крепление, отойти в сторону, уступая дорогу идущим сзади)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ультурно-гигиенические требования (не ложиться на снег даже при сильной усталости; запрещено использовать снег для утоления жажды; недопустимо снимать шапочку и расстегиваться, когда стало жарко; после занятия очистить лыжи от снега, скрепить и поставить на место)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60280"/>
            <a:ext cx="822960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сновные требования к проведению занятий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оводить занятия в безветренную погоду при температуре не ниже –12° С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читывать особенности физического развития и физическую подготовленность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облюдать структуру занятия (вводная, основная, заключительная часть) с постепенным нарастанием и снижением нагрузки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спользовать методы обучения наглядный, словесный, практический, игровой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пособствовать удовлетворению потребности детей  в движении, получению  ими удовольствия от катания на лыжах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17:37Z</dcterms:created>
  <dc:creator>ppsworld.ru</dc:creator>
  <dc:description/>
  <dc:language>en-US</dc:language>
  <cp:lastModifiedBy>Юзверь</cp:lastModifiedBy>
  <dcterms:modified xsi:type="dcterms:W3CDTF">2022-04-26T09:15:19Z</dcterms:modified>
  <cp:revision>99</cp:revision>
  <dc:subject/>
  <dc:title>PRESENTATION  NAME</dc:title>
</cp:coreProperties>
</file>