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776-E029-4499-8B16-226BFCD2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3DB-3AE2-4E6F-87A5-2665485E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92C-4BF4-4E8B-85C5-D4179CA7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E97-2F8F-42C3-882F-095E609E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7931-ADBB-4656-B49C-5A2E49D6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774A-F415-47C0-A3E5-A8643B00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4183-8BDB-4909-AFE5-CEDBF465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E8B7-AFCF-4C40-893A-1FED4D5E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C925-B0AB-4A65-B47A-5596F44C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3A31-7F63-47B2-ADB9-42A8B33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23D0-C992-465E-9DB1-D490737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494-3E4E-4C0B-8481-91612FAF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D75D-B585-4D75-B4ED-2CC0FDC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581F-942F-423E-B6FB-EF6646A9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E782-1490-49EC-8F42-F36C0D0D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2E56-289F-456D-9217-3E1DB9EB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F4A4-115C-435C-B45C-30C4B524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CD311-BB51-43DC-849F-DDCC3B7D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A731-CECC-414B-B679-2171FE71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2783-B4FE-4188-A4F7-2355780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35FCC-9259-4F44-82E6-C5325E8E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0DB8-2F6C-421D-BB1D-A806334F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6A8-E550-4A23-A877-BF86DCCF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6BAB-BB35-4ABA-A16D-A5E1C621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FA75-5876-4FCE-9439-03F7F7C8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8C0A-707B-4794-9B26-BC1DE10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1B28-1FFE-45E8-BC48-8961DA16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4D1F-FE70-4F2C-AEBE-6DB422EF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16C5-8311-4C3A-BBE0-D58B3352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21DB-636A-458C-8A43-B57C1473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81AF-C4AE-4B43-ADED-E90AE85D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A7209-ECF8-4A81-8785-A6DCC05F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1BCF-9ABC-48A7-BFE0-0FA99896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932-7B1C-4843-AABF-B30190E1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0097-25F7-4860-AB25-BA36EF5E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4F4F1-8E48-4EDB-9DF5-BBC7F662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C1AD7-B66F-4114-9606-48C16CBA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F1F0-66D8-4344-8E45-91DB0EB9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7DA0A-0783-4741-BC92-ECAFE1B4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626B-D977-4790-BEA0-1EBBC476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5C6B-60E3-4D88-88D6-3CAD04A5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DE63-65E0-4E7D-A57E-61BFFD85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5835-8577-4936-BE79-FAA894C9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60F1-4391-4EE8-ACAA-C8D49D3C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D47-6D59-46AE-AAED-F92623AE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20F9D-16D9-486F-AF1B-3E5AAE6D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E3C6F-7A01-4302-A113-92F66883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90940-B759-4391-AB88-0FCA803E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0959-4D03-4A3D-97DC-70FC5B4D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EF9C-1224-42F8-B664-211828AB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C906-6DA9-4AB1-A18E-8A0216C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A0021-BE29-4AEE-A68B-CEA961E0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A8D9E-C1BA-4718-904F-16C46989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D2B1-E0E8-4028-8F98-34A48C9E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6F271-9F3B-4BBF-A1B1-B11CDF44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B2A-4699-46B8-99B6-342B1005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DA325-07FF-4747-994D-FC32DACA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DAC-985F-4493-9BB1-8524B40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214-C1BB-410D-991F-2DBC76C2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AB1-9353-4C48-A627-1BB8695F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9023-478B-41B4-AC20-4C277C4947A0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54BC-88A6-49E1-AB4B-920039515346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9278-6804-4F39-8C36-B26DB99C4E25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2629-3C67-4C57-86A8-12FF4F8F04F9}" type="slidenum">
              <a:rPr b="0" lang="fr-FR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668A-704C-4940-8738-103F35479EA1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214360"/>
            <a:ext cx="702468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И МЕТОДИКА ПРОВЕДЕНИЯ ЗАНЯТИЙ ПО ЛЫЖНОЙ ПОДГОТОВК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ДОШКОЛЬНИКАМИ 6 – 7 ЛЕ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5292720" y="530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ребенцева 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о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из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ОУ«ДС № 68 г. Челябин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Этапы лыжной подготовк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снежной целине (без лыжни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лыжн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пересеченной местности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2771640" y="1946160"/>
            <a:ext cx="3745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снежной целин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едвижение ступающим шагом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ходьба на лыжах с поочередным приподниманием носков лыж, прижимая задний конец лыжи к снегу, правая рука выносится вперед вместе с левой ногой и наоборот, туловище несколько наклонено вперед) -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звитие «чувства лыж» и «чувства снега»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месте в шеренгах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«Гармошка»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передвижение приставными шагами вправ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 влев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«Посадка лыжника»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ноги слегка согнуты в коленях, лыжи прямо, туловище немного наклонено вперед, руки полусогнуты и опущены, смотреть прям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на снежной целин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ружин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ружинистые полуприседания на всей стопе без работы рук, с ритмичными взмахами рук вдоль туловища «Подпрыгивание»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Цапля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оочередно поднимать правую  и левую ногу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Утюг – разглаживаем снег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движения вперед – назад, в сторону одной лыжей, потом другой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Веер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оворот на месте переступанием влево и вправо вокруг пяток лыж на 180 градусов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Снежин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оворот на месте вокруг пяток лыж на 360 градусов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риседани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вначале наклонить туловище, потом присе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на снежной целин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в движении 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осадка лыжни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ередвижение в посадке лыжника, передвижение в посадке с работой рук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Ёлочка» и «полуёлоч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ходьба ступающим шагом, слегка  разворачивая носки (носок) лыж наруж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риседани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– разбежаться, присе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Кто быстре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– бег на скоро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Слалом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обходить змейкой фишк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Воротики» – проходить через ворота из лыжных палок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Игры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Ходьба парами, тройками» - дети передвигаются по снежной целине, держась за руки, вдвоем, втроем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Самокат» – передвигаются  на одной лыже. 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лыжн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едвижение скользящим шагом - скольжение на лыжах с поочередным отталкиванием то левой, то правой ногой. При отталкивании левой ногой правая сгибается в колене и выносится вперед, на нее переносится вес тела и происходит скольжение на правой лыже. Затем этот же цикл повторяется, но уже скользит левая нога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5" name="Рисунок 4" descr="C:\Users\Olga\Desktop\20171213_220416-1.jpg"/>
          <p:cNvPicPr/>
          <p:nvPr/>
        </p:nvPicPr>
        <p:blipFill>
          <a:blip r:embed="rId2"/>
          <a:stretch/>
        </p:blipFill>
        <p:spPr>
          <a:xfrm>
            <a:off x="971640" y="3141720"/>
            <a:ext cx="7416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на лыжн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осадка лыжни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скольжение в посадке лыжника, скольжение в посадке с работой рук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У кого меньше шагов»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- преодолеть отрезок лыжни за возможно меньшее количество длинных накатанных шагов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Чем дальше, тем лучш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– разбег, потом скольжение на двух лыжах до полной остановки в основной или низкой посадке лыжника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Кто быстрее»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скольжение парами, тройками на скоро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Торможени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ором – пятка одной лыжи выдвигается вперед в сторону, лыжа ставится на ребро и ею производится торможение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овороты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ступанием в движении – смена направления движения, не теряя скор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на лыжн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гра «Сороконожка» – соревнование колоннами, результат определяется по последнему участнику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стречная эстафета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вободное скольжение по лыжн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кольжени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изменением темпа 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быстро – медленно»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кольжени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руки за спиной»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кольжени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гимнастическими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алкам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5" descr="C:\Users\Admin\Desktop\hello_html_36750b98.png"/>
          <p:cNvPicPr/>
          <p:nvPr/>
        </p:nvPicPr>
        <p:blipFill>
          <a:blip r:embed="rId2"/>
          <a:stretch/>
        </p:blipFill>
        <p:spPr>
          <a:xfrm>
            <a:off x="5364000" y="1916280"/>
            <a:ext cx="27972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на пересеченной местн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движение ступающим и скользящим шагом по пересеченной местности. Пересеченная местность – это участок со сложными условиями передвижения (подъёмами и спусками), предполагающими преодоление препятствий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одъёмы: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тупающим шагом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лесенкой»,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ёлочкой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полуёлочкой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пуски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 основной и низкой стойках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движение «след в след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4915080" y="2293920"/>
            <a:ext cx="4216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2816280" y="249228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708360" y="115560"/>
            <a:ext cx="4835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МОРОЗ НЕ ВЕЛИК, А СТОЯТЬ НЕ ВЕЛИТ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ССКАЯ ПОСЛОВИЦА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сокая двигательная активность детей на воздухе: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активизирует деятельность сердечнососудистой и дыхательной систем, обеспечивает повышенную доставку кислорода к органам и тканям, стимулирует обмен веществ, совершенствует деятельность центральной нервной системы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закаливает организм, придает бодрость, повышает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ботоспособность и выносливос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тание на лыжах: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звивает функцию равновес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пособствует развитию ориентировки в пространстве,                                         координации движений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крепляет голеностопный сустав, улучшает осанк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носит  удовольствие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ДЕТСТВО: ПРИМЕРНАЯ ОБРАЗОВАТЕЛЬНАЯ ПРОГРАММА ДОШКОЛЬНОГО ОБРАЗОВАНИЯ / Т. И. БАБАЕВА, А. Г. ГОГОБЕРИДЗЕ, О. В. СОЛНЦЕВА И ДР. — СПБ. 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ООО «ИЗДАТЕЛЬСТВО «ДЕТСТВО-ПРЕСС», 2014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В СООТВЕТСТВИИ С ФГОС ДО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Образовательная область «Физическое развитие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 – 4 года: ступающий шаг и повороты на месте на лыжах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 – 5 лет:  ходьба на лыжах — скользящий шаг, повороты на месте, подъемы на гору ступающим шагом и полуелочкой, правила надевания и переноса лыж под рукой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 – 6 лет: скользящий переменный лыжный ход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6 – 7 лет: ходьба на лыжах: скользящий попеременный двухшаговый ход на лыжах с палками, подъемы и спуски с горы в низкой и высокой стойк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РАБОЧАЯ ПРОГРАММА ПО ФИЗИЧЕСКОЙ КУЛЬТУР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ДЛЯ ДЕТЕЙ ПОДГОТОВИТЕЛЬНОЙ ГРУППЫ (6 -7 ЛЕТ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1300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Franklin Gothic Book"/>
              </a:rPr>
              <a:t>Лыжная подготовка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авила обращения с лыжами (способы переноски, формирование умения скреплять, надевать и снимать), основные требования к занятиям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движение ступающим и скользящим шагом в различном темпе по снежной целине, лыжне, пересеченной местн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овороты переступанием вокруг пяток лыж на месте и в движени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одъёмы лесенкой, полуёлочкой, ёлочкой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пуски в основной и низкой стойках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Торможение упором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, игры и эстафеты на лыжах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РЕДВАРИТЕЛЬНАЯ ПОДГОТОВКА К ЗАНЯТИЯМ ПО ЛЫЖАМ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ъявление родителям, содержащее требования к одежде лыжник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оверка исправности, ремонт, подбор и маркировка лыж для каждого ребенк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водное занятие (проводится в зале или на площадке в теплую безветренную погоду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064120" y="3141720"/>
            <a:ext cx="35402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ОБЪЯВЛЕНИЕ РОДИТЕЛЯМ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6202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важаемые родители!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от и выпал долгожданный снежок! На следующей неделе начинаются занятия по лыжной подготовке. Пожалуйста, приготовьте для ребенка соответствующую одежду и обувь. Верхняя одежда (куртка и брюки) из непроницаемой ткани. Футболка, рубашка, свитер, колготки и шерстяные носки должны быть по размеру, плотно прилегать к телу. Варежки теплые, в меру свободные, желательно обшитые водонепроницаемой тканью. Шапочка вязаная шерстяная, закрывающая уши. Шарф лучше заменить свитером с высоким воротом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увь не должна быть тесной и тяжелой. Приготовьте обувь, в которой ребенок будет кататься на лыжах к (указать день), чтобы подогнать под неё крепление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ОДБОР И МАРКИРОВКА ЛЫЖ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ля детей старшего дошкольного возраста длина лыж определяется с помощью поднятой вверх руки без учета кисти. Крепление может быть мягким, с резиновой петлей сзади или полужестким. Проследите, чтобы лыжи не имели сучков, трещин, шероховатостей на скользящей поверхности. Детские лыжи должны легко сниматься и одеваться. Плохо подогнанные лыжные крепления затрудняют передвижение детей по снегу, они быстро устают, раздражаются, отказываются от лыжных заняти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Лыжи подходят как деревянные, так и пластиковые. Особенно удобны пластиковые лыжи с чешуйчатой скользящей поверхностью: они не требуют смазки при изменении погоды. У каждого ребенка должны быть одни определенные (промаркированные) лыж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ВВОДНОЕ ЗАНЯТ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6828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Знакомство с лыжами, формирование умения надевать, снимать, скреплять, переносить лыж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авила передвижения на лыжах (соблюдать интервал, не отставать и не наезжать на лыжи впереди идущего; при падении во время передвижения постараться  быстро встать и продолжить движение; если слетело крепление, отойти в сторону, уступая дорогу идущим сзади)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ультурно-гигиенические требования (не ложиться на снег даже при сильной усталости; запрещено использовать снег для утоления жажды; недопустимо снимать шапочку и расстегиваться, когда стало жарко; после занятия очистить лыжи от снега, скрепить и поставить на место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сновные требования к проведению занятий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оводить занятия в безветренную погоду при температуре не ниже –12° С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читывать особенности физического развития и физическую подготовленность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облюдать структуру занятия (вводная, основная, заключительная часть) с постепенным нарастанием и снижением нагрузки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спользовать методы обучения наглядный, словесный, практический, игрово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пособствовать удовлетворению потребности детей  в движении, получению  ими удовольствия от катания на лыжах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17:37Z</dcterms:created>
  <dc:creator>ppsworld.ru</dc:creator>
  <dc:description/>
  <dc:language>en-US</dc:language>
  <cp:lastModifiedBy>Юзверь</cp:lastModifiedBy>
  <dcterms:modified xsi:type="dcterms:W3CDTF">2022-04-26T09:15:19Z</dcterms:modified>
  <cp:revision>99</cp:revision>
  <dc:subject/>
  <dc:title>PRESENTATION  NAME</dc:title>
</cp:coreProperties>
</file>