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1.png" ContentType="image/png"/>
  <Override PartName="/ppt/media/image7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5145088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-360"/>
            <a:ext cx="29462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422280" y="1240920"/>
            <a:ext cx="5952960" cy="3349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7792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9462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9840"/>
            <a:ext cx="29462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65AF0-E70B-4837-8663-C0080297EE3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79320" y="477792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Номер слайда 3"/>
          <p:cNvSpPr/>
          <p:nvPr/>
        </p:nvSpPr>
        <p:spPr>
          <a:xfrm>
            <a:off x="3849840" y="9429840"/>
            <a:ext cx="294624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02CB8-20F0-4080-89A8-10318CB7A53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C3203-D78A-4C70-98C3-E64E5FC4F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4084F-BCE7-4742-8907-C70BF5C6C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682C7-9E6C-4F66-953B-7464BE031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FDE2C-BAE1-4962-8CFD-264C7A57D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D4D1D-1A51-4688-8B2B-92F9D64A3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3CED1-F6F5-4927-BE4A-8300612B0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35D8D-695E-42C8-8582-01CC544D0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9E923-ADC6-4F0F-B3FE-F61A02DC3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CDAE6-B2CC-4D33-A05B-A21344D46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D9D6D-E6E1-4955-AEAB-0D6085513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BCF4F-5420-40A0-85EC-52AA60C2A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D6ABD-192C-4CC9-8C6D-515A2122B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62A9B-E289-4EBD-8D92-47E7D801312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3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Пятиугольник 2"/>
          <p:cNvGrpSpPr/>
          <p:nvPr/>
        </p:nvGrpSpPr>
        <p:grpSpPr>
          <a:xfrm>
            <a:off x="-12600" y="-23760"/>
            <a:ext cx="9169200" cy="438120"/>
            <a:chOff x="-12600" y="-23760"/>
            <a:chExt cx="9169200" cy="438120"/>
          </a:xfrm>
        </p:grpSpPr>
        <p:pic>
          <p:nvPicPr>
            <p:cNvPr id="49" name="Пятиугольник 2" descr=""/>
            <p:cNvPicPr/>
            <p:nvPr/>
          </p:nvPicPr>
          <p:blipFill>
            <a:blip r:embed="rId1"/>
            <a:stretch/>
          </p:blipFill>
          <p:spPr>
            <a:xfrm>
              <a:off x="-12600" y="-23760"/>
              <a:ext cx="9169200" cy="43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 rot="10800000">
              <a:off x="0" y="-9360"/>
              <a:ext cx="914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1" name="Пятиугольник 2"/>
          <p:cNvSpPr/>
          <p:nvPr/>
        </p:nvSpPr>
        <p:spPr>
          <a:xfrm rot="10800000">
            <a:off x="678960" y="320400"/>
            <a:ext cx="7877160" cy="303120"/>
          </a:xfrm>
          <a:custGeom>
            <a:avLst/>
            <a:gdLst/>
            <a:ahLst/>
            <a:rect l="l" t="t" r="r" b="b"/>
            <a:pathLst>
              <a:path w="7464124" h="936104">
                <a:moveTo>
                  <a:pt x="0" y="0"/>
                </a:moveTo>
                <a:lnTo>
                  <a:pt x="6743688" y="0"/>
                </a:lnTo>
                <a:lnTo>
                  <a:pt x="7230215" y="625070"/>
                </a:lnTo>
                <a:lnTo>
                  <a:pt x="7464124" y="926867"/>
                </a:lnTo>
                <a:lnTo>
                  <a:pt x="0" y="936104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284d7a"/>
              </a:gs>
              <a:gs pos="100000">
                <a:srgbClr val="6796c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K:\АКАДЕМИЯ_ЯНВАРЬ_2017\АКАДЕМИЯ_ПРЕЗЕНТАЦИИ_ШАБЛОНЫ\шаблон для презентации академии\баннер светлый длин.png"/>
          <p:cNvPicPr/>
          <p:nvPr/>
        </p:nvPicPr>
        <p:blipFill>
          <a:blip r:embed="rId2"/>
          <a:stretch/>
        </p:blipFill>
        <p:spPr>
          <a:xfrm>
            <a:off x="-19080" y="4316400"/>
            <a:ext cx="9255240" cy="961920"/>
          </a:xfrm>
          <a:prstGeom prst="rect">
            <a:avLst/>
          </a:prstGeom>
          <a:ln w="0">
            <a:noFill/>
          </a:ln>
        </p:spPr>
      </p:pic>
      <p:sp>
        <p:nvSpPr>
          <p:cNvPr id="53" name="TextBox 1"/>
          <p:cNvSpPr/>
          <p:nvPr/>
        </p:nvSpPr>
        <p:spPr>
          <a:xfrm>
            <a:off x="1403280" y="1531800"/>
            <a:ext cx="6624720" cy="26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d588b"/>
                </a:solidFill>
                <a:latin typeface="Calibri"/>
                <a:ea typeface="Times New Roman"/>
              </a:rPr>
              <a:t>БИОЛОГ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d588b"/>
                </a:solidFill>
                <a:latin typeface="Calibri"/>
                <a:ea typeface="Times New Roman"/>
              </a:rPr>
              <a:t>Тема урока</a:t>
            </a:r>
            <a:r>
              <a:rPr b="0" lang="ru-RU" sz="2400" spc="-1" strike="noStrike">
                <a:solidFill>
                  <a:srgbClr val="2d588b"/>
                </a:solidFill>
                <a:latin typeface="Calibri"/>
                <a:ea typeface="Times New Roman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d588b"/>
                </a:solidFill>
                <a:latin typeface="Calibri"/>
                <a:ea typeface="Times New Roman"/>
              </a:rPr>
              <a:t>Индивидуальное развитие организм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d588b"/>
                </a:solidFill>
                <a:latin typeface="Calibri"/>
                <a:ea typeface="Times New Roman"/>
              </a:rPr>
              <a:t>(онтогенез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8"/>
          <p:cNvSpPr/>
          <p:nvPr/>
        </p:nvSpPr>
        <p:spPr>
          <a:xfrm>
            <a:off x="4314600" y="3929040"/>
            <a:ext cx="4885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d588b"/>
                </a:solidFill>
                <a:latin typeface="Calibri"/>
                <a:ea typeface="Times New Roman"/>
              </a:rPr>
              <a:t>Учитель биологии: Коваленко Екатерина Михайловна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4"/>
          <p:cNvSpPr/>
          <p:nvPr/>
        </p:nvSpPr>
        <p:spPr>
          <a:xfrm>
            <a:off x="241200" y="765000"/>
            <a:ext cx="8640720" cy="898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ОРГАНОГЕНЕЗ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Calibri"/>
              </a:rPr>
              <a:t>закладка из зародышевых листков различных органов, специализация клето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6" name="Picture 8" descr=""/>
          <p:cNvPicPr/>
          <p:nvPr/>
        </p:nvPicPr>
        <p:blipFill>
          <a:blip r:embed="rId1"/>
          <a:stretch/>
        </p:blipFill>
        <p:spPr>
          <a:xfrm>
            <a:off x="3492360" y="3219480"/>
            <a:ext cx="1998720" cy="1836720"/>
          </a:xfrm>
          <a:prstGeom prst="rect">
            <a:avLst/>
          </a:prstGeom>
          <a:ln w="0">
            <a:noFill/>
          </a:ln>
        </p:spPr>
      </p:pic>
      <p:sp>
        <p:nvSpPr>
          <p:cNvPr id="137" name="Скругленный прямоугольник 14"/>
          <p:cNvSpPr/>
          <p:nvPr/>
        </p:nvSpPr>
        <p:spPr>
          <a:xfrm>
            <a:off x="5280120" y="2065320"/>
            <a:ext cx="3600360" cy="1073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Прямоугольник 13"/>
          <p:cNvSpPr/>
          <p:nvPr/>
        </p:nvSpPr>
        <p:spPr>
          <a:xfrm>
            <a:off x="5867280" y="2139840"/>
            <a:ext cx="270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цесс развития тканей зародыша - </a:t>
            </a:r>
            <a:r>
              <a:rPr b="1" i="1" lang="ru-RU" sz="18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гистогенез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9" name="Группа 1"/>
          <p:cNvGrpSpPr/>
          <p:nvPr/>
        </p:nvGrpSpPr>
        <p:grpSpPr>
          <a:xfrm>
            <a:off x="-9360" y="-34920"/>
            <a:ext cx="9145440" cy="709560"/>
            <a:chOff x="-9360" y="-34920"/>
            <a:chExt cx="9145440" cy="709560"/>
          </a:xfrm>
        </p:grpSpPr>
        <p:grpSp>
          <p:nvGrpSpPr>
            <p:cNvPr id="140" name="Пятиугольник 2"/>
            <p:cNvGrpSpPr/>
            <p:nvPr/>
          </p:nvGrpSpPr>
          <p:grpSpPr>
            <a:xfrm>
              <a:off x="-9360" y="-34920"/>
              <a:ext cx="9145440" cy="430560"/>
              <a:chOff x="-9360" y="-34920"/>
              <a:chExt cx="9145440" cy="430560"/>
            </a:xfrm>
          </p:grpSpPr>
          <p:pic>
            <p:nvPicPr>
              <p:cNvPr id="141" name="Пятиугольник 2" descr=""/>
              <p:cNvPicPr/>
              <p:nvPr/>
            </p:nvPicPr>
            <p:blipFill>
              <a:blip r:embed="rId2"/>
              <a:stretch/>
            </p:blipFill>
            <p:spPr>
              <a:xfrm>
                <a:off x="-9360" y="-34920"/>
                <a:ext cx="9145440" cy="430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2" name=""/>
              <p:cNvSpPr/>
              <p:nvPr/>
            </p:nvSpPr>
            <p:spPr>
              <a:xfrm rot="10800000">
                <a:off x="5400" y="-21600"/>
                <a:ext cx="9115200" cy="40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43" name="Пятиугольник 2"/>
            <p:cNvSpPr/>
            <p:nvPr/>
          </p:nvSpPr>
          <p:spPr>
            <a:xfrm rot="10800000">
              <a:off x="1269720" y="375480"/>
              <a:ext cx="7852320" cy="298800"/>
            </a:xfrm>
            <a:custGeom>
              <a:avLst/>
              <a:gdLst/>
              <a:ahLst/>
              <a:rect l="l" t="t" r="r" b="b"/>
              <a:pathLst>
                <a:path w="7464124" h="936104">
                  <a:moveTo>
                    <a:pt x="0" y="0"/>
                  </a:moveTo>
                  <a:lnTo>
                    <a:pt x="6743688" y="0"/>
                  </a:lnTo>
                  <a:lnTo>
                    <a:pt x="7230215" y="625070"/>
                  </a:lnTo>
                  <a:lnTo>
                    <a:pt x="7464124" y="926867"/>
                  </a:lnTo>
                  <a:lnTo>
                    <a:pt x="0" y="936104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84d7a"/>
                </a:gs>
                <a:gs pos="100000">
                  <a:srgbClr val="6796c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4" name="Скругленный прямоугольник 21"/>
          <p:cNvSpPr/>
          <p:nvPr/>
        </p:nvSpPr>
        <p:spPr>
          <a:xfrm>
            <a:off x="241200" y="2065320"/>
            <a:ext cx="3600720" cy="1073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каждого зародышевого листка формируется определенные ткани и органы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Скругленный прямоугольник 4"/>
          <p:cNvSpPr/>
          <p:nvPr/>
        </p:nvSpPr>
        <p:spPr>
          <a:xfrm>
            <a:off x="406440" y="781200"/>
            <a:ext cx="8640720" cy="1288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ПРЯМОЕ ПОСТЭМБИОНАЛЬНОЕ РАЗВИТИЕ – </a:t>
            </a:r>
            <a:r>
              <a:rPr b="1" lang="ru-RU" sz="1800" spc="-1" strike="noStrike">
                <a:solidFill>
                  <a:srgbClr val="8064a2"/>
                </a:solidFill>
                <a:latin typeface="Calibri"/>
                <a:ea typeface="Times New Roman"/>
              </a:rPr>
              <a:t>развитие, при котором </a:t>
            </a:r>
            <a:r>
              <a:rPr b="1" lang="ru-RU" sz="1800" spc="-1" strike="noStrike">
                <a:solidFill>
                  <a:srgbClr val="7030a0"/>
                </a:solidFill>
                <a:latin typeface="Calibri"/>
                <a:ea typeface="Times New Roman"/>
              </a:rPr>
              <a:t>из яйцевых оболочек или из тела матери выходит организм со всеми органами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Calibri"/>
                <a:ea typeface="Times New Roman"/>
              </a:rPr>
              <a:t>свойственными взрослому животному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" name="Picture 6" descr="mor-vir3"/>
          <p:cNvPicPr/>
          <p:nvPr/>
        </p:nvPicPr>
        <p:blipFill>
          <a:blip r:embed="rId1"/>
          <a:stretch/>
        </p:blipFill>
        <p:spPr>
          <a:xfrm>
            <a:off x="3986280" y="3103560"/>
            <a:ext cx="2438280" cy="36021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5" descr="seamammal04"/>
          <p:cNvPicPr/>
          <p:nvPr/>
        </p:nvPicPr>
        <p:blipFill>
          <a:blip r:embed="rId2"/>
          <a:stretch/>
        </p:blipFill>
        <p:spPr>
          <a:xfrm>
            <a:off x="231840" y="2225520"/>
            <a:ext cx="2432160" cy="34070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7" descr="049056054124052057054057050052"/>
          <p:cNvPicPr/>
          <p:nvPr/>
        </p:nvPicPr>
        <p:blipFill>
          <a:blip r:embed="rId3"/>
          <a:stretch/>
        </p:blipFill>
        <p:spPr>
          <a:xfrm>
            <a:off x="6473880" y="2792520"/>
            <a:ext cx="2590920" cy="3627360"/>
          </a:xfrm>
          <a:prstGeom prst="rect">
            <a:avLst/>
          </a:prstGeom>
          <a:ln w="0">
            <a:noFill/>
          </a:ln>
        </p:spPr>
      </p:pic>
      <p:sp>
        <p:nvSpPr>
          <p:cNvPr id="149" name="TextBox 12"/>
          <p:cNvSpPr/>
          <p:nvPr/>
        </p:nvSpPr>
        <p:spPr>
          <a:xfrm>
            <a:off x="3330720" y="2193840"/>
            <a:ext cx="259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Calibri"/>
                <a:ea typeface="Times New Roman"/>
              </a:rPr>
              <a:t>МЛЕКОПИТАЮЩИ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Calibri"/>
                <a:ea typeface="Times New Roman"/>
              </a:rPr>
              <a:t>ПТИЦ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Calibri"/>
                <a:ea typeface="Times New Roman"/>
              </a:rPr>
              <a:t>РЕПТИЛИИ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0" name="Группа 1"/>
          <p:cNvGrpSpPr/>
          <p:nvPr/>
        </p:nvGrpSpPr>
        <p:grpSpPr>
          <a:xfrm>
            <a:off x="0" y="-9360"/>
            <a:ext cx="9145440" cy="709200"/>
            <a:chOff x="0" y="-9360"/>
            <a:chExt cx="9145440" cy="709200"/>
          </a:xfrm>
        </p:grpSpPr>
        <p:grpSp>
          <p:nvGrpSpPr>
            <p:cNvPr id="151" name="Пятиугольник 2"/>
            <p:cNvGrpSpPr/>
            <p:nvPr/>
          </p:nvGrpSpPr>
          <p:grpSpPr>
            <a:xfrm>
              <a:off x="0" y="-9360"/>
              <a:ext cx="9145440" cy="435960"/>
              <a:chOff x="0" y="-9360"/>
              <a:chExt cx="9145440" cy="435960"/>
            </a:xfrm>
          </p:grpSpPr>
          <p:pic>
            <p:nvPicPr>
              <p:cNvPr id="152" name="Пятиугольник 2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-9360"/>
                <a:ext cx="9145440" cy="435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3" name=""/>
              <p:cNvSpPr/>
              <p:nvPr/>
            </p:nvSpPr>
            <p:spPr>
              <a:xfrm rot="10800000">
                <a:off x="11880" y="4680"/>
                <a:ext cx="9115200" cy="40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54" name="Пятиугольник 2"/>
            <p:cNvSpPr/>
            <p:nvPr/>
          </p:nvSpPr>
          <p:spPr>
            <a:xfrm rot="10800000">
              <a:off x="1276560" y="401040"/>
              <a:ext cx="7852320" cy="298440"/>
            </a:xfrm>
            <a:custGeom>
              <a:avLst/>
              <a:gdLst/>
              <a:ahLst/>
              <a:rect l="l" t="t" r="r" b="b"/>
              <a:pathLst>
                <a:path w="7464124" h="936104">
                  <a:moveTo>
                    <a:pt x="0" y="0"/>
                  </a:moveTo>
                  <a:lnTo>
                    <a:pt x="6743688" y="0"/>
                  </a:lnTo>
                  <a:lnTo>
                    <a:pt x="7230215" y="625070"/>
                  </a:lnTo>
                  <a:lnTo>
                    <a:pt x="7464124" y="926867"/>
                  </a:lnTo>
                  <a:lnTo>
                    <a:pt x="0" y="936104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84d7a"/>
                </a:gs>
                <a:gs pos="100000">
                  <a:srgbClr val="6796c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55" name="Рисунок 2" descr=""/>
          <p:cNvPicPr/>
          <p:nvPr/>
        </p:nvPicPr>
        <p:blipFill>
          <a:blip r:embed="rId5"/>
          <a:stretch/>
        </p:blipFill>
        <p:spPr>
          <a:xfrm>
            <a:off x="1835280" y="3495600"/>
            <a:ext cx="1887480" cy="154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C:\Users\Омега\Desktop\Рисунок6.png"/>
          <p:cNvPicPr/>
          <p:nvPr/>
        </p:nvPicPr>
        <p:blipFill>
          <a:blip r:embed="rId1"/>
          <a:stretch/>
        </p:blipFill>
        <p:spPr>
          <a:xfrm>
            <a:off x="2340000" y="2457360"/>
            <a:ext cx="4753080" cy="2705040"/>
          </a:xfrm>
          <a:prstGeom prst="rect">
            <a:avLst/>
          </a:prstGeom>
          <a:ln w="0">
            <a:noFill/>
          </a:ln>
        </p:spPr>
      </p:pic>
      <p:sp>
        <p:nvSpPr>
          <p:cNvPr id="157" name="Скругленный прямоугольник 4"/>
          <p:cNvSpPr/>
          <p:nvPr/>
        </p:nvSpPr>
        <p:spPr>
          <a:xfrm>
            <a:off x="1728720" y="765000"/>
            <a:ext cx="5742000" cy="70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НЕПРЯМОЕ ПОСТЭМБИОНАЛЬНОЕ РАЗВИТИЕ- развитие с метаморфозо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8" name="Группа 1"/>
          <p:cNvGrpSpPr/>
          <p:nvPr/>
        </p:nvGrpSpPr>
        <p:grpSpPr>
          <a:xfrm>
            <a:off x="0" y="-9360"/>
            <a:ext cx="9145440" cy="709200"/>
            <a:chOff x="0" y="-9360"/>
            <a:chExt cx="9145440" cy="709200"/>
          </a:xfrm>
        </p:grpSpPr>
        <p:grpSp>
          <p:nvGrpSpPr>
            <p:cNvPr id="159" name="Пятиугольник 2"/>
            <p:cNvGrpSpPr/>
            <p:nvPr/>
          </p:nvGrpSpPr>
          <p:grpSpPr>
            <a:xfrm>
              <a:off x="0" y="-9360"/>
              <a:ext cx="9145440" cy="435960"/>
              <a:chOff x="0" y="-9360"/>
              <a:chExt cx="9145440" cy="435960"/>
            </a:xfrm>
          </p:grpSpPr>
          <p:pic>
            <p:nvPicPr>
              <p:cNvPr id="160" name="Пятиугольник 2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-9360"/>
                <a:ext cx="9145440" cy="435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1" name=""/>
              <p:cNvSpPr/>
              <p:nvPr/>
            </p:nvSpPr>
            <p:spPr>
              <a:xfrm rot="10800000">
                <a:off x="11880" y="4680"/>
                <a:ext cx="9115200" cy="40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62" name="Пятиугольник 2"/>
            <p:cNvSpPr/>
            <p:nvPr/>
          </p:nvSpPr>
          <p:spPr>
            <a:xfrm rot="10800000">
              <a:off x="1276560" y="401040"/>
              <a:ext cx="7852320" cy="298440"/>
            </a:xfrm>
            <a:custGeom>
              <a:avLst/>
              <a:gdLst/>
              <a:ahLst/>
              <a:rect l="l" t="t" r="r" b="b"/>
              <a:pathLst>
                <a:path w="7464124" h="936104">
                  <a:moveTo>
                    <a:pt x="0" y="0"/>
                  </a:moveTo>
                  <a:lnTo>
                    <a:pt x="6743688" y="0"/>
                  </a:lnTo>
                  <a:lnTo>
                    <a:pt x="7230215" y="625070"/>
                  </a:lnTo>
                  <a:lnTo>
                    <a:pt x="7464124" y="926867"/>
                  </a:lnTo>
                  <a:lnTo>
                    <a:pt x="0" y="936104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84d7a"/>
                </a:gs>
                <a:gs pos="100000">
                  <a:srgbClr val="6796c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3" name="Прямоугольник 5"/>
          <p:cNvSpPr/>
          <p:nvPr/>
        </p:nvSpPr>
        <p:spPr>
          <a:xfrm>
            <a:off x="149400" y="1487520"/>
            <a:ext cx="8901000" cy="119124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Из яйца выходит личинка, со специальными личиночными органами, в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взрослом состоянии отсутствующими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Со временем органы личинки заменяются органами, свойственными взрослым особям. Личинка превращается во взрослое животно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5"/>
          <p:cNvSpPr/>
          <p:nvPr/>
        </p:nvSpPr>
        <p:spPr>
          <a:xfrm>
            <a:off x="2081160" y="973080"/>
            <a:ext cx="5292720" cy="447120"/>
          </a:xfrm>
          <a:prstGeom prst="flowChartAlternateProcess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с неполным превращением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5" name="Picture 4" descr="sarancha"/>
          <p:cNvPicPr/>
          <p:nvPr/>
        </p:nvPicPr>
        <p:blipFill>
          <a:blip r:embed="rId1"/>
          <a:stretch/>
        </p:blipFill>
        <p:spPr>
          <a:xfrm>
            <a:off x="-182520" y="1792440"/>
            <a:ext cx="4181400" cy="2487600"/>
          </a:xfrm>
          <a:prstGeom prst="rect">
            <a:avLst/>
          </a:prstGeom>
          <a:ln w="0">
            <a:noFill/>
          </a:ln>
        </p:spPr>
      </p:pic>
      <p:grpSp>
        <p:nvGrpSpPr>
          <p:cNvPr id="166" name="Группа 1"/>
          <p:cNvGrpSpPr/>
          <p:nvPr/>
        </p:nvGrpSpPr>
        <p:grpSpPr>
          <a:xfrm>
            <a:off x="-1440" y="19080"/>
            <a:ext cx="9145440" cy="709200"/>
            <a:chOff x="-1440" y="19080"/>
            <a:chExt cx="9145440" cy="709200"/>
          </a:xfrm>
        </p:grpSpPr>
        <p:grpSp>
          <p:nvGrpSpPr>
            <p:cNvPr id="167" name="Пятиугольник 2"/>
            <p:cNvGrpSpPr/>
            <p:nvPr/>
          </p:nvGrpSpPr>
          <p:grpSpPr>
            <a:xfrm>
              <a:off x="-1440" y="19080"/>
              <a:ext cx="9145440" cy="430920"/>
              <a:chOff x="-1440" y="19080"/>
              <a:chExt cx="9145440" cy="430920"/>
            </a:xfrm>
          </p:grpSpPr>
          <p:pic>
            <p:nvPicPr>
              <p:cNvPr id="168" name="Пятиугольник 2" descr=""/>
              <p:cNvPicPr/>
              <p:nvPr/>
            </p:nvPicPr>
            <p:blipFill>
              <a:blip r:embed="rId2"/>
              <a:stretch/>
            </p:blipFill>
            <p:spPr>
              <a:xfrm>
                <a:off x="-1440" y="19080"/>
                <a:ext cx="9145440" cy="430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9" name=""/>
              <p:cNvSpPr/>
              <p:nvPr/>
            </p:nvSpPr>
            <p:spPr>
              <a:xfrm rot="10800000">
                <a:off x="15120" y="31320"/>
                <a:ext cx="9115200" cy="404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70" name="Пятиугольник 2"/>
            <p:cNvSpPr/>
            <p:nvPr/>
          </p:nvSpPr>
          <p:spPr>
            <a:xfrm rot="10800000">
              <a:off x="1279440" y="428760"/>
              <a:ext cx="7852320" cy="299160"/>
            </a:xfrm>
            <a:custGeom>
              <a:avLst/>
              <a:gdLst/>
              <a:ahLst/>
              <a:rect l="l" t="t" r="r" b="b"/>
              <a:pathLst>
                <a:path w="7464124" h="936104">
                  <a:moveTo>
                    <a:pt x="0" y="0"/>
                  </a:moveTo>
                  <a:lnTo>
                    <a:pt x="6743688" y="0"/>
                  </a:lnTo>
                  <a:lnTo>
                    <a:pt x="7230215" y="625070"/>
                  </a:lnTo>
                  <a:lnTo>
                    <a:pt x="7464124" y="926867"/>
                  </a:lnTo>
                  <a:lnTo>
                    <a:pt x="0" y="936104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84d7a"/>
                </a:gs>
                <a:gs pos="100000">
                  <a:srgbClr val="6796c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1" name="Трапеция 15"/>
          <p:cNvSpPr/>
          <p:nvPr/>
        </p:nvSpPr>
        <p:spPr>
          <a:xfrm>
            <a:off x="6156360" y="1887480"/>
            <a:ext cx="2862360" cy="2394000"/>
          </a:xfrm>
          <a:prstGeom prst="pie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ЯЙЦ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ЛИЧИН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ИМАГ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2" name="Прямая со стрелкой 16"/>
          <p:cNvCxnSpPr/>
          <p:nvPr/>
        </p:nvCxnSpPr>
        <p:spPr>
          <a:xfrm>
            <a:off x="7586280" y="2787480"/>
            <a:ext cx="108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73" name="Прямая со стрелкой 17"/>
          <p:cNvCxnSpPr/>
          <p:nvPr/>
        </p:nvCxnSpPr>
        <p:spPr>
          <a:xfrm>
            <a:off x="7584840" y="3394080"/>
            <a:ext cx="1080" cy="324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74" name="Скругленный прямоугольник 10"/>
          <p:cNvSpPr/>
          <p:nvPr/>
        </p:nvSpPr>
        <p:spPr>
          <a:xfrm>
            <a:off x="3605040" y="2776680"/>
            <a:ext cx="2546640" cy="779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ОТРЯД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лужесткокрылы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Стрекоз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Прямокрылые и др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TextBox 11"/>
          <p:cNvSpPr/>
          <p:nvPr/>
        </p:nvSpPr>
        <p:spPr>
          <a:xfrm>
            <a:off x="250920" y="1944720"/>
            <a:ext cx="576000" cy="322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яйца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Овал 5"/>
          <p:cNvSpPr/>
          <p:nvPr/>
        </p:nvSpPr>
        <p:spPr>
          <a:xfrm>
            <a:off x="1692360" y="843120"/>
            <a:ext cx="5759280" cy="1620720"/>
          </a:xfrm>
          <a:prstGeom prst="ellips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c00000"/>
                </a:solidFill>
                <a:latin typeface="Calibri"/>
                <a:ea typeface="Times New Roman"/>
              </a:rPr>
              <a:t>ИНДИВИДУАЛЬНОЕ РАЗВИТИЕ</a:t>
            </a:r>
            <a:r>
              <a:rPr b="1" lang="en-US" sz="2100" spc="-1" strike="noStrike">
                <a:solidFill>
                  <a:srgbClr val="c00000"/>
                </a:solidFill>
                <a:latin typeface="Calibri"/>
                <a:ea typeface="Times New Roman"/>
              </a:rPr>
              <a:t> -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c00000"/>
                </a:solidFill>
                <a:latin typeface="Calibri"/>
                <a:ea typeface="Times New Roman"/>
              </a:rPr>
              <a:t>ОНТОГЕНЕЗ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Скругленный прямоугольник 7"/>
          <p:cNvSpPr/>
          <p:nvPr/>
        </p:nvSpPr>
        <p:spPr>
          <a:xfrm>
            <a:off x="1042920" y="2604960"/>
            <a:ext cx="6985080" cy="2156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от греческого 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ontos-</a:t>
            </a:r>
            <a:r>
              <a:rPr b="0" lang="ru-RU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сущее и 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genesis – </a:t>
            </a:r>
            <a:r>
              <a:rPr b="0" lang="ru-RU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возникновение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)</a:t>
            </a:r>
            <a:r>
              <a:rPr b="0" lang="ru-RU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–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это индивидуальное развития особи от зарождения (оплодотворения яйцеклетки, начала самостоятельной жизни органа вегетативного размножения или деления материнской одноклеточной особи) до конца жизни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7" name="Группа 1"/>
          <p:cNvGrpSpPr/>
          <p:nvPr/>
        </p:nvGrpSpPr>
        <p:grpSpPr>
          <a:xfrm>
            <a:off x="0" y="-9360"/>
            <a:ext cx="9145440" cy="709200"/>
            <a:chOff x="0" y="-9360"/>
            <a:chExt cx="9145440" cy="709200"/>
          </a:xfrm>
        </p:grpSpPr>
        <p:grpSp>
          <p:nvGrpSpPr>
            <p:cNvPr id="58" name="Пятиугольник 2"/>
            <p:cNvGrpSpPr/>
            <p:nvPr/>
          </p:nvGrpSpPr>
          <p:grpSpPr>
            <a:xfrm>
              <a:off x="0" y="-9360"/>
              <a:ext cx="9145440" cy="435960"/>
              <a:chOff x="0" y="-9360"/>
              <a:chExt cx="9145440" cy="435960"/>
            </a:xfrm>
          </p:grpSpPr>
          <p:pic>
            <p:nvPicPr>
              <p:cNvPr id="59" name="Пятиугольник 2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-9360"/>
                <a:ext cx="9145440" cy="435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" name=""/>
              <p:cNvSpPr/>
              <p:nvPr/>
            </p:nvSpPr>
            <p:spPr>
              <a:xfrm rot="10800000">
                <a:off x="11880" y="4680"/>
                <a:ext cx="9115200" cy="40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1" name="Пятиугольник 2"/>
            <p:cNvSpPr/>
            <p:nvPr/>
          </p:nvSpPr>
          <p:spPr>
            <a:xfrm rot="10800000">
              <a:off x="1276560" y="401040"/>
              <a:ext cx="7852320" cy="298440"/>
            </a:xfrm>
            <a:custGeom>
              <a:avLst/>
              <a:gdLst/>
              <a:ahLst/>
              <a:rect l="l" t="t" r="r" b="b"/>
              <a:pathLst>
                <a:path w="7464124" h="936104">
                  <a:moveTo>
                    <a:pt x="0" y="0"/>
                  </a:moveTo>
                  <a:lnTo>
                    <a:pt x="6743688" y="0"/>
                  </a:lnTo>
                  <a:lnTo>
                    <a:pt x="7230215" y="625070"/>
                  </a:lnTo>
                  <a:lnTo>
                    <a:pt x="7464124" y="926867"/>
                  </a:lnTo>
                  <a:lnTo>
                    <a:pt x="0" y="936104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84d7a"/>
                </a:gs>
                <a:gs pos="100000">
                  <a:srgbClr val="6796c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Стрелка вниз 12"/>
          <p:cNvSpPr/>
          <p:nvPr/>
        </p:nvSpPr>
        <p:spPr>
          <a:xfrm rot="558600">
            <a:off x="2193480" y="1749240"/>
            <a:ext cx="574920" cy="461880"/>
          </a:xfrm>
          <a:prstGeom prst="down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5642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Стрелка вниз 13"/>
          <p:cNvSpPr/>
          <p:nvPr/>
        </p:nvSpPr>
        <p:spPr>
          <a:xfrm rot="21138600">
            <a:off x="6367320" y="1765080"/>
            <a:ext cx="549360" cy="430200"/>
          </a:xfrm>
          <a:prstGeom prst="down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662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Овал 21"/>
          <p:cNvSpPr/>
          <p:nvPr/>
        </p:nvSpPr>
        <p:spPr>
          <a:xfrm>
            <a:off x="603360" y="3179880"/>
            <a:ext cx="3450960" cy="1861920"/>
          </a:xfrm>
          <a:prstGeom prst="ellips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охватывает процессы происходящие с момента первого деления зиготы до выхода из яйца или рождени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Скругленный прямоугольник 17"/>
          <p:cNvSpPr/>
          <p:nvPr/>
        </p:nvSpPr>
        <p:spPr>
          <a:xfrm>
            <a:off x="611280" y="2201760"/>
            <a:ext cx="3433680" cy="971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ЭМБРИОНАЛЬНО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6" name="Группа 1"/>
          <p:cNvGrpSpPr/>
          <p:nvPr/>
        </p:nvGrpSpPr>
        <p:grpSpPr>
          <a:xfrm>
            <a:off x="0" y="-17640"/>
            <a:ext cx="9145440" cy="709920"/>
            <a:chOff x="0" y="-17640"/>
            <a:chExt cx="9145440" cy="709920"/>
          </a:xfrm>
        </p:grpSpPr>
        <p:grpSp>
          <p:nvGrpSpPr>
            <p:cNvPr id="67" name="Пятиугольник 2"/>
            <p:cNvGrpSpPr/>
            <p:nvPr/>
          </p:nvGrpSpPr>
          <p:grpSpPr>
            <a:xfrm>
              <a:off x="0" y="-17640"/>
              <a:ext cx="9145440" cy="431280"/>
              <a:chOff x="0" y="-17640"/>
              <a:chExt cx="9145440" cy="431280"/>
            </a:xfrm>
          </p:grpSpPr>
          <p:pic>
            <p:nvPicPr>
              <p:cNvPr id="68" name="Пятиугольник 2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-17640"/>
                <a:ext cx="9145440" cy="431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9" name=""/>
              <p:cNvSpPr/>
              <p:nvPr/>
            </p:nvSpPr>
            <p:spPr>
              <a:xfrm rot="10800000">
                <a:off x="11880" y="-5040"/>
                <a:ext cx="9115200" cy="40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0" name="Пятиугольник 2"/>
            <p:cNvSpPr/>
            <p:nvPr/>
          </p:nvSpPr>
          <p:spPr>
            <a:xfrm rot="10800000">
              <a:off x="1276560" y="392400"/>
              <a:ext cx="7852320" cy="299520"/>
            </a:xfrm>
            <a:custGeom>
              <a:avLst/>
              <a:gdLst/>
              <a:ahLst/>
              <a:rect l="l" t="t" r="r" b="b"/>
              <a:pathLst>
                <a:path w="7464124" h="936104">
                  <a:moveTo>
                    <a:pt x="0" y="0"/>
                  </a:moveTo>
                  <a:lnTo>
                    <a:pt x="6743688" y="0"/>
                  </a:lnTo>
                  <a:lnTo>
                    <a:pt x="7230215" y="625070"/>
                  </a:lnTo>
                  <a:lnTo>
                    <a:pt x="7464124" y="926867"/>
                  </a:lnTo>
                  <a:lnTo>
                    <a:pt x="0" y="936104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84d7a"/>
                </a:gs>
                <a:gs pos="100000">
                  <a:srgbClr val="6796c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1" name="Овал 16"/>
          <p:cNvSpPr/>
          <p:nvPr/>
        </p:nvSpPr>
        <p:spPr>
          <a:xfrm>
            <a:off x="773280" y="719280"/>
            <a:ext cx="7619760" cy="1089000"/>
          </a:xfrm>
          <a:prstGeom prst="ellips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7030a0"/>
                </a:solidFill>
                <a:latin typeface="Calibri"/>
                <a:ea typeface="Times New Roman"/>
              </a:rPr>
              <a:t>ИНДИВИДУАЛЬНОЕ РАЗВИТИЕ ЖИВОТНЫХ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Скругленный прямоугольник 14"/>
          <p:cNvSpPr/>
          <p:nvPr/>
        </p:nvSpPr>
        <p:spPr>
          <a:xfrm>
            <a:off x="5337000" y="2201760"/>
            <a:ext cx="3213360" cy="971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ОСТЭМБРИОНАЛЬНО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Овал 15"/>
          <p:cNvSpPr/>
          <p:nvPr/>
        </p:nvSpPr>
        <p:spPr>
          <a:xfrm>
            <a:off x="5099040" y="3179880"/>
            <a:ext cx="3451320" cy="1861920"/>
          </a:xfrm>
          <a:prstGeom prst="ellips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развитие организма с момента его рождения или выхода из яйцевых оболочек до смерт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Прямоугольник 7"/>
          <p:cNvSpPr/>
          <p:nvPr/>
        </p:nvSpPr>
        <p:spPr>
          <a:xfrm>
            <a:off x="1143000" y="3435480"/>
            <a:ext cx="6858000" cy="3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Прямоугольник 8"/>
          <p:cNvSpPr/>
          <p:nvPr/>
        </p:nvSpPr>
        <p:spPr>
          <a:xfrm>
            <a:off x="2951280" y="4667400"/>
            <a:ext cx="342900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ext Box 13"/>
          <p:cNvSpPr/>
          <p:nvPr/>
        </p:nvSpPr>
        <p:spPr>
          <a:xfrm>
            <a:off x="835200" y="1276200"/>
            <a:ext cx="3232080" cy="2767320"/>
          </a:xfrm>
          <a:prstGeom prst="flowChartAlternateProcess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Внутриутробное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оканчивается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рождение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(большинство млекопитающих, в том числе человек и т.д.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ext Box 14"/>
          <p:cNvSpPr/>
          <p:nvPr/>
        </p:nvSpPr>
        <p:spPr>
          <a:xfrm>
            <a:off x="4903920" y="1276200"/>
            <a:ext cx="3376440" cy="2767320"/>
          </a:xfrm>
          <a:prstGeom prst="flowChartAlternateProcess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Вне тела матери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оканчивается выходом из яйцевых оболочек       (многие беспозвоночные, большинство рыб, земноводные, пресмыкающиеся, птицы, однопроходные млекопитающие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Text Box 15"/>
          <p:cNvSpPr/>
          <p:nvPr/>
        </p:nvSpPr>
        <p:spPr>
          <a:xfrm>
            <a:off x="684360" y="4229280"/>
            <a:ext cx="7848360" cy="889560"/>
          </a:xfrm>
          <a:prstGeom prst="flowChartAlternateProcess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У преобладающего большинства животных эмбриональный период протекает сходным образом и состоит из 5 этапов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дробления, бластуляции, гаструляции, гистогенеза и органогенеза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9" name="Группа 1"/>
          <p:cNvGrpSpPr/>
          <p:nvPr/>
        </p:nvGrpSpPr>
        <p:grpSpPr>
          <a:xfrm>
            <a:off x="0" y="-9360"/>
            <a:ext cx="9145440" cy="709200"/>
            <a:chOff x="0" y="-9360"/>
            <a:chExt cx="9145440" cy="709200"/>
          </a:xfrm>
        </p:grpSpPr>
        <p:grpSp>
          <p:nvGrpSpPr>
            <p:cNvPr id="80" name="Пятиугольник 2"/>
            <p:cNvGrpSpPr/>
            <p:nvPr/>
          </p:nvGrpSpPr>
          <p:grpSpPr>
            <a:xfrm>
              <a:off x="0" y="-9360"/>
              <a:ext cx="9145440" cy="435960"/>
              <a:chOff x="0" y="-9360"/>
              <a:chExt cx="9145440" cy="435960"/>
            </a:xfrm>
          </p:grpSpPr>
          <p:pic>
            <p:nvPicPr>
              <p:cNvPr id="81" name="Пятиугольник 2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-9360"/>
                <a:ext cx="9145440" cy="435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" name=""/>
              <p:cNvSpPr/>
              <p:nvPr/>
            </p:nvSpPr>
            <p:spPr>
              <a:xfrm rot="10800000">
                <a:off x="11880" y="4680"/>
                <a:ext cx="9115200" cy="40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3" name="Пятиугольник 2"/>
            <p:cNvSpPr/>
            <p:nvPr/>
          </p:nvSpPr>
          <p:spPr>
            <a:xfrm rot="10800000">
              <a:off x="1276560" y="401040"/>
              <a:ext cx="7852320" cy="298440"/>
            </a:xfrm>
            <a:custGeom>
              <a:avLst/>
              <a:gdLst/>
              <a:ahLst/>
              <a:rect l="l" t="t" r="r" b="b"/>
              <a:pathLst>
                <a:path w="7464124" h="936104">
                  <a:moveTo>
                    <a:pt x="0" y="0"/>
                  </a:moveTo>
                  <a:lnTo>
                    <a:pt x="6743688" y="0"/>
                  </a:lnTo>
                  <a:lnTo>
                    <a:pt x="7230215" y="625070"/>
                  </a:lnTo>
                  <a:lnTo>
                    <a:pt x="7464124" y="926867"/>
                  </a:lnTo>
                  <a:lnTo>
                    <a:pt x="0" y="936104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84d7a"/>
                </a:gs>
                <a:gs pos="100000">
                  <a:srgbClr val="6796c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4" name="Скругленный прямоугольник 15"/>
          <p:cNvSpPr/>
          <p:nvPr/>
        </p:nvSpPr>
        <p:spPr>
          <a:xfrm>
            <a:off x="863640" y="792000"/>
            <a:ext cx="7416720" cy="392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504d"/>
                </a:solidFill>
                <a:latin typeface="Calibri"/>
                <a:ea typeface="Times New Roman"/>
              </a:rPr>
              <a:t>ЭМБРИОНАЛЬНОЕ РАЗВИТИЕ ЖИВОТНЫХ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Скругленный прямоугольник 4"/>
          <p:cNvSpPr/>
          <p:nvPr/>
        </p:nvSpPr>
        <p:spPr>
          <a:xfrm>
            <a:off x="1116000" y="771480"/>
            <a:ext cx="6985080" cy="668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c0504d"/>
                </a:solidFill>
                <a:latin typeface="Calibri"/>
                <a:ea typeface="Times New Roman"/>
              </a:rPr>
              <a:t>ЭТАПЫ ЭМБРИОНАЛЬНОГО РАЗВИТИЯ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Схема 6" descr=""/>
          <p:cNvPicPr/>
          <p:nvPr/>
        </p:nvPicPr>
        <p:blipFill>
          <a:blip r:embed="rId1"/>
          <a:stretch/>
        </p:blipFill>
        <p:spPr>
          <a:xfrm>
            <a:off x="530280" y="1536840"/>
            <a:ext cx="8156520" cy="3565440"/>
          </a:xfrm>
          <a:prstGeom prst="rect">
            <a:avLst/>
          </a:prstGeom>
          <a:ln w="0">
            <a:noFill/>
          </a:ln>
        </p:spPr>
      </p:pic>
      <p:grpSp>
        <p:nvGrpSpPr>
          <p:cNvPr id="87" name="Группа 1"/>
          <p:cNvGrpSpPr/>
          <p:nvPr/>
        </p:nvGrpSpPr>
        <p:grpSpPr>
          <a:xfrm>
            <a:off x="0" y="-9360"/>
            <a:ext cx="9145440" cy="709200"/>
            <a:chOff x="0" y="-9360"/>
            <a:chExt cx="9145440" cy="709200"/>
          </a:xfrm>
        </p:grpSpPr>
        <p:grpSp>
          <p:nvGrpSpPr>
            <p:cNvPr id="88" name="Пятиугольник 2"/>
            <p:cNvGrpSpPr/>
            <p:nvPr/>
          </p:nvGrpSpPr>
          <p:grpSpPr>
            <a:xfrm>
              <a:off x="0" y="-9360"/>
              <a:ext cx="9145440" cy="435960"/>
              <a:chOff x="0" y="-9360"/>
              <a:chExt cx="9145440" cy="435960"/>
            </a:xfrm>
          </p:grpSpPr>
          <p:pic>
            <p:nvPicPr>
              <p:cNvPr id="89" name="Пятиугольник 2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-9360"/>
                <a:ext cx="9145440" cy="435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0" name=""/>
              <p:cNvSpPr/>
              <p:nvPr/>
            </p:nvSpPr>
            <p:spPr>
              <a:xfrm rot="10800000">
                <a:off x="11880" y="4680"/>
                <a:ext cx="9115200" cy="40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91" name="Пятиугольник 2"/>
            <p:cNvSpPr/>
            <p:nvPr/>
          </p:nvSpPr>
          <p:spPr>
            <a:xfrm rot="10800000">
              <a:off x="1276560" y="401040"/>
              <a:ext cx="7852320" cy="298440"/>
            </a:xfrm>
            <a:custGeom>
              <a:avLst/>
              <a:gdLst/>
              <a:ahLst/>
              <a:rect l="l" t="t" r="r" b="b"/>
              <a:pathLst>
                <a:path w="7464124" h="936104">
                  <a:moveTo>
                    <a:pt x="0" y="0"/>
                  </a:moveTo>
                  <a:lnTo>
                    <a:pt x="6743688" y="0"/>
                  </a:lnTo>
                  <a:lnTo>
                    <a:pt x="7230215" y="625070"/>
                  </a:lnTo>
                  <a:lnTo>
                    <a:pt x="7464124" y="926867"/>
                  </a:lnTo>
                  <a:lnTo>
                    <a:pt x="0" y="936104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84d7a"/>
                </a:gs>
                <a:gs pos="100000">
                  <a:srgbClr val="6796c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Скругленный прямоугольник 11"/>
          <p:cNvSpPr/>
          <p:nvPr/>
        </p:nvSpPr>
        <p:spPr>
          <a:xfrm>
            <a:off x="1378080" y="4548240"/>
            <a:ext cx="5105160" cy="477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990000"/>
                </a:solidFill>
                <a:latin typeface="Calibri"/>
                <a:ea typeface="Times New Roman"/>
              </a:rPr>
              <a:t>А- зигота        В, С- стадия 2-х и 4-х бластомеров    </a:t>
            </a:r>
            <a:r>
              <a:rPr b="0" i="1" lang="en-US" sz="1400" spc="-1" strike="noStrike">
                <a:solidFill>
                  <a:srgbClr val="990000"/>
                </a:solidFill>
                <a:latin typeface="Calibri"/>
                <a:ea typeface="Times New Roman"/>
              </a:rPr>
              <a:t>D</a:t>
            </a:r>
            <a:r>
              <a:rPr b="0" i="1" lang="ru-RU" sz="1400" spc="-1" strike="noStrike">
                <a:solidFill>
                  <a:srgbClr val="990000"/>
                </a:solidFill>
                <a:latin typeface="Calibri"/>
                <a:ea typeface="Times New Roman"/>
              </a:rPr>
              <a:t>- морул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Скругленный прямоугольник 4"/>
          <p:cNvSpPr/>
          <p:nvPr/>
        </p:nvSpPr>
        <p:spPr>
          <a:xfrm>
            <a:off x="1754280" y="730080"/>
            <a:ext cx="5743440" cy="1148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504d"/>
                </a:solidFill>
                <a:latin typeface="Calibri"/>
                <a:ea typeface="Times New Roman"/>
              </a:rPr>
              <a:t>ДРОБЛЕНИЕ</a:t>
            </a:r>
            <a:r>
              <a:rPr b="1" lang="ru-RU" sz="2400" spc="-1" strike="noStrike">
                <a:solidFill>
                  <a:srgbClr val="403152"/>
                </a:solidFill>
                <a:latin typeface="Calibri"/>
                <a:ea typeface="Times New Roman"/>
              </a:rPr>
              <a:t>-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многократное деление зиготы путем митоза (без роста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Скругленный прямоугольник 7"/>
          <p:cNvSpPr/>
          <p:nvPr/>
        </p:nvSpPr>
        <p:spPr>
          <a:xfrm>
            <a:off x="1440000" y="1968480"/>
            <a:ext cx="6372000" cy="118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В результате  деления из зиготы образуютс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вначале 2 клетки, затем 4, 8, 16 и т.д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Клетки, возникающие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при дроблении, называются </a:t>
            </a:r>
            <a:r>
              <a:rPr b="1" i="1" lang="ru-RU" sz="1800" spc="-1" strike="noStrike">
                <a:solidFill>
                  <a:srgbClr val="990000"/>
                </a:solidFill>
                <a:latin typeface="Calibri"/>
                <a:ea typeface="Times New Roman"/>
              </a:rPr>
              <a:t>бластомерами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6" descr="r1"/>
          <p:cNvPicPr/>
          <p:nvPr/>
        </p:nvPicPr>
        <p:blipFill>
          <a:blip r:embed="rId1"/>
          <a:stretch/>
        </p:blipFill>
        <p:spPr>
          <a:xfrm>
            <a:off x="1382760" y="3286080"/>
            <a:ext cx="6572160" cy="1370160"/>
          </a:xfrm>
          <a:prstGeom prst="rect">
            <a:avLst/>
          </a:prstGeom>
          <a:ln w="0">
            <a:noFill/>
          </a:ln>
        </p:spPr>
      </p:pic>
      <p:grpSp>
        <p:nvGrpSpPr>
          <p:cNvPr id="96" name="Группа 1"/>
          <p:cNvGrpSpPr/>
          <p:nvPr/>
        </p:nvGrpSpPr>
        <p:grpSpPr>
          <a:xfrm>
            <a:off x="0" y="-9360"/>
            <a:ext cx="9145440" cy="709200"/>
            <a:chOff x="0" y="-9360"/>
            <a:chExt cx="9145440" cy="709200"/>
          </a:xfrm>
        </p:grpSpPr>
        <p:grpSp>
          <p:nvGrpSpPr>
            <p:cNvPr id="97" name="Пятиугольник 2"/>
            <p:cNvGrpSpPr/>
            <p:nvPr/>
          </p:nvGrpSpPr>
          <p:grpSpPr>
            <a:xfrm>
              <a:off x="0" y="-9360"/>
              <a:ext cx="9145440" cy="435960"/>
              <a:chOff x="0" y="-9360"/>
              <a:chExt cx="9145440" cy="435960"/>
            </a:xfrm>
          </p:grpSpPr>
          <p:pic>
            <p:nvPicPr>
              <p:cNvPr id="98" name="Пятиугольник 2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-9360"/>
                <a:ext cx="9145440" cy="435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" name=""/>
              <p:cNvSpPr/>
              <p:nvPr/>
            </p:nvSpPr>
            <p:spPr>
              <a:xfrm rot="10800000">
                <a:off x="11880" y="4680"/>
                <a:ext cx="9115200" cy="40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00" name="Пятиугольник 2"/>
            <p:cNvSpPr/>
            <p:nvPr/>
          </p:nvSpPr>
          <p:spPr>
            <a:xfrm rot="10800000">
              <a:off x="1276560" y="401040"/>
              <a:ext cx="7852320" cy="298440"/>
            </a:xfrm>
            <a:custGeom>
              <a:avLst/>
              <a:gdLst/>
              <a:ahLst/>
              <a:rect l="l" t="t" r="r" b="b"/>
              <a:pathLst>
                <a:path w="7464124" h="936104">
                  <a:moveTo>
                    <a:pt x="0" y="0"/>
                  </a:moveTo>
                  <a:lnTo>
                    <a:pt x="6743688" y="0"/>
                  </a:lnTo>
                  <a:lnTo>
                    <a:pt x="7230215" y="625070"/>
                  </a:lnTo>
                  <a:lnTo>
                    <a:pt x="7464124" y="926867"/>
                  </a:lnTo>
                  <a:lnTo>
                    <a:pt x="0" y="936104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84d7a"/>
                </a:gs>
                <a:gs pos="100000">
                  <a:srgbClr val="6796c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Скругленный прямоугольник 6"/>
          <p:cNvSpPr/>
          <p:nvPr/>
        </p:nvSpPr>
        <p:spPr>
          <a:xfrm>
            <a:off x="598320" y="1123920"/>
            <a:ext cx="3294360" cy="3726000"/>
          </a:xfrm>
          <a:custGeom>
            <a:avLst/>
            <a:gdLst>
              <a:gd name="textAreaLeft" fmla="*/ 160560 w 3294360"/>
              <a:gd name="textAreaRight" fmla="*/ 3133800 w 3294360"/>
              <a:gd name="textAreaTop" fmla="*/ 160560 h 3726000"/>
              <a:gd name="textAreaBottom" fmla="*/ 3565440 h 3726000"/>
            </a:gdLst>
            <a:ahLst/>
            <a:rect l="textAreaLeft" t="textAreaTop" r="textAreaRight" b="textAreaBottom"/>
            <a:pathLst>
              <a:path w="21600" h="24430">
                <a:moveTo>
                  <a:pt x="3600" y="0"/>
                </a:moveTo>
                <a:arcTo wR="3600" hR="3600" stAng="16200000" swAng="-5400000"/>
                <a:lnTo>
                  <a:pt x="0" y="20830"/>
                </a:lnTo>
                <a:arcTo wR="3600" hR="3600" stAng="10800000" swAng="-5400000"/>
                <a:lnTo>
                  <a:pt x="18000" y="2443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760320" y="1517760"/>
            <a:ext cx="2970360" cy="283716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роцессе дробления количество клеток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ыстро растет, они становятся мельче и образуют сферу, внутри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торой возникает полость – </a:t>
            </a:r>
            <a:r>
              <a:rPr b="1" i="1" lang="ru-RU" sz="18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бластоцель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этого момента зародыш называется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бластулой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5" descr="golubovskyj_blastocyst"/>
          <p:cNvPicPr/>
          <p:nvPr/>
        </p:nvPicPr>
        <p:blipFill>
          <a:blip r:embed="rId1"/>
          <a:stretch/>
        </p:blipFill>
        <p:spPr>
          <a:xfrm>
            <a:off x="5433840" y="1347840"/>
            <a:ext cx="3006720" cy="3149640"/>
          </a:xfrm>
          <a:prstGeom prst="rect">
            <a:avLst/>
          </a:prstGeom>
          <a:ln w="0">
            <a:noFill/>
          </a:ln>
        </p:spPr>
      </p:pic>
      <p:sp>
        <p:nvSpPr>
          <p:cNvPr id="104" name="Line 19"/>
          <p:cNvSpPr/>
          <p:nvPr/>
        </p:nvSpPr>
        <p:spPr>
          <a:xfrm flipV="1">
            <a:off x="3419640" y="2087280"/>
            <a:ext cx="2376360" cy="1276200"/>
          </a:xfrm>
          <a:prstGeom prst="line">
            <a:avLst/>
          </a:prstGeom>
          <a:ln w="3816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Line 20"/>
          <p:cNvSpPr/>
          <p:nvPr/>
        </p:nvSpPr>
        <p:spPr>
          <a:xfrm flipV="1">
            <a:off x="2843280" y="3147480"/>
            <a:ext cx="3600360" cy="1008360"/>
          </a:xfrm>
          <a:prstGeom prst="line">
            <a:avLst/>
          </a:prstGeom>
          <a:ln w="3816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6" name="Группа 1"/>
          <p:cNvGrpSpPr/>
          <p:nvPr/>
        </p:nvGrpSpPr>
        <p:grpSpPr>
          <a:xfrm>
            <a:off x="0" y="-9360"/>
            <a:ext cx="9145440" cy="709200"/>
            <a:chOff x="0" y="-9360"/>
            <a:chExt cx="9145440" cy="709200"/>
          </a:xfrm>
        </p:grpSpPr>
        <p:grpSp>
          <p:nvGrpSpPr>
            <p:cNvPr id="107" name="Пятиугольник 2"/>
            <p:cNvGrpSpPr/>
            <p:nvPr/>
          </p:nvGrpSpPr>
          <p:grpSpPr>
            <a:xfrm>
              <a:off x="0" y="-9360"/>
              <a:ext cx="9145440" cy="435960"/>
              <a:chOff x="0" y="-9360"/>
              <a:chExt cx="9145440" cy="435960"/>
            </a:xfrm>
          </p:grpSpPr>
          <p:pic>
            <p:nvPicPr>
              <p:cNvPr id="108" name="Пятиугольник 2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-9360"/>
                <a:ext cx="9145440" cy="435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9" name=""/>
              <p:cNvSpPr/>
              <p:nvPr/>
            </p:nvSpPr>
            <p:spPr>
              <a:xfrm rot="10800000">
                <a:off x="11880" y="4680"/>
                <a:ext cx="9115200" cy="40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10" name="Пятиугольник 2"/>
            <p:cNvSpPr/>
            <p:nvPr/>
          </p:nvSpPr>
          <p:spPr>
            <a:xfrm rot="10800000">
              <a:off x="1276560" y="401040"/>
              <a:ext cx="7852320" cy="298440"/>
            </a:xfrm>
            <a:custGeom>
              <a:avLst/>
              <a:gdLst/>
              <a:ahLst/>
              <a:rect l="l" t="t" r="r" b="b"/>
              <a:pathLst>
                <a:path w="7464124" h="936104">
                  <a:moveTo>
                    <a:pt x="0" y="0"/>
                  </a:moveTo>
                  <a:lnTo>
                    <a:pt x="6743688" y="0"/>
                  </a:lnTo>
                  <a:lnTo>
                    <a:pt x="7230215" y="625070"/>
                  </a:lnTo>
                  <a:lnTo>
                    <a:pt x="7464124" y="926867"/>
                  </a:lnTo>
                  <a:lnTo>
                    <a:pt x="0" y="936104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84d7a"/>
                </a:gs>
                <a:gs pos="100000">
                  <a:srgbClr val="6796c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1" name="Скругленный прямоугольник 10"/>
          <p:cNvSpPr/>
          <p:nvPr/>
        </p:nvSpPr>
        <p:spPr>
          <a:xfrm>
            <a:off x="2771640" y="733320"/>
            <a:ext cx="3600720" cy="363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504d"/>
                </a:solidFill>
                <a:latin typeface="Calibri"/>
                <a:ea typeface="Times New Roman"/>
              </a:rPr>
              <a:t>БЛАСТУЛЯЦИЯ</a:t>
            </a:r>
            <a:r>
              <a:rPr b="1" lang="ru-RU" sz="2400" spc="-1" strike="noStrike">
                <a:solidFill>
                  <a:srgbClr val="403152"/>
                </a:solidFill>
                <a:latin typeface="Calibri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4" descr="300px-Gastrulation"/>
          <p:cNvPicPr/>
          <p:nvPr/>
        </p:nvPicPr>
        <p:blipFill>
          <a:blip r:embed="rId1"/>
          <a:stretch/>
        </p:blipFill>
        <p:spPr>
          <a:xfrm>
            <a:off x="1195560" y="1936800"/>
            <a:ext cx="3509640" cy="2320920"/>
          </a:xfrm>
          <a:prstGeom prst="rect">
            <a:avLst/>
          </a:prstGeom>
          <a:ln w="0">
            <a:noFill/>
          </a:ln>
        </p:spPr>
      </p:pic>
      <p:cxnSp>
        <p:nvCxnSpPr>
          <p:cNvPr id="113" name="Прямая со стрелкой 15"/>
          <p:cNvCxnSpPr/>
          <p:nvPr/>
        </p:nvCxnSpPr>
        <p:spPr>
          <a:xfrm flipH="1">
            <a:off x="4363560" y="2095200"/>
            <a:ext cx="938880" cy="656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Прямая со стрелкой 19"/>
          <p:cNvCxnSpPr>
            <a:stCxn id="115" idx="1"/>
          </p:cNvCxnSpPr>
          <p:nvPr/>
        </p:nvCxnSpPr>
        <p:spPr>
          <a:xfrm flipH="1">
            <a:off x="4230360" y="2951280"/>
            <a:ext cx="908640" cy="180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6" name="Прямая со стрелкой 24"/>
          <p:cNvCxnSpPr>
            <a:stCxn id="117" idx="1"/>
          </p:cNvCxnSpPr>
          <p:nvPr/>
        </p:nvCxnSpPr>
        <p:spPr>
          <a:xfrm flipH="1" flipV="1">
            <a:off x="4338360" y="3252240"/>
            <a:ext cx="815040" cy="5180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118" name="Группа 1"/>
          <p:cNvGrpSpPr/>
          <p:nvPr/>
        </p:nvGrpSpPr>
        <p:grpSpPr>
          <a:xfrm>
            <a:off x="0" y="-9360"/>
            <a:ext cx="9145440" cy="709200"/>
            <a:chOff x="0" y="-9360"/>
            <a:chExt cx="9145440" cy="709200"/>
          </a:xfrm>
        </p:grpSpPr>
        <p:grpSp>
          <p:nvGrpSpPr>
            <p:cNvPr id="119" name="Пятиугольник 2"/>
            <p:cNvGrpSpPr/>
            <p:nvPr/>
          </p:nvGrpSpPr>
          <p:grpSpPr>
            <a:xfrm>
              <a:off x="0" y="-9360"/>
              <a:ext cx="9145440" cy="435960"/>
              <a:chOff x="0" y="-9360"/>
              <a:chExt cx="9145440" cy="435960"/>
            </a:xfrm>
          </p:grpSpPr>
          <p:pic>
            <p:nvPicPr>
              <p:cNvPr id="120" name="Пятиугольник 2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-9360"/>
                <a:ext cx="9145440" cy="435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1" name=""/>
              <p:cNvSpPr/>
              <p:nvPr/>
            </p:nvSpPr>
            <p:spPr>
              <a:xfrm rot="10800000">
                <a:off x="11880" y="4680"/>
                <a:ext cx="9115200" cy="40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22" name="Пятиугольник 2"/>
            <p:cNvSpPr/>
            <p:nvPr/>
          </p:nvSpPr>
          <p:spPr>
            <a:xfrm rot="10800000">
              <a:off x="1276560" y="401040"/>
              <a:ext cx="7852320" cy="298440"/>
            </a:xfrm>
            <a:custGeom>
              <a:avLst/>
              <a:gdLst/>
              <a:ahLst/>
              <a:rect l="l" t="t" r="r" b="b"/>
              <a:pathLst>
                <a:path w="7464124" h="936104">
                  <a:moveTo>
                    <a:pt x="0" y="0"/>
                  </a:moveTo>
                  <a:lnTo>
                    <a:pt x="6743688" y="0"/>
                  </a:lnTo>
                  <a:lnTo>
                    <a:pt x="7230215" y="625070"/>
                  </a:lnTo>
                  <a:lnTo>
                    <a:pt x="7464124" y="926867"/>
                  </a:lnTo>
                  <a:lnTo>
                    <a:pt x="0" y="936104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84d7a"/>
                </a:gs>
                <a:gs pos="100000">
                  <a:srgbClr val="6796c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3" name="Блок-схема: альтернативный процесс 17"/>
          <p:cNvSpPr/>
          <p:nvPr/>
        </p:nvSpPr>
        <p:spPr>
          <a:xfrm>
            <a:off x="1150920" y="1298520"/>
            <a:ext cx="6842160" cy="459000"/>
          </a:xfrm>
          <a:prstGeom prst="flowChartAlternateProcess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АСТРУЛА -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зародыш, состоящий из двух зародышевых листков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Скругленный прямоугольник 20"/>
          <p:cNvSpPr/>
          <p:nvPr/>
        </p:nvSpPr>
        <p:spPr>
          <a:xfrm>
            <a:off x="5113440" y="1905120"/>
            <a:ext cx="3944880" cy="536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ЭКТОДЕРМА-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ужный зародышевый лист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Скругленный прямоугольник 23"/>
          <p:cNvSpPr/>
          <p:nvPr/>
        </p:nvSpPr>
        <p:spPr>
          <a:xfrm>
            <a:off x="611280" y="4471920"/>
            <a:ext cx="7999200" cy="525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онце гаструлы может образоваться  третий зародышевый листок – </a:t>
            </a:r>
            <a:r>
              <a:rPr b="1" i="1" lang="ru-RU" sz="16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мезодерма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торая располагается между эктодермой и энтодермой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Скругленный прямоугольник 25"/>
          <p:cNvSpPr/>
          <p:nvPr/>
        </p:nvSpPr>
        <p:spPr>
          <a:xfrm>
            <a:off x="61920" y="747720"/>
            <a:ext cx="8996400" cy="504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ГАСТРУЛЯЦИЯ </a:t>
            </a:r>
            <a:r>
              <a:rPr b="1" lang="ru-RU" sz="1800" spc="-1" strike="noStrike">
                <a:solidFill>
                  <a:srgbClr val="403152"/>
                </a:solidFill>
                <a:latin typeface="Times New Roman"/>
                <a:ea typeface="Times New Roman"/>
              </a:rPr>
              <a:t>- </a:t>
            </a:r>
            <a:r>
              <a:rPr b="1" lang="ru-RU" sz="1800" spc="-1" strike="noStrike">
                <a:solidFill>
                  <a:srgbClr val="403152"/>
                </a:solidFill>
                <a:latin typeface="Times New Roman"/>
              </a:rPr>
              <a:t>совокупность процессов, приводящих к образованию гаструл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Скругленный прямоугольник 30"/>
          <p:cNvSpPr/>
          <p:nvPr/>
        </p:nvSpPr>
        <p:spPr>
          <a:xfrm>
            <a:off x="5138640" y="2673360"/>
            <a:ext cx="3919680" cy="557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ЭНТОДЕРМА-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енний зародышевый лист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Скругленный прямоугольник 32"/>
          <p:cNvSpPr/>
          <p:nvPr/>
        </p:nvSpPr>
        <p:spPr>
          <a:xfrm>
            <a:off x="5153040" y="3490920"/>
            <a:ext cx="3917880" cy="558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ЕРВИЧНЫЙ РО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Скругленный прямоугольник 5"/>
          <p:cNvSpPr/>
          <p:nvPr/>
        </p:nvSpPr>
        <p:spPr>
          <a:xfrm>
            <a:off x="285840" y="790560"/>
            <a:ext cx="8569080" cy="1201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Прямоугольник 4"/>
          <p:cNvSpPr/>
          <p:nvPr/>
        </p:nvSpPr>
        <p:spPr>
          <a:xfrm>
            <a:off x="285840" y="801720"/>
            <a:ext cx="856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едующая стадия развития зародыша-</a:t>
            </a:r>
            <a:r>
              <a:rPr b="1" lang="ru-RU" sz="18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нейруляция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водящая к формированию – </a:t>
            </a:r>
            <a:r>
              <a:rPr b="1" i="1" lang="ru-RU" sz="18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нейрулы (трехслойного зародыша)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а начинается с образован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а осевых органов: нервная трубка, хорда, кишечная трубка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9" name="Группа 1"/>
          <p:cNvGrpSpPr/>
          <p:nvPr/>
        </p:nvGrpSpPr>
        <p:grpSpPr>
          <a:xfrm>
            <a:off x="0" y="68400"/>
            <a:ext cx="9145440" cy="709200"/>
            <a:chOff x="0" y="68400"/>
            <a:chExt cx="9145440" cy="709200"/>
          </a:xfrm>
        </p:grpSpPr>
        <p:grpSp>
          <p:nvGrpSpPr>
            <p:cNvPr id="130" name="Пятиугольник 2"/>
            <p:cNvGrpSpPr/>
            <p:nvPr/>
          </p:nvGrpSpPr>
          <p:grpSpPr>
            <a:xfrm>
              <a:off x="0" y="68400"/>
              <a:ext cx="9145440" cy="430920"/>
              <a:chOff x="0" y="68400"/>
              <a:chExt cx="9145440" cy="430920"/>
            </a:xfrm>
          </p:grpSpPr>
          <p:pic>
            <p:nvPicPr>
              <p:cNvPr id="131" name="Пятиугольник 2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68400"/>
                <a:ext cx="9145440" cy="430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2" name=""/>
              <p:cNvSpPr/>
              <p:nvPr/>
            </p:nvSpPr>
            <p:spPr>
              <a:xfrm rot="10800000">
                <a:off x="11880" y="81000"/>
                <a:ext cx="9115200" cy="404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33" name="Пятиугольник 2"/>
            <p:cNvSpPr/>
            <p:nvPr/>
          </p:nvSpPr>
          <p:spPr>
            <a:xfrm rot="10800000">
              <a:off x="1276560" y="478080"/>
              <a:ext cx="7852320" cy="299160"/>
            </a:xfrm>
            <a:custGeom>
              <a:avLst/>
              <a:gdLst/>
              <a:ahLst/>
              <a:rect l="l" t="t" r="r" b="b"/>
              <a:pathLst>
                <a:path w="7464124" h="936104">
                  <a:moveTo>
                    <a:pt x="0" y="0"/>
                  </a:moveTo>
                  <a:lnTo>
                    <a:pt x="6743688" y="0"/>
                  </a:lnTo>
                  <a:lnTo>
                    <a:pt x="7230215" y="625070"/>
                  </a:lnTo>
                  <a:lnTo>
                    <a:pt x="7464124" y="926867"/>
                  </a:lnTo>
                  <a:lnTo>
                    <a:pt x="0" y="936104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84d7a"/>
                </a:gs>
                <a:gs pos="100000">
                  <a:srgbClr val="6796c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34" name="Рисунок 1" descr=""/>
          <p:cNvPicPr/>
          <p:nvPr/>
        </p:nvPicPr>
        <p:blipFill>
          <a:blip r:embed="rId2"/>
          <a:stretch/>
        </p:blipFill>
        <p:spPr>
          <a:xfrm>
            <a:off x="1908000" y="2077920"/>
            <a:ext cx="5832720" cy="2997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8T13:10:34Z</dcterms:created>
  <dc:creator>Irina Knyazeva</dc:creator>
  <dc:description/>
  <dc:language>en-US</dc:language>
  <cp:lastModifiedBy>user</cp:lastModifiedBy>
  <cp:lastPrinted>2022-04-24T16:36:28Z</cp:lastPrinted>
  <dcterms:modified xsi:type="dcterms:W3CDTF">2022-04-24T17:00:04Z</dcterms:modified>
  <cp:revision>202</cp:revision>
  <dc:subject/>
  <dc:title>Название презентации</dc:title>
</cp:coreProperties>
</file>