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E2DF-6D72-433D-8DD0-BE09EBA8EA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B71A-62AB-40F6-A72F-8D47F0D5D5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415-0F39-4B4A-81B7-4D472167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B58-B18A-49B8-A920-12446A19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B54-4CEB-4634-BE55-FC51118C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A3E-200C-4DAB-8AAB-ABC7E213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897-DC83-42B8-A598-F44FF437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9C9-3495-4A82-928F-A2F52324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6BA-DC01-499A-8AE2-E0D03FDE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DAB-0AB3-46BB-935D-B2CB480D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032-F4F1-4751-95D4-2144EE7F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495-4C98-48B5-8BB5-8E13CA5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D3B-C6D0-4591-B190-275564B7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F4D-1069-4225-95B9-262E276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4901-2C68-46FB-AAD1-CFA63499C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Пятиугольник 2"/>
          <p:cNvGrpSpPr/>
          <p:nvPr/>
        </p:nvGrpSpPr>
        <p:grpSpPr>
          <a:xfrm>
            <a:off x="-12600" y="-23760"/>
            <a:ext cx="9169200" cy="438120"/>
            <a:chOff x="-12600" y="-23760"/>
            <a:chExt cx="9169200" cy="438120"/>
          </a:xfrm>
        </p:grpSpPr>
        <p:pic>
          <p:nvPicPr>
            <p:cNvPr id="49" name="Пятиугольник 2" descr=""/>
            <p:cNvPicPr/>
            <p:nvPr/>
          </p:nvPicPr>
          <p:blipFill>
            <a:blip r:embed="rId1"/>
            <a:stretch/>
          </p:blipFill>
          <p:spPr>
            <a:xfrm>
              <a:off x="-12600" y="-23760"/>
              <a:ext cx="916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10800000">
              <a:off x="0" y="-9360"/>
              <a:ext cx="914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Пятиугольник 2"/>
          <p:cNvSpPr/>
          <p:nvPr/>
        </p:nvSpPr>
        <p:spPr>
          <a:xfrm rot="10800000">
            <a:off x="678960" y="320400"/>
            <a:ext cx="7877160" cy="303120"/>
          </a:xfrm>
          <a:custGeom>
            <a:avLst/>
            <a:gdLst/>
            <a:ahLst/>
            <a:rect l="l" t="t" r="r" b="b"/>
            <a:pathLst>
              <a:path w="7464124" h="936104">
                <a:moveTo>
                  <a:pt x="0" y="0"/>
                </a:moveTo>
                <a:lnTo>
                  <a:pt x="6743688" y="0"/>
                </a:lnTo>
                <a:lnTo>
                  <a:pt x="7230215" y="625070"/>
                </a:lnTo>
                <a:lnTo>
                  <a:pt x="7464124" y="926867"/>
                </a:lnTo>
                <a:lnTo>
                  <a:pt x="0" y="93610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84d7a"/>
              </a:gs>
              <a:gs pos="100000">
                <a:srgbClr val="6796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K:\АКАДЕМИЯ_ЯНВАРЬ_2017\АКАДЕМИЯ_ПРЕЗЕНТАЦИИ_ШАБЛОНЫ\шаблон для презентации академии\баннер светлый длин.png"/>
          <p:cNvPicPr/>
          <p:nvPr/>
        </p:nvPicPr>
        <p:blipFill>
          <a:blip r:embed="rId2"/>
          <a:stretch/>
        </p:blipFill>
        <p:spPr>
          <a:xfrm>
            <a:off x="-19080" y="4316400"/>
            <a:ext cx="9255240" cy="96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403280" y="1531800"/>
            <a:ext cx="66247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588b"/>
                </a:solidFill>
                <a:latin typeface="Calibri"/>
                <a:ea typeface="Times New Roman"/>
              </a:rPr>
              <a:t>БИ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Тема урока</a:t>
            </a: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Индивидуальное развитие организ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(онтогене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4314600" y="3929040"/>
            <a:ext cx="48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588b"/>
                </a:solidFill>
                <a:latin typeface="Calibri"/>
                <a:ea typeface="Times New Roman"/>
              </a:rPr>
              <a:t>Учитель биологии: Коваленко Екатерина Михайлов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4"/>
          <p:cNvSpPr/>
          <p:nvPr/>
        </p:nvSpPr>
        <p:spPr>
          <a:xfrm>
            <a:off x="241200" y="765000"/>
            <a:ext cx="8640720" cy="8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РГАНОГЕНЕ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адка из зародышевых листков различных органов, специализация кле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3492360" y="3219480"/>
            <a:ext cx="1998720" cy="183672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14"/>
          <p:cNvSpPr/>
          <p:nvPr/>
        </p:nvSpPr>
        <p:spPr>
          <a:xfrm>
            <a:off x="5280120" y="2065320"/>
            <a:ext cx="3600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3"/>
          <p:cNvSpPr/>
          <p:nvPr/>
        </p:nvSpPr>
        <p:spPr>
          <a:xfrm>
            <a:off x="5867280" y="213984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звития тканей зародыша -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истогене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Группа 1"/>
          <p:cNvGrpSpPr/>
          <p:nvPr/>
        </p:nvGrpSpPr>
        <p:grpSpPr>
          <a:xfrm>
            <a:off x="-9360" y="-34920"/>
            <a:ext cx="9145440" cy="709560"/>
            <a:chOff x="-9360" y="-34920"/>
            <a:chExt cx="9145440" cy="709560"/>
          </a:xfrm>
        </p:grpSpPr>
        <p:grpSp>
          <p:nvGrpSpPr>
            <p:cNvPr id="140" name="Пятиугольник 2"/>
            <p:cNvGrpSpPr/>
            <p:nvPr/>
          </p:nvGrpSpPr>
          <p:grpSpPr>
            <a:xfrm>
              <a:off x="-9360" y="-34920"/>
              <a:ext cx="9145440" cy="430560"/>
              <a:chOff x="-9360" y="-34920"/>
              <a:chExt cx="9145440" cy="430560"/>
            </a:xfrm>
          </p:grpSpPr>
          <p:pic>
            <p:nvPicPr>
              <p:cNvPr id="141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-9360" y="-34920"/>
                <a:ext cx="914544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 rot="10800000">
                <a:off x="5400" y="-21600"/>
                <a:ext cx="911520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Пятиугольник 2"/>
            <p:cNvSpPr/>
            <p:nvPr/>
          </p:nvSpPr>
          <p:spPr>
            <a:xfrm rot="10800000">
              <a:off x="1269720" y="375480"/>
              <a:ext cx="7852320" cy="29880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Скругленный прямоугольник 21"/>
          <p:cNvSpPr/>
          <p:nvPr/>
        </p:nvSpPr>
        <p:spPr>
          <a:xfrm>
            <a:off x="241200" y="2065320"/>
            <a:ext cx="360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ждого зародышевого листка формируется определенные ткани и орг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4"/>
          <p:cNvSpPr/>
          <p:nvPr/>
        </p:nvSpPr>
        <p:spPr>
          <a:xfrm>
            <a:off x="406440" y="781200"/>
            <a:ext cx="8640720" cy="128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ОЕ ПОСТЭМБИОНАЛЬНОЕ РАЗВИТИЕ – </a:t>
            </a:r>
            <a:r>
              <a:rPr b="1" lang="ru-RU" sz="1800" spc="-1" strike="noStrike">
                <a:solidFill>
                  <a:srgbClr val="8064a2"/>
                </a:solidFill>
                <a:latin typeface="Calibri"/>
                <a:ea typeface="Times New Roman"/>
              </a:rPr>
              <a:t>развитие, при котором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из яйцевых оболочек или из тела матери выходит организм со всеми органа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свойственными взрослому животн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mor-vir3"/>
          <p:cNvPicPr/>
          <p:nvPr/>
        </p:nvPicPr>
        <p:blipFill>
          <a:blip r:embed="rId1"/>
          <a:stretch/>
        </p:blipFill>
        <p:spPr>
          <a:xfrm>
            <a:off x="3986280" y="3103560"/>
            <a:ext cx="2438280" cy="3602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eamammal04"/>
          <p:cNvPicPr/>
          <p:nvPr/>
        </p:nvPicPr>
        <p:blipFill>
          <a:blip r:embed="rId2"/>
          <a:stretch/>
        </p:blipFill>
        <p:spPr>
          <a:xfrm>
            <a:off x="231840" y="2225520"/>
            <a:ext cx="2432160" cy="340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049056054124052057054057050052"/>
          <p:cNvPicPr/>
          <p:nvPr/>
        </p:nvPicPr>
        <p:blipFill>
          <a:blip r:embed="rId3"/>
          <a:stretch/>
        </p:blipFill>
        <p:spPr>
          <a:xfrm>
            <a:off x="6473880" y="2792520"/>
            <a:ext cx="2590920" cy="36273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2"/>
          <p:cNvSpPr/>
          <p:nvPr/>
        </p:nvSpPr>
        <p:spPr>
          <a:xfrm>
            <a:off x="3330720" y="21938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РЕПТИЛ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51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52" name="Пятиугольник 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Рисунок 2" descr=""/>
          <p:cNvPicPr/>
          <p:nvPr/>
        </p:nvPicPr>
        <p:blipFill>
          <a:blip r:embed="rId5"/>
          <a:stretch/>
        </p:blipFill>
        <p:spPr>
          <a:xfrm>
            <a:off x="1835280" y="3495600"/>
            <a:ext cx="188748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Омега\Desktop\Рисунок6.png"/>
          <p:cNvPicPr/>
          <p:nvPr/>
        </p:nvPicPr>
        <p:blipFill>
          <a:blip r:embed="rId1"/>
          <a:stretch/>
        </p:blipFill>
        <p:spPr>
          <a:xfrm>
            <a:off x="2340000" y="2457360"/>
            <a:ext cx="4753080" cy="2705040"/>
          </a:xfrm>
          <a:prstGeom prst="rect">
            <a:avLst/>
          </a:prstGeom>
          <a:ln w="0">
            <a:noFill/>
          </a:ln>
        </p:spPr>
      </p:pic>
      <p:sp>
        <p:nvSpPr>
          <p:cNvPr id="157" name="Скругленный прямоугольник 4"/>
          <p:cNvSpPr/>
          <p:nvPr/>
        </p:nvSpPr>
        <p:spPr>
          <a:xfrm>
            <a:off x="1728720" y="765000"/>
            <a:ext cx="5742000" cy="70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ПРЯМОЕ ПОСТЭМБИОНАЛЬНОЕ РАЗВИТИЕ- развитие с метаморфоз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59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60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2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Прямоугольник 5"/>
          <p:cNvSpPr/>
          <p:nvPr/>
        </p:nvSpPr>
        <p:spPr>
          <a:xfrm>
            <a:off x="149400" y="1487520"/>
            <a:ext cx="890100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яйца выходит личинка, со специальными личиночными органами, 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зрослом состоянии отсутствующи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 временем органы личинки заменяются органами, свойственными взрослым особям. Личинка превращается во взрослое животн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2081160" y="973080"/>
            <a:ext cx="5292720" cy="44712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 неполным превращение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sarancha"/>
          <p:cNvPicPr/>
          <p:nvPr/>
        </p:nvPicPr>
        <p:blipFill>
          <a:blip r:embed="rId1"/>
          <a:stretch/>
        </p:blipFill>
        <p:spPr>
          <a:xfrm>
            <a:off x="-182520" y="1792440"/>
            <a:ext cx="4181400" cy="248760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"/>
          <p:cNvGrpSpPr/>
          <p:nvPr/>
        </p:nvGrpSpPr>
        <p:grpSpPr>
          <a:xfrm>
            <a:off x="-1440" y="19080"/>
            <a:ext cx="9145440" cy="709200"/>
            <a:chOff x="-1440" y="19080"/>
            <a:chExt cx="9145440" cy="709200"/>
          </a:xfrm>
        </p:grpSpPr>
        <p:grpSp>
          <p:nvGrpSpPr>
            <p:cNvPr id="167" name="Пятиугольник 2"/>
            <p:cNvGrpSpPr/>
            <p:nvPr/>
          </p:nvGrpSpPr>
          <p:grpSpPr>
            <a:xfrm>
              <a:off x="-1440" y="19080"/>
              <a:ext cx="9145440" cy="430920"/>
              <a:chOff x="-1440" y="19080"/>
              <a:chExt cx="9145440" cy="430920"/>
            </a:xfrm>
          </p:grpSpPr>
          <p:pic>
            <p:nvPicPr>
              <p:cNvPr id="16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40" y="19080"/>
                <a:ext cx="9145440" cy="43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 rot="10800000">
                <a:off x="15120" y="31320"/>
                <a:ext cx="9115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Пятиугольник 2"/>
            <p:cNvSpPr/>
            <p:nvPr/>
          </p:nvSpPr>
          <p:spPr>
            <a:xfrm rot="10800000">
              <a:off x="1279440" y="428760"/>
              <a:ext cx="7852320" cy="29916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Трапеция 15"/>
          <p:cNvSpPr/>
          <p:nvPr/>
        </p:nvSpPr>
        <p:spPr>
          <a:xfrm>
            <a:off x="6156360" y="1887480"/>
            <a:ext cx="2862360" cy="23940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ЙЦ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Ч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А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Прямая со стрелкой 16"/>
          <p:cNvCxnSpPr/>
          <p:nvPr/>
        </p:nvCxnSpPr>
        <p:spPr>
          <a:xfrm>
            <a:off x="7586280" y="2787480"/>
            <a:ext cx="108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17"/>
          <p:cNvCxnSpPr/>
          <p:nvPr/>
        </p:nvCxnSpPr>
        <p:spPr>
          <a:xfrm>
            <a:off x="7584840" y="3394080"/>
            <a:ext cx="1080" cy="32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Скругленный прямоугольник 10"/>
          <p:cNvSpPr/>
          <p:nvPr/>
        </p:nvSpPr>
        <p:spPr>
          <a:xfrm>
            <a:off x="3605040" y="2776680"/>
            <a:ext cx="254664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РЯ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жесткокрыл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е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окрылы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250920" y="1944720"/>
            <a:ext cx="5760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яйц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5"/>
          <p:cNvSpPr/>
          <p:nvPr/>
        </p:nvSpPr>
        <p:spPr>
          <a:xfrm>
            <a:off x="1692360" y="843120"/>
            <a:ext cx="5759280" cy="1620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ИНДИВИДУАЛЬНОЕ РАЗВИТИЕ</a:t>
            </a:r>
            <a:r>
              <a:rPr b="1" lang="en-US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 -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ОНТОГЕНЕЗ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1042920" y="2604960"/>
            <a:ext cx="6985080" cy="215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греческого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ontos-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ущее и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sis –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новение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 индивидуальное развития особи от зарождения (оплодотворения яйцеклетки, начала самостоятельной жизни органа вегетативного размножения или деления материнской одноклеточной особи) до конца жизн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58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59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трелка вниз 12"/>
          <p:cNvSpPr/>
          <p:nvPr/>
        </p:nvSpPr>
        <p:spPr>
          <a:xfrm rot="558600">
            <a:off x="2193480" y="1749240"/>
            <a:ext cx="574920" cy="461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5642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низ 13"/>
          <p:cNvSpPr/>
          <p:nvPr/>
        </p:nvSpPr>
        <p:spPr>
          <a:xfrm rot="21138600">
            <a:off x="6367320" y="1765080"/>
            <a:ext cx="549360" cy="430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662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21"/>
          <p:cNvSpPr/>
          <p:nvPr/>
        </p:nvSpPr>
        <p:spPr>
          <a:xfrm>
            <a:off x="603360" y="3179880"/>
            <a:ext cx="3450960" cy="1861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хватывает процессы происходящие с момента первого деления зиготы до выхода из яйца или 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17"/>
          <p:cNvSpPr/>
          <p:nvPr/>
        </p:nvSpPr>
        <p:spPr>
          <a:xfrm>
            <a:off x="611280" y="2201760"/>
            <a:ext cx="34336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МБРИОН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Группа 1"/>
          <p:cNvGrpSpPr/>
          <p:nvPr/>
        </p:nvGrpSpPr>
        <p:grpSpPr>
          <a:xfrm>
            <a:off x="0" y="-17640"/>
            <a:ext cx="9145440" cy="709920"/>
            <a:chOff x="0" y="-17640"/>
            <a:chExt cx="9145440" cy="709920"/>
          </a:xfrm>
        </p:grpSpPr>
        <p:grpSp>
          <p:nvGrpSpPr>
            <p:cNvPr id="67" name="Пятиугольник 2"/>
            <p:cNvGrpSpPr/>
            <p:nvPr/>
          </p:nvGrpSpPr>
          <p:grpSpPr>
            <a:xfrm>
              <a:off x="0" y="-17640"/>
              <a:ext cx="9145440" cy="431280"/>
              <a:chOff x="0" y="-17640"/>
              <a:chExt cx="9145440" cy="431280"/>
            </a:xfrm>
          </p:grpSpPr>
          <p:pic>
            <p:nvPicPr>
              <p:cNvPr id="68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17640"/>
                <a:ext cx="914544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 rot="10800000">
                <a:off x="11880" y="-5040"/>
                <a:ext cx="91152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Пятиугольник 2"/>
            <p:cNvSpPr/>
            <p:nvPr/>
          </p:nvSpPr>
          <p:spPr>
            <a:xfrm rot="10800000">
              <a:off x="1276560" y="392400"/>
              <a:ext cx="7852320" cy="29952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Овал 16"/>
          <p:cNvSpPr/>
          <p:nvPr/>
        </p:nvSpPr>
        <p:spPr>
          <a:xfrm>
            <a:off x="773280" y="719280"/>
            <a:ext cx="7619760" cy="10890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Calibri"/>
                <a:ea typeface="Times New Roman"/>
              </a:rPr>
              <a:t>ИНДИВИДУАЛЬНОЕ РАЗВИТИЕ ЖИВОТНЫ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5337000" y="2201760"/>
            <a:ext cx="3213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ЭМБРИОН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15"/>
          <p:cNvSpPr/>
          <p:nvPr/>
        </p:nvSpPr>
        <p:spPr>
          <a:xfrm>
            <a:off x="5099040" y="3179880"/>
            <a:ext cx="3451320" cy="1861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организма с момента его рождения или выхода из яйцевых оболочек до смер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7"/>
          <p:cNvSpPr/>
          <p:nvPr/>
        </p:nvSpPr>
        <p:spPr>
          <a:xfrm>
            <a:off x="1143000" y="3435480"/>
            <a:ext cx="6858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2951280" y="4667400"/>
            <a:ext cx="34290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835200" y="1276200"/>
            <a:ext cx="3232080" cy="276732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утроб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нчи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жд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большинство млекопитающих, в том числе человек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903920" y="1276200"/>
            <a:ext cx="3376440" cy="276732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е тела мате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нчивается выходом из яйцевых оболочек       (многие беспозвоночные, большинство рыб, земноводные, пресмыкающиеся, птицы, однопроходные млекопитающие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84360" y="4229280"/>
            <a:ext cx="7848360" cy="88956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преобладающего большинства животных эмбриональный период протекает сходным образом и состоит из 5 этапов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обления, бластуляции, гаструляции, гистогенеза и органогене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80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81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Скругленный прямоугольник 15"/>
          <p:cNvSpPr/>
          <p:nvPr/>
        </p:nvSpPr>
        <p:spPr>
          <a:xfrm>
            <a:off x="863640" y="792000"/>
            <a:ext cx="7416720" cy="39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  <a:ea typeface="Times New Roman"/>
              </a:rPr>
              <a:t>ЭМБРИОНАЛЬНОЕ РАЗВИТИЕ ЖИВОТ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кругленный прямоугольник 4"/>
          <p:cNvSpPr/>
          <p:nvPr/>
        </p:nvSpPr>
        <p:spPr>
          <a:xfrm>
            <a:off x="1116000" y="771480"/>
            <a:ext cx="6985080" cy="6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504d"/>
                </a:solidFill>
                <a:latin typeface="Calibri"/>
                <a:ea typeface="Times New Roman"/>
              </a:rPr>
              <a:t>ЭТАПЫ ЭМБРИОНАЛЬНОГО РАЗВИТ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530280" y="1536840"/>
            <a:ext cx="8156520" cy="3565440"/>
          </a:xfrm>
          <a:prstGeom prst="rect">
            <a:avLst/>
          </a:prstGeom>
          <a:ln w="0">
            <a:noFill/>
          </a:ln>
        </p:spPr>
      </p:pic>
      <p:grpSp>
        <p:nvGrpSpPr>
          <p:cNvPr id="87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88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89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11"/>
          <p:cNvSpPr/>
          <p:nvPr/>
        </p:nvSpPr>
        <p:spPr>
          <a:xfrm>
            <a:off x="1378080" y="4548240"/>
            <a:ext cx="5105160" cy="47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А- зигота        В, С- стадия 2-х и 4-х бластомеров    </a:t>
            </a:r>
            <a:r>
              <a:rPr b="0" i="1" lang="en-US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D</a:t>
            </a:r>
            <a:r>
              <a:rPr b="0" i="1" lang="ru-RU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- мору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1754280" y="730080"/>
            <a:ext cx="5743440" cy="1148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ДРОБЛЕНИЕ</a:t>
            </a:r>
            <a:r>
              <a:rPr b="1" lang="ru-RU" sz="2400" spc="-1" strike="noStrike">
                <a:solidFill>
                  <a:srgbClr val="403152"/>
                </a:solidFill>
                <a:latin typeface="Calibri"/>
                <a:ea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кратное деление зиготы путем митоза (без рос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1440000" y="1968480"/>
            <a:ext cx="6372000" cy="11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зультате  деления из зиготы образую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ачале 2 клетки, затем 4, 8, 16 и т.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тки, возникающ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дроблении, называются </a:t>
            </a:r>
            <a:r>
              <a:rPr b="1" i="1" lang="ru-RU" sz="1800" spc="-1" strike="noStrike">
                <a:solidFill>
                  <a:srgbClr val="990000"/>
                </a:solidFill>
                <a:latin typeface="Calibri"/>
                <a:ea typeface="Times New Roman"/>
              </a:rPr>
              <a:t>бластомерам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r1"/>
          <p:cNvPicPr/>
          <p:nvPr/>
        </p:nvPicPr>
        <p:blipFill>
          <a:blip r:embed="rId1"/>
          <a:stretch/>
        </p:blipFill>
        <p:spPr>
          <a:xfrm>
            <a:off x="1382760" y="3286080"/>
            <a:ext cx="6572160" cy="1370160"/>
          </a:xfrm>
          <a:prstGeom prst="rect">
            <a:avLst/>
          </a:prstGeom>
          <a:ln w="0">
            <a:noFill/>
          </a:ln>
        </p:spPr>
      </p:pic>
      <p:grpSp>
        <p:nvGrpSpPr>
          <p:cNvPr id="96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97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9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Скругленный прямоугольник 6"/>
          <p:cNvSpPr/>
          <p:nvPr/>
        </p:nvSpPr>
        <p:spPr>
          <a:xfrm>
            <a:off x="598320" y="1123920"/>
            <a:ext cx="3294360" cy="3726000"/>
          </a:xfrm>
          <a:custGeom>
            <a:avLst/>
            <a:gdLst>
              <a:gd name="textAreaLeft" fmla="*/ 160560 w 3294360"/>
              <a:gd name="textAreaRight" fmla="*/ 3133800 w 3294360"/>
              <a:gd name="textAreaTop" fmla="*/ 160560 h 3726000"/>
              <a:gd name="textAreaBottom" fmla="*/ 3565440 h 3726000"/>
            </a:gdLst>
            <a:ahLst/>
            <a:rect l="textAreaLeft" t="textAreaTop" r="textAreaRight" b="textAreaBottom"/>
            <a:pathLst>
              <a:path w="21600" h="24430">
                <a:moveTo>
                  <a:pt x="3600" y="0"/>
                </a:moveTo>
                <a:arcTo wR="3600" hR="3600" stAng="16200000" swAng="-5400000"/>
                <a:lnTo>
                  <a:pt x="0" y="20830"/>
                </a:lnTo>
                <a:arcTo wR="3600" hR="3600" stAng="10800000" swAng="-5400000"/>
                <a:lnTo>
                  <a:pt x="18000" y="24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760320" y="1517760"/>
            <a:ext cx="29703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дробления количество кле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стет, они становятся мельче и образуют сферу, внут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й возникает полость –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го момента зародыш назы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ластул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golubovskyj_blastocyst"/>
          <p:cNvPicPr/>
          <p:nvPr/>
        </p:nvPicPr>
        <p:blipFill>
          <a:blip r:embed="rId1"/>
          <a:stretch/>
        </p:blipFill>
        <p:spPr>
          <a:xfrm>
            <a:off x="5433840" y="1347840"/>
            <a:ext cx="3006720" cy="3149640"/>
          </a:xfrm>
          <a:prstGeom prst="rect">
            <a:avLst/>
          </a:prstGeom>
          <a:ln w="0">
            <a:noFill/>
          </a:ln>
        </p:spPr>
      </p:pic>
      <p:sp>
        <p:nvSpPr>
          <p:cNvPr id="104" name="Line 19"/>
          <p:cNvSpPr/>
          <p:nvPr/>
        </p:nvSpPr>
        <p:spPr>
          <a:xfrm flipV="1">
            <a:off x="3419640" y="2087280"/>
            <a:ext cx="2376360" cy="1276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20"/>
          <p:cNvSpPr/>
          <p:nvPr/>
        </p:nvSpPr>
        <p:spPr>
          <a:xfrm flipV="1">
            <a:off x="2843280" y="3147480"/>
            <a:ext cx="3600360" cy="1008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07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0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Скругленный прямоугольник 10"/>
          <p:cNvSpPr/>
          <p:nvPr/>
        </p:nvSpPr>
        <p:spPr>
          <a:xfrm>
            <a:off x="2771640" y="733320"/>
            <a:ext cx="3600720" cy="36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БЛАСТУЛЯЦИЯ</a:t>
            </a:r>
            <a:r>
              <a:rPr b="1" lang="ru-RU" sz="2400" spc="-1" strike="noStrike">
                <a:solidFill>
                  <a:srgbClr val="403152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300px-Gastrulation"/>
          <p:cNvPicPr/>
          <p:nvPr/>
        </p:nvPicPr>
        <p:blipFill>
          <a:blip r:embed="rId1"/>
          <a:stretch/>
        </p:blipFill>
        <p:spPr>
          <a:xfrm>
            <a:off x="1195560" y="1936800"/>
            <a:ext cx="3509640" cy="232092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15"/>
          <p:cNvCxnSpPr/>
          <p:nvPr/>
        </p:nvCxnSpPr>
        <p:spPr>
          <a:xfrm flipH="1">
            <a:off x="4363560" y="2095200"/>
            <a:ext cx="93888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19"/>
          <p:cNvCxnSpPr>
            <a:stCxn id="115" idx="1"/>
          </p:cNvCxnSpPr>
          <p:nvPr/>
        </p:nvCxnSpPr>
        <p:spPr>
          <a:xfrm flipH="1">
            <a:off x="4230360" y="2951280"/>
            <a:ext cx="908640" cy="1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24"/>
          <p:cNvCxnSpPr>
            <a:stCxn id="117" idx="1"/>
          </p:cNvCxnSpPr>
          <p:nvPr/>
        </p:nvCxnSpPr>
        <p:spPr>
          <a:xfrm flipH="1" flipV="1">
            <a:off x="4338360" y="3252240"/>
            <a:ext cx="815040" cy="51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8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19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20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Блок-схема: альтернативный процесс 17"/>
          <p:cNvSpPr/>
          <p:nvPr/>
        </p:nvSpPr>
        <p:spPr>
          <a:xfrm>
            <a:off x="1150920" y="1298520"/>
            <a:ext cx="6842160" cy="459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УЛА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родыш, состоящий из двух зародышевых лист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20"/>
          <p:cNvSpPr/>
          <p:nvPr/>
        </p:nvSpPr>
        <p:spPr>
          <a:xfrm>
            <a:off x="5113440" y="1905120"/>
            <a:ext cx="394488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ТОДЕРМА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жный зародышевый лис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23"/>
          <p:cNvSpPr/>
          <p:nvPr/>
        </p:nvSpPr>
        <p:spPr>
          <a:xfrm>
            <a:off x="611280" y="4471920"/>
            <a:ext cx="7999200" cy="52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гаструлы может образоваться  третий зародышевый листок – </a:t>
            </a:r>
            <a:r>
              <a:rPr b="1" i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езодерм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располагается между эктодермой и энтодерм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25"/>
          <p:cNvSpPr/>
          <p:nvPr/>
        </p:nvSpPr>
        <p:spPr>
          <a:xfrm>
            <a:off x="61920" y="747720"/>
            <a:ext cx="89964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АСТРУЛЯЦИЯ </a:t>
            </a:r>
            <a:r>
              <a:rPr b="1" lang="ru-RU" sz="1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403152"/>
                </a:solidFill>
                <a:latin typeface="Times New Roman"/>
              </a:rPr>
              <a:t>совокупность процессов, приводящих к образованию гастру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30"/>
          <p:cNvSpPr/>
          <p:nvPr/>
        </p:nvSpPr>
        <p:spPr>
          <a:xfrm>
            <a:off x="5138640" y="2673360"/>
            <a:ext cx="3919680" cy="55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НТОДЕРМА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й зародышевый лис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кругленный прямоугольник 32"/>
          <p:cNvSpPr/>
          <p:nvPr/>
        </p:nvSpPr>
        <p:spPr>
          <a:xfrm>
            <a:off x="5153040" y="3490920"/>
            <a:ext cx="391788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ВИЧНЫЙ 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5"/>
          <p:cNvSpPr/>
          <p:nvPr/>
        </p:nvSpPr>
        <p:spPr>
          <a:xfrm>
            <a:off x="285840" y="790560"/>
            <a:ext cx="8569080" cy="120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285840" y="801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стадия развития зародыша-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ейруляц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щая к формированию –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йрулы (трехслойного зародыша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ачинается с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осевых органов: нервная трубка, хорда, кишечная труб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Группа 1"/>
          <p:cNvGrpSpPr/>
          <p:nvPr/>
        </p:nvGrpSpPr>
        <p:grpSpPr>
          <a:xfrm>
            <a:off x="0" y="68400"/>
            <a:ext cx="9145440" cy="709200"/>
            <a:chOff x="0" y="68400"/>
            <a:chExt cx="9145440" cy="709200"/>
          </a:xfrm>
        </p:grpSpPr>
        <p:grpSp>
          <p:nvGrpSpPr>
            <p:cNvPr id="130" name="Пятиугольник 2"/>
            <p:cNvGrpSpPr/>
            <p:nvPr/>
          </p:nvGrpSpPr>
          <p:grpSpPr>
            <a:xfrm>
              <a:off x="0" y="68400"/>
              <a:ext cx="9145440" cy="430920"/>
              <a:chOff x="0" y="68400"/>
              <a:chExt cx="9145440" cy="430920"/>
            </a:xfrm>
          </p:grpSpPr>
          <p:pic>
            <p:nvPicPr>
              <p:cNvPr id="131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8400"/>
                <a:ext cx="9145440" cy="43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rot="10800000">
                <a:off x="11880" y="81000"/>
                <a:ext cx="9115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" name="Пятиугольник 2"/>
            <p:cNvSpPr/>
            <p:nvPr/>
          </p:nvSpPr>
          <p:spPr>
            <a:xfrm rot="10800000">
              <a:off x="1276560" y="478080"/>
              <a:ext cx="7852320" cy="29916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Рисунок 1" descr=""/>
          <p:cNvPicPr/>
          <p:nvPr/>
        </p:nvPicPr>
        <p:blipFill>
          <a:blip r:embed="rId2"/>
          <a:stretch/>
        </p:blipFill>
        <p:spPr>
          <a:xfrm>
            <a:off x="1908000" y="2077920"/>
            <a:ext cx="5832720" cy="299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8T13:10:34Z</dcterms:created>
  <dc:creator>Irina Knyazeva</dc:creator>
  <dc:description/>
  <dc:language>en-US</dc:language>
  <cp:lastModifiedBy>user</cp:lastModifiedBy>
  <cp:lastPrinted>2022-04-24T16:36:28Z</cp:lastPrinted>
  <dcterms:modified xsi:type="dcterms:W3CDTF">2022-04-24T17:00:04Z</dcterms:modified>
  <cp:revision>202</cp:revision>
  <dc:subject/>
  <dc:title>Название презентации</dc:title>
</cp:coreProperties>
</file>