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gif" ContentType="image/gi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D23B-146B-439E-B249-EB3E2313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301A-F25C-4233-9EDB-5333F7BE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F0E7-13DF-4DCE-9CB4-035289E4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B2C5-566F-4730-A12B-9278EE51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783-B9C6-40E3-A0F0-B2DF4FD6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73BC-DB27-45D0-882C-C7BB6B0D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5D8A-6025-4AA9-960D-0DB71135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30BC-9633-49B3-A5A7-844A80D8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D8CF-295C-4F86-B5DE-098C9B24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7690-D112-4B9D-9DD0-2F30AB81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91D6-2B04-4995-AD58-344FBB0C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4E1B-2C74-4B33-AFD5-C579E813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FC5C-FC3F-4200-A547-5452E5B750E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ru.wikipedia.org/wiki/&#1050;&#1086;&#1085;&#1089;&#1090;&#1088;&#1091;&#1082;&#1090;&#1086;&#1088;" TargetMode="External"/><Relationship Id="rId3" Type="http://schemas.openxmlformats.org/officeDocument/2006/relationships/hyperlink" Target="http://ru.wikipedia.org/wiki/&#1054;&#1088;&#1091;&#1078;&#1080;&#1077;" TargetMode="External"/><Relationship Id="rId4" Type="http://schemas.openxmlformats.org/officeDocument/2006/relationships/hyperlink" Target="http://ru.wikipedia.org/wiki/&#1057;&#1057;&#1057;&#1056;" TargetMode="External"/><Relationship Id="rId5" Type="http://schemas.openxmlformats.org/officeDocument/2006/relationships/hyperlink" Target="http://ru.wikipedia.org/wiki/&#1056;&#1086;&#1089;&#1089;&#1080;&#1103;" TargetMode="External"/><Relationship Id="rId6" Type="http://schemas.openxmlformats.org/officeDocument/2006/relationships/hyperlink" Target="http://ru.wikipedia.org/wiki/&#1043;&#1077;&#1085;&#1077;&#1088;&#1072;&#1083;-&#1083;&#1077;&#1081;&#1090;&#1077;&#1085;&#1072;&#1085;&#1090;" TargetMode="External"/><Relationship Id="rId7" Type="http://schemas.openxmlformats.org/officeDocument/2006/relationships/hyperlink" Target="http://ru.wikipedia.org/wiki/&#1043;&#1077;&#1088;&#1086;&#1081;_&#1057;&#1086;&#1094;&#1080;&#1072;&#1083;&#1080;&#1089;&#1090;&#1080;&#1095;&#1077;&#1089;&#1082;&#1086;&#1075;&#1086;_&#1058;&#1088;&#1091;&#1076;&#1072;" TargetMode="External"/><Relationship Id="rId8" Type="http://schemas.openxmlformats.org/officeDocument/2006/relationships/hyperlink" Target="http://ru.wikipedia.org/wiki/&#1057;&#1090;&#1072;&#1083;&#1080;&#1085;&#1089;&#1082;&#1072;&#1103;_&#1087;&#1088;&#1077;&#1084;&#1080;&#1103;" TargetMode="External"/><Relationship Id="rId9" Type="http://schemas.openxmlformats.org/officeDocument/2006/relationships/hyperlink" Target="http://ru.wikipedia.org/wiki/&#1051;&#1077;&#1085;&#1080;&#1085;&#1089;&#1082;&#1072;&#1103;_&#1087;&#1088;&#1077;&#1084;&#1080;&#1103;" TargetMode="External"/><Relationship Id="rId10" Type="http://schemas.openxmlformats.org/officeDocument/2006/relationships/hyperlink" Target="http://ru.wikipedia.org/wiki/&#1043;&#1077;&#1088;&#1086;&#1081;_&#1056;&#1086;&#1089;&#1089;&#1080;&#1081;&#1089;&#1082;&#1086;&#1081;_&#1060;&#1077;&#1076;&#1077;&#1088;&#1072;&#1094;&#1080;&#1080;" TargetMode="External"/><Relationship Id="rId11" Type="http://schemas.openxmlformats.org/officeDocument/2006/relationships/hyperlink" Target="http://ru.wikipedia.org/wiki/&#1054;&#1088;&#1076;&#1077;&#1085;_&#1057;&#1074;&#1103;&#1090;&#1086;&#1075;&#1086;_&#1040;&#1085;&#1076;&#1088;&#1077;&#1103;_&#1055;&#1077;&#1088;&#1074;&#1086;&#1079;&#1074;&#1072;&#1085;&#1085;&#1086;&#1075;&#1086;_&#1056;&#1086;&#1089;&#1089;&#1080;&#1081;&#1089;&#1082;&#1086;&#1081;_&#1060;&#1077;&#1076;&#1077;&#1088;&#1072;&#1094;&#1080;&#1080;" TargetMode="External"/><Relationship Id="rId12" Type="http://schemas.openxmlformats.org/officeDocument/2006/relationships/hyperlink" Target="http://ru.wikipedia.org/wiki/&#1057;&#1086;&#1102;&#1079;_&#1087;&#1080;&#1089;&#1072;&#1090;&#1077;&#1083;&#1077;&#1081;_&#1056;&#1086;&#1089;&#1089;&#1080;&#1080;" TargetMode="External"/><Relationship Id="rId13" Type="http://schemas.openxmlformats.org/officeDocument/2006/relationships/hyperlink" Target="http://ru.wikipedia.org/wiki/&#1050;&#1055;&#1057;&#1057;" TargetMode="External"/><Relationship Id="rId14" Type="http://schemas.openxmlformats.org/officeDocument/2006/relationships/hyperlink" Target="http://ru.wikipedia.org/wiki/1952_&#1075;&#1086;&#1076;" TargetMode="External"/><Relationship Id="rId15" Type="http://schemas.openxmlformats.org/officeDocument/2006/relationships/hyperlink" Target="http://ru.wikipedia.org/wiki/&#1042;&#1077;&#1088;&#1093;&#1086;&#1074;&#1085;&#1099;&#1081;_&#1089;&#1086;&#1074;&#1077;&#1090;_&#1057;&#1057;&#1057;&#1056;" TargetMode="External"/><Relationship Id="rId16" Type="http://schemas.openxmlformats.org/officeDocument/2006/relationships/hyperlink" Target="http://ru.wikipedia.org/wiki/1950" TargetMode="External"/><Relationship Id="rId17" Type="http://schemas.openxmlformats.org/officeDocument/2006/relationships/hyperlink" Target="http://ru.wikipedia.org/wiki/1954" TargetMode="External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Unicode MS"/>
              </a:rPr>
              <a:t>ГБОУ Кадетская школа СПб</a:t>
            </a:r>
            <a:br>
              <a:rPr sz="1800"/>
            </a:b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 Unicode MS"/>
              </a:rPr>
              <a:t>АВТОМАТ КАЛАШНИКО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Unicode MS"/>
              </a:rPr>
              <a:t>Выполни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Unicode MS"/>
              </a:rPr>
              <a:t>Воспитатель ГПД Михайличенко В.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Unicode MS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Arial Unicode MS"/>
              </a:rPr>
              <a:t>г. Павловс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3803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4797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Автомат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Калашникова АК - 7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Калашников Михаил Тимофеевич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7" name="Picture 5" descr="ka_m_t"/>
          <p:cNvPicPr/>
          <p:nvPr/>
        </p:nvPicPr>
        <p:blipFill>
          <a:blip r:embed="rId1"/>
          <a:stretch/>
        </p:blipFill>
        <p:spPr>
          <a:xfrm>
            <a:off x="611280" y="1341360"/>
            <a:ext cx="4224240" cy="51832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4932360" y="1341360"/>
            <a:ext cx="40323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Выдающийся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конструктор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 стрелкового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оружия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 в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СССР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 и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России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, доктор технических наук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генерал-лейтенант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, дважды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Герой Социалистического Труда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, лауреат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Сталинской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 и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Ленинской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 премий,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Герой Российской Федерации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, кавалер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ордена Святого Андрея Первозванного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, член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Союза писателей России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. Член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КПСС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 с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1952 года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, депутат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Верховного совета СССР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 (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1950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—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1954</a:t>
            </a: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Михаил Тимофеевич Калашников является единственным человеком, удостоенным звания Героя России и дважды звания Героя Социалистического Труда одновременн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Технические характеристики автомата АК-74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49417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ерия автоматов AK-74 является прямым потомком АК и АКМ.                                 Следуя мировой моде на малокалиберный малоимпульсный боеприпас и оружие под него, М.Т.Калашников "переделал" АК под новый патрон 5.45x39. По сравнению с M16А2, AK-74 демонстрирует несколько меньшую кучность и точность стрельбы, однако гораздо более высокую надежность и меньшие требования к уходу (особенно в условиях боевых действий).</a:t>
            </a:r>
            <a:br>
              <a:rPr sz="14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5" descr="АК-74"/>
          <p:cNvPicPr/>
          <p:nvPr/>
        </p:nvPicPr>
        <p:blipFill>
          <a:blip r:embed="rId1"/>
          <a:stretch/>
        </p:blipFill>
        <p:spPr>
          <a:xfrm>
            <a:off x="1979640" y="1484280"/>
            <a:ext cx="54007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344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042920" y="4221000"/>
          <a:ext cx="6715080" cy="2256120"/>
        </p:xfrm>
        <a:graphic>
          <a:graphicData uri="http://schemas.openxmlformats.org/drawingml/2006/table">
            <a:tbl>
              <a:tblPr/>
              <a:tblGrid>
                <a:gridCol w="2013120"/>
                <a:gridCol w="4701960"/>
              </a:tblGrid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алиб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.45x39 м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л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33 мм, со сложенным прикладом 700 м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лина ство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15 м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е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,2 кг (с пустым магазином без штыка); 3,5 кг (с полным магазином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Емкость магаз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0 патрон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04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Образцы автомата Калашников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6" name="m2491726.wav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mini-ak"/>
          <p:cNvPicPr/>
          <p:nvPr/>
        </p:nvPicPr>
        <p:blipFill>
          <a:blip r:embed="rId3"/>
          <a:stretch/>
        </p:blipFill>
        <p:spPr>
          <a:xfrm>
            <a:off x="6858000" y="6191280"/>
            <a:ext cx="2286000" cy="66672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2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642"/>
                            </p:stCondLst>
                            <p:childTnLst>
                              <p:par>
                                <p:cTn id="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250920" y="236160"/>
            <a:ext cx="8569080" cy="64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Устройство автомата АК-74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7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 - Коробка ствольная со стволом, 2 - подвижные части, 3 - возвратный механизм, 4 - ударно-спусковой механизм, 5 - предохранительный щиток, 6 - переводчик огня, 7 - направляющая балансира, 8 - крышка ствольной коробки, 9 - цевье, 10 - накладка ствольная, 11 - дульный тормоз-компенсатор, 12 - принадлежность к автома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800 x 413"/>
          <p:cNvPicPr/>
          <p:nvPr/>
        </p:nvPicPr>
        <p:blipFill>
          <a:blip r:embed="rId1"/>
          <a:stretch/>
        </p:blipFill>
        <p:spPr>
          <a:xfrm>
            <a:off x="684360" y="907920"/>
            <a:ext cx="761976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09480" y="2286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ahoma"/>
              </a:rPr>
              <a:t>Разборка автомата может бы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5076720" y="1413000"/>
            <a:ext cx="3598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неполная - для чистки, смазки и осмотра автома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олная – для чистки автомата при полном загрязнен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7" descr="104-1"/>
          <p:cNvPicPr/>
          <p:nvPr/>
        </p:nvPicPr>
        <p:blipFill>
          <a:blip r:embed="rId1"/>
          <a:stretch/>
        </p:blipFill>
        <p:spPr>
          <a:xfrm>
            <a:off x="755640" y="1484280"/>
            <a:ext cx="3886200" cy="268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AKС-74"/>
          <p:cNvPicPr/>
          <p:nvPr/>
        </p:nvPicPr>
        <p:blipFill>
          <a:blip r:embed="rId2"/>
          <a:stretch/>
        </p:blipFill>
        <p:spPr>
          <a:xfrm>
            <a:off x="755640" y="4149720"/>
            <a:ext cx="3886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66"/>
                </a:solidFill>
                <a:latin typeface="Arial"/>
              </a:rPr>
              <a:t>Меры безопасности при обращении с оружием:</a:t>
            </a:r>
            <a:endParaRPr b="0" lang="en-US" sz="2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578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атегорически запреща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рушать правила обращения с оружие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опускать лиц, не имеющих  твёрдых практических навыков обращения с оружием при стрельб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целиваться и направлять оружие на людей, а также в любые стороны независимо от того, заряжено оружие или нет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збирать, ударять, ронять патроны, трогать капсюл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рать, трогать оружие на огневом рубеже или подходить к нему без разрешения руководителя стрельбы на участ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ставлять оружие без присмотра и передавать его другим лицам без разрешения руководителя стрельбы на участ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ряжать оружие до команды руководителя стрельб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изводить стрельбу из неисправного оруж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сти огонь за пределы указанного для стрельбы направления или по укрытию, на котором поднят красный флаг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должать стрельбу после сигнала «Отбой!» и после подъема белого флага на укрыт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трелять в тире одновременно из разных видов оруж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ыносить заряженное оружие с огневого рубеж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 сигнала «Отбой» до сигнала «Огонь» кому бы то ни было находиться на огневом рубеж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06:35:34Z</dcterms:created>
  <dc:creator>Школа №2</dc:creator>
  <dc:description/>
  <dc:language>en-US</dc:language>
  <cp:lastModifiedBy>School</cp:lastModifiedBy>
  <dcterms:modified xsi:type="dcterms:W3CDTF">2022-04-27T18:49:11Z</dcterms:modified>
  <cp:revision>31</cp:revision>
  <dc:subject/>
  <dc:title>Автомат Калашникова АК - 74</dc:title>
</cp:coreProperties>
</file>