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7077075" cy="9004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B10C1-B6DD-498F-A872-7018F90BF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46A28-41B9-4CCA-A743-059A98B0E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FAA90-D1A5-45BB-BBFE-12CB6B85E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EA3BB-1CDC-4853-9BC5-825BCF379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064D3-2314-472A-AB1C-47760DDFF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1CB2D-0E83-429A-9CE9-76768F1E7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C9112-1782-45D3-89C6-7B9A4933E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BD42C-5DB7-4BA5-89FB-005FEFBC3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79789-9DBD-4BFD-9454-EC9D6DB7A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44836-22EA-4657-8798-F3FA5EA4C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52B6B-FAA5-476F-BF6B-FDE292037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C1274-94C6-4F02-A754-DA4A78971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AE5CC-6955-4ADC-B9AD-4952EB15A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B1091-0DEE-4669-A7D4-F9044FA48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A8E68-1D82-43A4-B8DC-3ECCA0E58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BBA11-3DD8-456E-BC55-1457AF2C9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52DAA-8772-486B-8CC8-067D93139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6E6FA-EDC8-4380-BB22-F69CA8823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63B64-0C0F-4958-B750-0E24ACBFA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24D36-D05D-46B7-916E-B03B7261E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1EB4B-3576-43BF-B06D-3AF3C8A48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ED6B9-F744-4388-899B-CAC63F17F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B2EB0-448C-430E-8F96-3C9DFA3C3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7D12B-D2BC-477F-BE5B-80B4C03CB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2CED1-1F3B-43FC-BDB0-93B8B40AB4FE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B744A-ABFD-48D1-A33B-5A7583BD80CD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55640" y="404640"/>
            <a:ext cx="7772400" cy="25495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 Unicode MS"/>
              </a:rPr>
              <a:t>Героическая оборона Ленинграда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402920" y="3499920"/>
            <a:ext cx="7201080" cy="29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1941-1944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 Unicode MS"/>
              </a:rPr>
              <a:t>Выполнил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 Unicode MS"/>
              </a:rPr>
              <a:t>Воспитатель ГПД Михайличенко В.Н.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ff33"/>
                </a:solidFill>
                <a:latin typeface="Arial Unicode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 Unicode MS"/>
              </a:rPr>
              <a:t>г. Павловск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Rectangle 6"/>
          <p:cNvSpPr/>
          <p:nvPr/>
        </p:nvSpPr>
        <p:spPr>
          <a:xfrm>
            <a:off x="2842560" y="627840"/>
            <a:ext cx="3821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 Unicode MS"/>
              </a:rPr>
              <a:t>ГБОУ Кадетская школа СПб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Главные даты обороны Ленинграда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27 января 1944 года в результате Ленинградско-Новгородской операции была полностью снята блокада Ленинград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Главные даты обороны Ленинграда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9640" y="198864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8 сентября 1941 года – начало блокад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8 января 1943 года – прорыв блокад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27 января 1944 года полное снятие блокад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Командующие Ленинградским</a:t>
            </a:r>
            <a:br>
              <a:rPr sz="4000"/>
            </a:b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фронтом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генерал-лейтенант Попов М. М. (27 августа — 5 сентября 1941 года)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Маршал Советского Союза Ворошилов К. Е. (5 — 14 сентября 1941 года)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генерал армии Жуков Г. К. (14 сентября — 10 октября 1941 года)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генерал-майор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Федюнинский И. И. (10 — 26 октября 1941 года)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генерал-лейтенант Хозин М. С. (октябрь 1941 года — июнь 1942 года)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генерал-лейтенант, с января 1943 года генерал-полковник, с ноября 1943 года генерал армии Говоров Л. А. (июнь 1942 года — июль 1945 года)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5" descr="медаль за оборону Ленинграда"/>
          <p:cNvPicPr/>
          <p:nvPr/>
        </p:nvPicPr>
        <p:blipFill>
          <a:blip r:embed="rId1"/>
          <a:stretch/>
        </p:blipFill>
        <p:spPr>
          <a:xfrm>
            <a:off x="1116000" y="260280"/>
            <a:ext cx="6769080" cy="63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5" descr="Начало войны"/>
          <p:cNvPicPr/>
          <p:nvPr/>
        </p:nvPicPr>
        <p:blipFill>
          <a:blip r:embed="rId1"/>
          <a:stretch/>
        </p:blipFill>
        <p:spPr>
          <a:xfrm>
            <a:off x="539640" y="476280"/>
            <a:ext cx="8280360" cy="59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Лужский оборонительный рубеж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93" name="Picture 5" descr="Лужский рубеж"/>
          <p:cNvPicPr/>
          <p:nvPr/>
        </p:nvPicPr>
        <p:blipFill>
          <a:blip r:embed="rId1"/>
          <a:stretch/>
        </p:blipFill>
        <p:spPr>
          <a:xfrm>
            <a:off x="826920" y="1268280"/>
            <a:ext cx="7345440" cy="518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Главные даты обороны Ленинграда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8 сентября 1941 года взятием Шлиссельбурга началась блокада Ленинград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5" descr="Шлиссельбург"/>
          <p:cNvPicPr/>
          <p:nvPr/>
        </p:nvPicPr>
        <p:blipFill>
          <a:blip r:embed="rId1"/>
          <a:stretch/>
        </p:blipFill>
        <p:spPr>
          <a:xfrm>
            <a:off x="826920" y="333360"/>
            <a:ext cx="7632720" cy="575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5" descr="карта блокады"/>
          <p:cNvPicPr/>
          <p:nvPr/>
        </p:nvPicPr>
        <p:blipFill>
          <a:blip r:embed="rId1"/>
          <a:stretch/>
        </p:blipFill>
        <p:spPr>
          <a:xfrm>
            <a:off x="250920" y="333360"/>
            <a:ext cx="8424720" cy="59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5" descr="Ораниебаумский плацдарм"/>
          <p:cNvPicPr/>
          <p:nvPr/>
        </p:nvPicPr>
        <p:blipFill>
          <a:blip r:embed="rId1"/>
          <a:stretch/>
        </p:blipFill>
        <p:spPr>
          <a:xfrm>
            <a:off x="984240" y="274680"/>
            <a:ext cx="7548480" cy="582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Главные даты обороны Ленинграда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8 января 1943 года была прорвана блокада Ленинграда войсками Ленинградского и Волховского фронтов, которые соединились в районе Рабочего поселка №5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5" descr="прорыв"/>
          <p:cNvPicPr/>
          <p:nvPr/>
        </p:nvPicPr>
        <p:blipFill>
          <a:blip r:embed="rId1"/>
          <a:stretch/>
        </p:blipFill>
        <p:spPr>
          <a:xfrm>
            <a:off x="395280" y="476280"/>
            <a:ext cx="835344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chool</cp:lastModifiedBy>
  <dcterms:modified xsi:type="dcterms:W3CDTF">2022-04-27T19:08:46Z</dcterms:modified>
  <cp:revision>9</cp:revision>
  <dc:subject/>
  <dc:title>PowerPoint Presentation</dc:title>
</cp:coreProperties>
</file>