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760-FEAB-4FDA-B1A5-307DEB56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046-096B-44FD-BF03-DA85FBB4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3DC-C12E-42E6-8266-490E92EF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5B7-AC68-4CF5-B88D-6A6866C7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615E-6F42-47DE-B602-28736AFE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3D33-0241-47D9-999E-8C32364F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AA9E-AF3C-4835-8A7A-F46AE57E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C2B4-57A7-432A-BDD5-49B42C44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45B8-E31C-4D6F-B535-B6EE1436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E0E8-03C3-46ED-9794-AA10CA60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8040-885A-415C-825E-B9755D15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6B2-D3FC-4FCF-AC82-514D1AE6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EAF8-BEB3-446D-A086-14C0AA1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EF73-4AAC-4A34-B2F1-43D53445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8CB9-1155-4031-846E-3AB67F68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748F-3DCF-4DB6-900A-EF1D9140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C294-0F2A-4F36-99E8-1D315F3E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9A7-D7EB-4218-B4DA-A63B3A07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782-9D3D-4993-90C2-B6C838B1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8EB-5B13-4C00-8194-03C5D478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344-D88F-447F-81D4-BED21FD1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195-7F43-47DF-B712-24A23089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B93-09A7-48E3-8207-F4211AB4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B02-70DA-485B-A8E0-4CF2AC36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B48F-39D9-4F08-B8C0-4617007E11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5134-F11D-4D04-A6CE-1D964A4FE15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254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 Unicode MS"/>
              </a:rPr>
              <a:t>Героическая оборона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2920" y="3499920"/>
            <a:ext cx="720108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1941-194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Воспитатель ГПД Михайличенко В.Н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г. Павлов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842560" y="627840"/>
            <a:ext cx="38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</a:rPr>
              <a:t>ГБОУ Кадетская школа СПб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ые даты обороны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7 января 1944 года в результате Ленинградско-Новгородской операции была полностью снята блокада Ленингра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ые даты обороны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 сентября 1941 года – начало блок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 января 1943 года – прорыв блок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7 января 1944 года полное снятие блока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мандующие Ленинградским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ронт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-лейтенант Попов М. М. (27 августа — 5 сентября 1941 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ршал Советского Союза Ворошилов К. Е. (5 — 14 сентября 1941 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 армии Жуков Г. К. (14 сентября — 10 октября 1941 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-май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Федюнинский И. И. (10 — 26 октября 1941 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-лейтенант Хозин М. С. (октябрь 1941 года — июнь 1942 года)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нерал-лейтенант, с января 1943 года генерал-полковник, с ноября 1943 года генерал армии Говоров Л. А. (июнь 1942 года — июль 1945 год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медаль за оборону Ленинграда"/>
          <p:cNvPicPr/>
          <p:nvPr/>
        </p:nvPicPr>
        <p:blipFill>
          <a:blip r:embed="rId1"/>
          <a:stretch/>
        </p:blipFill>
        <p:spPr>
          <a:xfrm>
            <a:off x="1116000" y="260280"/>
            <a:ext cx="67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Начало войны"/>
          <p:cNvPicPr/>
          <p:nvPr/>
        </p:nvPicPr>
        <p:blipFill>
          <a:blip r:embed="rId1"/>
          <a:stretch/>
        </p:blipFill>
        <p:spPr>
          <a:xfrm>
            <a:off x="539640" y="476280"/>
            <a:ext cx="8280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ужский оборонительный рубеж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Picture 5" descr="Лужский рубеж"/>
          <p:cNvPicPr/>
          <p:nvPr/>
        </p:nvPicPr>
        <p:blipFill>
          <a:blip r:embed="rId1"/>
          <a:stretch/>
        </p:blipFill>
        <p:spPr>
          <a:xfrm>
            <a:off x="826920" y="1268280"/>
            <a:ext cx="73454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ые даты обороны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 сентября 1941 года взятием Шлиссельбурга началась блокада Ленингра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Шлиссельбург"/>
          <p:cNvPicPr/>
          <p:nvPr/>
        </p:nvPicPr>
        <p:blipFill>
          <a:blip r:embed="rId1"/>
          <a:stretch/>
        </p:blipFill>
        <p:spPr>
          <a:xfrm>
            <a:off x="826920" y="333360"/>
            <a:ext cx="763272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арта блокады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Ораниебаумский плацдарм"/>
          <p:cNvPicPr/>
          <p:nvPr/>
        </p:nvPicPr>
        <p:blipFill>
          <a:blip r:embed="rId1"/>
          <a:stretch/>
        </p:blipFill>
        <p:spPr>
          <a:xfrm>
            <a:off x="984240" y="274680"/>
            <a:ext cx="754848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вные даты обороны Ленингра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8 января 1943 года была прорвана блокада Ленинграда войсками Ленинградского и Волховского фронтов, которые соединились в районе Рабочего поселка №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прорыв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</cp:lastModifiedBy>
  <dcterms:modified xsi:type="dcterms:W3CDTF">2022-04-27T19:08:46Z</dcterms:modified>
  <cp:revision>9</cp:revision>
  <dc:subject/>
  <dc:title>PowerPoint Presentation</dc:title>
</cp:coreProperties>
</file>