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" descr="E:\Photoshop\GoldenAutumn\04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155664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41" name="Picture 2" descr="E:\Photoshop\GoldenAutumn\03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E:\Photoshop\GoldenAutumn\0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81" name="Picture 4" descr="E:\Photoshop\GoldenAutumn\GoldenAutumnM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0000" y="332640"/>
            <a:ext cx="46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78560" y="1700640"/>
            <a:ext cx="7885800" cy="48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2493000"/>
            <a:ext cx="7772040" cy="1439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оллекция кукол в русских народных костюмах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83640" y="4581000"/>
            <a:ext cx="6480360" cy="172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/>
                </a:solidFill>
                <a:latin typeface="Calibri"/>
              </a:rPr>
              <a:t>МАДОУ№3 «Радуга» 2016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3"/>
                </a:solidFill>
                <a:latin typeface="Calibri"/>
              </a:rPr>
              <a:t>Воспитатели: Подузова О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3"/>
                </a:solidFill>
                <a:latin typeface="Calibri"/>
              </a:rPr>
              <a:t>                        </a:t>
            </a:r>
            <a:r>
              <a:rPr b="0" lang="ru-RU" sz="1600" spc="-1" strike="noStrike">
                <a:solidFill>
                  <a:schemeClr val="accent3"/>
                </a:solidFill>
                <a:latin typeface="Calibri"/>
              </a:rPr>
              <a:t>Сусолина Е.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е головные убор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одержимое 3" descr="http://photofile.ru/photo/semkov/418997/56750892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1640" y="1340640"/>
            <a:ext cx="3960000" cy="439200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  <p:pic>
        <p:nvPicPr>
          <p:cNvPr id="150" name="Рисунок 4" descr="http://s001.radikal.ru/i195/1001/04/f7a54fe1b362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4932000" y="1556640"/>
            <a:ext cx="3565800" cy="3960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151" name="Прямоугольник 5"/>
          <p:cNvSpPr/>
          <p:nvPr/>
        </p:nvSpPr>
        <p:spPr>
          <a:xfrm>
            <a:off x="1619640" y="5661360"/>
            <a:ext cx="734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"Сорока" с рогатой "кичкой"-Тамбовская губ., 2 пол.19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"Сорока с мохрами"-Орловская губ., 2 пол.19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е головные убор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http://s004.radikal.ru/i205/1001/28/885f46e09ef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19640" y="980640"/>
            <a:ext cx="6222960" cy="466956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154" name="Прямоугольник 4"/>
          <p:cNvSpPr/>
          <p:nvPr/>
        </p:nvSpPr>
        <p:spPr>
          <a:xfrm>
            <a:off x="395640" y="5589360"/>
            <a:ext cx="8748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окошник -Московская губ., 2 пол.18в.            2. "Сборник"-Вологодская губ., 2 пол.19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"Повязка"-Нижегородская губ., нач.19в.         4. "Повязка"-центр России, 18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адебные головные убор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12" descr="IMG_2650.JPG"/>
          <p:cNvPicPr/>
          <p:nvPr/>
        </p:nvPicPr>
        <p:blipFill>
          <a:blip r:embed="rId1">
            <a:lum contrast="30000"/>
          </a:blip>
          <a:stretch/>
        </p:blipFill>
        <p:spPr>
          <a:xfrm rot="5400000">
            <a:off x="770400" y="1685880"/>
            <a:ext cx="4362840" cy="410400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  <p:pic>
        <p:nvPicPr>
          <p:cNvPr id="157" name="Содержимое 8" descr="IMG_2638.JPG"/>
          <p:cNvPicPr/>
          <p:nvPr/>
        </p:nvPicPr>
        <p:blipFill>
          <a:blip r:embed="rId2">
            <a:lum contrast="20000"/>
          </a:blip>
          <a:stretch/>
        </p:blipFill>
        <p:spPr>
          <a:xfrm rot="5400000">
            <a:off x="4617000" y="2591640"/>
            <a:ext cx="5214600" cy="29998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е украшени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Содержимое 3" descr="http://www.ljplus.ru/img3/a/m/amethist_grape/gaj5.jpg"/>
          <p:cNvPicPr/>
          <p:nvPr/>
        </p:nvPicPr>
        <p:blipFill>
          <a:blip r:embed="rId1"/>
          <a:stretch/>
        </p:blipFill>
        <p:spPr>
          <a:xfrm>
            <a:off x="1187640" y="1412640"/>
            <a:ext cx="2518560" cy="4392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pic>
        <p:nvPicPr>
          <p:cNvPr id="160" name="Содержимое 3" descr="http://s39.radikal.ru/i086/1001/e7/568ad28ac5cf.jpg"/>
          <p:cNvPicPr/>
          <p:nvPr/>
        </p:nvPicPr>
        <p:blipFill>
          <a:blip r:embed="rId2"/>
          <a:stretch/>
        </p:blipFill>
        <p:spPr>
          <a:xfrm>
            <a:off x="3780000" y="1196640"/>
            <a:ext cx="4928760" cy="488268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161" name="Прямоугольник 5"/>
          <p:cNvSpPr/>
          <p:nvPr/>
        </p:nvSpPr>
        <p:spPr>
          <a:xfrm flipV="1" rot="10800000">
            <a:off x="1332000" y="5906160"/>
            <a:ext cx="194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й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4860000" y="6093360"/>
            <a:ext cx="2993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ичьи накос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:\Photoshop\GoldenAutumn\GoldenAutumnW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дежда на Рус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Содержимое 17" descr="сканирование003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755640" y="1268640"/>
            <a:ext cx="7272360" cy="4104000"/>
          </a:xfrm>
          <a:prstGeom prst="rect">
            <a:avLst/>
          </a:prstGeom>
          <a:ln w="9525">
            <a:noFill/>
          </a:ln>
        </p:spPr>
      </p:pic>
      <p:sp>
        <p:nvSpPr>
          <p:cNvPr id="166" name="TextBox 5"/>
          <p:cNvSpPr/>
          <p:nvPr/>
        </p:nvSpPr>
        <p:spPr>
          <a:xfrm>
            <a:off x="323640" y="5589360"/>
            <a:ext cx="849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ежда на Руси была свободной, длинной и необычайно краси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4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ибольшей яркостью всегда отличалась женская праздничная одежда молодых женщин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9" descr="IMG_2660.JPG"/>
          <p:cNvPicPr/>
          <p:nvPr/>
        </p:nvPicPr>
        <p:blipFill>
          <a:blip r:embed="rId1">
            <a:lum contrast="30000"/>
          </a:blip>
          <a:stretch/>
        </p:blipFill>
        <p:spPr>
          <a:xfrm rot="5400000">
            <a:off x="215640" y="2312640"/>
            <a:ext cx="5112360" cy="3600000"/>
          </a:xfrm>
          <a:prstGeom prst="rect">
            <a:avLst/>
          </a:prstGeom>
          <a:ln w="9525"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  <a:softEdge rad="127080"/>
          </a:effectLst>
        </p:spPr>
      </p:pic>
      <p:pic>
        <p:nvPicPr>
          <p:cNvPr id="169" name="Содержимое 6" descr="сканирование0027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143680" y="1571760"/>
            <a:ext cx="3571560" cy="5000400"/>
          </a:xfrm>
          <a:prstGeom prst="rect">
            <a:avLst/>
          </a:prstGeom>
          <a:ln w="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  <a:softEdge rad="127080"/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extrusionH="76200" contourW="12700" prstMaterial="metal">
            <a:bevelT w="88900" h="88900"/>
            <a:extrusionClr>
              <a:schemeClr val="tx1"/>
            </a:extrusionClr>
            <a:contourClr>
              <a:srgbClr val="c0000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2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жнорусский поневный комплек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D:\лариса\диск 22.05.2011\рус нац костюм\картинки сканр\CIMG1496f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907640" y="1268640"/>
            <a:ext cx="5535000" cy="4525560"/>
          </a:xfrm>
          <a:prstGeom prst="rect">
            <a:avLst/>
          </a:prstGeom>
          <a:ln w="9525">
            <a:noFill/>
          </a:ln>
        </p:spPr>
      </p:pic>
      <p:sp>
        <p:nvSpPr>
          <p:cNvPr id="172" name="Прямоугольник 4"/>
          <p:cNvSpPr/>
          <p:nvPr/>
        </p:nvSpPr>
        <p:spPr>
          <a:xfrm>
            <a:off x="2286000" y="5805360"/>
            <a:ext cx="685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ато вышитая рубаха, клетчатая понева, пояс, передник, "навершник" — наплечная одежда типа укороченной рубахи, другие детали и украшения, головной убор "сорока", обу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здничная одежда. Север Росс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Содержимое 3" descr="http://i080.radikal.ru/1001/4d/5f0a9e68631e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1640" y="1600200"/>
            <a:ext cx="5256360" cy="48528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верорусский сарафанный комплек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D:\лариса\диск 22.05.2011\рус нац костюм\картинки сканр\CIMG149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267640" y="1268640"/>
            <a:ext cx="5256360" cy="478080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3924000" y="6021360"/>
            <a:ext cx="5219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а, сарафан, пояс, душегрея, кокошник, украшения, обу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Женская праздничная одежда Воронежской и Рязанской губер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одержимое 3" descr="http://s002.radikal.ru/i199/1002/70/fa67c4a6b46c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23760" y="1600200"/>
            <a:ext cx="6132240" cy="49248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я русского народного костюм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471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й народный костюм – неотъемлемая часть народной культуры. Традиционная народная одежда формировалась веками. Из поколения в поколение передавались знания и опыт работы над костюмом, шлифовались отдельные его элементы и весь образ в цело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элементы женского народного костюма: сарафан или понева, рубаха, передник, головной убо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4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ая праздничная одежда, Тамбовской и Курской губерний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одержимое 3" descr="http://i057.radikal.ru/1001/4c/e49e339aa486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145960" y="1600200"/>
            <a:ext cx="5738040" cy="49968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адебный костю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Содержимое 17" descr="IMG_2654.JPG"/>
          <p:cNvPicPr/>
          <p:nvPr/>
        </p:nvPicPr>
        <p:blipFill>
          <a:blip r:embed="rId1">
            <a:lum contrast="20000"/>
          </a:blip>
          <a:stretch/>
        </p:blipFill>
        <p:spPr>
          <a:xfrm rot="5400000">
            <a:off x="4698000" y="1430640"/>
            <a:ext cx="4680000" cy="377964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pic>
        <p:nvPicPr>
          <p:cNvPr id="184" name="Picture 3" descr="C:\Users\Лариса\Desktop\народная одежда\debdda9cd23396062d9ce09a65840a3c.jpg"/>
          <p:cNvPicPr/>
          <p:nvPr/>
        </p:nvPicPr>
        <p:blipFill>
          <a:blip r:embed="rId2"/>
          <a:stretch/>
        </p:blipFill>
        <p:spPr>
          <a:xfrm>
            <a:off x="251640" y="1052640"/>
            <a:ext cx="5040360" cy="453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85" name="Прямоугольник 5"/>
          <p:cNvSpPr/>
          <p:nvPr/>
        </p:nvSpPr>
        <p:spPr>
          <a:xfrm>
            <a:off x="251640" y="5517360"/>
            <a:ext cx="8892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адебный наряд шили задолго до торжества, так как он требовал много времени и труда. Все элементы костюма тщательно украшались, оберегали от злых сил и напастей символами и орнамент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ающими счастье, долголетие, здоровое потом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:\Photoshop\GoldenAutumn\GoldenAutR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1640" y="692640"/>
            <a:ext cx="6994800" cy="223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Проект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2997000"/>
            <a:ext cx="7859520" cy="31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Коллекция кукол в русских народных костюмах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E:\Photoshop\GoldenAutumn\GoldenAutumnM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сковский южный народный костю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Содержимое 4" descr="C:\Documents and Settings\BadBoy\Desktop\IMG_1575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771640" y="1268640"/>
            <a:ext cx="3384000" cy="48963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192" name="Rectangle 1"/>
          <p:cNvSpPr/>
          <p:nvPr/>
        </p:nvSpPr>
        <p:spPr>
          <a:xfrm>
            <a:off x="2627640" y="6327000"/>
            <a:ext cx="5040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ученица Ярмонов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3640" y="0"/>
            <a:ext cx="8460000" cy="98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ижегородский народный костюм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Содержимое 3" descr="C:\Documents and Settings\BadBoy\Desktop\IMG_1581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04000" y="1196640"/>
            <a:ext cx="3107520" cy="49683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195" name="Rectangle 1"/>
          <p:cNvSpPr/>
          <p:nvPr/>
        </p:nvSpPr>
        <p:spPr>
          <a:xfrm>
            <a:off x="2699640" y="6283080"/>
            <a:ext cx="5112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ученица Шевченко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1640" y="0"/>
            <a:ext cx="8892000" cy="98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рядовый (свадебный) женский народный костюм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Содержимое 3" descr="C:\Documents and Settings\BadBoy\Desktop\IMG_1578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04000" y="1196640"/>
            <a:ext cx="3216240" cy="468000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198" name="Rectangle 1"/>
          <p:cNvSpPr/>
          <p:nvPr/>
        </p:nvSpPr>
        <p:spPr>
          <a:xfrm>
            <a:off x="2627640" y="5925960"/>
            <a:ext cx="432000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ученица Вол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820000" cy="76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вседневный женский народный костюм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Содержимое 3" descr="C:\Documents and Settings\BadBoy\Desktop\IMG_158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04000" y="908640"/>
            <a:ext cx="3161160" cy="48963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201" name="Прямоугольник 4"/>
          <p:cNvSpPr/>
          <p:nvPr/>
        </p:nvSpPr>
        <p:spPr>
          <a:xfrm>
            <a:off x="2267640" y="5949360"/>
            <a:ext cx="540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Капустина Каро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820000" cy="76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здничный женский народный костюм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Содержимое 3" descr="C:\Documents and Settings\BadBoy\Desktop\IMG_1586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04000" y="908640"/>
            <a:ext cx="3384000" cy="504036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204" name="Rectangle 1"/>
          <p:cNvSpPr/>
          <p:nvPr/>
        </p:nvSpPr>
        <p:spPr>
          <a:xfrm>
            <a:off x="2411640" y="6139080"/>
            <a:ext cx="4968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ученица Кретинина Евг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640" y="0"/>
            <a:ext cx="8964000" cy="112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усский народный женский костюм зажиточных крестьянок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3" descr="C:\Documents and Settings\BadBoy\Desktop\IMG_157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204000" y="1484640"/>
            <a:ext cx="3338280" cy="475200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  <p:sp>
        <p:nvSpPr>
          <p:cNvPr id="207" name="Rectangle 1"/>
          <p:cNvSpPr/>
          <p:nvPr/>
        </p:nvSpPr>
        <p:spPr>
          <a:xfrm>
            <a:off x="2411640" y="6261120"/>
            <a:ext cx="49683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 ученица Богомолова 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7480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ллекция кукол в русских народных костюмах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Содержимое 3" descr="C:\Documents and Settings\BadBoy\Desktop\IMG_157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640" y="1340640"/>
            <a:ext cx="8496720" cy="4824000"/>
          </a:xfrm>
          <a:prstGeom prst="rect">
            <a:avLst/>
          </a:prstGeom>
          <a:ln w="9525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й костю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3" descr="img2.jpg"/>
          <p:cNvPicPr/>
          <p:nvPr/>
        </p:nvPicPr>
        <p:blipFill>
          <a:blip r:embed="rId1"/>
          <a:stretch/>
        </p:blipFill>
        <p:spPr>
          <a:xfrm>
            <a:off x="2699640" y="1845000"/>
            <a:ext cx="4321080" cy="3398400"/>
          </a:xfrm>
          <a:prstGeom prst="rect">
            <a:avLst/>
          </a:prstGeom>
          <a:ln w="762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E:\Photoshop\GoldenAutumn\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240" cy="4750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endParaRPr b="0" lang="ru-RU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57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баха – основа женского народного костюм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D:\лариса\диск 22.05.2011\рус нац костюм\картинки сканр\CIMG149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228360" y="1556640"/>
            <a:ext cx="2317680" cy="4525560"/>
          </a:xfrm>
          <a:prstGeom prst="rect">
            <a:avLst/>
          </a:prstGeom>
          <a:ln w="9525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3276000" y="1772640"/>
            <a:ext cx="2664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лась из белого льняного или конопляного полотна. Украшалась вышивкой, которая оберегала женщину от дурного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рафан одевался поверх рубахи, украшался спереди узорной полосой, тесьмой, серебряным кружевом, узорными пугов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6" descr="сканирование0023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39640" y="1628640"/>
            <a:ext cx="2736000" cy="4176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8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й костюм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20" descr="сканирование0023.jpg"/>
          <p:cNvPicPr/>
          <p:nvPr/>
        </p:nvPicPr>
        <p:blipFill>
          <a:blip r:embed="rId1"/>
          <a:stretch/>
        </p:blipFill>
        <p:spPr>
          <a:xfrm>
            <a:off x="1331640" y="1052640"/>
            <a:ext cx="7200360" cy="4248000"/>
          </a:xfrm>
          <a:prstGeom prst="rect">
            <a:avLst/>
          </a:prstGeom>
          <a:ln w="38100">
            <a:noFill/>
          </a:ln>
          <a:effectLst>
            <a:softEdge rad="63360"/>
          </a:effectLst>
        </p:spPr>
      </p:pic>
      <p:sp>
        <p:nvSpPr>
          <p:cNvPr id="132" name="Прямоугольник 4"/>
          <p:cNvSpPr/>
          <p:nvPr/>
        </p:nvSpPr>
        <p:spPr>
          <a:xfrm>
            <a:off x="1115640" y="5373360"/>
            <a:ext cx="80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бахи и сарафаны украшались вышивкой. Женские головные уборы: кокошники, кики, сороки, повойники были самой невиданной формы. Очень любили на Руси душегрейки, которые  надевали поверх сарафана и шили из дорог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:\лариса\диск 22.05.2011\рус нац костюм\картинки сканр\xxc.jpg"/>
          <p:cNvPicPr/>
          <p:nvPr/>
        </p:nvPicPr>
        <p:blipFill>
          <a:blip r:embed="rId1"/>
          <a:stretch/>
        </p:blipFill>
        <p:spPr>
          <a:xfrm>
            <a:off x="3632760" y="1430640"/>
            <a:ext cx="5331240" cy="4806000"/>
          </a:xfrm>
          <a:prstGeom prst="rect">
            <a:avLst/>
          </a:prstGeom>
          <a:ln w="9525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1043640" y="1484640"/>
            <a:ext cx="23040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здничный наряд входили душегрей – епане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коротены – коротенькие кофточки на лямочк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хожие на сарафа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нев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http://s005.radikal.ru/i210/1001/ee/f3094f9caabc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547640" y="1340640"/>
            <a:ext cx="6576120" cy="3816000"/>
          </a:xfrm>
          <a:prstGeom prst="rect">
            <a:avLst/>
          </a:prstGeom>
          <a:ln w="9525">
            <a:noFill/>
          </a:ln>
          <a:effectLst>
            <a:softEdge rad="127080"/>
          </a:effectLst>
        </p:spPr>
      </p:pic>
      <p:sp>
        <p:nvSpPr>
          <p:cNvPr id="138" name="Прямоугольник 4"/>
          <p:cNvSpPr/>
          <p:nvPr/>
        </p:nvSpPr>
        <p:spPr>
          <a:xfrm flipV="1" rot="10800000">
            <a:off x="3060360" y="5276880"/>
            <a:ext cx="608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ева - древняя одежда.  Юбка, состоящая из трех полотнищ шерстяной или полушерстяной ткани, стянутых на талии плетеным узким пояском - гашником; ее носили только замужние женщ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дник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6" descr="сканирование0072.jpg"/>
          <p:cNvPicPr/>
          <p:nvPr/>
        </p:nvPicPr>
        <p:blipFill>
          <a:blip r:embed="rId1"/>
          <a:stretch/>
        </p:blipFill>
        <p:spPr>
          <a:xfrm>
            <a:off x="5004000" y="1412640"/>
            <a:ext cx="3456000" cy="4596480"/>
          </a:xfrm>
          <a:prstGeom prst="rect">
            <a:avLst/>
          </a:prstGeom>
          <a:ln w="88900">
            <a:noFill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  <a:softEdge rad="63360"/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41" name="Прямоугольник 4"/>
          <p:cNvSpPr/>
          <p:nvPr/>
        </p:nvSpPr>
        <p:spPr>
          <a:xfrm>
            <a:off x="1403640" y="1845000"/>
            <a:ext cx="33840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декоративной, богато украшенной частью женского русского костюма был передник, или занавеска, закрывающий женскую фигуру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его делали из холста и орнаментировали вышивкой, тканым узором. Цветными отделочными вставками, шелковыми узорными л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80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Женские головные уборы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D:\лариса\диск 22.05.2011\рус нац костюм\картинки сканр\CIMG1493ч.jpg"/>
          <p:cNvPicPr/>
          <p:nvPr/>
        </p:nvPicPr>
        <p:blipFill>
          <a:blip r:embed="rId1"/>
          <a:stretch/>
        </p:blipFill>
        <p:spPr>
          <a:xfrm>
            <a:off x="3324600" y="980640"/>
            <a:ext cx="2494080" cy="5616360"/>
          </a:xfrm>
          <a:prstGeom prst="rect">
            <a:avLst/>
          </a:prstGeom>
          <a:ln w="9525">
            <a:noFill/>
          </a:ln>
        </p:spPr>
      </p:pic>
      <p:pic>
        <p:nvPicPr>
          <p:cNvPr id="144" name="Picture 3" descr="C:\Users\Лариса\Desktop\народная одежда\2640d572bf73.jpg"/>
          <p:cNvPicPr/>
          <p:nvPr/>
        </p:nvPicPr>
        <p:blipFill>
          <a:blip r:embed="rId2">
            <a:lum contrast="20000"/>
          </a:blip>
          <a:stretch/>
        </p:blipFill>
        <p:spPr>
          <a:xfrm rot="450000">
            <a:off x="6231600" y="1097640"/>
            <a:ext cx="1953360" cy="238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5" name="Picture 2" descr="C:\Users\Лариса\Desktop\народная одежда\1c1fda7a2548.jpg"/>
          <p:cNvPicPr/>
          <p:nvPr/>
        </p:nvPicPr>
        <p:blipFill>
          <a:blip r:embed="rId3"/>
          <a:stretch/>
        </p:blipFill>
        <p:spPr>
          <a:xfrm rot="21081000">
            <a:off x="783360" y="4005000"/>
            <a:ext cx="2101680" cy="2444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6" name="Содержимое 13" descr="IMG_2644.JPG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323640" y="1124640"/>
            <a:ext cx="3090960" cy="2714760"/>
          </a:xfrm>
          <a:prstGeom prst="rect">
            <a:avLst/>
          </a:prstGeom>
          <a:ln w="9525">
            <a:noFill/>
          </a:ln>
          <a:effectLst>
            <a:softEdge rad="317520"/>
          </a:effectLst>
        </p:spPr>
      </p:pic>
      <p:pic>
        <p:nvPicPr>
          <p:cNvPr id="147" name="Содержимое 12" descr="IMG_2643.JPG"/>
          <p:cNvPicPr/>
          <p:nvPr/>
        </p:nvPicPr>
        <p:blipFill>
          <a:blip r:embed="rId5">
            <a:lum contrast="20000"/>
          </a:blip>
          <a:stretch/>
        </p:blipFill>
        <p:spPr>
          <a:xfrm rot="5400000">
            <a:off x="6210720" y="4310640"/>
            <a:ext cx="2592720" cy="21250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senniy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senniy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senniy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senniy</Template>
  <TotalTime>128</TotalTime>
  <Application>LibreOffice/7.4.7.2$Linux_X86_64 LibreOffice_project/40$Build-2</Application>
  <AppVersion>15.0000</AppVersion>
  <Words>570</Words>
  <Paragraphs>59</Paragraphs>
  <Company>Best of The Bes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технология</cp:category>
  <dcterms:created xsi:type="dcterms:W3CDTF">2014-07-18T10:26:41Z</dcterms:created>
  <dc:creator>Клейс Надежда Николаевна</dc:creator>
  <dc:description/>
  <dc:language>en-US</dc:language>
  <cp:lastModifiedBy>Maxim</cp:lastModifiedBy>
  <dcterms:modified xsi:type="dcterms:W3CDTF">2022-04-27T05:44:07Z</dcterms:modified>
  <cp:revision>16</cp:revision>
  <dc:subject>Коллекция кукол в русских народных костюмах. </dc:subject>
  <dc:title>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0</vt:r8>
  </property>
</Properties>
</file>