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4F2-8068-43CD-BD53-9A3E95D8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D74-5E29-4547-AF85-E1764CB7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121-2CE4-40FE-B7AB-4197599D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D34-59E8-4466-AE60-7A132298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EE2-34AF-4743-9BD5-BC2DC9B5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ECF-7A07-4196-8AFE-530DEF15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7F5-915B-4528-8CFB-E4F69A65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13F-6A01-4821-A95B-EA745FB3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45C-0A7B-402F-B6DA-0C800E8E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5DF-1A75-4D36-AD07-DE6020D9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44B-13F9-41C1-8539-7BBED97C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0EB-7A2E-439F-8C86-07BEFB5D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D4E3-9996-4D30-B740-10BCFE869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17.jpg"/>
          <p:cNvPicPr/>
          <p:nvPr/>
        </p:nvPicPr>
        <p:blipFill>
          <a:blip r:embed="rId1"/>
          <a:stretch/>
        </p:blipFill>
        <p:spPr>
          <a:xfrm>
            <a:off x="0" y="0"/>
            <a:ext cx="1908000" cy="1982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ru-RU" sz="6600" spc="-1" strike="noStrike">
                <a:solidFill>
                  <a:srgbClr val="660066"/>
                </a:solidFill>
                <a:latin typeface="Monotype Corsiva"/>
              </a:rPr>
              <a:t>Международный комитет </a:t>
            </a:r>
            <a:br>
              <a:rPr sz="6600"/>
            </a:br>
            <a:r>
              <a:rPr b="1" lang="ru-RU" sz="6600" spc="-1" strike="noStrike">
                <a:solidFill>
                  <a:srgbClr val="660066"/>
                </a:solidFill>
                <a:latin typeface="Monotype Corsiva"/>
              </a:rPr>
              <a:t>Красного Крес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8" descr="Эмблема"/>
          <p:cNvPicPr/>
          <p:nvPr/>
        </p:nvPicPr>
        <p:blipFill>
          <a:blip r:embed="rId1"/>
          <a:srcRect l="68764" t="-3881" r="0" b="0"/>
          <a:stretch/>
        </p:blipFill>
        <p:spPr>
          <a:xfrm>
            <a:off x="882720" y="404640"/>
            <a:ext cx="7500960" cy="6215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5092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t-RU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днако в 1876г. Оттоманская империя решила использовать </a:t>
            </a:r>
            <a:r>
              <a:rPr b="1" i="1" lang="tt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сный полумесяц</a:t>
            </a:r>
            <a:r>
              <a:rPr b="1" lang="tt-RU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вместо красного креста. Этому примеру последовали некоторые другие государства, и в 1929г. красный полумесяц получил официальное признание, так же как и эмблема </a:t>
            </a:r>
            <a:r>
              <a:rPr b="1" lang="tt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сного льва и солнца</a:t>
            </a:r>
            <a:r>
              <a:rPr b="1" lang="tt-RU" sz="3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для Ирана, которая в настоящее время не используе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p17.jpg"/>
          <p:cNvPicPr/>
          <p:nvPr/>
        </p:nvPicPr>
        <p:blipFill>
          <a:blip r:embed="rId1"/>
          <a:stretch/>
        </p:blipFill>
        <p:spPr>
          <a:xfrm>
            <a:off x="3635280" y="1341360"/>
            <a:ext cx="5286600" cy="5286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385920" y="475920"/>
            <a:ext cx="3249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В декаб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0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явила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овая эмблема, известная под названием          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ый Кристалл</a:t>
            </a: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000"/>
                            </p:stCondLst>
                            <p:childTnLst>
                              <p:par>
                                <p:cTn id="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Arial"/>
              </a:rPr>
              <a:t>Функции МКК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ка продовольствия и других предметов первой необходим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ация и (или) переселение людей, которым угрожает опас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тановление и поддержание семейных связей, а также розыск пропавших без в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одержимое 6" descr="11.jpg"/>
          <p:cNvPicPr/>
          <p:nvPr/>
        </p:nvPicPr>
        <p:blipFill>
          <a:blip r:embed="rId1"/>
          <a:stretch/>
        </p:blipFill>
        <p:spPr>
          <a:xfrm>
            <a:off x="4857840" y="1600200"/>
            <a:ext cx="3376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7" descr="1.jpg"/>
          <p:cNvPicPr/>
          <p:nvPr/>
        </p:nvPicPr>
        <p:blipFill>
          <a:blip r:embed="rId1"/>
          <a:stretch/>
        </p:blipFill>
        <p:spPr>
          <a:xfrm>
            <a:off x="457200" y="285840"/>
            <a:ext cx="8229600" cy="6286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уществляется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х направления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влечение внимания к проблемам гуманитарного </a:t>
            </a:r>
            <a:r>
              <a:rPr b="1" lang="tt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пространение знаний о гуманитарном пра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ключение гуманитарного права в учеб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Превентив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7" descr="friz22.3.jpg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30002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v-p-lb-e-00268h-m.jpg"/>
          <p:cNvPicPr/>
          <p:nvPr/>
        </p:nvPicPr>
        <p:blipFill>
          <a:blip r:embed="rId2"/>
          <a:stretch/>
        </p:blipFill>
        <p:spPr>
          <a:xfrm>
            <a:off x="3643200" y="0"/>
            <a:ext cx="364356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friz22.jpg"/>
          <p:cNvPicPr/>
          <p:nvPr/>
        </p:nvPicPr>
        <p:blipFill>
          <a:blip r:embed="rId3"/>
          <a:stretch/>
        </p:blipFill>
        <p:spPr>
          <a:xfrm>
            <a:off x="0" y="0"/>
            <a:ext cx="3643200" cy="3000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МККК -</a:t>
            </a: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это нейтральная, беспристрастная и независимая гуманитарная организац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ссия МККК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стоит в том, чтобы предоставлять защиту и оказывать помощь гражданским лицам и военнослужащим, пострадавшим от вооруженных конфликтов и внутренних беспоряд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МККК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военнопленных ,а также гражданских лиц, задержанных в связи с конфликт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ыск пропавших без ве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обмена письмами между членами семей, разлученных в результате конфли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соединение разлученных сем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родовольствия, воды и медицинской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знаний о МГП и контроль за соблюдением его нор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9" descr="friz38.3.jpg"/>
          <p:cNvPicPr/>
          <p:nvPr/>
        </p:nvPicPr>
        <p:blipFill>
          <a:blip r:embed="rId1"/>
          <a:stretch/>
        </p:blipFill>
        <p:spPr>
          <a:xfrm>
            <a:off x="4643280" y="1714680"/>
            <a:ext cx="224820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ума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спристрас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йтр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зависи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во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ди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ниверс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Monotype Corsiva"/>
              </a:rPr>
              <a:t>Основополагающие принципы деятельности МКК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friz38.1.jpg"/>
          <p:cNvPicPr/>
          <p:nvPr/>
        </p:nvPicPr>
        <p:blipFill>
          <a:blip r:embed="rId2"/>
          <a:stretch/>
        </p:blipFill>
        <p:spPr>
          <a:xfrm>
            <a:off x="7000920" y="1714680"/>
            <a:ext cx="1625400" cy="2031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friz38.2.jpg"/>
          <p:cNvPicPr/>
          <p:nvPr/>
        </p:nvPicPr>
        <p:blipFill>
          <a:blip r:embed="rId3"/>
          <a:stretch/>
        </p:blipFill>
        <p:spPr>
          <a:xfrm>
            <a:off x="4929120" y="3857760"/>
            <a:ext cx="361944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6227640" y="2422440"/>
            <a:ext cx="2822760" cy="2806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Анри Дюнан «Воспоминание 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о битве при Сольферино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59г., оказавшись на поле боя, где сошлись в сражении австрийская и французская армии, А.Дюнан пришел в ужас от увиденного – тысячи раненых солдат обеих армий оказались брошенными на произвол судьбы из-за отсутствия надлежащей медицинской пом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юнан опубликовал книгу 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«Воспоминание о битве при Сольферино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й он предлож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е в мирное время создать добровольные общества для оказания помощи раненым во время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международный договор для признания и предоставления защиты этим добровольным обществам, в обязанности которых будет входить оказание помощи медицинским службам арм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friz31.jpg"/>
          <p:cNvPicPr/>
          <p:nvPr/>
        </p:nvPicPr>
        <p:blipFill>
          <a:blip r:embed="rId1"/>
          <a:stretch/>
        </p:blipFill>
        <p:spPr>
          <a:xfrm>
            <a:off x="928800" y="5214960"/>
            <a:ext cx="7334280" cy="1380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friz21.jpg"/>
          <p:cNvPicPr/>
          <p:nvPr/>
        </p:nvPicPr>
        <p:blipFill>
          <a:blip r:embed="rId2"/>
          <a:stretch/>
        </p:blipFill>
        <p:spPr>
          <a:xfrm>
            <a:off x="857160" y="214200"/>
            <a:ext cx="7334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77300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63г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иссия, состоявшая из пяти человек (Анри Дюнан, Гюстав Муанье, Гийом-Анри Дюфура, Луи Аппиа, Теодор Монуар) основала Международный комитет по оказанию помощи раненым, который позже был назван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дународным Комитетом Красного Крест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777960" y="130320"/>
            <a:ext cx="2657520" cy="17301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"/>
          <p:cNvPicPr/>
          <p:nvPr/>
        </p:nvPicPr>
        <p:blipFill>
          <a:blip r:embed="rId2"/>
          <a:stretch/>
        </p:blipFill>
        <p:spPr>
          <a:xfrm>
            <a:off x="7308720" y="4533840"/>
            <a:ext cx="1609920" cy="21463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"/>
          <p:cNvPicPr/>
          <p:nvPr/>
        </p:nvPicPr>
        <p:blipFill>
          <a:blip r:embed="rId3"/>
          <a:stretch/>
        </p:blipFill>
        <p:spPr>
          <a:xfrm>
            <a:off x="3435480" y="171360"/>
            <a:ext cx="2627280" cy="1717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"/>
          <p:cNvPicPr/>
          <p:nvPr/>
        </p:nvPicPr>
        <p:blipFill>
          <a:blip r:embed="rId4"/>
          <a:stretch/>
        </p:blipFill>
        <p:spPr>
          <a:xfrm>
            <a:off x="6084720" y="130320"/>
            <a:ext cx="2448000" cy="18018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"/>
          <p:cNvPicPr/>
          <p:nvPr/>
        </p:nvPicPr>
        <p:blipFill>
          <a:blip r:embed="rId5"/>
          <a:stretch/>
        </p:blipFill>
        <p:spPr>
          <a:xfrm>
            <a:off x="4211640" y="4533840"/>
            <a:ext cx="30243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сный Крест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Красный Полумеся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ое движение Красного Креста и Красного Полумесяца </a:t>
            </a: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 свою деятельность практически во всех странах мира и насчитывает около 100млн. сотрудников и добровольц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состоит из </a:t>
            </a:r>
            <a:r>
              <a:rPr b="1" i="1" lang="tt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х основных частей</a:t>
            </a: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К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е общества Красного Креста и Красного Полу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ая Федерация обществ Красного Креста и Красного Полумеся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4" descr="p17.1.jpg"/>
          <p:cNvPicPr/>
          <p:nvPr/>
        </p:nvPicPr>
        <p:blipFill>
          <a:blip r:embed="rId1"/>
          <a:stretch/>
        </p:blipFill>
        <p:spPr>
          <a:xfrm>
            <a:off x="642960" y="379440"/>
            <a:ext cx="8072280" cy="5835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85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tt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атели МККК считали необходимым принятие единой эмблемы, которая была бы легко узнаваемой и всем известной. Эмблема должна защищать не только раненых на поле боя, но и лиц, которые оказывают им помощь. Предполагалось, что сам вид эмблемы будет влиять на комбатантов сдерживающим образом. </a:t>
            </a:r>
            <a:r>
              <a:rPr b="1" i="1" lang="tt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сный крест на белом фоне</a:t>
            </a:r>
            <a:r>
              <a:rPr b="1" i="1" lang="tt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tt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– геральдический знак швейцарского флага с обратным расположением цветов – был утвержден на Международной конференции </a:t>
            </a:r>
            <a:r>
              <a:rPr b="1" i="1" lang="tt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863г.</a:t>
            </a:r>
            <a:r>
              <a:rPr b="1" lang="tt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блемы гума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6:12:20Z</dcterms:created>
  <dc:creator>Я</dc:creator>
  <dc:description/>
  <dc:language>en-US</dc:language>
  <cp:lastModifiedBy>Лилия</cp:lastModifiedBy>
  <dcterms:modified xsi:type="dcterms:W3CDTF">2013-10-02T15:43:44Z</dcterms:modified>
  <cp:revision>32</cp:revision>
  <dc:subject/>
  <dc:title>Международный комитет Красного Креста</dc:title>
</cp:coreProperties>
</file>