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433-D047-4912-A27B-E96B96AD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B69-FAF6-4F8F-AD12-E3114DB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3F4-9EC8-4A7C-A669-C0918293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44D-9F94-4869-A5B9-10B4DDAD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D62-C218-4C9D-AE31-784BE435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449-5688-4A49-B87A-D1463690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3E7-DBCD-4A34-82A3-BE5A6B8F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616-D52B-49BB-9F9B-E9D52082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1A6-C997-48EC-820B-4F74916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2CA-5F93-48D1-ACD0-43E794A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2F5-5314-4AD5-B3EC-93FE5A65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782-BFFC-442C-93B4-7E36B9C4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5DBC-0595-4FDE-94AA-C93009D6EFD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ект на тему: Морожен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50480" y="4357800"/>
            <a:ext cx="21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уче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вянской 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ирнов Ар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Склад сырья"/>
          <p:cNvPicPr/>
          <p:nvPr/>
        </p:nvPicPr>
        <p:blipFill>
          <a:blip r:embed="rId2"/>
          <a:stretch/>
        </p:blipFill>
        <p:spPr>
          <a:xfrm>
            <a:off x="214200" y="21420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Подготовка сырья в заготовительном отделении"/>
          <p:cNvPicPr/>
          <p:nvPr/>
        </p:nvPicPr>
        <p:blipFill>
          <a:blip r:embed="rId3"/>
          <a:stretch/>
        </p:blipFill>
        <p:spPr>
          <a:xfrm>
            <a:off x="3429000" y="29289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Заготовительно-пастеризационное отделение на фабрике мороженого"/>
          <p:cNvPicPr/>
          <p:nvPr/>
        </p:nvPicPr>
        <p:blipFill>
          <a:blip r:embed="rId2"/>
          <a:stretch/>
        </p:blipFill>
        <p:spPr>
          <a:xfrm>
            <a:off x="142920" y="214200"/>
            <a:ext cx="571500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Как делают мороженое на фабрике"/>
          <p:cNvPicPr/>
          <p:nvPr/>
        </p:nvPicPr>
        <p:blipFill>
          <a:blip r:embed="rId3"/>
          <a:stretch/>
        </p:blipFill>
        <p:spPr>
          <a:xfrm>
            <a:off x="3214800" y="3143160"/>
            <a:ext cx="5715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Мороженое едет в камеру заморозки"/>
          <p:cNvPicPr/>
          <p:nvPr/>
        </p:nvPicPr>
        <p:blipFill>
          <a:blip r:embed="rId2"/>
          <a:stretch/>
        </p:blipFill>
        <p:spPr>
          <a:xfrm>
            <a:off x="142920" y="142920"/>
            <a:ext cx="6611760" cy="4000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Фасовка мороженого в коробки"/>
          <p:cNvPicPr/>
          <p:nvPr/>
        </p:nvPicPr>
        <p:blipFill>
          <a:blip r:embed="rId3"/>
          <a:stretch/>
        </p:blipFill>
        <p:spPr>
          <a:xfrm>
            <a:off x="3286080" y="285768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Мороженое едет в камеру закаливания"/>
          <p:cNvPicPr/>
          <p:nvPr/>
        </p:nvPicPr>
        <p:blipFill>
          <a:blip r:embed="rId2"/>
          <a:stretch/>
        </p:blipFill>
        <p:spPr>
          <a:xfrm>
            <a:off x="3214800" y="2500200"/>
            <a:ext cx="5715000" cy="4219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Упаковка мороженого"/>
          <p:cNvPicPr/>
          <p:nvPr/>
        </p:nvPicPr>
        <p:blipFill>
          <a:blip r:embed="rId3"/>
          <a:stretch/>
        </p:blipFill>
        <p:spPr>
          <a:xfrm>
            <a:off x="142920" y="285840"/>
            <a:ext cx="57150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Диаграмма 3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688212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157680" y="4286160"/>
            <a:ext cx="516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го опрошено 28 человек взрослых 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 человек (60%) считают полез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человек (40%) считают вре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готовление мороженного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гредиен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2 стакана моло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/2 стакана слив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яйц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50 г сгущенного моло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толовые ложки саха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чайная ложка жела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соб пригото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ичные желтки растереть с сахаром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вести молоком и сливками и, непрерыв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мешивая, довести до кипения на слабом ог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(но не кипятить ), слегка остудит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Желатин замочить в холодной воде 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гда он набухнет, залить небольши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оличеством горячего молока. Вылить в яич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олочную смесь, добавить сгущенное молоко 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студить до комнатной температуры. Зате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мешать со взбитыми яичными белками 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ложить в морожениц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езно или вредно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840" y="17859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может быть полезным продуктом если оно правильно приготовлено и из полезных натуральных продуктов или вредным, если 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людать ме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употреблении и оно приготовлено из не натуральных проду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1" descr=""/>
          <p:cNvPicPr/>
          <p:nvPr/>
        </p:nvPicPr>
        <p:blipFill>
          <a:blip r:embed="rId1"/>
          <a:stretch/>
        </p:blipFill>
        <p:spPr>
          <a:xfrm>
            <a:off x="523800" y="1212840"/>
            <a:ext cx="85233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1357200"/>
            <a:ext cx="7929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оженое - любимое лакомство не только детей, но и взрослых. Нет на свете людей, которые совсем ничего не знают о нём и никогда его не пробов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кт исследования:  мороже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Прямоугольник 2" descr=""/>
          <p:cNvPicPr/>
          <p:nvPr/>
        </p:nvPicPr>
        <p:blipFill>
          <a:blip r:embed="rId1"/>
          <a:stretch/>
        </p:blipFill>
        <p:spPr>
          <a:xfrm>
            <a:off x="1639800" y="42840"/>
            <a:ext cx="5583240" cy="11034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0" y="392904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: исследовать процесс производства мороженного, узнать вредное оно или полез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– вред или польз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422c16"/>
                </a:solidFill>
                <a:latin typeface="Arial"/>
              </a:rPr>
              <a:t>План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22c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c16"/>
                </a:solidFill>
                <a:latin typeface="Arial"/>
              </a:rPr>
              <a:t>1.Теоретическ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Кто и когда придумал мороже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Из чего делают мороже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Виды морож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Рецепт приготовления мороженого в домашни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422c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2c16"/>
                </a:solidFill>
                <a:latin typeface="Arial"/>
              </a:rPr>
              <a:t>2.Практическ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Провести исследование (анкетирование) на тему «Мороженое польза или вред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2c16"/>
                </a:solidFill>
                <a:latin typeface="Arial"/>
              </a:rPr>
              <a:t>-Приготовить мороженое в домашних условиях ( с фотоотче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то и когда придумал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из чего делают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акое бывает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как его готовят на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ть рецепт домашнего морож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сти 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готовить мороженное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 полезно или вредно морож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ть сво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то и когда придумал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2356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женое придум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ита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йцы охлаждали фруктовый с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такое лакомство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Из чего делают мороженое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99980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женое – это взбита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ороженная масса из молока, слив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уктов, ягод, вкусовых и аромат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620280"/>
            <a:ext cx="5194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морожен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ТОП-10 ведущих брендов мороженого в мире и в регионах"/>
          <p:cNvPicPr/>
          <p:nvPr/>
        </p:nvPicPr>
        <p:blipFill>
          <a:blip r:embed="rId1"/>
          <a:stretch/>
        </p:blipFill>
        <p:spPr>
          <a:xfrm>
            <a:off x="285840" y="1357200"/>
            <a:ext cx="7143840" cy="464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готовление мороженого на производ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Оборудование для производства мороженого: варианты"/>
          <p:cNvPicPr/>
          <p:nvPr/>
        </p:nvPicPr>
        <p:blipFill>
          <a:blip r:embed="rId2"/>
          <a:stretch/>
        </p:blipFill>
        <p:spPr>
          <a:xfrm>
            <a:off x="642960" y="1714680"/>
            <a:ext cx="81439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2-04-25T13:42:54Z</dcterms:modified>
  <cp:revision>591</cp:revision>
  <dc:subject/>
  <dc:title>Diapositiva 1</dc:title>
</cp:coreProperties>
</file>