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168-68FE-473A-92F4-BA318A13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C55-F711-4945-B2B3-945DF016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4C6-4538-4CCF-9528-A89E4E8D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081-9786-46A5-A8D2-2120C4D7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2BC-188D-4C0C-85C9-26E98C03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8F9-EA3C-4F4D-81A3-F4E1D81E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331-560F-4D09-9C58-5726457E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217-7F1C-4079-9FCB-EDAA92B0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D33-EB26-4BB0-A11C-3629883D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BCA-4131-4114-8253-C77F419B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CE8-DF90-4469-8F86-60A19DF5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38F-BF38-4F7B-9A7E-C4DB52F5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D408-2E5F-4B4D-9FE9-3ED7D1CEE8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ект на тему: Морожен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50480" y="4357800"/>
            <a:ext cx="21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уче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вянской С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ирнов Ар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Склад сырья"/>
          <p:cNvPicPr/>
          <p:nvPr/>
        </p:nvPicPr>
        <p:blipFill>
          <a:blip r:embed="rId2"/>
          <a:stretch/>
        </p:blipFill>
        <p:spPr>
          <a:xfrm>
            <a:off x="214200" y="21420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Подготовка сырья в заготовительном отделении"/>
          <p:cNvPicPr/>
          <p:nvPr/>
        </p:nvPicPr>
        <p:blipFill>
          <a:blip r:embed="rId3"/>
          <a:stretch/>
        </p:blipFill>
        <p:spPr>
          <a:xfrm>
            <a:off x="3429000" y="292896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Заготовительно-пастеризационное отделение на фабрике мороженого"/>
          <p:cNvPicPr/>
          <p:nvPr/>
        </p:nvPicPr>
        <p:blipFill>
          <a:blip r:embed="rId2"/>
          <a:stretch/>
        </p:blipFill>
        <p:spPr>
          <a:xfrm>
            <a:off x="142920" y="21420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Как делают мороженое на фабрике"/>
          <p:cNvPicPr/>
          <p:nvPr/>
        </p:nvPicPr>
        <p:blipFill>
          <a:blip r:embed="rId3"/>
          <a:stretch/>
        </p:blipFill>
        <p:spPr>
          <a:xfrm>
            <a:off x="3214800" y="3143160"/>
            <a:ext cx="5715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Мороженое едет в камеру заморозки"/>
          <p:cNvPicPr/>
          <p:nvPr/>
        </p:nvPicPr>
        <p:blipFill>
          <a:blip r:embed="rId2"/>
          <a:stretch/>
        </p:blipFill>
        <p:spPr>
          <a:xfrm>
            <a:off x="142920" y="142920"/>
            <a:ext cx="6611760" cy="4000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Фасовка мороженого в коробки"/>
          <p:cNvPicPr/>
          <p:nvPr/>
        </p:nvPicPr>
        <p:blipFill>
          <a:blip r:embed="rId3"/>
          <a:stretch/>
        </p:blipFill>
        <p:spPr>
          <a:xfrm>
            <a:off x="3286080" y="285768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Мороженое едет в камеру закаливания"/>
          <p:cNvPicPr/>
          <p:nvPr/>
        </p:nvPicPr>
        <p:blipFill>
          <a:blip r:embed="rId2"/>
          <a:stretch/>
        </p:blipFill>
        <p:spPr>
          <a:xfrm>
            <a:off x="3214800" y="2500200"/>
            <a:ext cx="5715000" cy="4219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Упаковка мороженого"/>
          <p:cNvPicPr/>
          <p:nvPr/>
        </p:nvPicPr>
        <p:blipFill>
          <a:blip r:embed="rId3"/>
          <a:stretch/>
        </p:blipFill>
        <p:spPr>
          <a:xfrm>
            <a:off x="142920" y="285840"/>
            <a:ext cx="57150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Диаграмма 3" descr=""/>
          <p:cNvPicPr/>
          <p:nvPr/>
        </p:nvPicPr>
        <p:blipFill>
          <a:blip r:embed="rId1"/>
          <a:stretch/>
        </p:blipFill>
        <p:spPr>
          <a:xfrm>
            <a:off x="714240" y="357120"/>
            <a:ext cx="6882120" cy="421488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157680" y="4286160"/>
            <a:ext cx="516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о опрошено 28 человек взрослых 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 человек (60%) считают полез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 человек (40%) считают вре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готовление мороженного д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гредиен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/2 стакана моло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/2 стакана слив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яйц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50 г сгущенного моло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толовые ложки саха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чайная ложка желат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 пригото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Яичные желтки растереть с сахаром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звести молоком и сливками и, непрерывн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мешивая, довести до кипения на слабом огн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(но не кипятить ), слегка остудить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Желатин замочить в холодной воде и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гда он набухнет, залить небольши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личеством горячего молока. Вылить в яичн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олочную смесь, добавить сгущенное молоко 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студить до комнатной температуры. Зате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мешать со взбитыми яичными белками 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ложить в мороженицу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лезно или вредно морожено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5840" y="17859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женое может быть полезным продуктом если оно правильно приготовлено и из полезных натуральных продуктов или вредным, если н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людать мер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употреблении и оно приготовлено из не натуральных проду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523800" y="1212840"/>
            <a:ext cx="8523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0" y="1357200"/>
            <a:ext cx="7929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оженое - любимое лакомство не только детей, но и взрослых. Нет на свете людей, которые совсем ничего не знают о нём и никогда его не пробова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кт исследования:  мороже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2" descr=""/>
          <p:cNvPicPr/>
          <p:nvPr/>
        </p:nvPicPr>
        <p:blipFill>
          <a:blip r:embed="rId1"/>
          <a:stretch/>
        </p:blipFill>
        <p:spPr>
          <a:xfrm>
            <a:off x="1639800" y="42840"/>
            <a:ext cx="5583240" cy="11034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0" y="392904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исследовать процесс производства мороженного, узнать вредное оно или полез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женое – вред или польз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2c1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22c1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422c1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422c1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422c16"/>
                </a:solidFill>
                <a:latin typeface="Arial"/>
              </a:rPr>
              <a:t>План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422c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c16"/>
                </a:solidFill>
                <a:latin typeface="Arial"/>
              </a:rPr>
              <a:t>1.Теоретическая ча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2c16"/>
                </a:solidFill>
                <a:latin typeface="Arial"/>
              </a:rPr>
              <a:t>-Кто и когда придумал мороже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2c16"/>
                </a:solidFill>
                <a:latin typeface="Arial"/>
              </a:rPr>
              <a:t>-Из чего делают мороже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2c16"/>
                </a:solidFill>
                <a:latin typeface="Arial"/>
              </a:rPr>
              <a:t>-Виды морож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2c16"/>
                </a:solidFill>
                <a:latin typeface="Arial"/>
              </a:rPr>
              <a:t>-Рецепт приготовления мороженого в домашни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422c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c16"/>
                </a:solidFill>
                <a:latin typeface="Arial"/>
              </a:rPr>
              <a:t>2.Практическая ча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2c16"/>
                </a:solidFill>
                <a:latin typeface="Arial"/>
              </a:rPr>
              <a:t>-Провести исследование (анкетирование) на тему «Мороженое польза или вред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2c16"/>
                </a:solidFill>
                <a:latin typeface="Arial"/>
              </a:rPr>
              <a:t>-Приготовить мороженое в домашних условиях ( с фотоотчет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ть кто и когда придумал морож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ть из чего делают морож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ть какое бывает морож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ть как его готовят на произ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ть рецепт домашнего морож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сти анке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товить мороженное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вывод полезно или вредно морож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ить сво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то и когда придумал морожено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4200" y="2356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женое придума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ита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айцы охлаждали фруктовый с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ьше такое лакомство называ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рб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з чего делают морожено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199980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женое – это взбитая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ороженная масса из молока, слив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уктов, ягод, вкусовых и ароматичес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620280"/>
            <a:ext cx="5194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мороженн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ТОП-10 ведущих брендов мороженого в мире и в регионах"/>
          <p:cNvPicPr/>
          <p:nvPr/>
        </p:nvPicPr>
        <p:blipFill>
          <a:blip r:embed="rId1"/>
          <a:stretch/>
        </p:blipFill>
        <p:spPr>
          <a:xfrm>
            <a:off x="285840" y="1357200"/>
            <a:ext cx="7143840" cy="4643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готовление мороженого на производ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Оборудование для производства мороженого: варианты"/>
          <p:cNvPicPr/>
          <p:nvPr/>
        </p:nvPicPr>
        <p:blipFill>
          <a:blip r:embed="rId2"/>
          <a:stretch/>
        </p:blipFill>
        <p:spPr>
          <a:xfrm>
            <a:off x="642960" y="1714680"/>
            <a:ext cx="814392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2-04-25T13:42:54Z</dcterms:modified>
  <cp:revision>591</cp:revision>
  <dc:subject/>
  <dc:title>Diapositiva 1</dc:title>
</cp:coreProperties>
</file>