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965C-7F00-41DB-B588-AE5486E4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4988-7FFE-4E85-AB29-302F5ED5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2BA7-778F-472C-AB1D-BE760CB9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18C7-3D26-4547-AADE-630AFBEE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0986-3FE6-48C2-B4BB-04910E16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27FA-B9D8-4D86-94C0-E2D60E66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8BC8-8116-4B6D-B657-44414E62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CB34-171D-4F0C-A886-CF81816E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1AA4-85C9-4EC1-8717-781BAC71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9B0D-6B37-45CF-ABBF-2A102CA0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2EA2-701B-46C5-8E49-7B9C66B8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0048-4A04-4EDE-B57F-31FFAF0A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4903-07A4-4B0D-8F26-79406367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50CF-9795-41D4-9A7E-76448221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339A-2E2F-441B-98DE-5E685120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1B38-6B97-4B10-AB35-F2E16AF4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BD7C-68DB-44BE-94B7-A523E0DD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FAFC-400B-4447-82AA-A44EB209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2E0A-611D-4321-99B5-5B6F7695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D3BC-627E-4AB2-BC70-AF38ACB2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F62-6C71-4BF9-9A01-1B237856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D914-B709-4CFC-A182-277034EE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0E28-47D9-417D-BF37-1902587E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FC63-5D44-4B6C-A4D9-007234EB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E505-16DD-4EEF-9799-CAE0DFEEC7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B4EA-71AF-4393-8F06-092500A58E2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d1"/>
            </a:gs>
            <a:gs pos="100000">
              <a:srgbClr val="ee562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195640" y="259920"/>
            <a:ext cx="626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525252"/>
                </a:solidFill>
                <a:latin typeface="Comic Sans MS"/>
              </a:rPr>
              <a:t>— </a:t>
            </a:r>
            <a:r>
              <a:rPr b="1" lang="ru-RU" sz="2400" spc="-1" strike="noStrike">
                <a:solidFill>
                  <a:srgbClr val="525252"/>
                </a:solidFill>
                <a:latin typeface="Comic Sans MS"/>
              </a:rPr>
              <a:t>макроскопически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ru-RU" sz="3200" spc="-1" strike="noStrike" u="sng">
                <a:solidFill>
                  <a:srgbClr val="ee5626"/>
                </a:solidFill>
                <a:uFillTx/>
                <a:latin typeface="Comic Sans MS"/>
              </a:rPr>
              <a:t>однородная смесь двух или большего числа химических элементов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525252"/>
                </a:solidFill>
                <a:latin typeface="Comic Sans MS"/>
              </a:rPr>
              <a:t>с преобладанием металлических компон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25252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525252"/>
                </a:solidFill>
                <a:latin typeface="Comic Sans MS"/>
              </a:rPr>
              <a:t>Основной или единственной фазой сплава, как правило, является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ru-RU" sz="3200" spc="-1" strike="noStrike" u="sng">
                <a:solidFill>
                  <a:srgbClr val="ff3300"/>
                </a:solidFill>
                <a:uFillTx/>
                <a:latin typeface="Comic Sans MS"/>
              </a:rPr>
              <a:t>твёрдый раствор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525252"/>
                </a:solidFill>
                <a:latin typeface="Comic Sans MS"/>
              </a:rPr>
              <a:t>легирующих элементов в металле, являющемся основой сплава.</a:t>
            </a:r>
            <a:r>
              <a:rPr b="0" lang="ru-RU" sz="3200" spc="-1" strike="noStrike">
                <a:solidFill>
                  <a:srgbClr val="c9c9c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WordArt 4"/>
          <p:cNvSpPr txBox="1"/>
          <p:nvPr/>
        </p:nvSpPr>
        <p:spPr>
          <a:xfrm rot="5400000">
            <a:off x="-1747800" y="2797200"/>
            <a:ext cx="6121440" cy="1333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d88b"/>
                    </a:gs>
                    <a:gs pos="100000">
                      <a:srgbClr val="ff0000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Georgia"/>
              </a:rPr>
              <a:t>Сплавы</a:t>
            </a:r>
            <a:endParaRPr b="0" lang="en-US" sz="4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d88b"/>
                  </a:gs>
                  <a:gs pos="100000">
                    <a:srgbClr val="ff0000"/>
                  </a:gs>
                </a:gsLst>
                <a:lin ang="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333333"/>
            </a:gs>
            <a:gs pos="100000">
              <a:srgbClr val="99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7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4433"/>
                </a:solidFill>
                <a:latin typeface="Comic Sans MS"/>
              </a:rPr>
              <a:t>Источники железа.</a:t>
            </a:r>
            <a:br>
              <a:rPr sz="3200"/>
            </a:br>
            <a:r>
              <a:rPr b="1" lang="ru-RU" sz="32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daf11"/>
                </a:solidFill>
                <a:latin typeface="Comic Sans MS"/>
              </a:rPr>
              <a:t>Продукты, содержащие железо.</a:t>
            </a:r>
            <a:br>
              <a:rPr sz="3200"/>
            </a:b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b9f9bb"/>
                </a:solidFill>
                <a:uFillTx/>
                <a:latin typeface="Comic Sans MS"/>
              </a:rPr>
              <a:t>Основные пищевые источники железа общеизвестны</a:t>
            </a:r>
            <a:r>
              <a:rPr b="0" lang="ru-RU" sz="2400" spc="-1" strike="noStrike" u="sng">
                <a:solidFill>
                  <a:srgbClr val="032304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dddddd"/>
                </a:solidFill>
                <a:latin typeface="Comic Sans MS"/>
              </a:rPr>
              <a:t>это зеленые овощи, ботва свеклы, репы, горчицы, кресс-салат, печень, почки, яичный желток, листья одуванчика, моллюски, сухофрукты</a:t>
            </a:r>
            <a:r>
              <a:rPr b="0" lang="ru-RU" sz="2800" spc="-1" strike="noStrike">
                <a:solidFill>
                  <a:srgbClr val="ddddd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dfbce"/>
                </a:solidFill>
                <a:latin typeface="Comic Sans MS"/>
              </a:rPr>
              <a:t>Казалось бы, все это вполне доступно, однако недостаток железа в крови человека — один из самых распространенны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dfbce"/>
                </a:solidFill>
                <a:latin typeface="Comic Sans MS"/>
              </a:rPr>
              <a:t>А вследствие этого люди страдают от инфарктов, анемии, выпадения волос и других серьезных заболева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d74"/>
            </a:gs>
            <a:gs pos="100000">
              <a:srgbClr val="ffff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d4d4d"/>
                </a:solidFill>
                <a:uFillTx/>
                <a:latin typeface="Comic Sans MS"/>
              </a:rPr>
              <a:t>Содержание железа в продуктах питания</a:t>
            </a:r>
            <a:br>
              <a:rPr sz="2800"/>
            </a:br>
            <a:r>
              <a:rPr b="1" i="1" lang="ru-RU" sz="2800" spc="-1" strike="noStrike" u="sng">
                <a:solidFill>
                  <a:srgbClr val="4d4d4d"/>
                </a:solidFill>
                <a:uFillTx/>
                <a:latin typeface="Comic Sans MS"/>
              </a:rPr>
              <a:t>(по данным немецких диетологов)</a:t>
            </a:r>
            <a:br>
              <a:rPr sz="2800"/>
            </a:b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Comic Sans MS"/>
              </a:rPr>
              <a:t>Фрук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Груши суше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Черносли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Изю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Малина, смород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Финики суше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Виноград, перс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Бананы, чер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Яблоки, груш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Вишня, грейпфр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48320" y="1268280"/>
          <a:ext cx="4171680" cy="5621400"/>
        </p:xfrm>
        <a:graphic>
          <a:graphicData uri="http://schemas.openxmlformats.org/drawingml/2006/table">
            <a:tbl>
              <a:tblPr/>
              <a:tblGrid>
                <a:gridCol w="3236760"/>
                <a:gridCol w="9349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8000"/>
                          </a:solidFill>
                          <a:uFillTx/>
                          <a:latin typeface="Comic Sans MS"/>
                        </a:rPr>
                        <a:t>Овощ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c00"/>
                          </a:solidFill>
                          <a:latin typeface="Comic Sans MS"/>
                        </a:rPr>
                        <a:t>Капус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c00"/>
                          </a:solidFill>
                          <a:latin typeface="Comic Sans MS"/>
                        </a:rPr>
                        <a:t>Капуста крас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c00"/>
                          </a:solidFill>
                          <a:latin typeface="Comic Sans MS"/>
                        </a:rPr>
                        <a:t>Шпин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c00"/>
                          </a:solidFill>
                          <a:latin typeface="Comic Sans MS"/>
                        </a:rPr>
                        <a:t>Со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c00"/>
                          </a:solidFill>
                          <a:latin typeface="Comic Sans MS"/>
                        </a:rPr>
                        <a:t>Зеленый горош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c00"/>
                          </a:solidFill>
                          <a:latin typeface="Comic Sans MS"/>
                        </a:rPr>
                        <a:t>Брюссельская капус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c00"/>
                          </a:solidFill>
                          <a:latin typeface="Comic Sans MS"/>
                        </a:rPr>
                        <a:t>Помидо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c00"/>
                          </a:solidFill>
                          <a:latin typeface="Comic Sans MS"/>
                        </a:rPr>
                        <a:t>Лук, сал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c00"/>
                          </a:solidFill>
                          <a:latin typeface="Comic Sans MS"/>
                        </a:rPr>
                        <a:t>Лист сельдере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c00"/>
                          </a:solidFill>
                          <a:latin typeface="Comic Sans MS"/>
                        </a:rPr>
                        <a:t>Укро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c00"/>
                          </a:solidFill>
                          <a:latin typeface="Comic Sans MS"/>
                        </a:rPr>
                        <a:t>Боб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c00"/>
                          </a:solidFill>
                          <a:latin typeface="Comic Sans MS"/>
                        </a:rPr>
                        <a:t>Орехи, цикор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42560" y="1483920"/>
            <a:ext cx="764388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Comic Sans MS"/>
              </a:rPr>
              <a:t>Другие продукты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c3b"/>
                </a:solidFill>
                <a:latin typeface="Comic Sans MS"/>
              </a:rPr>
              <a:t>Дрожжи суше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c3b"/>
                </a:solidFill>
                <a:latin typeface="Comic Sans MS"/>
              </a:rPr>
              <a:t>Дрожжи пивные</a:t>
            </a:r>
            <a:r>
              <a:rPr b="1" lang="ru-RU" sz="2400" spc="-1" strike="noStrike">
                <a:solidFill>
                  <a:srgbClr val="ff7c3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c3b"/>
                </a:solidFill>
                <a:latin typeface="Comic Sans MS"/>
              </a:rPr>
              <a:t>Шокола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c3b"/>
                </a:solidFill>
                <a:latin typeface="Comic Sans MS"/>
              </a:rPr>
              <a:t>Ме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5f5f5f"/>
                </a:solidFill>
                <a:uFillTx/>
                <a:latin typeface="Comic Sans MS"/>
              </a:rPr>
              <a:t>Молочные продукты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Comic Sans MS"/>
              </a:rPr>
              <a:t>Молоко цельное и обезжирен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Comic Sans MS"/>
              </a:rPr>
              <a:t>Молоко сгуще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Comic Sans MS"/>
              </a:rPr>
              <a:t>Молоко в порош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Comic Sans MS"/>
              </a:rPr>
              <a:t>Яйцо цель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Comic Sans MS"/>
              </a:rPr>
              <a:t>Жел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Comic Sans MS"/>
              </a:rPr>
              <a:t>Бел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Comic Sans MS"/>
              </a:rPr>
              <a:t>Содержание железа в продуктах питания</a:t>
            </a:r>
            <a:br>
              <a:rPr sz="2800"/>
            </a:b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Comic Sans MS"/>
              </a:rPr>
              <a:t>(по данным немецких диетологов)</a:t>
            </a:r>
            <a:br>
              <a:rPr sz="2800"/>
            </a:b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d4d4d"/>
                </a:solidFill>
                <a:uFillTx/>
                <a:latin typeface="Comic Sans MS"/>
              </a:rPr>
              <a:t>Содержание железа в продуктах питания</a:t>
            </a:r>
            <a:br>
              <a:rPr sz="2800"/>
            </a:br>
            <a:r>
              <a:rPr b="1" i="1" lang="ru-RU" sz="2800" spc="-1" strike="noStrike" u="sng">
                <a:solidFill>
                  <a:srgbClr val="4d4d4d"/>
                </a:solidFill>
                <a:uFillTx/>
                <a:latin typeface="Comic Sans MS"/>
              </a:rPr>
              <a:t>(по данным немецких диетологов)</a:t>
            </a:r>
            <a:br>
              <a:rPr sz="2800"/>
            </a:b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560" y="1599840"/>
            <a:ext cx="7643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 u="sng">
                <a:solidFill>
                  <a:srgbClr val="a21f00"/>
                </a:solidFill>
                <a:uFillTx/>
                <a:latin typeface="Comic Sans MS"/>
              </a:rPr>
              <a:t>Мясо и рыба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a2a00"/>
                </a:solidFill>
                <a:latin typeface="Comic Sans MS"/>
              </a:rPr>
              <a:t>Говядина, свин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a2a00"/>
                </a:solidFill>
                <a:latin typeface="Comic Sans MS"/>
              </a:rPr>
              <a:t>Кон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a2a00"/>
                </a:solidFill>
                <a:latin typeface="Comic Sans MS"/>
              </a:rPr>
              <a:t>Кровь теляч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a2a00"/>
                </a:solidFill>
                <a:latin typeface="Comic Sans MS"/>
              </a:rPr>
              <a:t>Кровь кури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a2a00"/>
                </a:solidFill>
                <a:latin typeface="Comic Sans MS"/>
              </a:rPr>
              <a:t>Мясо крол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a2a00"/>
                </a:solidFill>
                <a:latin typeface="Comic Sans MS"/>
              </a:rPr>
              <a:t>Печень говяж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 u="sng">
                <a:solidFill>
                  <a:srgbClr val="ff6e25"/>
                </a:solidFill>
                <a:uFillTx/>
                <a:latin typeface="Comic Sans MS"/>
              </a:rPr>
              <a:t>Зерновые крупы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Comic Sans MS"/>
              </a:rPr>
              <a:t>Овсяные хлоп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Comic Sans MS"/>
              </a:rPr>
              <a:t>Пшен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Comic Sans MS"/>
              </a:rPr>
              <a:t>Р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f745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340000" y="189000"/>
            <a:ext cx="6346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—</a:t>
            </a:r>
            <a:r>
              <a:rPr b="0" lang="ru-RU" sz="36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0" lang="ru-RU" sz="3600" spc="-1" strike="noStrike" u="sng">
                <a:solidFill>
                  <a:srgbClr val="ff3300"/>
                </a:solidFill>
                <a:uFillTx/>
                <a:latin typeface="Comic Sans MS"/>
              </a:rPr>
              <a:t>металлический блеск</a:t>
            </a:r>
            <a:r>
              <a:rPr b="0" lang="ru-RU" sz="3600" spc="-1" strike="noStrike">
                <a:solidFill>
                  <a:srgbClr val="999999"/>
                </a:solidFill>
                <a:latin typeface="Comic Sans MS"/>
              </a:rPr>
              <a:t>, 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высо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ff33"/>
                </a:solidFill>
                <a:uFillTx/>
                <a:latin typeface="Comic Sans MS"/>
              </a:rPr>
              <a:t>электропроводность и теплопроводность</a:t>
            </a:r>
            <a:r>
              <a:rPr b="0" lang="ru-RU" sz="2400" spc="-1" strike="noStrike">
                <a:solidFill>
                  <a:srgbClr val="ccff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Иногда компонентами сплава могут быть не только химические элементы, но и химические соединения, обладающие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cc66"/>
                </a:solidFill>
                <a:uFillTx/>
                <a:latin typeface="Comic Sans MS"/>
              </a:rPr>
              <a:t>металлическими свойствами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Brush Script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 rot="5400000">
            <a:off x="-1620360" y="2925000"/>
            <a:ext cx="590400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d40202"/>
                    </a:gs>
                    <a:gs pos="100000">
                      <a:srgbClr val="00cc00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Свойства</a:t>
            </a:r>
            <a:endParaRPr b="0" lang="en-US" sz="4400" spc="1" strike="noStrike">
              <a:ln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d40202"/>
                  </a:gs>
                  <a:gs pos="100000">
                    <a:srgbClr val="00cc00"/>
                  </a:gs>
                </a:gsLst>
                <a:lin ang="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367160" y="3246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c2d6"/>
            </a:gs>
            <a:gs pos="100000">
              <a:srgbClr val="cd2d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835280" y="260280"/>
            <a:ext cx="6984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обычно получают с помощью</a:t>
            </a:r>
            <a:r>
              <a:rPr b="0" lang="ru-RU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Comic Sans MS"/>
              </a:rPr>
              <a:t>смешивания</a:t>
            </a:r>
            <a:r>
              <a:rPr b="0" lang="ru-RU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компонентов</a:t>
            </a:r>
            <a:r>
              <a:rPr b="0" lang="ru-RU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Comic Sans MS"/>
              </a:rPr>
              <a:t>в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Comic Sans MS"/>
              </a:rPr>
              <a:t> 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Comic Sans MS"/>
              </a:rPr>
              <a:t>расплавленном состоянии</a:t>
            </a:r>
            <a:r>
              <a:rPr b="1" lang="ru-RU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с</a:t>
            </a:r>
            <a:r>
              <a:rPr b="0" lang="ru-RU" sz="2400" spc="-1" strike="noStrike">
                <a:solidFill>
                  <a:srgbClr val="666666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последующим</a:t>
            </a:r>
            <a:r>
              <a:rPr b="0" lang="ru-RU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0" lang="ru-RU" sz="3200" spc="-1" strike="noStrike" u="sng">
                <a:solidFill>
                  <a:srgbClr val="6cc2d6"/>
                </a:solidFill>
                <a:uFillTx/>
                <a:latin typeface="Comic Sans MS"/>
              </a:rPr>
              <a:t>охлаждением</a:t>
            </a:r>
            <a:r>
              <a:rPr b="0" lang="ru-RU" sz="3200" spc="-1" strike="noStrike">
                <a:solidFill>
                  <a:srgbClr val="80808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ru-RU" sz="3200" spc="-1" strike="noStrike" u="sng">
                <a:solidFill>
                  <a:srgbClr val="ac0000"/>
                </a:solidFill>
                <a:uFillTx/>
                <a:latin typeface="Comic Sans MS"/>
              </a:rPr>
              <a:t>При высоких температурах</a:t>
            </a:r>
            <a:r>
              <a:rPr b="0" lang="ru-RU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плавления компонентов, сплавы производятся</a:t>
            </a:r>
            <a:r>
              <a:rPr b="0" lang="ru-RU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Comic Sans MS"/>
              </a:rPr>
              <a:t>смешиванием порошков</a:t>
            </a:r>
            <a:r>
              <a:rPr b="0" i="1" lang="ru-RU" sz="3200" spc="-1" strike="noStrike" u="sng">
                <a:solidFill>
                  <a:srgbClr val="ff3300"/>
                </a:solidFill>
                <a:uFillTx/>
                <a:latin typeface="Comic Sans MS"/>
              </a:rPr>
              <a:t> 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Comic Sans MS"/>
              </a:rPr>
              <a:t>металлов</a:t>
            </a:r>
            <a:r>
              <a:rPr b="0" lang="ru-RU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с последующим</a:t>
            </a:r>
            <a:r>
              <a:rPr b="0" lang="ru-RU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Comic Sans MS"/>
              </a:rPr>
              <a:t>спеканием</a:t>
            </a:r>
            <a:r>
              <a:rPr b="0" i="1" lang="ru-RU" sz="3200" spc="-1" strike="noStrike">
                <a:solidFill>
                  <a:srgbClr val="f664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(так получаются, например, многие вольфрамовые сплавы).</a:t>
            </a:r>
            <a:r>
              <a:rPr b="0" lang="ru-RU" sz="3200" spc="-1" strike="noStrike">
                <a:solidFill>
                  <a:srgbClr val="6666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WordArt 4"/>
          <p:cNvSpPr txBox="1"/>
          <p:nvPr/>
        </p:nvSpPr>
        <p:spPr>
          <a:xfrm rot="5400000">
            <a:off x="-1189440" y="2565360"/>
            <a:ext cx="511164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e28c4c"/>
                    </a:gs>
                  </a:gsLst>
                  <a:lin ang="0"/>
                </a:gradFill>
                <a:latin typeface="Arial"/>
              </a:rPr>
              <a:t>Сплавы</a:t>
            </a:r>
            <a:endParaRPr b="0" lang="en-US" sz="44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e28c4c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644480" y="404280"/>
            <a:ext cx="74995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являются одним из основных конструкционных материал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Среди них наибольшее значение имеют сплавы на основ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66400"/>
                </a:solidFill>
                <a:uFillTx/>
                <a:latin typeface="Comic Sans MS"/>
              </a:rPr>
              <a:t>железа</a:t>
            </a:r>
            <a:r>
              <a:rPr b="0" lang="ru-RU" sz="3200" spc="-1" strike="noStrike">
                <a:solidFill>
                  <a:srgbClr val="f664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и</a:t>
            </a:r>
            <a:r>
              <a:rPr b="0" lang="ru-RU" sz="32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0" lang="ru-RU" sz="4000" spc="-1" strike="noStrike" u="sng">
                <a:solidFill>
                  <a:srgbClr val="f66400"/>
                </a:solidFill>
                <a:uFillTx/>
                <a:latin typeface="Comic Sans MS"/>
              </a:rPr>
              <a:t>алюминия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В состав многих сплавов могут вводиться и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неметаллы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, такие как</a:t>
            </a:r>
            <a:r>
              <a:rPr b="0" lang="ru-RU" sz="32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углерод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кремний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бор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и д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В технике применяется более 5 тыс. сплавов.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 rot="5400000">
            <a:off x="-1440360" y="2601000"/>
            <a:ext cx="554508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ac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6600"/>
                    </a:gs>
                  </a:gsLst>
                  <a:lin ang="162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Сплавы</a:t>
            </a:r>
            <a:endParaRPr b="0" lang="en-US" sz="4400" spc="1" strike="noStrike">
              <a:ln w="12600">
                <a:solidFill>
                  <a:srgbClr val="ac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6600"/>
                  </a:gs>
                </a:gsLst>
                <a:lin ang="162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bcbcb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11280" y="0"/>
            <a:ext cx="8532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c00"/>
                </a:solidFill>
                <a:latin typeface="Comic Sans MS"/>
              </a:rPr>
              <a:t>Сплавы различаются по своему предназнач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c00"/>
                </a:solidFill>
                <a:latin typeface="Comic Sans MS"/>
              </a:rPr>
              <a:t>Конструкционные сплавы</a:t>
            </a:r>
            <a:r>
              <a:rPr b="1" lang="ru-RU" sz="2400" spc="-1" strike="noStrike">
                <a:solidFill>
                  <a:srgbClr val="00bc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9999"/>
                </a:solidFill>
                <a:uFillTx/>
                <a:latin typeface="Comic Sans MS"/>
              </a:rPr>
              <a:t>ста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9999"/>
                </a:solidFill>
                <a:uFillTx/>
                <a:latin typeface="Comic Sans MS"/>
              </a:rPr>
              <a:t>чугуны</a:t>
            </a:r>
            <a:r>
              <a:rPr b="0" lang="ru-RU" sz="2400" spc="-1" strike="noStrike" u="sng">
                <a:solidFill>
                  <a:srgbClr val="999999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9999"/>
                </a:solidFill>
                <a:uFillTx/>
                <a:latin typeface="Comic Sans MS"/>
              </a:rPr>
              <a:t>дюралюминий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c00"/>
                </a:solidFill>
                <a:latin typeface="Comic Sans MS"/>
              </a:rPr>
              <a:t>Конструкционные со специальными свойствами</a:t>
            </a:r>
            <a:r>
              <a:rPr b="1" lang="ru-RU" sz="2400" spc="-1" strike="noStrike">
                <a:solidFill>
                  <a:srgbClr val="00bc00"/>
                </a:solidFill>
                <a:latin typeface="Comic Sans MS"/>
              </a:rPr>
              <a:t> </a:t>
            </a:r>
            <a:r>
              <a:rPr b="1" i="1" lang="ru-RU" sz="1600" spc="-1" strike="noStrike">
                <a:solidFill>
                  <a:srgbClr val="00bc00"/>
                </a:solidFill>
                <a:latin typeface="Comic Sans MS"/>
              </a:rPr>
              <a:t>(например, искробезопасность, антифрикционные свойства) </a:t>
            </a:r>
            <a:r>
              <a:rPr b="1" i="1" lang="ru-RU" sz="2400" spc="-1" strike="noStrike">
                <a:solidFill>
                  <a:srgbClr val="00bc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Comic Sans MS"/>
              </a:rPr>
              <a:t>бронз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26262"/>
                </a:solidFill>
                <a:uFillTx/>
                <a:latin typeface="Comic Sans MS"/>
              </a:rPr>
              <a:t>латуни</a:t>
            </a:r>
            <a:r>
              <a:rPr b="0" lang="ru-RU" sz="2400" spc="-1" strike="noStrike">
                <a:solidFill>
                  <a:srgbClr val="626262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c00"/>
                </a:solidFill>
                <a:latin typeface="Comic Sans MS"/>
              </a:rPr>
              <a:t>Для заливки подшипник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26262"/>
                </a:solidFill>
                <a:uFillTx/>
                <a:latin typeface="Comic Sans MS"/>
              </a:rPr>
              <a:t>баббит</a:t>
            </a:r>
            <a:r>
              <a:rPr b="0" lang="ru-RU" sz="2400" spc="-1" strike="noStrike">
                <a:solidFill>
                  <a:srgbClr val="626262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c00"/>
                </a:solidFill>
                <a:latin typeface="Comic Sans MS"/>
              </a:rPr>
              <a:t>Для измерительной и электронагревательной аппаратур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26262"/>
                </a:solidFill>
                <a:uFillTx/>
                <a:latin typeface="Comic Sans MS"/>
              </a:rPr>
              <a:t>мангани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26262"/>
                </a:solidFill>
                <a:uFillTx/>
                <a:latin typeface="Comic Sans MS"/>
              </a:rPr>
              <a:t>нихром</a:t>
            </a:r>
            <a:r>
              <a:rPr b="0" lang="ru-RU" sz="2400" spc="-1" strike="noStrike">
                <a:solidFill>
                  <a:srgbClr val="cc00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c00"/>
                </a:solidFill>
                <a:latin typeface="Comic Sans MS"/>
              </a:rPr>
              <a:t>Для изготовления режущих инструмент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26262"/>
                </a:solidFill>
                <a:uFillTx/>
                <a:latin typeface="Comic Sans MS"/>
              </a:rPr>
              <a:t>победит</a:t>
            </a:r>
            <a:r>
              <a:rPr b="0" lang="ru-RU" sz="2000" spc="-1" strike="noStrike">
                <a:solidFill>
                  <a:srgbClr val="626262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В промышленности также используются жаропрочные, легкоплавкие и коррозионностойкие сплавы, термоэлектрические и магнитные материалы, а также аморфные сплав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50000">
              <a:srgbClr val="cafed4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51280" y="1628640"/>
            <a:ext cx="4773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3fdda"/>
                </a:solidFill>
                <a:uFillTx/>
                <a:latin typeface="Comic Sans MS"/>
              </a:rPr>
              <a:t>Авиаль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7afaae"/>
                </a:solidFill>
                <a:uFillTx/>
                <a:latin typeface="Comic Sans MS"/>
              </a:rPr>
              <a:t>Альник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9e562"/>
                </a:solidFill>
                <a:uFillTx/>
                <a:latin typeface="Comic Sans MS"/>
              </a:rPr>
              <a:t>Алюцин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ebe1f"/>
                </a:solidFill>
                <a:uFillTx/>
                <a:latin typeface="Comic Sans MS"/>
              </a:rPr>
              <a:t>Дюралюмини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a8816"/>
                </a:solidFill>
                <a:uFillTx/>
                <a:latin typeface="Comic Sans MS"/>
              </a:rPr>
              <a:t>Кольчугалюмини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7590f"/>
                </a:solidFill>
                <a:uFillTx/>
                <a:latin typeface="Comic Sans MS"/>
              </a:rPr>
              <a:t>Северное золо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43208"/>
                </a:solidFill>
                <a:uFillTx/>
                <a:latin typeface="Comic Sans MS"/>
              </a:rPr>
              <a:t>Силумин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WordArt 4"/>
          <p:cNvSpPr txBox="1"/>
          <p:nvPr/>
        </p:nvSpPr>
        <p:spPr>
          <a:xfrm rot="5400000">
            <a:off x="-1872360" y="2601000"/>
            <a:ext cx="5688360" cy="1295280"/>
          </a:xfrm>
          <a:prstGeom prst="rect">
            <a:avLst/>
          </a:prstGeom>
        </p:spPr>
        <p:txBody>
          <a:bodyPr wrap="none" lIns="90000" rIns="90000" tIns="46800" bIns="46800" anchor="b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2cb800"/>
                    </a:gs>
                    <a:gs pos="50000">
                      <a:srgbClr val="4d4d4d"/>
                    </a:gs>
                    <a:gs pos="100000">
                      <a:srgbClr val="2cb800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Сплавы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2cb800"/>
                  </a:gs>
                  <a:gs pos="50000">
                    <a:srgbClr val="4d4d4d"/>
                  </a:gs>
                  <a:gs pos="100000">
                    <a:srgbClr val="2cb800"/>
                  </a:gs>
                </a:gsLst>
                <a:lin ang="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WordArt 8"/>
          <p:cNvSpPr txBox="1"/>
          <p:nvPr/>
        </p:nvSpPr>
        <p:spPr>
          <a:xfrm rot="5400000">
            <a:off x="-95400" y="3343320"/>
            <a:ext cx="544500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2cb800"/>
                    </a:gs>
                    <a:gs pos="50000">
                      <a:srgbClr val="4d4d4d"/>
                    </a:gs>
                    <a:gs pos="100000">
                      <a:srgbClr val="2cb800"/>
                    </a:gs>
                  </a:gsLst>
                  <a:lin ang="162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алюминия</a:t>
            </a:r>
            <a:endParaRPr b="0" lang="en-US" sz="1800" spc="1" strike="noStrike">
              <a:ln w="1260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2cb800"/>
                  </a:gs>
                  <a:gs pos="50000">
                    <a:srgbClr val="4d4d4d"/>
                  </a:gs>
                  <a:gs pos="100000">
                    <a:srgbClr val="2cb800"/>
                  </a:gs>
                </a:gsLst>
                <a:lin ang="162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2060640"/>
            <a:ext cx="9144000" cy="4464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00330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Comic Sans MS"/>
              </a:rPr>
              <a:t>Для полноценного функционирования нашего организма наряду с кальцием, фосфором, калием, магнием необходимо железо. Железо участвует в процессах кроветворения, в создании гемоглобина, без него ткани мозга и желез внутренней секреции, как и всего тела, не могут быть обеспечены кислородом.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1403280" y="692280"/>
            <a:ext cx="64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7590f"/>
                    </a:gs>
                    <a:gs pos="100000">
                      <a:srgbClr val="00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Железо в организме</a:t>
            </a:r>
            <a:endParaRPr b="0" lang="en-US" sz="1800" spc="1" strike="noStrike">
              <a:ln w="324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7590f"/>
                  </a:gs>
                  <a:gs pos="100000">
                    <a:srgbClr val="00cc00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26262"/>
                </a:solidFill>
                <a:latin typeface="Comic Sans MS"/>
              </a:rPr>
              <a:t>Обычно человек теряет кровь, а с ней и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07b51c"/>
                </a:solidFill>
                <a:uFillTx/>
                <a:latin typeface="Comic Sans MS"/>
              </a:rPr>
              <a:t>железо</a:t>
            </a:r>
            <a:r>
              <a:rPr b="0" lang="ru-RU" sz="2400" spc="-1" strike="noStrike">
                <a:solidFill>
                  <a:srgbClr val="07b51c"/>
                </a:solidFill>
                <a:latin typeface="Comic Sans MS"/>
              </a:rPr>
              <a:t>,</a:t>
            </a:r>
            <a:r>
              <a:rPr b="0" lang="ru-RU" sz="2400" spc="-1" strike="noStrike">
                <a:solidFill>
                  <a:srgbClr val="e3e5e4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626262"/>
                </a:solidFill>
                <a:latin typeface="Comic Sans MS"/>
              </a:rPr>
              <a:t>во время хирургических вмешательств и при любом другом виде кровотечения (носовом, язвенном, почечном, при ранении и т.д.). Женщины гораздо чаще мужчин страдают из-за недостатка железа: они теряют его во время менструации, при беременности, в период кормления. В это время необходимо позаботиться о том, чтобы диета включала больше содержащ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5e4"/>
                </a:solidFill>
                <a:latin typeface="Comic Sans MS"/>
              </a:rPr>
              <a:t> </a:t>
            </a:r>
            <a:r>
              <a:rPr b="0" lang="ru-RU" sz="2800" spc="-1" strike="noStrike" u="sng">
                <a:solidFill>
                  <a:srgbClr val="07b51c"/>
                </a:solidFill>
                <a:uFillTx/>
                <a:latin typeface="Comic Sans MS"/>
              </a:rPr>
              <a:t>железо</a:t>
            </a:r>
            <a:r>
              <a:rPr b="0" lang="ru-RU" sz="2800" spc="-1" strike="noStrike">
                <a:solidFill>
                  <a:srgbClr val="07b51c"/>
                </a:solidFill>
                <a:latin typeface="Comic Sans MS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продуктов</a:t>
            </a:r>
            <a:r>
              <a:rPr b="0" lang="ru-RU" sz="2400" spc="-1" strike="noStrike">
                <a:solidFill>
                  <a:srgbClr val="e3e5e4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e5e4"/>
                </a:solidFill>
                <a:latin typeface="Comic Sans MS"/>
              </a:rPr>
              <a:t>   </a:t>
            </a:r>
            <a:r>
              <a:rPr b="0" lang="ru-RU" sz="2800" spc="-1" strike="noStrike" u="sng">
                <a:solidFill>
                  <a:srgbClr val="f90505"/>
                </a:solidFill>
                <a:uFillTx/>
                <a:latin typeface="Comic Sans MS"/>
              </a:rPr>
              <a:t>Дефицит</a:t>
            </a:r>
            <a:r>
              <a:rPr b="0" lang="ru-RU" sz="2800" spc="-1" strike="noStrike" u="sng">
                <a:solidFill>
                  <a:srgbClr val="07b51c"/>
                </a:solidFill>
                <a:uFillTx/>
                <a:latin typeface="Comic Sans MS"/>
              </a:rPr>
              <a:t> железа</a:t>
            </a:r>
            <a:r>
              <a:rPr b="0" lang="ru-RU" sz="2400" spc="-1" strike="noStrike">
                <a:solidFill>
                  <a:srgbClr val="e3e5e4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626262"/>
                </a:solidFill>
                <a:latin typeface="Comic Sans MS"/>
              </a:rPr>
              <a:t>в организме встречается довольно часто. В результате этого развиваются болезни крови, появляются упадок сил, общее ухудшение самочувствия, неестественная бледность кож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684360" y="333360"/>
            <a:ext cx="3097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43208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omic Sans MS"/>
              </a:rPr>
              <a:t>Недостатки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43208"/>
                  </a:gs>
                  <a:gs pos="100000">
                    <a:srgbClr val="ff00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15" name="WordArt 5"/>
          <p:cNvSpPr txBox="1"/>
          <p:nvPr/>
        </p:nvSpPr>
        <p:spPr>
          <a:xfrm>
            <a:off x="4211640" y="549360"/>
            <a:ext cx="15429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b51c"/>
                </a:solidFill>
                <a:latin typeface="Comic Sans MS"/>
              </a:rPr>
              <a:t>желез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7b51c"/>
              </a:solidFill>
              <a:latin typeface="Comic Sans MS"/>
              <a:ea typeface="Comic Sans MS"/>
            </a:endParaRPr>
          </a:p>
        </p:txBody>
      </p:sp>
      <p:sp>
        <p:nvSpPr>
          <p:cNvPr id="116" name="WordArt 6"/>
          <p:cNvSpPr txBox="1"/>
          <p:nvPr/>
        </p:nvSpPr>
        <p:spPr>
          <a:xfrm>
            <a:off x="6084720" y="549360"/>
            <a:ext cx="26672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в организм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9001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d7d7"/>
                </a:solidFill>
                <a:latin typeface="Comic Sans MS"/>
              </a:rPr>
              <a:t>Диетологи обычно называют следующие причины недостатка в организме желез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bf787"/>
                </a:solidFill>
                <a:uFillTx/>
                <a:latin typeface="Comic Sans MS"/>
              </a:rPr>
              <a:t>малая физическая активность, а в результате нарушение клеточного дыхания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00"/>
                </a:solidFill>
                <a:uFillTx/>
                <a:latin typeface="Comic Sans MS"/>
              </a:rPr>
              <a:t>плохое питание;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9999"/>
                </a:solidFill>
                <a:latin typeface="Comic Sans MS"/>
              </a:rPr>
              <a:t>недостаточное количество продуктов, содержащих железо в рацион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9999"/>
                </a:solidFill>
                <a:latin typeface="Comic Sans MS"/>
              </a:rPr>
              <a:t>неумело составленные диеты после пос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9999"/>
                </a:solidFill>
                <a:latin typeface="Comic Sans MS"/>
              </a:rPr>
              <a:t>неправильное проведение пос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9999"/>
                </a:solidFill>
                <a:latin typeface="Comic Sans MS"/>
              </a:rPr>
              <a:t>резкое изменение образа жизни, режима питания, когда новые продукты содержат плохо усваиваемое железо или, что еще хуже, вообще не имеют его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9999"/>
                </a:solidFill>
                <a:latin typeface="Comic Sans MS"/>
              </a:rPr>
              <a:t>употребление в пищу рафинированных продуктов: сахара, соли, белого хлеба, белой муки, очищенного риса, консервов и при этом насыщение организма фосфатами. Фосфаты препятствуют усвоению желез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8000"/>
                </a:solidFill>
                <a:uFillTx/>
                <a:latin typeface="Comic Sans MS"/>
              </a:rPr>
              <a:t>молочная диета без фруктов и растительных продуктов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В молоке почти не содержится железа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6:33:52Z</dcterms:created>
  <dc:creator>for_pc</dc:creator>
  <dc:description/>
  <dc:language>en-US</dc:language>
  <cp:lastModifiedBy>Артём</cp:lastModifiedBy>
  <dcterms:modified xsi:type="dcterms:W3CDTF">2010-02-05T11:29:48Z</dcterms:modified>
  <cp:revision>9</cp:revision>
  <dc:subject/>
  <dc:title>Слайд 1</dc:title>
</cp:coreProperties>
</file>