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7EA-0E07-4582-BF76-0ECBA776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770D-3954-482B-9FF3-8833697D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444-D94D-42FA-827A-2475BFB8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B15A-C9D5-4298-B14A-59D6641A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F09-2561-4A23-9AD4-048EBD57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83B-599D-446B-A772-5480DE52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77DA-31FC-4FA8-9D2C-CD77D4DC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8F5C-1245-4FFE-96DA-85A4F8BD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205B-54E2-4976-97FD-83285439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6409-DEF6-41BA-920B-A262FA9E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DC38-DB15-469E-8C0A-2932F3C6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5B9-ECA9-4867-9164-97C4C35E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F9BA-79AE-4974-BE5C-DFB672CC76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189000" y="579600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Михайличенко В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ГПД кадетской шк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1"/>
          <a:stretch/>
        </p:blipFill>
        <p:spPr>
          <a:xfrm>
            <a:off x="-4041720" y="122400"/>
            <a:ext cx="149414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549360" y="324000"/>
            <a:ext cx="56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 октяб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798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л чин генералиссимуса А. В. Сув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76280" y="4356000"/>
            <a:ext cx="5473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7 июня 1945 года звание «Генералиссимус Советского Союза» было присвоено И. В. Стал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2205000" y="1187280"/>
            <a:ext cx="2286000" cy="3097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2"/>
          <a:stretch/>
        </p:blipFill>
        <p:spPr>
          <a:xfrm>
            <a:off x="260280" y="1187280"/>
            <a:ext cx="1785960" cy="3097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"/>
          <p:cNvPicPr/>
          <p:nvPr/>
        </p:nvPicPr>
        <p:blipFill>
          <a:blip r:embed="rId3"/>
          <a:stretch/>
        </p:blipFill>
        <p:spPr>
          <a:xfrm>
            <a:off x="4581360" y="1692360"/>
            <a:ext cx="2087640" cy="1977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"/>
          <p:cNvPicPr/>
          <p:nvPr/>
        </p:nvPicPr>
        <p:blipFill>
          <a:blip r:embed="rId4"/>
          <a:stretch/>
        </p:blipFill>
        <p:spPr>
          <a:xfrm>
            <a:off x="260280" y="5796000"/>
            <a:ext cx="2131920" cy="295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7" descr=""/>
          <p:cNvPicPr/>
          <p:nvPr/>
        </p:nvPicPr>
        <p:blipFill>
          <a:blip r:embed="rId5"/>
          <a:stretch/>
        </p:blipFill>
        <p:spPr>
          <a:xfrm>
            <a:off x="2565360" y="5796000"/>
            <a:ext cx="3960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04640" y="468360"/>
            <a:ext cx="60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инские з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Вооружённых Силах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2492280" y="3205080"/>
            <a:ext cx="1152720" cy="2517840"/>
          </a:xfrm>
          <a:prstGeom prst="rect">
            <a:avLst/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 rot="10800000">
            <a:off x="2492280" y="2916360"/>
            <a:ext cx="1152720" cy="288720"/>
          </a:xfrm>
          <a:custGeom>
            <a:avLst/>
            <a:gdLst>
              <a:gd name="textAreaLeft" fmla="*/ 240120 w 1152720"/>
              <a:gd name="textAreaRight" fmla="*/ 912600 w 1152720"/>
              <a:gd name="textAreaTop" fmla="*/ 60120 h 288720"/>
              <a:gd name="textAreaBottom" fmla="*/ 2286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3645000" y="32050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149720" y="320508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3573360" y="57261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 rot="16200000">
            <a:off x="3590280" y="42642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637000" y="5867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,5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3645000" y="5651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2492280" y="57261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2492280" y="6300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2492280" y="6443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333360" y="723744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воинские звания в Вооруженных Силах подразделяются на несколько состав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rcRect l="0" t="0" r="7445" b="0"/>
          <a:stretch/>
        </p:blipFill>
        <p:spPr>
          <a:xfrm>
            <a:off x="1916280" y="1042920"/>
            <a:ext cx="1008000" cy="3168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33360" y="468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1. Солд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068640" y="21258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2781360" y="4284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яд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3933720" y="1187280"/>
            <a:ext cx="1008000" cy="3024360"/>
          </a:xfrm>
          <a:prstGeom prst="rect">
            <a:avLst/>
          </a:prstGeom>
          <a:solidFill>
            <a:srgbClr val="4364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1125360" y="82692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"/>
          <p:cNvPicPr/>
          <p:nvPr/>
        </p:nvPicPr>
        <p:blipFill>
          <a:blip r:embed="rId2"/>
          <a:srcRect l="0" t="0" r="7445" b="0"/>
          <a:stretch/>
        </p:blipFill>
        <p:spPr>
          <a:xfrm>
            <a:off x="1916280" y="5078520"/>
            <a:ext cx="1009440" cy="31687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5"/>
          <p:cNvSpPr/>
          <p:nvPr/>
        </p:nvSpPr>
        <p:spPr>
          <a:xfrm>
            <a:off x="3933720" y="5219640"/>
            <a:ext cx="1008000" cy="3027600"/>
          </a:xfrm>
          <a:prstGeom prst="rect">
            <a:avLst/>
          </a:prstGeom>
          <a:solidFill>
            <a:srgbClr val="4364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068640" y="63007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933720" y="7164360"/>
            <a:ext cx="1008000" cy="14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2708280" y="8388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фрей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1197000" y="4932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0"/>
          <p:cNvSpPr/>
          <p:nvPr/>
        </p:nvSpPr>
        <p:spPr>
          <a:xfrm>
            <a:off x="1125360" y="900000"/>
            <a:ext cx="360720" cy="338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1"/>
          <p:cNvSpPr/>
          <p:nvPr/>
        </p:nvSpPr>
        <p:spPr>
          <a:xfrm>
            <a:off x="1197000" y="5003640"/>
            <a:ext cx="360360" cy="338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23"/>
          <p:cNvSpPr txBox="1"/>
          <p:nvPr/>
        </p:nvSpPr>
        <p:spPr>
          <a:xfrm>
            <a:off x="4149720" y="7453440"/>
            <a:ext cx="647640" cy="59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urier New"/>
              </a:rPr>
              <a:t>ВС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urier New"/>
              <a:ea typeface="Courier New"/>
            </a:endParaRPr>
          </a:p>
        </p:txBody>
      </p:sp>
      <p:sp>
        <p:nvSpPr>
          <p:cNvPr id="72" name="WordArt 24"/>
          <p:cNvSpPr txBox="1"/>
          <p:nvPr/>
        </p:nvSpPr>
        <p:spPr>
          <a:xfrm>
            <a:off x="4149720" y="3421080"/>
            <a:ext cx="647640" cy="59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urier New"/>
              </a:rPr>
              <a:t>ВС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urier New"/>
              <a:ea typeface="Courier New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rcRect l="0" t="0" r="7445" b="0"/>
          <a:stretch/>
        </p:blipFill>
        <p:spPr>
          <a:xfrm>
            <a:off x="404640" y="971640"/>
            <a:ext cx="1008360" cy="316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rcRect l="0" t="0" r="7445" b="0"/>
          <a:stretch/>
        </p:blipFill>
        <p:spPr>
          <a:xfrm>
            <a:off x="3933720" y="971640"/>
            <a:ext cx="1008000" cy="3168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333360" y="468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 Сержанты и ста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1989000" y="1116000"/>
            <a:ext cx="1008360" cy="3025800"/>
          </a:xfrm>
          <a:prstGeom prst="rect">
            <a:avLst/>
          </a:prstGeom>
          <a:solidFill>
            <a:srgbClr val="4364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5589720" y="1116000"/>
            <a:ext cx="1008000" cy="3025800"/>
          </a:xfrm>
          <a:prstGeom prst="rect">
            <a:avLst/>
          </a:prstGeom>
          <a:solidFill>
            <a:srgbClr val="4364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1989000" y="3059280"/>
            <a:ext cx="1008360" cy="142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1989000" y="2843280"/>
            <a:ext cx="1008360" cy="14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5589720" y="2773440"/>
            <a:ext cx="1008000" cy="141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5589720" y="3205080"/>
            <a:ext cx="1008000" cy="141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5589720" y="2989440"/>
            <a:ext cx="1008000" cy="141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1484280" y="23414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981000" y="4068720"/>
            <a:ext cx="14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ладший серж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4653000" y="4140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ж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5084640" y="2411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3" descr=""/>
          <p:cNvPicPr/>
          <p:nvPr/>
        </p:nvPicPr>
        <p:blipFill>
          <a:blip r:embed="rId3"/>
          <a:srcRect l="0" t="0" r="7445" b="0"/>
          <a:stretch/>
        </p:blipFill>
        <p:spPr>
          <a:xfrm>
            <a:off x="404640" y="5003640"/>
            <a:ext cx="1008360" cy="3168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4"/>
          <p:cNvSpPr/>
          <p:nvPr/>
        </p:nvSpPr>
        <p:spPr>
          <a:xfrm>
            <a:off x="1989000" y="5148360"/>
            <a:ext cx="1008360" cy="3025800"/>
          </a:xfrm>
          <a:prstGeom prst="rect">
            <a:avLst/>
          </a:prstGeom>
          <a:solidFill>
            <a:srgbClr val="4364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5"/>
          <p:cNvSpPr/>
          <p:nvPr/>
        </p:nvSpPr>
        <p:spPr>
          <a:xfrm>
            <a:off x="1989000" y="6805440"/>
            <a:ext cx="1008360" cy="501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907920" y="817236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ший серж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8"/>
          <p:cNvSpPr/>
          <p:nvPr/>
        </p:nvSpPr>
        <p:spPr>
          <a:xfrm>
            <a:off x="115920" y="755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9"/>
          <p:cNvSpPr/>
          <p:nvPr/>
        </p:nvSpPr>
        <p:spPr>
          <a:xfrm>
            <a:off x="3573360" y="82692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0"/>
          <p:cNvSpPr/>
          <p:nvPr/>
        </p:nvSpPr>
        <p:spPr>
          <a:xfrm>
            <a:off x="115920" y="4716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1" descr=""/>
          <p:cNvPicPr/>
          <p:nvPr/>
        </p:nvPicPr>
        <p:blipFill>
          <a:blip r:embed="rId4"/>
          <a:srcRect l="0" t="0" r="7445" b="0"/>
          <a:stretch/>
        </p:blipFill>
        <p:spPr>
          <a:xfrm>
            <a:off x="3933720" y="5003640"/>
            <a:ext cx="1008000" cy="3168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3"/>
          <p:cNvSpPr/>
          <p:nvPr/>
        </p:nvSpPr>
        <p:spPr>
          <a:xfrm>
            <a:off x="5589720" y="5148360"/>
            <a:ext cx="1008000" cy="3025800"/>
          </a:xfrm>
          <a:prstGeom prst="rect">
            <a:avLst/>
          </a:prstGeom>
          <a:solidFill>
            <a:srgbClr val="4364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2"/>
          <p:cNvSpPr/>
          <p:nvPr/>
        </p:nvSpPr>
        <p:spPr>
          <a:xfrm rot="5400000">
            <a:off x="4579560" y="6445080"/>
            <a:ext cx="3024000" cy="43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4"/>
          <p:cNvSpPr/>
          <p:nvPr/>
        </p:nvSpPr>
        <p:spPr>
          <a:xfrm>
            <a:off x="4508640" y="8172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5"/>
          <p:cNvSpPr/>
          <p:nvPr/>
        </p:nvSpPr>
        <p:spPr>
          <a:xfrm>
            <a:off x="3573360" y="478800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6"/>
          <p:cNvSpPr/>
          <p:nvPr/>
        </p:nvSpPr>
        <p:spPr>
          <a:xfrm>
            <a:off x="5084640" y="6300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7"/>
          <p:cNvSpPr/>
          <p:nvPr/>
        </p:nvSpPr>
        <p:spPr>
          <a:xfrm>
            <a:off x="1484280" y="6300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8"/>
          <p:cNvSpPr/>
          <p:nvPr/>
        </p:nvSpPr>
        <p:spPr>
          <a:xfrm>
            <a:off x="115920" y="826920"/>
            <a:ext cx="360360" cy="33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9"/>
          <p:cNvSpPr/>
          <p:nvPr/>
        </p:nvSpPr>
        <p:spPr>
          <a:xfrm>
            <a:off x="3573360" y="900000"/>
            <a:ext cx="360360" cy="338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0"/>
          <p:cNvSpPr/>
          <p:nvPr/>
        </p:nvSpPr>
        <p:spPr>
          <a:xfrm>
            <a:off x="115920" y="4788000"/>
            <a:ext cx="360360" cy="338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1"/>
          <p:cNvSpPr/>
          <p:nvPr/>
        </p:nvSpPr>
        <p:spPr>
          <a:xfrm>
            <a:off x="3573360" y="4859280"/>
            <a:ext cx="360360" cy="33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42"/>
          <p:cNvSpPr txBox="1"/>
          <p:nvPr/>
        </p:nvSpPr>
        <p:spPr>
          <a:xfrm>
            <a:off x="2205000" y="3421080"/>
            <a:ext cx="647640" cy="59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urier New"/>
              </a:rPr>
              <a:t>ВС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urier New"/>
              <a:ea typeface="Courier New"/>
            </a:endParaRPr>
          </a:p>
        </p:txBody>
      </p:sp>
      <p:sp>
        <p:nvSpPr>
          <p:cNvPr id="106" name="WordArt 43"/>
          <p:cNvSpPr txBox="1"/>
          <p:nvPr/>
        </p:nvSpPr>
        <p:spPr>
          <a:xfrm>
            <a:off x="5805360" y="3421080"/>
            <a:ext cx="648000" cy="59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urier New"/>
              </a:rPr>
              <a:t>ВС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urier New"/>
              <a:ea typeface="Courier New"/>
            </a:endParaRPr>
          </a:p>
        </p:txBody>
      </p:sp>
      <p:sp>
        <p:nvSpPr>
          <p:cNvPr id="107" name="WordArt 44"/>
          <p:cNvSpPr txBox="1"/>
          <p:nvPr/>
        </p:nvSpPr>
        <p:spPr>
          <a:xfrm>
            <a:off x="2205000" y="7453440"/>
            <a:ext cx="647640" cy="59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urier New"/>
              </a:rPr>
              <a:t>ВС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urier New"/>
              <a:ea typeface="Courier New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468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3. Прапорщ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rcRect l="0" t="0" r="1852" b="0"/>
          <a:stretch/>
        </p:blipFill>
        <p:spPr>
          <a:xfrm>
            <a:off x="1413000" y="1979640"/>
            <a:ext cx="934920" cy="2771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rcRect l="0" t="0" r="1663" b="0"/>
          <a:stretch/>
        </p:blipFill>
        <p:spPr>
          <a:xfrm>
            <a:off x="4221000" y="1979640"/>
            <a:ext cx="936720" cy="2771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1052640" y="50785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порщ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789360" y="500364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ший прапорщ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052640" y="16938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860640" y="169380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1052640" y="1763640"/>
            <a:ext cx="360360" cy="338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3860640" y="1763640"/>
            <a:ext cx="360360" cy="338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333360" y="468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4. Младший офицерский со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rcRect l="0" t="0" r="1852" b="0"/>
          <a:stretch/>
        </p:blipFill>
        <p:spPr>
          <a:xfrm>
            <a:off x="1700280" y="1187280"/>
            <a:ext cx="936720" cy="2762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rcRect l="0" t="0" r="1852" b="0"/>
          <a:stretch/>
        </p:blipFill>
        <p:spPr>
          <a:xfrm>
            <a:off x="4365720" y="1187280"/>
            <a:ext cx="933480" cy="2762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rcRect l="0" t="0" r="1852" b="0"/>
          <a:stretch/>
        </p:blipFill>
        <p:spPr>
          <a:xfrm>
            <a:off x="1700280" y="5294160"/>
            <a:ext cx="936720" cy="2762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4"/>
          <a:srcRect l="0" t="0" r="1852" b="0"/>
          <a:stretch/>
        </p:blipFill>
        <p:spPr>
          <a:xfrm>
            <a:off x="4365720" y="5294160"/>
            <a:ext cx="933480" cy="2762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1413000" y="406872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ладший лейтен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076640" y="4068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йтен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484280" y="810108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ший лейтен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221000" y="81010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пи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1197000" y="1116000"/>
            <a:ext cx="360360" cy="338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1197000" y="1042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3789360" y="1116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1122840" y="51483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3863520" y="51483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0"/>
          <p:cNvSpPr/>
          <p:nvPr/>
        </p:nvSpPr>
        <p:spPr>
          <a:xfrm>
            <a:off x="3789360" y="1116000"/>
            <a:ext cx="431640" cy="4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1"/>
          <p:cNvSpPr/>
          <p:nvPr/>
        </p:nvSpPr>
        <p:spPr>
          <a:xfrm>
            <a:off x="1125360" y="5148360"/>
            <a:ext cx="4334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2"/>
          <p:cNvSpPr/>
          <p:nvPr/>
        </p:nvSpPr>
        <p:spPr>
          <a:xfrm>
            <a:off x="3860640" y="5148360"/>
            <a:ext cx="4334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33360" y="468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5. Старший офицерский со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rcRect l="0" t="0" r="1663" b="0"/>
          <a:stretch/>
        </p:blipFill>
        <p:spPr>
          <a:xfrm>
            <a:off x="2924280" y="1477800"/>
            <a:ext cx="938160" cy="2762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2"/>
          <a:srcRect l="0" t="0" r="1663" b="0"/>
          <a:stretch/>
        </p:blipFill>
        <p:spPr>
          <a:xfrm>
            <a:off x="1628640" y="5078520"/>
            <a:ext cx="935280" cy="2762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3"/>
          <a:srcRect l="0" t="0" r="1663" b="0"/>
          <a:stretch/>
        </p:blipFill>
        <p:spPr>
          <a:xfrm>
            <a:off x="4365720" y="5003640"/>
            <a:ext cx="938160" cy="2762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2852640" y="4356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052640" y="7956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полко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4005360" y="78850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ко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2352240" y="12589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1055160" y="48592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3791880" y="48592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2349360" y="1258920"/>
            <a:ext cx="4334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6"/>
          <p:cNvSpPr/>
          <p:nvPr/>
        </p:nvSpPr>
        <p:spPr>
          <a:xfrm>
            <a:off x="1052640" y="4859280"/>
            <a:ext cx="4334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789360" y="4859280"/>
            <a:ext cx="4334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33360" y="468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6. Высший офицерский со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Rus_Major_General"/>
          <p:cNvPicPr/>
          <p:nvPr/>
        </p:nvPicPr>
        <p:blipFill>
          <a:blip r:embed="rId1"/>
          <a:stretch/>
        </p:blipFill>
        <p:spPr>
          <a:xfrm>
            <a:off x="549360" y="1187280"/>
            <a:ext cx="954000" cy="2735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Rus_Lieutenant_General"/>
          <p:cNvPicPr/>
          <p:nvPr/>
        </p:nvPicPr>
        <p:blipFill>
          <a:blip r:embed="rId2"/>
          <a:stretch/>
        </p:blipFill>
        <p:spPr>
          <a:xfrm>
            <a:off x="2205000" y="1187280"/>
            <a:ext cx="952560" cy="2735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Rus_gen-colonel"/>
          <p:cNvPicPr/>
          <p:nvPr/>
        </p:nvPicPr>
        <p:blipFill>
          <a:blip r:embed="rId3"/>
          <a:stretch/>
        </p:blipFill>
        <p:spPr>
          <a:xfrm>
            <a:off x="3860640" y="1187280"/>
            <a:ext cx="952560" cy="2735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Rus_general_army"/>
          <p:cNvPicPr/>
          <p:nvPr/>
        </p:nvPicPr>
        <p:blipFill>
          <a:blip r:embed="rId4"/>
          <a:stretch/>
        </p:blipFill>
        <p:spPr>
          <a:xfrm>
            <a:off x="5516640" y="1187280"/>
            <a:ext cx="950760" cy="2737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Marshal-evr"/>
          <p:cNvPicPr/>
          <p:nvPr/>
        </p:nvPicPr>
        <p:blipFill>
          <a:blip r:embed="rId5"/>
          <a:stretch/>
        </p:blipFill>
        <p:spPr>
          <a:xfrm>
            <a:off x="2924280" y="5580000"/>
            <a:ext cx="969840" cy="27687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4"/>
          <p:cNvSpPr/>
          <p:nvPr/>
        </p:nvSpPr>
        <p:spPr>
          <a:xfrm>
            <a:off x="333360" y="392436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нерал-ма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916280" y="392436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нерал-лейтен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3573360" y="392436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нерал-полко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373720" y="39243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нерал ар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333360" y="485928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7. Марш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2276640" y="838836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шал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191520" y="9716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1775880" y="9716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3431520" y="9716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5087520" y="9716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2423520" y="54356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5"/>
          <p:cNvSpPr/>
          <p:nvPr/>
        </p:nvSpPr>
        <p:spPr>
          <a:xfrm>
            <a:off x="189000" y="971640"/>
            <a:ext cx="4334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6"/>
          <p:cNvSpPr/>
          <p:nvPr/>
        </p:nvSpPr>
        <p:spPr>
          <a:xfrm>
            <a:off x="1773360" y="971640"/>
            <a:ext cx="4334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7"/>
          <p:cNvSpPr/>
          <p:nvPr/>
        </p:nvSpPr>
        <p:spPr>
          <a:xfrm>
            <a:off x="3429000" y="971640"/>
            <a:ext cx="4334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8"/>
          <p:cNvSpPr/>
          <p:nvPr/>
        </p:nvSpPr>
        <p:spPr>
          <a:xfrm>
            <a:off x="5084640" y="971640"/>
            <a:ext cx="4334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9"/>
          <p:cNvSpPr/>
          <p:nvPr/>
        </p:nvSpPr>
        <p:spPr>
          <a:xfrm>
            <a:off x="2421000" y="5435640"/>
            <a:ext cx="4334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260280" y="611280"/>
            <a:ext cx="633744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нералиссиму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высшее воинское звание в Священной Римской империи, позднее — также в Российской империи, СССР, Китае, КНДР и некоторых других стр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0280" y="3203640"/>
            <a:ext cx="633744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рически это звание присваивалось полководцам, командовавшим в ходе войны несколькими, чаще союзными, армиями, а в некоторых случаях государственным деятелям или лицам из семей царствующих династий в качестве почётного з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60280" y="6516720"/>
            <a:ext cx="62643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стоящее время в Российской Федерации это воинское звание законодательством не предусмотр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9:21:56Z</dcterms:created>
  <dc:creator>User</dc:creator>
  <dc:description/>
  <dc:language>en-US</dc:language>
  <cp:lastModifiedBy>School</cp:lastModifiedBy>
  <dcterms:modified xsi:type="dcterms:W3CDTF">2022-04-27T19:20:16Z</dcterms:modified>
  <cp:revision>11</cp:revision>
  <dc:subject/>
  <dc:title>Слайд 1</dc:title>
</cp:coreProperties>
</file>