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D84F-A680-4FD2-95BF-12B829F48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A01A-A9E8-4531-BA2B-05C4DE27831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3D77-C5F5-4199-8957-B35F08FECFC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EC6A-49A9-4281-B8CD-5EF750E9CFC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BC65-2BA7-4C91-B97C-760036C46BF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FE34-0FEA-45F3-9106-A5D1B07284B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6525-6B6C-4BC8-A9FB-2386A1B8138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20588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304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036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304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4036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0588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20588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304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03600" y="129528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9304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403600" y="3683520"/>
            <a:ext cx="235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35100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05880" y="368352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05880" y="1295280"/>
            <a:ext cx="3569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7315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cleanbin.ru/law/7-fz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16e01"/>
                </a:solidFill>
                <a:latin typeface="Microsoft Sans Serif"/>
              </a:rPr>
              <a:t>Экологический</a:t>
            </a:r>
            <a:br>
              <a:rPr sz="5400"/>
            </a:br>
            <a:r>
              <a:rPr b="0" lang="ru-RU" sz="5400" spc="-1" strike="noStrike">
                <a:solidFill>
                  <a:srgbClr val="016e01"/>
                </a:solidFill>
                <a:latin typeface="Microsoft Sans Serif"/>
              </a:rPr>
              <a:t>мониторинг</a:t>
            </a:r>
            <a:endParaRPr b="0" lang="en-US" sz="5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457200" y="5943600"/>
            <a:ext cx="96012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6e01"/>
                </a:solidFill>
                <a:latin typeface="Microsoft Sans Serif"/>
              </a:rPr>
              <a:t>Выполнил: Евдокимова А.М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6e01"/>
                </a:solidFill>
                <a:latin typeface="Microsoft Sans Serif"/>
              </a:rPr>
              <a:t>2021 г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3" name="Picture 2" descr="C:\Users\admin\Desktop\slide-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2392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crosoft Sans Serif"/>
              </a:rPr>
              <a:t>Осуществление экологического контрол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Экологический контроль осуществляется путем отбора проб почвы, воздуха, воды и последующего контроля определенных программой показателей. Также используется метод подробного изучения местности с выявлением мест превышения предельно допустимых концентраций тех или иных веществ. При необходимости подбирается способ рекультивации загрязненной местности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Microsoft Sans Serif"/>
              </a:rPr>
              <a:t>Экологический мониторинг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 – это комплекс мероприятий по наблюдению за состоянием окружающей среды, проводимый с помощью специально разработанных научных программ. В него входят исследования отдельных компонентов природы, экосистем, происходящих в них процессах, изучение влияния антропогенного воздействия, оценки и прогнозирование изменений состояния биосферы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Значение экомониторинга: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Эта информация очень важна, так как позволяет не только получать данные о состоянии наблюдаемой среды регулярно и с максимальной точностью, но и видеть их в динамике, чего не позволит сделать одноразовое наблюдение или замер. Экомониторинг позволяет проследить за круговоротом различных, в том числе и опасных, веществ в природе, время разложения отходов (а, значит, и способы их утилизации). В итоге, информация, полученная методом экологического мониторинга, позволяет снизить антропогенное давление на окружающую среду и население в том числе, а также оптимизировать процесс использования невозобновляемых природных ресурсов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Цели: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Наблюдение за окружающей средой, особенно в местах концентрации антропогенных объектов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Оценка и прогнозирование изменений экосистем под влиянием природных и антропогенных факторов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-31536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Накопление информации об изменениях окружающей среды для передачи данных государственным охранным структурам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933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обеспечение актуальной информацией об изменениях в экосистеме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-32220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наблюдение за химическими, биологическими, физическими процессами;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-322200">
              <a:spcBef>
                <a:spcPts val="700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8203"/>
                </a:solidFill>
                <a:latin typeface="Microsoft Sans Serif"/>
              </a:rPr>
              <a:t>наблюдение за антропогенным загрязнением атмосферы, гидросферы, грунтов, определение последствий такого загрязнения.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icrosoft Sans Serif"/>
              </a:rPr>
              <a:t>Объекты экомониторинга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Предметами наблюдения являются как природные, так и антропогенные объекты.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Отдельные компоненты естественной среды: тропосфера, грунт, подземные и поверхностные воды, озоновый слой атмосфер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иродные объекты: биотопы, естественные ландшафты, экосистем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Население, проживающее на территории, находящейся под воздействием определённых факторов окружающей среды (выбросов вредных веществ, радиации)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иродно-антропогенные территории, рекреационные объект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Предприятия, загрязняющие окрестности, другие потенциально опасные для природы антропогенные объекты, находящиеся под усиленным контролем производственного экологического мониторинг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Microsoft Sans Serif"/>
              </a:rPr>
              <a:t>Уровни экомониторинг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533160"/>
            <a:ext cx="7086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           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Структура экологического мониторинга является многоступенчатой системой, состоящей из 4 уровней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-257040">
              <a:spcBef>
                <a:spcPts val="499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203"/>
                </a:solidFill>
                <a:latin typeface="Microsoft Sans Serif"/>
              </a:rPr>
              <a:t>Локальный мониторинг компонентов окружающей среды.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 Проводится в пределах одного естественного или техногенного объекта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-257040">
              <a:spcBef>
                <a:spcPts val="499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203"/>
                </a:solidFill>
                <a:latin typeface="Microsoft Sans Serif"/>
              </a:rPr>
              <a:t>Территориальный уровень.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 Масштаб исследовательских работ – область, регион, округ в пределах России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-257040">
              <a:spcBef>
                <a:spcPts val="499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203"/>
                </a:solidFill>
                <a:latin typeface="Microsoft Sans Serif"/>
              </a:rPr>
              <a:t>Федеральный уровень.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 Программа контроля распространяется на территорию всей стран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-257040">
              <a:spcBef>
                <a:spcPts val="499"/>
              </a:spcBef>
              <a:buClr>
                <a:srgbClr val="018203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8203"/>
                </a:solidFill>
                <a:latin typeface="Microsoft Sans Serif"/>
              </a:rPr>
              <a:t>Глобальный уровень.</a:t>
            </a:r>
            <a:r>
              <a:rPr b="0" lang="ru-RU" sz="2000" spc="-1" strike="noStrike">
                <a:solidFill>
                  <a:srgbClr val="018203"/>
                </a:solidFill>
                <a:latin typeface="Microsoft Sans Serif"/>
              </a:rPr>
              <a:t> Международные программы и проекты по наблюдению за состоянием биосферы и «экологическим здоровьем» нашей планеты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Microsoft Sans Serif"/>
              </a:rPr>
              <a:t>           </a:t>
            </a:r>
            <a:r>
              <a:rPr b="0" lang="ru-RU" sz="2000" spc="-1" strike="noStrike">
                <a:solidFill>
                  <a:srgbClr val="262626"/>
                </a:solidFill>
                <a:latin typeface="Microsoft Sans Serif"/>
              </a:rPr>
              <a:t>В Российской Федерации контроль осуществляется в соответствии с</a:t>
            </a:r>
            <a:r>
              <a:rPr b="0" lang="ru-RU" sz="2000" spc="-1" strike="noStrike" u="sng">
                <a:solidFill>
                  <a:srgbClr val="01a604"/>
                </a:solidFill>
                <a:uFillTx/>
                <a:latin typeface="Microsoft Sans Serif"/>
                <a:hlinkClick r:id="rId2"/>
              </a:rPr>
              <a:t> ФЗ №7 (законом «Об охране окружающей среды»)</a:t>
            </a:r>
            <a:r>
              <a:rPr b="0" lang="ru-RU" sz="2000" spc="-1" strike="noStrike">
                <a:solidFill>
                  <a:srgbClr val="262626"/>
                </a:solidFill>
                <a:latin typeface="Microsoft Sans Serif"/>
              </a:rPr>
              <a:t>. Международные проекты проводятся по программе ЮНЕП, созданной в рамках ООН, и Всемирной метеорологической организации (ВМО).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Этапы экомониторинга: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97" name="Picture 2" descr="C:\Users\admin\Desktop\i_006.png"/>
          <p:cNvPicPr/>
          <p:nvPr/>
        </p:nvPicPr>
        <p:blipFill>
          <a:blip r:embed="rId1"/>
          <a:stretch/>
        </p:blipFill>
        <p:spPr>
          <a:xfrm>
            <a:off x="433440" y="1365120"/>
            <a:ext cx="7808760" cy="8266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52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0" name="Picture 2" descr="C:\Users\admin\Desktop\slide-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admin</cp:lastModifiedBy>
  <dcterms:modified xsi:type="dcterms:W3CDTF">2021-12-23T05:42:51Z</dcterms:modified>
  <cp:revision>37</cp:revision>
  <dc:subject/>
  <dc:title>Name of presentation</dc:title>
</cp:coreProperties>
</file>