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739-B38A-4B57-BF78-D5BF4E38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0B8-919A-43FE-BE5B-A7F957B5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E80-DF41-449A-9160-E3CCE7D8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1FF-01FF-41C4-B46D-E140F9F4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C385-4F00-457F-A728-6602D87C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F71-C1DF-4AD7-8278-372281B2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A153-BD74-4596-A6B2-8A8CC2C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B4B2-E52F-4269-B1C2-524B40D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9D8D-A6E8-4199-ADAD-FA724A36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92CF-1F65-4E31-802A-7802C2A3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FA16-0E35-41A1-ABCB-BD9CAA1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5F0-84E6-478F-BBE9-1652B228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2CB6-7F1D-4A7D-8D1E-82D651F7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5317-5E51-4317-9D39-7039F28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3AE7-F630-49E5-BBA8-1315A86C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2FB0-F916-4666-9881-E1E805AB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7C78-2244-4ED2-A75A-A0609863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D20E-C95A-4CE8-A3A8-C980CC3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9694-7414-4ED5-85A0-21949F69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A8C24-694A-4DA9-AEC5-CEF5B6D2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DB2F-A095-4CC5-A282-B893C740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7990-E498-452F-8F39-0870F0C6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AE2-2F51-46C0-805B-BD05A291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1BB0-9AF8-4676-A7EE-6C944BA5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E926-84DF-4DFF-8418-4627D472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4BCC-E8B7-46F6-9681-36FD1D23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B608-FCF4-4FCE-9747-BDCC9D7C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34B9-25AF-441C-8B8D-5CF3CDC8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9D4FB-BF71-4A4A-A0A7-F99D2A53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AD5D-FD29-4943-8075-04CC62FE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63EB-AB21-423B-AFC4-0CB98730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72B1-0FB9-4349-B369-022D4EA6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EC60-D4AD-4C22-9961-3F0D4F33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117-DBDD-4F63-B77A-060DA527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465F-4CCC-45BB-B7C1-612CF202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B4944-8DD2-4D96-B335-20F0484F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9219-E251-4E50-9108-BB798E97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5C1BE-A150-41CD-B8AF-189E399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7661-B14C-4A2E-AD5E-AFA686F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CB9B-9F5D-4C44-9EC8-5E266428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D747-FB77-4864-BB47-7985922E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0C5D-F73C-4B94-9D17-D20DBEF9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0A02-BC6D-4D9F-ABA3-AF775E7F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C836-3496-413E-B29E-E5891705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002-9D44-4641-898B-F6C64A62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C00D-AB2D-4CA2-8182-2EE9BB1F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C1D7-C2BA-4DAC-A5D3-A0C3CB7C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6DDE-F3E5-4732-88AA-0B79D66C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AB37-D24A-4C20-BF43-3961653D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8931-2095-4FC8-BD0A-5C0B39FA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04D1-6A3C-4B8E-8F31-03F8C0C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0C833-930B-49F9-8B3F-6798AC62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9BD9-20FE-4DAB-A69A-2865A7D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F7104-C05E-4A26-BDE9-FA7E3A1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1E8F9-539A-42F2-ADAA-326C8EB2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8BC-8D65-434A-BC35-0F52F479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740B6-5000-482F-9802-F03F94B2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5A9-778E-4F47-AA9A-20B2D38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424-E5D6-4C80-9F86-25BE8712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59C-9816-403F-BA90-733C2B5B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10A88-7EB3-4772-891A-FADEA11E1E44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80622-2B25-4917-AD77-5ECD953BA716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E48B7-9473-4496-B57D-4FDD49ED803D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F271D-4403-424E-81A0-4BBD44AF47E7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F277F-EDC6-4055-A7ED-EC6CE91A5608}" type="slidenum">
              <a:rPr b="0" lang="ru-RU" sz="11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4560" y="115560"/>
            <a:ext cx="45370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ткуда начинается Россия?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С Курил, Камчатки, с Командор?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 чем грустят глаза ее степные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Над камышами всех ее озер?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Россия начинается с пристрастья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К труду, терпению, к правде, доброте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Вот в чем ее звезда. Она прекрасна!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на горит и светит в темноте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Отсюда все дела ее большие,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Ее неповторимая судьба.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И если ты причастен к ней -</a:t>
            </a:r>
            <a:br>
              <a:rPr sz="1700"/>
            </a:b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Россия не с гор берет начало, а с тебя!</a:t>
            </a: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 algn="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00"/>
                </a:solidFill>
                <a:latin typeface="Comic Sans MS"/>
              </a:rPr>
              <a:t>Виктор Боков – советский поэт и прозаик</a:t>
            </a:r>
            <a:endParaRPr b="0" lang="en-US" sz="17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52720" y="2638080"/>
            <a:ext cx="329076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6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2530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orbel"/>
              </a:rPr>
              <a:t>ПЛАН ОПИСАНИЯ ООПТ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1) название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2) географическое положение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3)значение и категор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4) год создан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5)история создания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Arial"/>
                <a:ea typeface="Arial"/>
              </a:rPr>
              <a:t>6) объект охраны и его уникальность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21760"/>
            <a:ext cx="5938920" cy="11890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ЗАЩИТА РАБОТ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4360" y="1773360"/>
            <a:ext cx="593712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Кабардино-Балкарский государственный высокогорный заповедник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Висимский государственный природный биосферный заповедник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Забайкальский национальный парк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Сихотэ-Алинский государственный природный биосферный заповедник имени К.Г. Абрамова (объект ЮНЕСКО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 flipH="1">
            <a:off x="5724000" y="4221000"/>
            <a:ext cx="35290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1773000"/>
            <a:ext cx="2376360" cy="29509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orbel"/>
              </a:rPr>
              <a:t>СПАСИБО ЗА УРОК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Рисунок 4" descr=""/>
          <p:cNvPicPr/>
          <p:nvPr/>
        </p:nvPicPr>
        <p:blipFill>
          <a:blip r:embed="rId1"/>
          <a:srcRect l="3773" t="929" r="2524" b="2103"/>
          <a:stretch/>
        </p:blipFill>
        <p:spPr>
          <a:xfrm>
            <a:off x="3492360" y="441360"/>
            <a:ext cx="54007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1093320"/>
            <a:ext cx="6940440" cy="16462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</a:rPr>
              <a:t>«ОХРАНА ПРИРОДЫ И ОХРАНЯЕМЫЕ ТЕРРИТОРИИ»</a:t>
            </a:r>
            <a:r>
              <a:rPr b="0" lang="ru-RU" sz="2900" spc="-1" strike="noStrike">
                <a:solidFill>
                  <a:srgbClr val="262626"/>
                </a:solidFill>
                <a:latin typeface="Corbel"/>
              </a:rPr>
              <a:t> </a:t>
            </a:r>
            <a:endParaRPr b="0" lang="en-US" sz="29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18920" y="5300640"/>
            <a:ext cx="510228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Урок разработан учителем географии Гладышевой Анной Юрьевной, </a:t>
            </a:r>
            <a:endParaRPr b="0" lang="en-US" sz="1900" spc="-1" strike="noStrike">
              <a:solidFill>
                <a:srgbClr val="262626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rbel"/>
              </a:rPr>
              <a:t>ГБОУ СОШ 191 Красногвардейского района.</a:t>
            </a:r>
            <a:endParaRPr b="0" lang="en-US" sz="19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780000" y="350640"/>
            <a:ext cx="5184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«Охранять природу – значит охранять Родину».                  </a:t>
            </a:r>
            <a:r>
              <a:rPr b="1" lang="ru-RU" sz="1800" spc="-1" strike="noStrike">
                <a:solidFill>
                  <a:srgbClr val="006600"/>
                </a:solidFill>
                <a:latin typeface="Comic Sans MS"/>
              </a:rPr>
              <a:t>М. М. Пришвин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6" name="Рисунок 1" descr=""/>
          <p:cNvPicPr/>
          <p:nvPr/>
        </p:nvPicPr>
        <p:blipFill>
          <a:blip r:embed="rId1"/>
          <a:stretch/>
        </p:blipFill>
        <p:spPr>
          <a:xfrm>
            <a:off x="155520" y="1317600"/>
            <a:ext cx="6591240" cy="26877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2"/>
          <p:cNvSpPr/>
          <p:nvPr/>
        </p:nvSpPr>
        <p:spPr>
          <a:xfrm>
            <a:off x="3132000" y="4221000"/>
            <a:ext cx="54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В соответствии с Конституцией Российской Федерации каждый имеет право на благоприятную окружающую среду, каждый обязан сохранять природу и окружающую среду, бережно относиться к природным богатствам, которые являются основой устойчивого развития, жизни и деятельности народов, проживающих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537320" cy="19605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orbel"/>
              </a:rPr>
              <a:t>ФЕДЕРАЛЬНЫЙ ЗАКОН "ОБ ОСОБО ОХРАНЯЕМЫХ ПРИРОДНЫХ ТЕРРИТОРИЯХ" ОТ 14.03.1995 N 33-ФЗ (ПОСЛЕДНЯЯ РЕДАКЦИЯ)</a:t>
            </a:r>
            <a:endParaRPr b="0" lang="en-US" sz="29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 Black"/>
              </a:rPr>
              <a:t>Принят Государственной Думой 15 февраля 1995 года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262626"/>
                </a:solidFill>
                <a:latin typeface="Corbel"/>
              </a:rPr>
              <a:t>Настоящий Федеральный закон регулирует отношения в области организации, охраны и использования особо охраняемых природных территорий в целях сохранения уникальных и типичных природных комплексов и объектов, достопримечательных природных образований, объектов растительного и животного мира, их генетического фонда, изучения естественных процессов в биосфере и контроля за изменением ее состояния, экологического воспитания населения.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ЧТО ЗНАЧИТ ОСОБО ОХРАНЯЕМАЯ ТЕРРИТОРИЯ?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собо охраняемые природные территор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это участки земли, где расположены природные комплексы и объекты, которые имеют особое природоохранное, научное, эстетическое значение, они изъяты из хозяйственной деятельности, установлен режим особой охраны.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 flipH="1">
            <a:off x="6176520" y="4363920"/>
            <a:ext cx="25210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359840" cy="18162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Corbel"/>
              </a:rPr>
              <a:t>С УЧЕТОМ ОСОБЕННОСТЕЙ РЕЖИМА ОСОБО ОХРАНЯЕМЫХ ПРИРОДНЫХ ТЕРРИТОРИЙ РАЗЛИЧАЮТСЯ СЛЕДУЮЩИЕ </a:t>
            </a:r>
            <a:r>
              <a:rPr b="1" lang="ru-RU" sz="2300" spc="-1" strike="noStrike">
                <a:solidFill>
                  <a:srgbClr val="262626"/>
                </a:solidFill>
                <a:latin typeface="Corbel"/>
              </a:rPr>
              <a:t>КАТЕГОРИИ</a:t>
            </a:r>
            <a:r>
              <a:rPr b="0" lang="ru-RU" sz="2300" spc="-1" strike="noStrike">
                <a:solidFill>
                  <a:srgbClr val="262626"/>
                </a:solidFill>
                <a:latin typeface="Corbel"/>
              </a:rPr>
              <a:t> УКАЗАННЫХ ТЕРРИТОРИЙ:</a:t>
            </a:r>
            <a:br>
              <a:rPr sz="2300"/>
            </a:br>
            <a:endParaRPr b="0" lang="en-US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2420640"/>
            <a:ext cx="7632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государственные природные заповедники, в том числе биосферные заповедники;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национальные парки;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государственные природные заказники;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orbel"/>
              </a:rPr>
              <a:t>памятники природы</a:t>
            </a:r>
            <a:endParaRPr b="0" lang="en-US" sz="2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50920" y="2233440"/>
            <a:ext cx="835344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хранить разнообразие и красоту природы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усмотреть значение и место каждого организма в будущем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мнить о существующих в природе взаимосвязей.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6551640" cy="1152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СНОВНЫЕ ПРИНЦИПЫ ОХРАНЫ ПРИРОДЫ</a:t>
            </a:r>
            <a:endParaRPr b="0" lang="en-US" sz="24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800" y="196920"/>
            <a:ext cx="7685280" cy="1071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50"/>
                </a:solidFill>
                <a:uFillTx/>
                <a:latin typeface="Comic Sans MS"/>
              </a:rPr>
              <a:t>22 АПРЕЛЯ ОБЪЯВЛЕН ДНЕМ ОХРАНЫ ПРИРОДЫ</a:t>
            </a:r>
            <a:r>
              <a:rPr b="0" lang="ru-RU" sz="3600" spc="-1" strike="noStrike">
                <a:solidFill>
                  <a:srgbClr val="00b05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4464000" cy="2448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471840" cy="24656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Picture 11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4035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7280" y="421920"/>
            <a:ext cx="6769440" cy="13906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orbel"/>
              </a:rPr>
              <a:t>НА ТЕРРИТОРИИ РОССИИ:</a:t>
            </a:r>
            <a:endParaRPr b="0" lang="en-US" sz="3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98864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78 заповедников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34 биосферных заповедника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54 национальных парка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orbel"/>
              </a:rPr>
              <a:t>- 11 объектов природного наследия (ЮНЕСКО)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 flipH="1">
            <a:off x="6948000" y="4262400"/>
            <a:ext cx="2040120" cy="2448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610560" y="585612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тлас страницы 26-2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11:56:24Z</dcterms:created>
  <dc:creator>Пользователь Windows</dc:creator>
  <dc:description/>
  <dc:language>en-US</dc:language>
  <cp:lastModifiedBy>Учитель</cp:lastModifiedBy>
  <dcterms:modified xsi:type="dcterms:W3CDTF">2022-04-28T08:36:14Z</dcterms:modified>
  <cp:revision>17</cp:revision>
  <dc:subject/>
  <dc:title>«Охрана природы и охраняемые территории» </dc:title>
</cp:coreProperties>
</file>