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19E-4AF4-4759-89E7-B249C91B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D67-53CD-4A08-996B-87D1670F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FFA-3720-462B-891E-4128E696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0DF-2CAC-49DD-979F-4A1E3F0C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78E3-E53E-4AF3-805D-F03FE192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4DDB-A5AA-47BA-AE43-AF4CC02A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72BB-6D32-4857-9D47-04B66CE2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5E2F-3905-4400-8471-D630A64D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AFFA-1FBE-4516-8CD0-8F639052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FC9E-3BFB-4031-99F2-F6F31B9C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A7BC-CDA8-441C-923F-161C3E0E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4FC-0643-4ADD-867B-DE15A54F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CB60-3CB1-4299-8B52-7C4AB646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54C5-6320-4131-BF81-A09DE549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3DD2-DE4A-4BF0-9922-569E1F82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341E-568F-4190-8C3D-E0170FAE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8230-409C-42C8-8CBB-2C019A82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BFC7-ADA0-4486-9459-FEF93918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116E-C4D6-457D-995A-653C8899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EA21-92A4-4D4A-A115-641AE0F8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9869C-555E-47C6-B9B2-647A8E0F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F2B7-AA41-402B-98A0-E0A6EA6D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0AA-D812-42EB-93C1-C9544998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FFF7-1758-45AE-B62B-5B9C8F34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AD0F-265F-4A4B-8093-5982FB39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5CD1-23C6-4C7F-9627-B4A7C19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55ED-5929-4867-A038-67F4E4C5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5D41-513B-4193-8C98-05075118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43B6-90EE-4B3A-AD97-9DE344B2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E69EB-7BA9-4CF2-9531-E35811B4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763B0-E399-4BA9-AF7F-FCE35A4E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4BAB0-6F52-4A1F-B5E8-D6534441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576C-5828-4B75-BAD8-847E2BC3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59C-C63E-4D59-A5C0-B1ECA824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E54F-1F08-4366-BC48-0D88ACAE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7885B-4C28-42BC-9859-69A60654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EE185-A8A4-4D9B-914A-D85A6BA9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9FF8-31D0-4860-91E8-626802F2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B7676-8CB0-4A06-9D70-27D08BD8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94A29-A834-43BB-8CDF-730BB9A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0DB50-3A33-42C1-80D8-C4A8AB90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C27C-DAC4-4673-A0AB-6F0E34B6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6828-3ED2-4981-AB62-3B060596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A6525-E30D-4895-A332-DD894913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149-56DA-4830-BDB6-C719B066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10C56-748F-4E88-9CB4-CCC3F2EB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26FA1-C6A1-439B-95E0-C0B0B454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FF2AC-A1B6-4E74-B639-529714B2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C1BBE-3F6E-4920-A0E5-8F21C25F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8243F-4456-4CB5-AEAB-8A18E77B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4FDA8-097B-4BCF-BC23-BE9CDE9F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7919-833C-4762-AEBF-B204F53C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56E4D-ED13-453C-942B-BDCFBD94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B0D50-8266-49D8-AE59-95F658F6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E951E-211D-4EAE-A034-9AEACB99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CE1-5A12-4F78-8882-F7A3780C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26825-33F0-433D-8AEB-6CF75E76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87F-20AA-41C7-BF68-10FBF25C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7C6-63C3-4EB0-84FF-E7CF89B6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699-452F-4130-8E8D-5FCCA4D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9508B-0642-4C36-9F95-3724641CF037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7FCE7-03F8-4069-AA86-BE9007585D17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9E7F3-6554-46E0-B1E1-3A0DACE396A5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7B29E-693A-4530-B0DE-A97126BBDB4D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0C6F3-683E-4D33-A13A-867829616E55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4560" y="115560"/>
            <a:ext cx="4537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Откуда начинается Россия?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С Курил, Камчатки, с Командор?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О чем грустят глаза ее степные.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Над камышами всех ее озер?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Россия начинается с пристрастья.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К труду, терпению, к правде, доброте.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Вот в чем ее звезда. Она прекрасна!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Она горит и светит в темноте.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Отсюда все дела ее большие,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Ее неповторимая судьба.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И если ты причастен к ней -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Россия не с гор берет начало, а с тебя!</a:t>
            </a:r>
            <a:endParaRPr b="0" lang="en-US" sz="17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Виктор Боков – советский поэт и прозаик</a:t>
            </a:r>
            <a:endParaRPr b="0" lang="en-US" sz="17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752720" y="2638080"/>
            <a:ext cx="329076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42530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Corbel"/>
              </a:rPr>
              <a:t>ПЛАН ОПИСАНИЯ ООПТ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1) название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2) географическое положение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3)значение и категория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4) год создания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5)история создания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6) объект охраны и его уникальность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21760"/>
            <a:ext cx="5938920" cy="11890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ЗАЩИТА РАБОТ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4360" y="1773360"/>
            <a:ext cx="5937120" cy="31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Кабардино-Балкарский государственный высокогорный заповедник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Висимский государственный природный биосферный заповедник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Забайкальский национальный парк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Сихотэ-Алинский государственный природный биосферный заповедник имени К.Г. Абрамова (объект ЮНЕСКО)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 flipH="1">
            <a:off x="5724000" y="4221000"/>
            <a:ext cx="352908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1773000"/>
            <a:ext cx="2376360" cy="29509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Corbel"/>
              </a:rPr>
              <a:t>СПАСИБО ЗА УРОК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5" name="Рисунок 4" descr=""/>
          <p:cNvPicPr/>
          <p:nvPr/>
        </p:nvPicPr>
        <p:blipFill>
          <a:blip r:embed="rId1"/>
          <a:srcRect l="3773" t="929" r="2524" b="2103"/>
          <a:stretch/>
        </p:blipFill>
        <p:spPr>
          <a:xfrm>
            <a:off x="3492360" y="441360"/>
            <a:ext cx="5400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0920" y="1093320"/>
            <a:ext cx="6940440" cy="16462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«ОХРАНА ПРИРОДЫ И ОХРАНЯЕМЫЕ ТЕРРИТОРИИ»</a:t>
            </a:r>
            <a:r>
              <a:rPr b="0" lang="ru-RU" sz="2900" spc="-1" strike="noStrike">
                <a:solidFill>
                  <a:srgbClr val="262626"/>
                </a:solidFill>
                <a:latin typeface="Corbel"/>
              </a:rPr>
              <a:t> </a:t>
            </a:r>
            <a:endParaRPr b="0" lang="en-US" sz="29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618920" y="5300640"/>
            <a:ext cx="510228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Урок разработан учителем географии Гладышевой Анной Юрьевной, </a:t>
            </a:r>
            <a:endParaRPr b="0" lang="en-US" sz="1900" spc="-1" strike="noStrike">
              <a:solidFill>
                <a:srgbClr val="262626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ГБОУ СОШ 191 Красногвардейского района.</a:t>
            </a:r>
            <a:endParaRPr b="0" lang="en-US" sz="19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780000" y="350640"/>
            <a:ext cx="5184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«Охранять природу – значит охранять Родину».                 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М. М. Пришвин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6" name="Рисунок 1" descr=""/>
          <p:cNvPicPr/>
          <p:nvPr/>
        </p:nvPicPr>
        <p:blipFill>
          <a:blip r:embed="rId1"/>
          <a:stretch/>
        </p:blipFill>
        <p:spPr>
          <a:xfrm>
            <a:off x="155520" y="1317600"/>
            <a:ext cx="6591240" cy="26877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2"/>
          <p:cNvSpPr/>
          <p:nvPr/>
        </p:nvSpPr>
        <p:spPr>
          <a:xfrm>
            <a:off x="3132000" y="4221000"/>
            <a:ext cx="54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 соответствии с Конституцией Российской Федерации каждый имеет право на благоприятную окружающую среду, каждый обязан сохранять природу и окружающую среду, бережно относиться к природным богатствам, которые являются основой устойчивого развития, жизни и деятельности народов, проживающих на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537320" cy="19605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orbel"/>
              </a:rPr>
              <a:t>ФЕДЕРАЛЬНЫЙ ЗАКОН "ОБ ОСОБО ОХРАНЯЕМЫХ ПРИРОДНЫХ ТЕРРИТОРИЯХ" ОТ 14.03.1995 N 33-ФЗ (ПОСЛЕДНЯЯ РЕДАКЦИЯ)</a:t>
            </a:r>
            <a:endParaRPr b="0" lang="en-US" sz="29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 Black"/>
              </a:rPr>
              <a:t>Принят Государственной Думой 15 февраля 1995 года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Настоящий Федеральный закон регулирует отношения в области организации, охраны и использования особо охраняемых природных территорий в целях сохранения уникальных и типичных природных комплексов и объектов, достопримечательных природных образований, объектов растительного и животного мира, их генетического фонда, изучения естественных процессов в биосфере и контроля за изменением ее состояния, экологического воспитания населения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ЧТО ЗНАЧИТ ОСОБО ОХРАНЯЕМАЯ ТЕРРИТОРИЯ?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собо охраняемые природные территор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 это участки земли, где расположены природные комплексы и объекты, которые имеют особое природоохранное, научное, эстетическое значение, они изъяты из хозяйственной деятельности, установлен режим особой охраны.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 flipH="1">
            <a:off x="6176520" y="4363920"/>
            <a:ext cx="25210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359840" cy="18162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Corbel"/>
              </a:rPr>
              <a:t>С УЧЕТОМ ОСОБЕННОСТЕЙ РЕЖИМА ОСОБО ОХРАНЯЕМЫХ ПРИРОДНЫХ ТЕРРИТОРИЙ РАЗЛИЧАЮТСЯ СЛЕДУЮЩИЕ </a:t>
            </a:r>
            <a:r>
              <a:rPr b="1" lang="ru-RU" sz="2300" spc="-1" strike="noStrike">
                <a:solidFill>
                  <a:srgbClr val="262626"/>
                </a:solidFill>
                <a:latin typeface="Corbel"/>
              </a:rPr>
              <a:t>КАТЕГОРИИ</a:t>
            </a:r>
            <a:r>
              <a:rPr b="0" lang="ru-RU" sz="2300" spc="-1" strike="noStrike">
                <a:solidFill>
                  <a:srgbClr val="262626"/>
                </a:solidFill>
                <a:latin typeface="Corbel"/>
              </a:rPr>
              <a:t> УКАЗАННЫХ ТЕРРИТОРИЙ:</a:t>
            </a:r>
            <a:br>
              <a:rPr sz="2300"/>
            </a:br>
            <a:endParaRPr b="0" lang="en-US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2420640"/>
            <a:ext cx="7632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государственные природные заповедники, в том числе биосферные заповедники;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национальные парки;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государственные природные заказники;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памятники природы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50920" y="2233440"/>
            <a:ext cx="835344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хранить разнообразие и красоту природы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усмотреть значение и место каждого организма в будущем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мнить о существующих в природе взаимосвязей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6551640" cy="11523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СНОВНЫЕ ПРИНЦИПЫ ОХРАНЫ ПРИРОДЫ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800" y="196920"/>
            <a:ext cx="7685280" cy="10713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50"/>
                </a:solidFill>
                <a:uFillTx/>
                <a:latin typeface="Comic Sans MS"/>
              </a:rPr>
              <a:t>22 АПРЕЛЯ ОБЪЯВЛЕН ДНЕМ ОХРАНЫ ПРИРОДЫ</a:t>
            </a:r>
            <a:r>
              <a:rPr b="0" lang="ru-RU" sz="3600" spc="-1" strike="noStrike">
                <a:solidFill>
                  <a:srgbClr val="00b05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4464000" cy="2448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3471840" cy="246564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" name="Picture 11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40356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7280" y="421920"/>
            <a:ext cx="6769440" cy="13906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orbel"/>
              </a:rPr>
              <a:t>НА ТЕРРИТОРИИ РОССИИ: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98864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- 78 заповедников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- 34 биосферных заповедника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- 54 национальных парка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- 11 объектов природного наследия (ЮНЕСКО)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 flipH="1">
            <a:off x="6948000" y="426240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610560" y="585612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тлас страницы 26-2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1:56:24Z</dcterms:created>
  <dc:creator>Пользователь Windows</dc:creator>
  <dc:description/>
  <dc:language>en-US</dc:language>
  <cp:lastModifiedBy>Учитель</cp:lastModifiedBy>
  <dcterms:modified xsi:type="dcterms:W3CDTF">2022-04-28T08:36:14Z</dcterms:modified>
  <cp:revision>17</cp:revision>
  <dc:subject/>
  <dc:title>«Охрана природы и охраняемые территории» </dc:title>
</cp:coreProperties>
</file>