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277-0617-464C-9130-B1BE8BD0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7E5-682D-489F-828D-DCA4F7CC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DB8-B47B-44E3-BE11-00BA9295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22F-1771-44CA-9942-8F3832BC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472-B205-428D-ADAC-198F82AB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4F2-51ED-476F-8283-EC2EAD02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CB8-6CF4-4ED8-A764-31F6A60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CF9-F949-4EEB-A3EE-EE98B7A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960-967F-4FAA-881C-C3DABB47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AE5-D50F-4B13-ACE0-C9A0E27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6C-945C-42C3-8134-7E43B40A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DC34-4F4B-473E-A258-81C2A57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8FE5-1C08-41DB-86B4-58033FA5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АНАТОМО-ФИЗИОЛОГИЧЕСКИЕ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ОБЕННОСТИ 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ПОРНО-ДВИГАТЕЛЬНОГО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1022364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НИЖНЕЙ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  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               СВОБОДНОЙ  НИЖНЕЙ 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         КОСТИ          СУСТ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СКЕЛ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284720" y="364464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36450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84720" y="3645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414972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84720" y="6021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58920" y="2133720"/>
            <a:ext cx="1152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2133720"/>
            <a:ext cx="10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ГОЛОВЫ - ЧЕРЕ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ЗГОВОЙ                                         ЛИЦ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                                                ЧЕР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203640" y="1557360"/>
            <a:ext cx="1224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557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34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03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260280"/>
            <a:ext cx="320040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3240000" cy="269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32360" y="3500280"/>
            <a:ext cx="3192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348156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264120" cy="273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3457800" cy="27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859280" y="3716280"/>
            <a:ext cx="3265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55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270000"/>
            <a:ext cx="9540720" cy="712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 СОСТА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ЕЛЕТ           МЫШ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СТ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4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40 –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ссивная часть, акти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419280" y="1125360"/>
            <a:ext cx="64764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1125360"/>
            <a:ext cx="431640" cy="11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ФУНКЦИИ  СКЕЛЕ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ХАНИЧЕСКИЕ        БИОЛОГИЧЕСКИЕ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АЯ,        ЗАЩИТНАЯ,          КРОВЕТВОРНАЯ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ООБРАЗУЮЩАЯ,    АМОРТИЗАЦИОННАЯ  (РЕССОРНАЯ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  МИНЕРАЛЬНЫХ СО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779640" y="1268280"/>
            <a:ext cx="360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1268280"/>
            <a:ext cx="3585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СОСТАВ  И  СТРОЕНИЕ 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НОСТЬ = УПРУГОСТЬ + ТВЁР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Е        МИНЕРАЛЬНЫЕ 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О (ОССЕИН)     КАЛЬЦИЯ И ФОС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ИТЕЛЬНАЯ           ХРЯЩ            КОСТНО-ХРЯЩЕВОЙ          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АНЬ (РОДНИЧКИ)       НОВОРОЖД.         МЛАДЕНЦЫ                  К 25-27ГОДАМ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0036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48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-171360"/>
            <a:ext cx="9144000" cy="702936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ТИПЫ 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РЫВНОЕ         ПРЕРЫ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ОВ             ХРЯЩ                     СУ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780000" y="177336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537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177336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61892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314172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3141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71640" y="595008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ДЕЛЫ  СКЕЛ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УЛОВИЩА                                  ВЕРХНЕЙ  КОН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ЕЛЕТ                   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НИЖНЕЙ  КОНЕ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68000" y="1413000"/>
            <a:ext cx="180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916000" y="1413000"/>
            <a:ext cx="136836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1413000"/>
            <a:ext cx="1081080" cy="21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413000"/>
            <a:ext cx="172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ТУЛОВИЩ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НОЧНЫЙ  СТОЛБ                        ГРУДНАЯ 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3-34 позво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шейных                                         грудина               12 пар рёб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груд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поясн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) крестц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4-5) копчи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4000" y="1197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9700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2205000"/>
            <a:ext cx="4334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796000" y="220500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ИБОВ  ПОЗВОНОЧНОГО  СТОЛ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ейный  и  поясничный  лорд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изгиб  вперё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дной  и  крестцово-копч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фоз  (изгиб  наза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чаются  к  1-2  году жиз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уются  к  7-8  го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ая  фиксация  к  21-23 г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03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1704c"/>
              </a:gs>
              <a:gs pos="50000">
                <a:srgbClr val="f7f5a7"/>
              </a:gs>
              <a:gs pos="100000">
                <a:srgbClr val="71704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СКЕЛЕТ  ВЕРХНЕЙ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                                                        СКЕ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               СВОБОДНОЙ  ВЕРХНЕЙ 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         КОСТИ           СУСТА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 СКЕЛ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СА  КОНЕЧ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357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436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748720" y="3573360"/>
            <a:ext cx="0" cy="21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414972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57340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357336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2060640"/>
            <a:ext cx="10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060640"/>
            <a:ext cx="935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4:33:45Z</dcterms:created>
  <dc:creator>Таня</dc:creator>
  <dc:description/>
  <dc:language>en-US</dc:language>
  <cp:lastModifiedBy>Таня</cp:lastModifiedBy>
  <dcterms:modified xsi:type="dcterms:W3CDTF">2009-01-23T19:50:22Z</dcterms:modified>
  <cp:revision>25</cp:revision>
  <dc:subject/>
  <dc:title>АНАТОМО-ФИЗИОЛОГИЧЕСКИЕ ОСОБЕННОСТИ  ОПОРНО-ДВИГАТЕЛЬНОГО АППАРАТА</dc:title>
</cp:coreProperties>
</file>