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8CA8-D125-4A0E-80CD-376C44499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BF0E-B977-4388-AFB2-078D03F86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57DA-16EC-4598-9A9D-2FA42E455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49C8-B6E4-46C5-ACA0-A8E07CD89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2DEA-F262-44B8-93A7-470BC1040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F9A9-DD1D-49EF-8CDF-4B3D9F84F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187A-03C1-41C2-8777-9D3A059E0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765B-23F1-4B22-8BBA-FDF85FE5F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F1D1-95AE-41F0-AA2D-334B55210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1740-5942-4302-AC98-560035F2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306E-BBB8-4F1E-9C4E-9A49CAD4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FC28-DE9F-4738-A687-81ED8BE7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A97AD-C353-4DED-96F0-AF97200F0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1704c"/>
              </a:gs>
              <a:gs pos="50000">
                <a:srgbClr val="f7f5a7"/>
              </a:gs>
              <a:gs pos="100000">
                <a:srgbClr val="71704c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АНАТОМО-ФИЗИОЛОГИЧЕСКИЕ</a:t>
            </a:r>
            <a:br>
              <a:rPr sz="4400"/>
            </a:b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ОСОБЕННОСТИ </a:t>
            </a:r>
            <a:br>
              <a:rPr sz="4400"/>
            </a:b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ОПОРНО-ДВИГАТЕЛЬНОГО</a:t>
            </a:r>
            <a:br>
              <a:rPr sz="4400"/>
            </a:b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АППАРА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10223640" cy="71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1704c"/>
              </a:gs>
              <a:gs pos="50000">
                <a:srgbClr val="f7f5a7"/>
              </a:gs>
              <a:gs pos="100000">
                <a:srgbClr val="71704c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II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СКЕЛЕТ  НИЖНЕЙ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НЕЧ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ЕЛЕТ                                                        СКЕ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ЯСА  КОНЕЧНОСТИ               СВОБОДНОЙ  НИЖНЕЙ  КОНЕ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ДЕЛ          КОСТИ          СУСТАВ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УНКЦИЯ  СКЕЛЕ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ЯСА  КОНЕЧНОСТ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284720" y="364464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364500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948360" y="364500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604360" y="364500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56000" y="3645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84720" y="364500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84720" y="414972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84720" y="602136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058920" y="2133720"/>
            <a:ext cx="115236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27640" y="2133720"/>
            <a:ext cx="108108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1704c"/>
              </a:gs>
              <a:gs pos="50000">
                <a:srgbClr val="f7f5a7"/>
              </a:gs>
              <a:gs pos="100000">
                <a:srgbClr val="71704c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X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СКЕЛЕТ ГОЛОВЫ - ЧЕРЕ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ЗГОВОЙ                                         ЛИЦЕ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РЕП                                                ЧЕРЕ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3203640" y="1557360"/>
            <a:ext cx="122400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16360" y="1557360"/>
            <a:ext cx="1079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4033800" cy="43416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500720" y="692280"/>
            <a:ext cx="40384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71640" y="260280"/>
            <a:ext cx="3240000" cy="2808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932360" y="260280"/>
            <a:ext cx="3200400" cy="2808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971640" y="3500280"/>
            <a:ext cx="3240000" cy="2692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4932360" y="3500280"/>
            <a:ext cx="319248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019160" y="692280"/>
            <a:ext cx="3481560" cy="2736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59280" y="692280"/>
            <a:ext cx="3264120" cy="2736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1042920" y="3716280"/>
            <a:ext cx="3457800" cy="2737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4859280" y="3716280"/>
            <a:ext cx="326556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55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-270000"/>
            <a:ext cx="9540720" cy="7128000"/>
          </a:xfrm>
          <a:prstGeom prst="rect">
            <a:avLst/>
          </a:prstGeom>
          <a:gradFill rotWithShape="0">
            <a:gsLst>
              <a:gs pos="0">
                <a:srgbClr val="71704c"/>
              </a:gs>
              <a:gs pos="50000">
                <a:srgbClr val="f7f5a7"/>
              </a:gs>
              <a:gs pos="100000">
                <a:srgbClr val="71704c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.  СОСТА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ЕЛЕТ           МЫШ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0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ОСТЕ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~40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40 – 4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ссивная часть, активная ча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95640" y="450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3419280" y="1125360"/>
            <a:ext cx="647640" cy="115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508720" y="1125360"/>
            <a:ext cx="431640" cy="115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1704c"/>
              </a:gs>
              <a:gs pos="50000">
                <a:srgbClr val="f7f5a7"/>
              </a:gs>
              <a:gs pos="100000">
                <a:srgbClr val="71704c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ФУНКЦИИ  СКЕЛЕТ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ХАНИЧЕСКИЕ        БИОЛОГИЧЕСКИЕ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ОРНАЯ,        ЗАЩИТНАЯ,          КРОВЕТВОРНАЯ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ООБРАЗУЮЩАЯ,    АМОРТИЗАЦИОННАЯ  (РЕССОРНАЯ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МЕН  МИНЕРАЛЬНЫХ СОЛЕ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3779640" y="1268280"/>
            <a:ext cx="36036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5300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08720" y="1268280"/>
            <a:ext cx="35856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1704c"/>
              </a:gs>
              <a:gs pos="50000">
                <a:srgbClr val="f7f5a7"/>
              </a:gs>
              <a:gs pos="100000">
                <a:srgbClr val="71704c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СОСТАВ  И  СТРОЕНИЕ  КОСТ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ЧНОСТЬ = УПРУГОСТЬ + ТВЁРД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ЧЕСКОЕ        МИНЕРАЛЬНЫЕ С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ЩЕСТВО (ОССЕИН)     КАЛЬЦИЯ И ФОСФ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ЕДИНИТЕЛЬНАЯ           ХРЯЩ            КОСТНО-ХРЯЩЕВОЙ          К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КАНЬ (РОДНИЧКИ)       НОВОРОЖД.         МЛАДЕНЦЫ                  К 25-27ГОДАМ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00360" y="465300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4036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09308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-487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-171360"/>
            <a:ext cx="9144000" cy="7029360"/>
          </a:xfrm>
          <a:prstGeom prst="rect">
            <a:avLst/>
          </a:prstGeom>
          <a:gradFill rotWithShape="0">
            <a:gsLst>
              <a:gs pos="0">
                <a:srgbClr val="71704c"/>
              </a:gs>
              <a:gs pos="50000">
                <a:srgbClr val="f7f5a7"/>
              </a:gs>
              <a:gs pos="100000">
                <a:srgbClr val="71704c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ТИПЫ  СОЕДИ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СТ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ПРЕРЫВНОЕ         ПРЕРЫВ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ОВ             ХРЯЩ                     СУСТА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ВИЖ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780000" y="1773360"/>
            <a:ext cx="5047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71640" y="5373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00000" y="5373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1773360"/>
            <a:ext cx="50508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1618920" y="3141720"/>
            <a:ext cx="431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00360" y="3141720"/>
            <a:ext cx="5032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04000" y="3141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771640" y="5950080"/>
            <a:ext cx="331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1704c"/>
              </a:gs>
              <a:gs pos="50000">
                <a:srgbClr val="f7f5a7"/>
              </a:gs>
              <a:gs pos="100000">
                <a:srgbClr val="71704c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ТДЕЛЫ  СКЕЛЕТ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ЕЛЕТ                                                      СКЕ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УЛОВИЩА                                  ВЕРХНЕЙ  КОНЕ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ЕЛЕТ                   СКЕ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ЛОВ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НИЖНЕЙ  КОНЕЧ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68000" y="1413000"/>
            <a:ext cx="180036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916000" y="1413000"/>
            <a:ext cx="1368360" cy="21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27640" y="1413000"/>
            <a:ext cx="1081080" cy="21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43280" y="1413000"/>
            <a:ext cx="1729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1704c"/>
              </a:gs>
              <a:gs pos="50000">
                <a:srgbClr val="f7f5a7"/>
              </a:gs>
              <a:gs pos="100000">
                <a:srgbClr val="71704c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СКЕЛЕТ  ТУЛОВИЩ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ЗВОНОЧНЫЙ  СТОЛБ                        ГРУДНАЯ  КЛЕ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3-34 позво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 шейных                                         грудина               12 пар рёб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 груд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 пояснич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5) крестцов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4-5) копчиков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564000" y="1197000"/>
            <a:ext cx="720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0" y="1197000"/>
            <a:ext cx="720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659640" y="2205000"/>
            <a:ext cx="43344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796000" y="2205000"/>
            <a:ext cx="504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1704c"/>
              </a:gs>
              <a:gs pos="50000">
                <a:srgbClr val="f7f5a7"/>
              </a:gs>
              <a:gs pos="100000">
                <a:srgbClr val="71704c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РАЗ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ГИБОВ  ПОЗВОНОЧНОГО  СТОЛ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шейный  и  поясничный  лордо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изгиб  вперё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рудной  и  крестцово-копчико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ифоз  (изгиб  наза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мечаются  к  1-2  году жизн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ормируются  к  7-8  года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лная  фиксация  к  21-23 год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79280" y="2205000"/>
            <a:ext cx="4032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1704c"/>
              </a:gs>
              <a:gs pos="50000">
                <a:srgbClr val="f7f5a7"/>
              </a:gs>
              <a:gs pos="100000">
                <a:srgbClr val="71704c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I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СКЕЛЕТ  ВЕРХНЕЙ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НЕЧ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ЕЛЕТ                                                        СКЕ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ЯСА  КОНЕЧНОСТИ               СВОБОДНОЙ  ВЕРХНЕЙ КОНЕ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ДЕЛ         КОСТИ           СУСТАВ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УНКЦИЯ  СКЕЛЕ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ЯСА  КОНЕЧНОСТ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56000" y="357336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508720" y="3573360"/>
            <a:ext cx="0" cy="20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164360" y="3573360"/>
            <a:ext cx="0" cy="20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8748720" y="3573360"/>
            <a:ext cx="0" cy="21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356000" y="4149720"/>
            <a:ext cx="439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5734080"/>
            <a:ext cx="439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56000" y="3573360"/>
            <a:ext cx="439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058920" y="2060640"/>
            <a:ext cx="1081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2060640"/>
            <a:ext cx="9352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14:33:45Z</dcterms:created>
  <dc:creator>Таня</dc:creator>
  <dc:description/>
  <dc:language>en-US</dc:language>
  <cp:lastModifiedBy>Таня</cp:lastModifiedBy>
  <dcterms:modified xsi:type="dcterms:W3CDTF">2009-01-23T19:50:22Z</dcterms:modified>
  <cp:revision>25</cp:revision>
  <dc:subject/>
  <dc:title>АНАТОМО-ФИЗИОЛОГИЧЕСКИЕ ОСОБЕННОСТИ  ОПОРНО-ДВИГАТЕЛЬНОГО АППАРАТА</dc:title>
</cp:coreProperties>
</file>