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6CF5-073E-4A0C-A6AA-C13D1ED8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F24F-C34D-4F34-A20D-7816B997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F149-D6B8-4DC1-82F2-65C43C83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25FA-78EE-4774-AD42-400CF585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D263-3EAF-47F7-8E96-91CE9799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B9C2-B75D-48F9-B44F-11BD6885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FB8E-2982-46F2-A2E3-7F4ADAFA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C389-F708-49D5-955A-E0B08C1B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66F4-19FD-48D7-9D4A-0B8BB276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26A7-0AE7-4FD3-AE5E-EADF1C99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46B5-65DB-4787-80E2-7BCDB33C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E561-78AF-4FAF-BEAC-2B4FB1B4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8DB8-DC7F-4739-BF7D-94EBE013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5648-B065-47F5-9CE6-DF43E92B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80F8-7988-498C-B989-9972C34A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3C03-1D13-4770-9751-7188850F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213F-F0E3-4D2C-B98D-74431A5D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920B-859D-42A7-AA5A-E8A2DF0F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A408-49CE-4CA4-8402-17E6FF52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6867-A842-4150-8BC7-C9C43435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4F939-A2D0-4773-A576-388DED89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EA6F-1009-4525-8D27-DA11BD7B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1D59-533C-42B1-AB2A-3AD089DA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72A8-48CD-49B8-BECB-6C662ABF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4236-3479-432D-BF59-94245666ED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8B6E-984D-449E-9244-EA80284E7A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0920" y="2420640"/>
            <a:ext cx="6580440" cy="16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ближенное решение алгебраических и трансцендентных уравнен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5300640"/>
            <a:ext cx="60199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тель: Иванникова Е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имер 1. Решить графически уравнение х</a:t>
            </a:r>
            <a:r>
              <a:rPr b="0" i="1" lang="ru-RU" sz="3200" spc="-1" strike="noStrike" baseline="30000">
                <a:solidFill>
                  <a:srgbClr val="00007d"/>
                </a:solidFill>
                <a:latin typeface="Arial"/>
              </a:rPr>
              <a:t>3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- 2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0" i="1" lang="ru-RU" sz="3200" spc="-1" strike="noStrike" baseline="30000">
                <a:solidFill>
                  <a:srgbClr val="00007d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 + 2х - 1 = 0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5338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им данное уравнение в ви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х–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строим графики функ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  у = 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2х –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ем абсциссу точки пересечения этих графиков; получим х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5761080" y="1557360"/>
            <a:ext cx="3016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Пример </a:t>
            </a: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i="1" lang="ru-RU" sz="32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Найти приближенно графическим способом корни уравнения </a:t>
            </a: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lg</a:t>
            </a:r>
            <a:r>
              <a:rPr b="0" i="1" lang="ru-RU" sz="2800" spc="-1" strike="noStrike">
                <a:solidFill>
                  <a:srgbClr val="00007d"/>
                </a:solidFill>
                <a:latin typeface="Arial"/>
              </a:rPr>
              <a:t> х - Зх + 5 = 0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512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пишем уравнение следующим обра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 = Зх -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им графики функ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= lg 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= Зх -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 у = Зх-5 пересекает логарифмическую кривую в двух точках с абсцисс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00001 и 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7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5788080" y="2060640"/>
            <a:ext cx="3355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7" name="Picture 9" descr=""/>
          <p:cNvPicPr/>
          <p:nvPr/>
        </p:nvPicPr>
        <p:blipFill>
          <a:blip r:embed="rId1"/>
          <a:stretch/>
        </p:blipFill>
        <p:spPr>
          <a:xfrm>
            <a:off x="468360" y="409680"/>
            <a:ext cx="867564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1. Метод дихотомии (метод деления отрезка пополам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метод можно использовать когда нам предположительно или точно известны границы отрезка, содержащего корень и на этих границах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нимает значения разных знаков, тогда по теореме о достаточных условиях существования корня на заданном отрезке существует хотя бы один кор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1. Метод дихотомии (метод деления отрезка пополам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им отрезок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по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м, на границах какой из частей первоначального интервала функци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еняет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й интервал снова делим на две части 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й процесс продолжаем до тех пор, пока не перестанут изменяться сохраняемые в ответе десятичные зна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1. Метод дихотомии (метод деления отрезка пополам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5" name="Picture 18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3374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2. Метод хор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им график функц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усть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а)&lt;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в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gt;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и график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единим хор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иближенное значение искомого корня примем абсцисс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чки пересечения хорд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осью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риближенное значение  находится по формуле                                ,  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2195640" y="5373720"/>
            <a:ext cx="288108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2. Метод хор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, например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&lt;0, тогда за новой (более узкий) промежуток изоляции корня принять 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ив точки 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] и В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] , получим  в точке пересечения хорды с осью Ох второе приближение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вычислим по формуле: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чисел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…стремится к  искомому корню уравнения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0  .Вычисление приближенных  значений корней уравнения следует вести до тех пор, пока не будет достигнута заданная степень точ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tretch/>
        </p:blipFill>
        <p:spPr>
          <a:xfrm>
            <a:off x="1042920" y="3452760"/>
            <a:ext cx="27370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2. Метод хор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0" descr=""/>
          <p:cNvPicPr/>
          <p:nvPr/>
        </p:nvPicPr>
        <p:blipFill>
          <a:blip r:embed="rId1"/>
          <a:stretch/>
        </p:blipFill>
        <p:spPr>
          <a:xfrm>
            <a:off x="1258920" y="1427040"/>
            <a:ext cx="65530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3. Метод касательных (Метод Ньютона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действительный корень уравнения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золирован на отрезк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Будем предполагать, что все ограничения, сформулированные выше относительн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храняют силу и в этом случа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ем на отрезк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е числ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 котором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ет тот же знак, что и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’’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т.е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’’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&gt;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(в частности , з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ет быть принят тот из концов отрезк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котором соблюдено это условие). Проведем в точк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касательную к кривой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гебраические и трансцендентные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ешении практических задач часто приходится сталкиваться с решением уравн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кое уравнение с одним неизвестным в общем виде можно представить 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=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3. Метод касательных (Метод Ньютона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иближенное значение корня примем абсциссу точки пересечения этой касательной с осью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Это приближенное значение корня находится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ив этот прием вторично в точке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йдем                                 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ая т.об. последовательность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…  имеет своим пределом искомый кор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448000" cy="101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3995640" y="4365720"/>
            <a:ext cx="259236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3. Метод касательных (Метод Ньютона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1" descr=""/>
          <p:cNvPicPr/>
          <p:nvPr/>
        </p:nvPicPr>
        <p:blipFill>
          <a:blip r:embed="rId1"/>
          <a:stretch/>
        </p:blipFill>
        <p:spPr>
          <a:xfrm>
            <a:off x="1258920" y="1398600"/>
            <a:ext cx="66261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4.  Метод итераций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данное уравнение приведено к вид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юду на отрезк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 котором исходное уравнение имеет единственный корень, то исходя из некоторого начального значени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надлежащего отрезк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можно построить такую последовате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елом этой последовательности является единственный  корень уравнени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)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на отрезк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[а,в]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608720" cy="519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2"/>
          <a:stretch/>
        </p:blipFill>
        <p:spPr>
          <a:xfrm>
            <a:off x="1547640" y="4581360"/>
            <a:ext cx="612000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4.  Метод итераций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сторонняя сход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6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56181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4.  Метод итераций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ухсторонняя сходим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532944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4.  Метод итераций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, когда метод итераций расход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99128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4.  Метод итераций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, когда метод итераций расход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46400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1844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графически интервалы изоляции действительных корней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Arial"/>
              </a:rPr>
              <a:t>3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12х + 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сказка: должно получиться три кор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гебраические и трансцендентные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уравнения могут быть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алгебраически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трансцендент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ы алгебраических урав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1,5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1=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2√x -4=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ы трансцендентных урав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in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3=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=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" name="Picture 10" descr=""/>
          <p:cNvPicPr/>
          <p:nvPr/>
        </p:nvPicPr>
        <p:blipFill>
          <a:blip r:embed="rId1"/>
          <a:stretch/>
        </p:blipFill>
        <p:spPr>
          <a:xfrm>
            <a:off x="4643280" y="3500280"/>
            <a:ext cx="29530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уравнения с одним неизвестным заключается в отыскани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рн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 е. тех значений х, которые обращают уравнение в тождество. Корни уравнения могут быть действительными или комплекс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уравнение – это знач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ь, имеет ли оно кор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рн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йти значение корней с заданной точ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 численного нахождения действительных и комплексных корней уравнения обычно состоит из двух этап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деление корн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нахождение достаточно малых окрестностей рассматриваемой области, в которых находится одно значение кор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точнение корн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.е. вычисление корней с заданной степенью точности в некоторой окрес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распространенными на практике численными методами решения уравнений явля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дихотомии (метод деления отрезка попола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хор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касательных (метод Ньютон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итера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нение того или иного метода для решения уравнения зависит от числа корней, задания исходного приближения и поведения функ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тделение кор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ервый этап численного решения уравнения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состоит в отделении корней, т.е. в установлении “тесных” промежутков, содержащих только один корен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рень  уравнения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х) = 0 считается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тделенным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если на этом отрезке уравнение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(х)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= 0 не имеет других корн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тделить корни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это значит разбить всю область допустимых значений на отрезки, в каждом из которых содержится один корень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деление корней можно произвести двумя способами – графическим и аналитически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Графический метод отделения корн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218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графическом методе отделения корней поступают так же, как и при графическом методе решения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ческий метод отделения корней не обладает большой точностью. Он дает возможность грубо определить интервалы изоляции корня. Далее корни уточняются одним из озвученных мет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Графический метод отделения корн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4762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члены уравнения разбивают на две группы, одну из них записывают в левой части уравнения, а другую в правой, т. е. представляют его в ви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строят графики двух функций у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) и у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). Абсциссы точек пересечения графиков этих двух функций и служат корнями данного уравнения. Пусть точка пересечения графиков имеет абсциссу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рдинаты обоих графиков в этой точке равны между собой, 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Из этого равенства следует, что х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рень урав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7"/>
              <p:cNvSpPr txBox="1"/>
              <p:nvPr/>
            </p:nvSpPr>
            <p:spPr>
              <a:xfrm>
                <a:off x="0" y="0"/>
                <a:ext cx="14292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Line 11"/>
          <p:cNvSpPr/>
          <p:nvPr/>
        </p:nvSpPr>
        <p:spPr>
          <a:xfrm flipV="1">
            <a:off x="6588000" y="169992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5508720" y="4653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589440" y="15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853416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6589440" y="15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853416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5508720" y="4653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6589440" y="155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8534160" y="47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24"/>
          <p:cNvGrpSpPr/>
          <p:nvPr/>
        </p:nvGrpSpPr>
        <p:grpSpPr>
          <a:xfrm>
            <a:off x="5508720" y="1557360"/>
            <a:ext cx="3320640" cy="4392360"/>
            <a:chOff x="5508720" y="1557360"/>
            <a:chExt cx="3320640" cy="4392360"/>
          </a:xfrm>
        </p:grpSpPr>
        <p:sp>
          <p:nvSpPr>
            <p:cNvPr id="165" name="Line 20"/>
            <p:cNvSpPr/>
            <p:nvPr/>
          </p:nvSpPr>
          <p:spPr>
            <a:xfrm flipV="1">
              <a:off x="6588000" y="1699920"/>
              <a:ext cx="0" cy="424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1"/>
            <p:cNvSpPr/>
            <p:nvPr/>
          </p:nvSpPr>
          <p:spPr>
            <a:xfrm>
              <a:off x="5508720" y="4653000"/>
              <a:ext cx="32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2"/>
            <p:cNvSpPr/>
            <p:nvPr/>
          </p:nvSpPr>
          <p:spPr>
            <a:xfrm>
              <a:off x="6589440" y="155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3"/>
            <p:cNvSpPr/>
            <p:nvPr/>
          </p:nvSpPr>
          <p:spPr>
            <a:xfrm>
              <a:off x="8534160" y="4724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867280" y="2205000"/>
            <a:ext cx="2819520" cy="3916080"/>
            <a:chOff x="5867280" y="2205000"/>
            <a:chExt cx="2819520" cy="3916080"/>
          </a:xfrm>
        </p:grpSpPr>
        <p:sp>
          <p:nvSpPr>
            <p:cNvPr id="170" name="Freeform 27"/>
            <p:cNvSpPr/>
            <p:nvPr/>
          </p:nvSpPr>
          <p:spPr>
            <a:xfrm>
              <a:off x="5867280" y="2205000"/>
              <a:ext cx="2819520" cy="3492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8"/>
            <p:cNvSpPr/>
            <p:nvPr/>
          </p:nvSpPr>
          <p:spPr>
            <a:xfrm>
              <a:off x="7865280" y="575280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f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40"/>
          <p:cNvGrpSpPr/>
          <p:nvPr/>
        </p:nvGrpSpPr>
        <p:grpSpPr>
          <a:xfrm>
            <a:off x="5219640" y="1916280"/>
            <a:ext cx="3271680" cy="3456000"/>
            <a:chOff x="5219640" y="1916280"/>
            <a:chExt cx="3271680" cy="3456000"/>
          </a:xfrm>
        </p:grpSpPr>
        <p:sp>
          <p:nvSpPr>
            <p:cNvPr id="173" name="Line 38"/>
            <p:cNvSpPr/>
            <p:nvPr/>
          </p:nvSpPr>
          <p:spPr>
            <a:xfrm flipV="1">
              <a:off x="5219640" y="2421000"/>
              <a:ext cx="2953080" cy="29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9"/>
            <p:cNvSpPr/>
            <p:nvPr/>
          </p:nvSpPr>
          <p:spPr>
            <a:xfrm>
              <a:off x="7669080" y="191628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=g(x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55"/>
          <p:cNvGrpSpPr/>
          <p:nvPr/>
        </p:nvGrpSpPr>
        <p:grpSpPr>
          <a:xfrm>
            <a:off x="7099920" y="3284640"/>
            <a:ext cx="368280" cy="1721520"/>
            <a:chOff x="7099920" y="3284640"/>
            <a:chExt cx="368280" cy="1721520"/>
          </a:xfrm>
        </p:grpSpPr>
        <p:sp>
          <p:nvSpPr>
            <p:cNvPr id="176" name="Text Box 44"/>
            <p:cNvSpPr/>
            <p:nvPr/>
          </p:nvSpPr>
          <p:spPr>
            <a:xfrm>
              <a:off x="7099920" y="460044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0"/>
            <p:cNvSpPr/>
            <p:nvPr/>
          </p:nvSpPr>
          <p:spPr>
            <a:xfrm>
              <a:off x="7256520" y="3284640"/>
              <a:ext cx="72360" cy="71280"/>
            </a:xfrm>
            <a:prstGeom prst="irregularSeal1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1"/>
            <p:cNvSpPr/>
            <p:nvPr/>
          </p:nvSpPr>
          <p:spPr>
            <a:xfrm>
              <a:off x="7256520" y="3355920"/>
              <a:ext cx="7236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05:57:52Z</dcterms:created>
  <dc:creator>1</dc:creator>
  <dc:description/>
  <dc:language>en-US</dc:language>
  <cp:lastModifiedBy>Пользователь Windows</cp:lastModifiedBy>
  <dcterms:modified xsi:type="dcterms:W3CDTF">2022-04-29T20:40:49Z</dcterms:modified>
  <cp:revision>24</cp:revision>
  <dc:subject/>
  <dc:title>Приближенное решение алгебраических и трансцендентных уравнений</dc:title>
</cp:coreProperties>
</file>