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8C1-5FAB-4261-8573-69BCD033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C46-50ED-4EA5-8202-E2EA05D2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7BB-A6E8-41F4-92D1-5E3EA447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41B-62EA-457B-8CBB-2D6BBD3F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DC4B-6AB9-4A63-B4D0-E2FEAB6B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6B34-C25C-4B14-BAA1-5CCFAC86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7179-7546-4E12-B06C-0BF6C937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6EA1-1367-4E47-BE1D-98E57199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1DFF-DE52-49E4-870B-58B2FA88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7890-C0AC-4DCC-B752-8E0E9746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ACCE-B7E0-41D4-9916-8084B52B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F1B-AA5B-4625-8A93-CC35D0EB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A795-CDAD-4484-A31B-BCBBD464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61F5-A2EE-4A84-B70C-1FE6D000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B5FF-9D71-4D69-9DE2-AA8000DD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C77C-B63B-403F-870A-9228624F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B812-31C5-448A-BE9E-1D5A2732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3C0-0FF4-4AF2-A094-34C2A121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645-CC2C-4079-AAD5-A6CE6036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A7F-74F4-44BB-8B2A-A5DF411C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238-208C-4E4A-8CD8-E93B9870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32D-7A84-42A6-8DD2-DDD97708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1FD-7CE5-4A45-A0AD-082A1781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ABF-2055-499F-8B5F-C0DF17FF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1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7280" y="46800"/>
              <a:ext cx="1292760" cy="6259320"/>
              <a:chOff x="7847280" y="46800"/>
              <a:chExt cx="1292760" cy="625932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0080" y="46800"/>
                <a:ext cx="759960" cy="2221920"/>
                <a:chOff x="8380080" y="46800"/>
                <a:chExt cx="759960" cy="222192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631720" y="46800"/>
                  <a:ext cx="416520" cy="181800"/>
                  <a:chOff x="8631720" y="46800"/>
                  <a:chExt cx="416520" cy="18180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631720" y="46800"/>
                    <a:ext cx="416520" cy="181800"/>
                    <a:chOff x="8631720" y="46800"/>
                    <a:chExt cx="416520" cy="18180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73200" y="-94320"/>
                      <a:ext cx="1335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63480" y="13680"/>
                      <a:ext cx="9252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21800" y="12276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26760" y="72000"/>
                    <a:ext cx="284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43760" y="72000"/>
                    <a:ext cx="428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924040" y="101160"/>
                    <a:ext cx="15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41600" y="15732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48720" y="138960"/>
                    <a:ext cx="252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5DCB5A-28DC-467A-B533-3F634C2AB5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97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7280" y="46800"/>
              <a:ext cx="1292760" cy="6259320"/>
              <a:chOff x="7847280" y="46800"/>
              <a:chExt cx="1292760" cy="625932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80080" y="46800"/>
                <a:ext cx="759960" cy="2221920"/>
                <a:chOff x="8380080" y="46800"/>
                <a:chExt cx="759960" cy="222192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631720" y="46800"/>
                  <a:ext cx="416520" cy="181800"/>
                  <a:chOff x="8631720" y="46800"/>
                  <a:chExt cx="416520" cy="18180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631720" y="46800"/>
                    <a:ext cx="416520" cy="181800"/>
                    <a:chOff x="8631720" y="46800"/>
                    <a:chExt cx="416520" cy="18180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73200" y="-94320"/>
                      <a:ext cx="1335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63480" y="13680"/>
                      <a:ext cx="9252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21800" y="12276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26760" y="72000"/>
                    <a:ext cx="284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43760" y="72000"/>
                    <a:ext cx="428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924040" y="101160"/>
                    <a:ext cx="15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41600" y="15732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48720" y="138960"/>
                    <a:ext cx="252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A8835CF-5158-4294-ADC1-77F158A9C2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2920" y="1628640"/>
            <a:ext cx="5689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ьные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4465800" cy="27176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0" y="260280"/>
            <a:ext cx="855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е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 5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2273040" y="5732640"/>
            <a:ext cx="43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хомова Н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03040"/>
            <a:ext cx="747684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готовления тильды нам нужно: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61508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 для тка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нь для тела куклы (бежевого цвета(х/б или синтетическая) можно окрасить белую х/б ткань при помощи кофе) и  ткань для одеж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ки для сшивания в тон, игол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ки х/б, мулине и пр.  для изготовления вол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файбер, синтепон, обрезки тканей или капроновых колготок для набивки кук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 бисер и черные ни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мелочи для декорирования игрушки: кружево, лента, украшение, пуговки и т.п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ные палочки и румя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75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Выкройка куклы </a:t>
            </a:r>
            <a:br>
              <a:rPr sz="4000"/>
            </a:b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«Простая Тильда» или «Тильда-примитив»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27" name="Picture 2" descr="C:\Documents and Settings\comp3\Рабочий стол\Тильда\к уроку\выкройки\doll02_okt10.jpg"/>
          <p:cNvPicPr/>
          <p:nvPr/>
        </p:nvPicPr>
        <p:blipFill>
          <a:blip r:embed="rId1"/>
          <a:stretch/>
        </p:blipFill>
        <p:spPr>
          <a:xfrm>
            <a:off x="2484360" y="1989000"/>
            <a:ext cx="3146400" cy="4496040"/>
          </a:xfrm>
          <a:prstGeom prst="rect">
            <a:avLst/>
          </a:prstGeom>
          <a:ln w="9360">
            <a:solidFill>
              <a:srgbClr val="47ffd1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1" descr="D:\userdata\usr-wks-01\Desktop\Снимок 2.JPG"/>
          <p:cNvPicPr/>
          <p:nvPr/>
        </p:nvPicPr>
        <p:blipFill>
          <a:blip r:embed="rId1"/>
          <a:stretch/>
        </p:blipFill>
        <p:spPr>
          <a:xfrm>
            <a:off x="835200" y="633240"/>
            <a:ext cx="2997000" cy="40910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1116000" y="5805360"/>
            <a:ext cx="76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ПАСИБО ЗА ВНИМАНИЕ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https://6sotok-dom.com/wp-content/uploads/2019/01/post_5c31f24a3f6d9.jpg"/>
          <p:cNvPicPr/>
          <p:nvPr/>
        </p:nvPicPr>
        <p:blipFill>
          <a:blip r:embed="rId2"/>
          <a:stretch/>
        </p:blipFill>
        <p:spPr>
          <a:xfrm>
            <a:off x="4140360" y="1562040"/>
            <a:ext cx="316836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9880"/>
            <a:ext cx="6966000" cy="67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Тильд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эта кукла, которая может нести на себе образ человека (мужчина, женщина, ребенок), ангела, сказочного персонажа (фея, гном и др.), животного (овечка, кот, кролик и др.) или даже предмета (сердечко, звездочка, подушечка и др.), созданных по дизайну норвежской художницы Тони Финнангер чуть более 10 лет назад.</a:t>
            </a: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76520" cy="4343400"/>
          </a:xfrm>
          <a:prstGeom prst="rect">
            <a:avLst/>
          </a:prstGeom>
          <a:ln w="28440">
            <a:solidFill>
              <a:srgbClr val="47ffd1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4040"/>
            <a:ext cx="74772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7386840" cy="75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со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9 году случилось два знаменательных события – выход книг «Тильда Рождество» и «Тильда Пасха», а также открытие магазина, в котором продавались мастер-классы по изготовлению этих необычных кукол и материалы для них. Начиная с этого момента, весь мир охватила «Тильдомания». Каждая рукодельница осваивала технику изготовления кукол, привнося что-то свое. Создавались сообщества любителей Тильд, открывались форумы и сайты, где можно было передать свой опыт и обсудить выкройки и процесс шитья. Сейчас всеобщая любовь к Тильдам все растет, и нас продолжают радовать задорная зубная фея, неуклюжие вислоухие зайцы и кролики, смешной лось, летящий кот, мишка, хозяюшка, купальщица и трогательные ангелы, нашли свое место в интерьере дома домашние феи и загадочные челове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738648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 бы ни была игрушка - тильда – купальщицей, ангелом, медвежонком, кошечкой, улиткой или зайчиком – она всегда обладает набором характерных черт, особен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609480" y="44197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подумаем какие это особенност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9360" y="330120"/>
            <a:ext cx="66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льд не перепутае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с какой другой рукотворной кукл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6659640" y="3357720"/>
            <a:ext cx="2320920" cy="3276360"/>
          </a:xfrm>
          <a:prstGeom prst="rect">
            <a:avLst/>
          </a:prstGeom>
          <a:ln w="9360">
            <a:solidFill>
              <a:srgbClr val="47ffd1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https://proshit.ru/uploads/1636256504/Vykrojki_kukol_Tilda_v_naturalnuyu_velichinu_angel_uyuta_zayacz_i_kurochka_dlya_kuxni_v_naturalnuyu_velichinu_27.jpg"/>
          <p:cNvPicPr/>
          <p:nvPr/>
        </p:nvPicPr>
        <p:blipFill>
          <a:blip r:embed="rId1"/>
          <a:stretch/>
        </p:blipFill>
        <p:spPr>
          <a:xfrm>
            <a:off x="395280" y="404640"/>
            <a:ext cx="741204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арактерные черты кукол-тильд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7386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то текстильная (тряпичная), набивная кук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04920" y="2514600"/>
            <a:ext cx="7386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1628640"/>
            <a:ext cx="7386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много несуразная пухленькая игрушка, с плавными закругленными лин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9520" y="2421000"/>
            <a:ext cx="71668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грушка с непропорционально длинными рук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огами, а зверюшки-тильды имеют простой крой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ые мордаш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25920" y="3644640"/>
            <a:ext cx="778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 каждой куклы свой характер, определенная рол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дополнительные аксессуары и даже место 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0" y="4484160"/>
            <a:ext cx="56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Маленькие глазки-пуговки или узел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0" y="4874040"/>
            <a:ext cx="76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спользование преимущественно натуральных тка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ок, бязь, шерсть, лён, фланель, войл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р для тела и тканей в стиле «кантри» для одеж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ые пастельные цве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23040" y="407880"/>
            <a:ext cx="707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собенность кукол Тильд – отсутствие губ и но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чки красят пастельными карандаш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ми румянами на немасляной основ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иловыми крас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2248200"/>
            <a:ext cx="60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собенность всех тильд – загорелая кожа, подбирается ткань по цве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олорируется ткань при помощи коф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378540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реди этих кукол не найти дву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ых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ая работ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4603680"/>
            <a:ext cx="814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Для изготовления куклы не нужна швейная маш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у можно сшить и вруч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в работе – это внимательность, аккура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ворческое отнош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6084720" y="861840"/>
            <a:ext cx="2808360" cy="373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83880"/>
            <a:ext cx="73915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просите для чего нужна такая кукла?</a:t>
            </a:r>
            <a:br>
              <a:rPr sz="3600"/>
            </a:b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30400" y="1051200"/>
            <a:ext cx="609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 Тильды могут использоваться по-разному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245016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грушки (и для детей, и для взрослых),как предметы интерьера (особенно для стилей «Кантри» и «Прованс»)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можно поселить в кухне и прихожей, посадить на диваны и кровати, на кресла и пуфики, найти для них уютный уголок в шкафах и на полочках, как обереги семейного очага, как оригинальные подарки, как воплощение детских мечтаний и творческих поры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179280" y="68364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ь о Тильде я хочу словами ее создатель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2297520"/>
            <a:ext cx="65880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Я обожаю Тильду из-за ее невероят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женственности и нарочитой безупре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Я представляю себе Тильду, выходящей из дома в бальном платье и резиновых сапог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хрустальной вазе у нее стоит букет из сорня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 розы – в старом кувшине. У нее собстве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згляд на красоту».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онни Финаннг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https://cs2.livemaster.ru/storage/d6/32/72e637df6d7e457508228771affk--kukly-i-igrushki-kukla-tilda-lyubimyj-provans-angel-feya.jpg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708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usr-wks-01</cp:lastModifiedBy>
  <dcterms:modified xsi:type="dcterms:W3CDTF">2022-04-29T09:25:3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