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917C-2D33-415A-BE27-BE9D12D263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тепловой обработки улучшаются вкусовые качества, пищевая ценность и усвояемость пищи. Уничтожается содержащаяся в продуктах микрофл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A4C4-2300-455D-9306-A4A34CE0ED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ка-тепловая кулинарная обработка продуктов в водной среде или атм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енье тепловая кулинарная обработка продуктов в целях доведения до кулинарной готовности при Т, обеспечивающие образования на их поверхности кор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BE9C-F759-4667-9C20-EAE1634DFB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енье и вар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енье или варка в жарочном шкаф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1220-50DC-47D0-AA10-C0EDFD25DB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 нагревает емкость с проду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носитель нагревает емкость с продуктом через промежуточную среду(пароводяная рубашка теп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7953-55B9-45EE-A2A6-CD54244DAE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л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арочное оборудование(котлы, кофеварки) жарочное и пекарное (фритюрница, сковороды, шкафы) водогрейное (кипятильники, водонагреватели) мармиты, тепловые стой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CC1A-E8BC-4FC1-96DC-4F21057637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CE2D-72D0-429C-9708-0E53D8D63E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5E7-0CEE-4E4D-94D7-AF2A64E2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45D4-5BA8-471A-94E0-4CDEBC96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792-D6C7-4BE1-9F1E-3E0C6A59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31F9-6BED-4413-ACA3-E0E19814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A586-68F4-4049-8509-3294E832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83CF-27D7-4C7C-A9DA-F926DD30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B2C7-D097-432E-AEB9-28E869A4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C341-EDCB-48DF-AE73-82A27D77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756B-4AE7-42D5-B469-01A631B4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B2B2-4194-4FA8-B162-C60700F9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9AC4-4A8D-4E6C-9F2A-5F608587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035B-54FC-429E-967C-1D3BC31E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F5FF-EF85-4DB3-97E0-1C5453ED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E789-FDEF-40F7-9051-6FCFDD09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E22C-05C8-445E-887C-ED36A6E7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5CD3-8CEB-445B-92AE-F3E23E15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9ADA-70F7-4323-B206-5ED7934A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B9BE-B76F-48DD-971B-CDDD3FEA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F58-B71C-4390-989C-91566038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DBC0-4CD0-4D4D-9126-788B6EB9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0BA-24E8-4B63-BE2C-9395D05B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A6D1-0FB5-414D-A2A0-3C047A18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9190-CE8B-49CA-B49E-B75C3BDC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FB7F-9147-4DF0-91EE-A5C5B511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4382-3D2F-4AEE-B0F5-B1980C18F4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202D-FD42-4C0E-856D-E765566F15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ТЕПЛОВОЕ ОБОРУДОВАНИ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теплового обору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якова Ири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Б ГБОУ  Российский колледж традиционн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По принципу действия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е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5003640" y="4265640"/>
            <a:ext cx="3600720" cy="25923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7"/>
          <p:cNvSpPr/>
          <p:nvPr/>
        </p:nvSpPr>
        <p:spPr>
          <a:xfrm>
            <a:off x="6734520" y="6235560"/>
            <a:ext cx="16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2-ХТ2-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3167280" cy="2303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3"/>
          <a:stretch/>
        </p:blipFill>
        <p:spPr>
          <a:xfrm>
            <a:off x="611280" y="4292640"/>
            <a:ext cx="3384360" cy="2565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 flipV="1" rot="10800000">
            <a:off x="2620800" y="6237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YHL HS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 степени автоматиза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автоматизированные аппа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зированные аппа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Буквенно-цифровая индексация</a:t>
            </a:r>
            <a:br>
              <a:rPr sz="4000"/>
            </a:b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для теплового оборудова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Г - 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 буква 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  – кот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 – шк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  – пл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Вид оборудования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- 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900000" y="2787480"/>
            <a:ext cx="75596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2 букв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 – пищевароч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 – непрерывного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Наименование теплоносителя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3 букв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 – электриче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 – газо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 - паров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Цифры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Г -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имость в литрах, объем камеры, количество конфорок  или другие парамет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Тепловое оборудование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екцион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ционно – модулированное (СМ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КПП - 160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ел пищеварочный паровой на 160 литр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5508720" y="3191040"/>
            <a:ext cx="363528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Марки теплового оборудования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Г – 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Э – 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ЭСМ –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ЭСМ –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ЖЭ – 0,8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ЭП – 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Э – 0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КПГ – 60</a:t>
            </a:r>
            <a:br>
              <a:rPr sz="5400"/>
            </a:b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ел электрический газовый на 60 ли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5435640" y="2948040"/>
            <a:ext cx="37083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Характеристика основных способов тепловой обработ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765000"/>
            <a:ext cx="785988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КПЭ – 100</a:t>
            </a:r>
            <a:br>
              <a:rPr sz="5400"/>
            </a:b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ел пищеварочный электрический на 100 литр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3924360" y="3141720"/>
            <a:ext cx="52196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868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ПЭСМ – 4</a:t>
            </a:r>
            <a:br>
              <a:rPr sz="5400"/>
            </a:b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4427640" y="3112920"/>
            <a:ext cx="4465440" cy="37450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611280" y="1557360"/>
            <a:ext cx="6867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ита электрическая секционно-модулированная на 4 конфо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6500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ФЭСМ – 20</a:t>
            </a:r>
            <a:br>
              <a:rPr sz="5400"/>
            </a:b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итюрница электрическая секционно-модулированная на 20 ли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5003640" y="3213000"/>
            <a:ext cx="38163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7868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ШЖЭ – 0,85</a:t>
            </a:r>
            <a:br>
              <a:rPr sz="5400"/>
            </a:b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аф жарочный электрический объем камеры 0.85 м к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4923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КЭП – 400</a:t>
            </a:r>
            <a:br>
              <a:rPr sz="5400"/>
            </a:b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ел электрический паровой КЭП-400(производительность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итерская электрическая печ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5364000" y="3905280"/>
            <a:ext cx="3780000" cy="2952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0" y="4205160"/>
            <a:ext cx="414036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СНЭ – 0,2</a:t>
            </a:r>
            <a:br>
              <a:rPr sz="5400"/>
            </a:b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ворода с непосредственным обогревом, с площадью нагревательной поверхности 0.2 м к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219640" y="3573360"/>
            <a:ext cx="39243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кулинарии различают основные, вспомогательные и комбинированные способы тепловой обрабо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способ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арен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мбинированны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ек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Классификация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обогр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хнологическому назнач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сточникам теп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нципу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автоматиз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648560" cy="4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По способу обогрева</a:t>
            </a:r>
            <a:br>
              <a:rPr sz="4600"/>
            </a:b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е с непосредственным обогрев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е с косвенным обогрев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>
            <a:off x="4871880" y="1773360"/>
            <a:ext cx="2105280" cy="1728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4871880" y="4149720"/>
            <a:ext cx="2105280" cy="1805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3"/>
          <a:stretch/>
        </p:blipFill>
        <p:spPr>
          <a:xfrm flipH="1" rot="21555000">
            <a:off x="6876720" y="1769040"/>
            <a:ext cx="2265480" cy="1655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4"/>
          <a:stretch/>
        </p:blipFill>
        <p:spPr>
          <a:xfrm>
            <a:off x="6804000" y="1773360"/>
            <a:ext cx="2089080" cy="1827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5"/>
          <a:stretch/>
        </p:blipFill>
        <p:spPr>
          <a:xfrm>
            <a:off x="6659640" y="3838680"/>
            <a:ext cx="22860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По технологическому назначению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2697120" cy="244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4734000" y="3718080"/>
            <a:ext cx="2243160" cy="2306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7020000" y="4005360"/>
            <a:ext cx="1871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По источникам тепла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о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ово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нев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ов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211640" y="2205000"/>
            <a:ext cx="4537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1:59:29Z</dcterms:created>
  <dc:creator>1</dc:creator>
  <dc:description/>
  <dc:language>en-US</dc:language>
  <cp:lastModifiedBy>Ольга</cp:lastModifiedBy>
  <dcterms:modified xsi:type="dcterms:W3CDTF">2022-04-29T08:08:44Z</dcterms:modified>
  <cp:revision>8</cp:revision>
  <dc:subject/>
  <dc:title>ТЕПЛОВОЕ ОБОРУДОВАНИЕ</dc:title>
</cp:coreProperties>
</file>