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B334-A4EF-45FB-93A6-B4E59F0B0B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тепловой обработки улучшаются вкусовые качества, пищевая ценность и усвояемость пищи. Уничтожается содержащаяся в продуктах микрофл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452D-5EC0-47FC-97B3-2B7F16738F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ка-тепловая кулинарная обработка продуктов в водной среде или атмо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аренье тепловая кулинарная обработка продуктов в целях доведения до кулинарной готовности при Т, обеспечивающие образования на их поверхности коро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DBB5-22A4-454C-BE2F-6E411F0130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аренье и вар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аренье или варка в жарочном шкаф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CCA7-C33C-4C0A-A5B8-CCBB32BFFF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средственно нагревает емкость с продук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лоноситель нагревает емкость с продуктом через промежуточную среду(пароводяная рубашка теп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62F2-DEC0-40F0-A772-E5E585F2E6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л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Варочное оборудование(котлы, кофеварки) жарочное и пекарное (фритюрница, сковороды, шкафы) водогрейное (кипятильники, водонагреватели) мармиты, тепловые стой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AB94-3705-426E-AAC0-B4DF6AFD5B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95D2-C3D5-42C9-870C-5C8C032E0F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B427-CF98-4647-AA28-4207DBF43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248C-E4D9-4919-AC5C-5A979F64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B891-8A1B-4913-910D-072BE5B0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189C-6023-49D5-8B9C-E2AC95151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76E9-5617-44F5-BC40-850B07382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C0FC-2146-405B-BC06-41F0B2D5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69FA-F64D-40E9-B1A2-718A0685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302D-C983-41AD-9406-756FFF2C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6488-2DE9-4D06-8398-C2E59568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B060-7F3E-4109-8496-ADA5E406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8054-AC0E-4CD9-AFF8-36240C52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A040-0367-4937-85B1-D793028F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D434-2CFC-4653-9EF4-9DF1CEE7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EEA6-D959-452D-9ED3-0959250F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ECD3-DCC0-4663-9A3C-17E8CA8C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E5B8-0093-405F-9558-A206124B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AC86-308E-49AC-B0B4-93C35AD97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336A-6E9C-453F-BF11-90BE3F0E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73CF-A892-4682-AFDD-A0814E5E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DFFB-ADE3-4FF0-AA3D-D94C686F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9F9B-2C8A-4E95-8453-FE270CC0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5798-AC9D-46FA-A4A6-18907FE2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7B67-63EB-41D6-8AB3-15FF99EA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E9F9-91CF-4B1E-83E6-673555ED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DBB2-C368-4371-A03A-81951D6EC4A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1D44-CAE6-4438-A366-D52BDCE03FD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ТЕПЛОВОЕ ОБОРУДОВАНИЕ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теплового обору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рякова Ирина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Б ГБОУ  Российский колледж традиционной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По принципу действия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ерывног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ческ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5003640" y="4265640"/>
            <a:ext cx="3600720" cy="25923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7"/>
          <p:cNvSpPr/>
          <p:nvPr/>
        </p:nvSpPr>
        <p:spPr>
          <a:xfrm>
            <a:off x="6734520" y="6235560"/>
            <a:ext cx="16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2-ХТ2-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"/>
          <p:cNvPicPr/>
          <p:nvPr/>
        </p:nvPicPr>
        <p:blipFill>
          <a:blip r:embed="rId2"/>
          <a:stretch/>
        </p:blipFill>
        <p:spPr>
          <a:xfrm>
            <a:off x="5364000" y="1557360"/>
            <a:ext cx="3167280" cy="2303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"/>
          <p:cNvPicPr/>
          <p:nvPr/>
        </p:nvPicPr>
        <p:blipFill>
          <a:blip r:embed="rId3"/>
          <a:stretch/>
        </p:blipFill>
        <p:spPr>
          <a:xfrm>
            <a:off x="611280" y="4292640"/>
            <a:ext cx="3384360" cy="25653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2"/>
          <p:cNvSpPr/>
          <p:nvPr/>
        </p:nvSpPr>
        <p:spPr>
          <a:xfrm flipV="1" rot="10800000">
            <a:off x="2620800" y="623700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PYHL HS-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о степени автоматизаци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автоматизированные аппа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атизированные аппа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0033"/>
                </a:solidFill>
                <a:latin typeface="Times New Roman"/>
              </a:rPr>
              <a:t>Буквенно-цифровая индексация</a:t>
            </a:r>
            <a:br>
              <a:rPr sz="4000"/>
            </a:br>
            <a:r>
              <a:rPr b="0" lang="ru-RU" sz="4000" spc="-1" strike="noStrike">
                <a:solidFill>
                  <a:srgbClr val="330033"/>
                </a:solidFill>
                <a:latin typeface="Times New Roman"/>
              </a:rPr>
              <a:t>для теплового оборудования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Г - 6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1 буква )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  – коте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 – шка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  – пли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Вид оборудования</a:t>
            </a: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 - 6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900000" y="2787480"/>
            <a:ext cx="755964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2 букв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 – пищевароч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 – непрерывного 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Наименование теплоносителя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П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6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3 букв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 – электриче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 – газов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 - паров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Цифры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ПГ -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естимость в литрах, объем камеры, количество конфорок  или другие парамет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Тепловое оборудование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екцион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ционно – модулированное (СМ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КПП - 160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ел пищеварочный паровой на 160 литр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5508720" y="3191040"/>
            <a:ext cx="363528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Марки теплового оборудования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ПГ – 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ПЭ – 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ЭСМ –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ЭСМ –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ЖЭ – 0,8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ЭП – 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Э – 0,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62028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КПГ – 60</a:t>
            </a:r>
            <a:br>
              <a:rPr sz="5400"/>
            </a:b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ел электрический газовый на 60 лит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5435640" y="2948040"/>
            <a:ext cx="370836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Характеристика основных способов тепловой обработ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560" y="765000"/>
            <a:ext cx="785988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КПЭ – 100</a:t>
            </a:r>
            <a:br>
              <a:rPr sz="5400"/>
            </a:b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ел пищеварочный электрический на 100 литр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3924360" y="3141720"/>
            <a:ext cx="521964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868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ПЭСМ – 4</a:t>
            </a:r>
            <a:br>
              <a:rPr sz="5400"/>
            </a:b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4427640" y="3112920"/>
            <a:ext cx="4465440" cy="37450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4"/>
          <p:cNvSpPr/>
          <p:nvPr/>
        </p:nvSpPr>
        <p:spPr>
          <a:xfrm>
            <a:off x="611280" y="1557360"/>
            <a:ext cx="6867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ита электрическая секционно-модулированная на 4 конфо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765000"/>
            <a:ext cx="77724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ФЭСМ – 20</a:t>
            </a:r>
            <a:br>
              <a:rPr sz="5400"/>
            </a:b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итюрница электрическая секционно-модулированная на 20 лит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5003640" y="3213000"/>
            <a:ext cx="381636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00000" y="692280"/>
            <a:ext cx="77868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ШЖЭ – 0,85</a:t>
            </a:r>
            <a:br>
              <a:rPr sz="5400"/>
            </a:b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аф жарочный электрический объем камеры 0.85 м к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5651640" y="2924280"/>
            <a:ext cx="349236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КЭП – 400</a:t>
            </a:r>
            <a:br>
              <a:rPr sz="5400"/>
            </a:b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ел электрический паровой КЭП-400(производительность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дитерская электрическая печ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5364000" y="3905280"/>
            <a:ext cx="3780000" cy="2952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"/>
          <p:cNvPicPr/>
          <p:nvPr/>
        </p:nvPicPr>
        <p:blipFill>
          <a:blip r:embed="rId2"/>
          <a:stretch/>
        </p:blipFill>
        <p:spPr>
          <a:xfrm>
            <a:off x="0" y="4205160"/>
            <a:ext cx="414036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692280"/>
            <a:ext cx="77724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СНЭ – 0,2</a:t>
            </a:r>
            <a:br>
              <a:rPr sz="5400"/>
            </a:b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ворода с непосредственным обогревом, с площадью нагревательной поверхности 0.2 м к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219640" y="3573360"/>
            <a:ext cx="39243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кулинарии различают основные, вспомогательные и комбинированные способы тепловой обработ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сновные способы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а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арен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омбинированны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у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ек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Классификация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пособу обогр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хнологическому назначе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сточникам теп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инципу 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и автоматиз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640" y="765000"/>
            <a:ext cx="7648560" cy="43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По способу обогрева</a:t>
            </a:r>
            <a:br>
              <a:rPr sz="4600"/>
            </a:b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рудование с непосредственным обогрево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рудование с косвенным обогрево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"/>
          <p:cNvPicPr/>
          <p:nvPr/>
        </p:nvPicPr>
        <p:blipFill>
          <a:blip r:embed="rId1"/>
          <a:stretch/>
        </p:blipFill>
        <p:spPr>
          <a:xfrm>
            <a:off x="4871880" y="1773360"/>
            <a:ext cx="2105280" cy="1728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4871880" y="4149720"/>
            <a:ext cx="2105280" cy="1805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"/>
          <p:cNvPicPr/>
          <p:nvPr/>
        </p:nvPicPr>
        <p:blipFill>
          <a:blip r:embed="rId3"/>
          <a:stretch/>
        </p:blipFill>
        <p:spPr>
          <a:xfrm flipH="1" rot="21555000">
            <a:off x="6876720" y="1769040"/>
            <a:ext cx="2265480" cy="1655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"/>
          <p:cNvPicPr/>
          <p:nvPr/>
        </p:nvPicPr>
        <p:blipFill>
          <a:blip r:embed="rId4"/>
          <a:stretch/>
        </p:blipFill>
        <p:spPr>
          <a:xfrm>
            <a:off x="6804000" y="1773360"/>
            <a:ext cx="2089080" cy="1827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"/>
          <p:cNvPicPr/>
          <p:nvPr/>
        </p:nvPicPr>
        <p:blipFill>
          <a:blip r:embed="rId5"/>
          <a:stretch/>
        </p:blipFill>
        <p:spPr>
          <a:xfrm>
            <a:off x="6659640" y="3838680"/>
            <a:ext cx="22860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По технологическому назначению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верса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5292720" y="1557360"/>
            <a:ext cx="2697120" cy="244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2"/>
          <a:stretch/>
        </p:blipFill>
        <p:spPr>
          <a:xfrm>
            <a:off x="4734000" y="3718080"/>
            <a:ext cx="2243160" cy="2306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3"/>
          <a:stretch/>
        </p:blipFill>
        <p:spPr>
          <a:xfrm>
            <a:off x="7020000" y="4005360"/>
            <a:ext cx="18716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330033"/>
                </a:solidFill>
                <a:latin typeface="Times New Roman"/>
                <a:ea typeface="Times New Roman"/>
              </a:rPr>
              <a:t>По источникам тепла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ическо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зово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нев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ов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4211640" y="2205000"/>
            <a:ext cx="4537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11:59:29Z</dcterms:created>
  <dc:creator>1</dc:creator>
  <dc:description/>
  <dc:language>en-US</dc:language>
  <cp:lastModifiedBy>Ольга</cp:lastModifiedBy>
  <dcterms:modified xsi:type="dcterms:W3CDTF">2022-04-29T08:08:44Z</dcterms:modified>
  <cp:revision>8</cp:revision>
  <dc:subject/>
  <dc:title>ТЕПЛОВОЕ ОБОРУДОВАНИЕ</dc:title>
</cp:coreProperties>
</file>