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8D4D7C-2C86-4202-BD27-326852FE4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63AC8-9F86-4F5D-AFAA-D3411E5A1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E80E15-621A-4765-92CE-061B2772D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6C7B0C-539D-4DFB-ACB2-C184031C1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01BEB7-489D-4E2D-BC91-507C784FD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39334-95F4-42F7-BFC3-9BE6BD5FD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6E62A0-0F65-45E5-A5EA-B808C51EE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9BD37-6D96-4F3E-879B-FCF16BB39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0305FD-E53F-41CA-8239-E101E417A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CD80B-F39D-4D64-A7CA-9FD71BD9A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2E3B7E-D489-4C45-8414-A937E2B73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326081-AEE1-4EC4-92EA-28C797CA9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725C06-7AED-4A9D-878B-82E07D302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FF7175-5B01-461E-B964-4FEC07A07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F40F6-DE7B-4E13-9BB5-132141560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49E883-3835-44FB-A5E4-B6EE4D239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08DD7-2451-45A2-879F-C3854D023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3BA43-1B69-4C96-BD38-2DD9F32CD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C671B-E0CC-4F5B-8DBF-82551E05D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4EAA4-F95F-4DA8-9EC2-70527CB28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A07-DD56-427A-B708-8F581E9F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0BE-E2F2-44B4-B63A-CF566F2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09C-FFEF-4939-8AFE-7776C127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40C-452E-4B77-B90C-13DEAE07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A117-596A-49DF-B891-88B570D5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9482-CC59-444B-BF5F-70D3C1C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325-FA74-4BAA-A061-8D42111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8BF-8C80-48A5-90D1-4B1F6E3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7C1-327C-4810-A546-B927E081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DE8-D391-412D-A7B2-D761FA2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02C0-86AE-4604-BE59-F920191F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6CC-B97E-40B0-8A30-E6E59F97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728F-D993-469A-B57B-123D258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E6F3-A302-40ED-9C42-B057CC9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2BB-88EB-424C-BF9F-B8F8392D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FA19-4BA4-4B20-8B99-0EBB7625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6564-C223-41AA-8FE0-9DAE0195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B1A-6B95-4E23-A805-DEAE90EC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956-58FD-4320-BE03-8B641C70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7FD-2D17-47F4-89E2-86B2685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A13-BA6A-4B4F-91E5-9B543DE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FF3-CFA1-43CA-8B88-0E8086F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92F-DDE6-4209-8B20-42134EB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357-A40C-430E-BD9D-10DF4C67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589480"/>
                <a:gd name="textAreaBottom" fmla="*/ 2589840 h 258948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>
                  <a:gd name="textAreaLeft" fmla="*/ 0 w 606960"/>
                  <a:gd name="textAreaRight" fmla="*/ 607320 w 60696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>
                  <a:gd name="textAreaLeft" fmla="*/ 0 w 703800"/>
                  <a:gd name="textAreaRight" fmla="*/ 704160 w 703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>
                  <a:gd name="textAreaLeft" fmla="*/ 0 w 1188720"/>
                  <a:gd name="textAreaRight" fmla="*/ 1189080 w 118872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730080"/>
                  <a:gd name="textAreaBottom" fmla="*/ 730440 h 7300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891720"/>
                  <a:gd name="textAreaBottom" fmla="*/ 892080 h 89172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>
                  <a:gd name="textAreaLeft" fmla="*/ 0 w 1709280"/>
                  <a:gd name="textAreaRight" fmla="*/ 1709640 w 17092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>
                  <a:gd name="textAreaLeft" fmla="*/ 0 w 155160"/>
                  <a:gd name="textAreaRight" fmla="*/ 155160 w 15516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1015200"/>
                  <a:gd name="textAreaBottom" fmla="*/ 1015560 h 101520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>
                  <a:gd name="textAreaLeft" fmla="*/ 0 w 1904400"/>
                  <a:gd name="textAreaRight" fmla="*/ 1904760 w 1904400"/>
                  <a:gd name="textAreaTop" fmla="*/ 0 h 1157760"/>
                  <a:gd name="textAreaBottom" fmla="*/ 1158120 h 115776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>
                  <a:gd name="textAreaLeft" fmla="*/ 0 w 862560"/>
                  <a:gd name="textAreaRight" fmla="*/ 862920 w 862560"/>
                  <a:gd name="textAreaTop" fmla="*/ 0 h 1167480"/>
                  <a:gd name="textAreaBottom" fmla="*/ 1167840 h 116748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>
                  <a:gd name="textAreaLeft" fmla="*/ 0 w 965880"/>
                  <a:gd name="textAreaRight" fmla="*/ 966240 w 965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>
                  <a:gd name="textAreaLeft" fmla="*/ 0 w 1117800"/>
                  <a:gd name="textAreaRight" fmla="*/ 1118160 w 111780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540360"/>
                  <a:gd name="textAreaBottom" fmla="*/ 540360 h 54036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682920"/>
                  <a:gd name="textAreaBottom" fmla="*/ 683280 h 68292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293400"/>
                  <a:gd name="textAreaBottom" fmla="*/ 293400 h 2934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43FC4F-89B9-41DD-BCA8-0F7E62E332B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589480"/>
                <a:gd name="textAreaBottom" fmla="*/ 2589840 h 258948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>
                  <a:gd name="textAreaLeft" fmla="*/ 0 w 606960"/>
                  <a:gd name="textAreaRight" fmla="*/ 607320 w 60696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>
                  <a:gd name="textAreaLeft" fmla="*/ 0 w 703800"/>
                  <a:gd name="textAreaRight" fmla="*/ 704160 w 703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>
                  <a:gd name="textAreaLeft" fmla="*/ 0 w 1188720"/>
                  <a:gd name="textAreaRight" fmla="*/ 1189080 w 118872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730080"/>
                  <a:gd name="textAreaBottom" fmla="*/ 730440 h 7300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891720"/>
                  <a:gd name="textAreaBottom" fmla="*/ 892080 h 89172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>
                  <a:gd name="textAreaLeft" fmla="*/ 0 w 1709280"/>
                  <a:gd name="textAreaRight" fmla="*/ 1709640 w 17092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>
                  <a:gd name="textAreaLeft" fmla="*/ 0 w 155160"/>
                  <a:gd name="textAreaRight" fmla="*/ 155160 w 15516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1015200"/>
                  <a:gd name="textAreaBottom" fmla="*/ 1015560 h 101520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>
                  <a:gd name="textAreaLeft" fmla="*/ 0 w 1904400"/>
                  <a:gd name="textAreaRight" fmla="*/ 1904760 w 1904400"/>
                  <a:gd name="textAreaTop" fmla="*/ 0 h 1157760"/>
                  <a:gd name="textAreaBottom" fmla="*/ 1158120 h 115776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>
                  <a:gd name="textAreaLeft" fmla="*/ 0 w 862560"/>
                  <a:gd name="textAreaRight" fmla="*/ 862920 w 862560"/>
                  <a:gd name="textAreaTop" fmla="*/ 0 h 1167480"/>
                  <a:gd name="textAreaBottom" fmla="*/ 1167840 h 116748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>
                  <a:gd name="textAreaLeft" fmla="*/ 0 w 965880"/>
                  <a:gd name="textAreaRight" fmla="*/ 966240 w 965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>
                  <a:gd name="textAreaLeft" fmla="*/ 0 w 1117800"/>
                  <a:gd name="textAreaRight" fmla="*/ 1118160 w 111780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540360"/>
                  <a:gd name="textAreaBottom" fmla="*/ 540360 h 54036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682920"/>
                  <a:gd name="textAreaBottom" fmla="*/ 683280 h 68292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293400"/>
                  <a:gd name="textAreaBottom" fmla="*/ 293400 h 2934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B9B208-3C34-470D-BCBD-DFFCFDAA0E5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рроризм и экстремизм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335320" cy="35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США впервые опубликовали видео с устроившими теракт 11 сентября."/>
          <p:cNvPicPr/>
          <p:nvPr/>
        </p:nvPicPr>
        <p:blipFill>
          <a:blip r:embed="rId2"/>
          <a:stretch/>
        </p:blipFill>
        <p:spPr>
          <a:xfrm>
            <a:off x="468360" y="1844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198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100" spc="-1" strike="noStrike">
                <a:solidFill>
                  <a:srgbClr val="ff9900"/>
                </a:solidFill>
                <a:latin typeface="Arial"/>
              </a:rPr>
              <a:t>Терроризм в Москв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79280" y="90792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еррористический акт в Москве 200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3 октября 2002 года в 21.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центре Москвы (в театральном центре на Дубровке)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вооруженных террористо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захватили зал, в котором шел популярный мюзик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«Норд-Ост»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октября в 5.3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сле уникальной в мировой истории спецоперации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0 заложников были освобожден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Уничтожены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террорис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32 мужчин и 18 женщин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 заложник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8 ок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30798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50920" y="260280"/>
            <a:ext cx="8683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на Тушинском аэрод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5 июл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Москве был совершён террористический акт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 входа на Тушинский аэродр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где в это время проходи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ок-фестиваль «Крылья»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и взорваны две бомбы. Взрывы произвел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ве террористки-смерт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По официальным данным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огибло 13 и ранено 59 челове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Больших жертв удалось избежать только потому, что охрана, заподозрив этих женщи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 пропустила их в толп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око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гостиницы «Национа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декабр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дна террористка-смертн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50920" y="-17640"/>
            <a:ext cx="8713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ff9900"/>
                </a:solidFill>
                <a:latin typeface="Arial"/>
              </a:rPr>
              <a:t>Захват заложников в Беслане</a:t>
            </a:r>
            <a:br>
              <a:rPr sz="1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79280" y="1143000"/>
            <a:ext cx="8678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мерно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 8 утра 1 сен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3995640" y="500040"/>
            <a:ext cx="49388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о время проведения торжественной линейки по случаю 1 сентября они ворвались на территорию школы №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сего на линейке, по данным комитета образования администрации Беслана, присутствовали 895 учеников и 59 учителей и технических сотрудников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Количество родителей, пришедших проводить детей в школу, неизвестно. Открыв беспорядочную стрельбу в воздух, боевики приказали всем присутствующим зайти в здание школы, однако большинство - в основном старшеклассники и взрослые - смогли просто разбежаться. Тех кто не смог это сделать - учеников младших классов и их родителей и часть учителей - бандиты загнали в спортз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79280" y="189000"/>
            <a:ext cx="860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се погибшие - гражданские л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911840" y="285768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cc6600"/>
                </a:solidFill>
                <a:uFillTx/>
                <a:latin typeface="Arial"/>
              </a:rPr>
              <a:t>Что делать, если вы оказались в заложник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Не выделяйтесь и не сопротивля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Не пытайтесь  беж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старайтесь оценить обстановку и избегайте необдуманных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Не оказывайте  сопротив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 Как можно быстрее постарайтесь взять себя в руки, всеми силами подавить в себе панику и, на сколько это возможно успок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Подготовиться к моральным, физическим и эмоциональным испыт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Говорить спокойным ровным голо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7280" y="360360"/>
            <a:ext cx="47718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Экстремизм и терроризм</a:t>
            </a:r>
            <a:r>
              <a:rPr b="0" lang="en-GB" sz="2800" spc="-1" strike="noStrike">
                <a:solidFill>
                  <a:srgbClr val="c00000"/>
                </a:solidFill>
                <a:latin typeface="Arial Black"/>
              </a:rPr>
              <a:t> – это форм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ы</a:t>
            </a:r>
            <a:r>
              <a:rPr b="0" lang="en-GB" sz="2800" spc="-1" strike="noStrike">
                <a:solidFill>
                  <a:srgbClr val="c00000"/>
                </a:solidFill>
                <a:latin typeface="Arial Black"/>
              </a:rPr>
              <a:t> организованного насил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95280" y="2997360"/>
            <a:ext cx="50022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556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5560"/>
                <a:tab algn="l" pos="939960"/>
                <a:tab algn="l" pos="1854360"/>
                <a:tab algn="l" pos="2768760"/>
                <a:tab algn="l" pos="3683160"/>
                <a:tab algn="l" pos="4597560"/>
                <a:tab algn="l" pos="5511960"/>
                <a:tab algn="l" pos="6426360"/>
                <a:tab algn="l" pos="7340760"/>
                <a:tab algn="l" pos="8255160"/>
                <a:tab algn="l" pos="9169560"/>
                <a:tab algn="l" pos="1008396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320e04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6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92164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Переносить лишения, оскорбления и унижения без вызова и воз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Экономьте и поддерживайте силы, чем угодно используйте любую возмож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выполнила преподаватель иностранного языка Панченко Лариса Сергее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82404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ступление, главно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целью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которого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является нарушение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бщественно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безопасност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, которое выражается в посягательстве на: жизнь и здоровье граждан, объекты критической инфраструктуры, природную среду, информационную среду, органы государственного управления, государственных и общественных деятеле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185400"/>
            <a:ext cx="8229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Терроризм –</a:t>
            </a: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5472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Террористическ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акт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вершение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взрыва, поджога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ых действий, устрашающих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население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здающих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асность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ибели человека, причинения значительного имущественного ущерба либо наступления иных тяжких последствий, в целях дестабилизации деятельности органов власти или международных организаций либо воздействия на принятие ими решений, а также угроза совершения указанных действий в тех же цел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Impact"/>
              </a:rPr>
              <a:t>Три стороны конфликта террористической ак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то совершает теракт (террористы)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Непосредственные жертвы а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ого хотят запугать и заставить вести себя определённым образ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79280" y="-37296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Террористическая деятельность 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включа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79280" y="981000"/>
            <a:ext cx="8747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, планирование, подготовку и реализацию террористичес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дстрекательство к террористической акции, насилию над физическими лицами или организациями, уничтожению материальных объектов в террористически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совершения террористической акции, а равно участие в та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рбовку, вооружение, обучение и использование террорист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Финансирование заведомо террористической организации или террористической группы или иное содействие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572080" y="4857840"/>
            <a:ext cx="27208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Захват автобуса с деть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декабря 1988 г. в Минеральных водах 4 бандита потребовали крупную сумму денег в иностранной валюте и самолет для вылета за рубеж. В противном случае угрожали всех сжечь: под каждым сиденьем террористы поставили по три 3-литровых банки бензина. История с захватом детей прогремела на всю страну. По горячим следам были сняты 2 фильма: документальный «Заложники из 4-го «Г» и художественный «Взбесившийся автобус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Разрушение Всемирного Торгов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348000" y="836640"/>
            <a:ext cx="561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11 сентября 2001 года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, в 28-ю годовщину подготовленного ЦРУ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военного путча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в Чили, и 11-ю годовщину речи Буша-старшего "Новый мировой порядок", террористы захватили четыре самолета. Согласно официальной версии девятнадцать арабов угнали 4 самолета; врезались на двух из них в башни Всемирного Торгового центра, что стало причиной пожара внутри, и врезались на третьем в Пентагон. Согласно официальной версии, в результате пожара стальные несущие балки расплавились, что стало причиной обрушения баш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313080" cy="551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Admin</cp:lastModifiedBy>
  <dcterms:modified xsi:type="dcterms:W3CDTF">2022-04-29T13:17:22Z</dcterms:modified>
  <cp:revision>7</cp:revision>
  <dc:subject/>
  <dc:title>Защита населения</dc:title>
</cp:coreProperties>
</file>