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0F4EC6-E2E3-42D5-A119-0D50D178FF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0D4633-164E-478C-8308-39C5F567F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C2313B-3D84-45CC-AA3A-E4C4F25671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F0784F-0F49-41FC-85A5-0BF3ACDA4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E4F5A6-3576-4B1A-B8D0-26DA17E9C6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C1202C-6215-460D-A556-A3AC3F487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A1513B-5158-4E31-A2B4-05E041A70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C94FB7-E027-426F-AE19-8984B0EA0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5CE5B8-847C-49AE-84E2-0E013AA79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E4DDFE-46F0-4256-94DD-A8EDF9EAB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474A30-C29D-4014-AD65-030D1A6A6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0CC093-A42A-48A1-9C30-A8DF8AA2A1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F496C7-BD16-4FA8-A9FE-8DE401F210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C252C9-81EA-461B-8061-1FABB7BE5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8DE826-4F8F-4BDB-BF5E-BAC2E2E1E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38A337-28DE-4B50-BB35-70F7ED0E7D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D94A76-63BE-4F51-AE59-8E99EFD963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1CD40D-DE7E-4E69-B35B-C70E398DF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BF478D-32FB-4646-9108-09FD9EEEE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CABD9B-24FD-47F3-9389-F8048BB2DD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0A8-B7E2-41B9-B641-6D21058A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A0A6-5FA8-42B8-8DC9-6B8993FE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39C-030D-4AD2-A535-6B870488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96DC-B0AD-40BD-A58C-FDEEFBC3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89CE-0D72-49CA-9FD0-F90AB75F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8E73-57F3-4137-9DAB-CAA47C43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2097-39C0-42B7-AFB2-5970FDFC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53CB-ABA1-4EBE-B750-11A057AE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C104-B716-476F-A915-39BB022C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A01D-A460-4982-9934-40D774A3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542D-740B-440E-B8EA-FB161DAD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B8E-8159-4F62-98B5-EBEE133A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651F-205D-4658-A69C-7B0FA9D9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CFD8-068A-4E1F-8541-F801DA2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4EA2-EEE3-4F62-80E5-78590EAB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4EE2-9804-43B1-870F-ED34D981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AD7C-81B0-4760-80ED-C3DEF159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931-598E-4494-8AF1-BA837CC5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5CB-49AE-4741-9228-956D6403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D94-0142-4F98-92C5-619BDC1C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913-0C92-45DB-BF47-EE838BCF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A0B-1F5F-4531-8F75-F0FD9D82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F3A-D44C-42B2-B47E-7B4A1674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25D-9AD7-46A9-A33A-45209334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2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589480"/>
                <a:gd name="textAreaBottom" fmla="*/ 2589840 h 258948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4" name="Oval 5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6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7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8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9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>
                  <a:gd name="textAreaLeft" fmla="*/ 0 w 606960"/>
                  <a:gd name="textAreaRight" fmla="*/ 607320 w 60696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>
                  <a:gd name="textAreaLeft" fmla="*/ 0 w 703800"/>
                  <a:gd name="textAreaRight" fmla="*/ 704160 w 7038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>
                  <a:gd name="textAreaLeft" fmla="*/ 0 w 1188720"/>
                  <a:gd name="textAreaRight" fmla="*/ 1189080 w 1188720"/>
                  <a:gd name="textAreaTop" fmla="*/ 0 h 729360"/>
                  <a:gd name="textAreaBottom" fmla="*/ 729720 h 72936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5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6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6" name="Oval 17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8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19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0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1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2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3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4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>
                  <a:gd name="textAreaLeft" fmla="*/ 0 w 1414440"/>
                  <a:gd name="textAreaRight" fmla="*/ 1414800 w 1414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770040"/>
                  <a:gd name="textAreaBottom" fmla="*/ 770400 h 7700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>
                  <a:gd name="textAreaLeft" fmla="*/ 0 w 1324080"/>
                  <a:gd name="textAreaRight" fmla="*/ 1324440 w 132408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730080"/>
                  <a:gd name="textAreaBottom" fmla="*/ 730440 h 7300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>
                  <a:gd name="textAreaLeft" fmla="*/ 0 w 570960"/>
                  <a:gd name="textAreaRight" fmla="*/ 571320 w 570960"/>
                  <a:gd name="textAreaTop" fmla="*/ 0 h 891720"/>
                  <a:gd name="textAreaBottom" fmla="*/ 892080 h 89172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>
                  <a:gd name="textAreaLeft" fmla="*/ 0 w 1709280"/>
                  <a:gd name="textAreaRight" fmla="*/ 1709640 w 1709280"/>
                  <a:gd name="textAreaTop" fmla="*/ 0 h 672840"/>
                  <a:gd name="textAreaBottom" fmla="*/ 673200 h 6728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>
                  <a:gd name="textAreaLeft" fmla="*/ 0 w 155160"/>
                  <a:gd name="textAreaRight" fmla="*/ 155160 w 15516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1015200"/>
                  <a:gd name="textAreaBottom" fmla="*/ 1015560 h 101520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5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35" name="Freeform 36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>
                  <a:gd name="textAreaLeft" fmla="*/ 0 w 1904400"/>
                  <a:gd name="textAreaRight" fmla="*/ 1904760 w 1904400"/>
                  <a:gd name="textAreaTop" fmla="*/ 0 h 1157760"/>
                  <a:gd name="textAreaBottom" fmla="*/ 1158120 h 115776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>
                  <a:gd name="textAreaLeft" fmla="*/ 0 w 862560"/>
                  <a:gd name="textAreaRight" fmla="*/ 862920 w 862560"/>
                  <a:gd name="textAreaTop" fmla="*/ 0 h 1167480"/>
                  <a:gd name="textAreaBottom" fmla="*/ 1167840 h 116748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>
                  <a:gd name="textAreaLeft" fmla="*/ 0 w 965880"/>
                  <a:gd name="textAreaRight" fmla="*/ 966240 w 965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0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>
                  <a:gd name="textAreaLeft" fmla="*/ 0 w 1117800"/>
                  <a:gd name="textAreaRight" fmla="*/ 1118160 w 111780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1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540360"/>
                  <a:gd name="textAreaBottom" fmla="*/ 540360 h 540360"/>
                </a:gdLst>
                <a:ahLst/>
                <a:rect l="textAreaLeft" t="textAreaTop" r="textAreaRight" b="textAreaBottom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2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3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682920"/>
                  <a:gd name="textAreaBottom" fmla="*/ 683280 h 68292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4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5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>
                  <a:gd name="textAreaLeft" fmla="*/ 0 w 578880"/>
                  <a:gd name="textAreaRight" fmla="*/ 579240 w 578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6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7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8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49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0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1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2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3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53" name="Freeform 54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>
                  <a:gd name="textAreaLeft" fmla="*/ 0 w 606240"/>
                  <a:gd name="textAreaRight" fmla="*/ 606600 w 60624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5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6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7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8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293400"/>
                  <a:gd name="textAreaBottom" fmla="*/ 293400 h 2934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fe1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079CEE-C34A-4DA7-8111-939D6F5C0DE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Freeform 2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589480"/>
                <a:gd name="textAreaBottom" fmla="*/ 2589840 h 258948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5599800" y="5896440"/>
              <a:ext cx="1254960" cy="824400"/>
              <a:chOff x="5599800" y="5896440"/>
              <a:chExt cx="1254960" cy="824400"/>
            </a:xfrm>
          </p:grpSpPr>
          <p:sp>
            <p:nvSpPr>
              <p:cNvPr id="109" name="Oval 4"/>
              <p:cNvSpPr/>
              <p:nvPr/>
            </p:nvSpPr>
            <p:spPr>
              <a:xfrm>
                <a:off x="5851440" y="6046560"/>
                <a:ext cx="843120" cy="517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5"/>
              <p:cNvSpPr/>
              <p:nvPr/>
            </p:nvSpPr>
            <p:spPr>
              <a:xfrm>
                <a:off x="5914800" y="6094080"/>
                <a:ext cx="71640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6"/>
              <p:cNvSpPr/>
              <p:nvPr/>
            </p:nvSpPr>
            <p:spPr>
              <a:xfrm>
                <a:off x="6003720" y="6144480"/>
                <a:ext cx="545040" cy="3276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>
                <a:off x="6067080" y="6182640"/>
                <a:ext cx="415440" cy="2512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8"/>
              <p:cNvSpPr/>
              <p:nvPr/>
            </p:nvSpPr>
            <p:spPr>
              <a:xfrm>
                <a:off x="6120720" y="6224040"/>
                <a:ext cx="304200" cy="169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5675400" y="5896440"/>
                <a:ext cx="606960" cy="254520"/>
              </a:xfrm>
              <a:custGeom>
                <a:avLst/>
                <a:gdLst>
                  <a:gd name="textAreaLeft" fmla="*/ 0 w 606960"/>
                  <a:gd name="textAreaRight" fmla="*/ 607320 w 60696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865480" y="6616440"/>
                <a:ext cx="703800" cy="104400"/>
              </a:xfrm>
              <a:custGeom>
                <a:avLst/>
                <a:gdLst>
                  <a:gd name="textAreaLeft" fmla="*/ 0 w 703800"/>
                  <a:gd name="textAreaRight" fmla="*/ 704160 w 70380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5599800" y="6198480"/>
                <a:ext cx="140760" cy="34200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5666040" y="5943600"/>
                <a:ext cx="1188720" cy="729360"/>
              </a:xfrm>
              <a:custGeom>
                <a:avLst/>
                <a:gdLst>
                  <a:gd name="textAreaLeft" fmla="*/ 0 w 1188720"/>
                  <a:gd name="textAreaRight" fmla="*/ 1189080 w 1188720"/>
                  <a:gd name="textAreaTop" fmla="*/ 0 h 729360"/>
                  <a:gd name="textAreaBottom" fmla="*/ 729720 h 72936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6407640" y="5905800"/>
                <a:ext cx="152280" cy="471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4"/>
              <p:cNvSpPr/>
              <p:nvPr/>
            </p:nvSpPr>
            <p:spPr>
              <a:xfrm>
                <a:off x="6206400" y="6265080"/>
                <a:ext cx="133200" cy="835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5"/>
            <p:cNvGrpSpPr/>
            <p:nvPr/>
          </p:nvGrpSpPr>
          <p:grpSpPr>
            <a:xfrm>
              <a:off x="2818800" y="5763240"/>
              <a:ext cx="2578320" cy="1081440"/>
              <a:chOff x="2818800" y="5763240"/>
              <a:chExt cx="2578320" cy="1081440"/>
            </a:xfrm>
          </p:grpSpPr>
          <p:sp>
            <p:nvSpPr>
              <p:cNvPr id="121" name="Oval 16"/>
              <p:cNvSpPr/>
              <p:nvPr/>
            </p:nvSpPr>
            <p:spPr>
              <a:xfrm>
                <a:off x="3598560" y="6242760"/>
                <a:ext cx="1011960" cy="5968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7"/>
              <p:cNvSpPr/>
              <p:nvPr/>
            </p:nvSpPr>
            <p:spPr>
              <a:xfrm>
                <a:off x="3671640" y="6280920"/>
                <a:ext cx="861120" cy="52560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8"/>
              <p:cNvSpPr/>
              <p:nvPr/>
            </p:nvSpPr>
            <p:spPr>
              <a:xfrm>
                <a:off x="3714480" y="6314040"/>
                <a:ext cx="794160" cy="4734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19"/>
              <p:cNvSpPr/>
              <p:nvPr/>
            </p:nvSpPr>
            <p:spPr>
              <a:xfrm>
                <a:off x="3757320" y="6342840"/>
                <a:ext cx="704160" cy="408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0"/>
              <p:cNvSpPr/>
              <p:nvPr/>
            </p:nvSpPr>
            <p:spPr>
              <a:xfrm>
                <a:off x="3784320" y="6355440"/>
                <a:ext cx="654840" cy="379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1"/>
              <p:cNvSpPr/>
              <p:nvPr/>
            </p:nvSpPr>
            <p:spPr>
              <a:xfrm>
                <a:off x="3866760" y="6388560"/>
                <a:ext cx="485280" cy="3038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2"/>
              <p:cNvSpPr/>
              <p:nvPr/>
            </p:nvSpPr>
            <p:spPr>
              <a:xfrm>
                <a:off x="3928320" y="6436080"/>
                <a:ext cx="360000" cy="2134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3"/>
              <p:cNvSpPr/>
              <p:nvPr/>
            </p:nvSpPr>
            <p:spPr>
              <a:xfrm>
                <a:off x="4033440" y="6501240"/>
                <a:ext cx="142200" cy="94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4101480" y="6065640"/>
                <a:ext cx="712080" cy="294480"/>
              </a:xfrm>
              <a:custGeom>
                <a:avLst/>
                <a:gdLst>
                  <a:gd name="textAreaLeft" fmla="*/ 0 w 712080"/>
                  <a:gd name="textAreaRight" fmla="*/ 712440 w 71208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3399120" y="6112800"/>
                <a:ext cx="1414440" cy="731880"/>
              </a:xfrm>
              <a:custGeom>
                <a:avLst/>
                <a:gdLst>
                  <a:gd name="textAreaLeft" fmla="*/ 0 w 1414440"/>
                  <a:gd name="textAreaRight" fmla="*/ 1414800 w 1414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3303720" y="6074640"/>
                <a:ext cx="645480" cy="770040"/>
              </a:xfrm>
              <a:custGeom>
                <a:avLst/>
                <a:gdLst>
                  <a:gd name="textAreaLeft" fmla="*/ 0 w 645480"/>
                  <a:gd name="textAreaRight" fmla="*/ 645840 w 645480"/>
                  <a:gd name="textAreaTop" fmla="*/ 0 h 770040"/>
                  <a:gd name="textAreaBottom" fmla="*/ 770400 h 7700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4739040" y="6417000"/>
                <a:ext cx="171000" cy="39888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3281400" y="5848560"/>
                <a:ext cx="1324080" cy="237240"/>
              </a:xfrm>
              <a:custGeom>
                <a:avLst/>
                <a:gdLst>
                  <a:gd name="textAreaLeft" fmla="*/ 0 w 1324080"/>
                  <a:gd name="textAreaRight" fmla="*/ 1324440 w 132408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29"/>
              <p:cNvSpPr/>
              <p:nvPr/>
            </p:nvSpPr>
            <p:spPr>
              <a:xfrm>
                <a:off x="2962800" y="6114600"/>
                <a:ext cx="271080" cy="730080"/>
              </a:xfrm>
              <a:custGeom>
                <a:avLst/>
                <a:gdLst>
                  <a:gd name="textAreaLeft" fmla="*/ 0 w 271080"/>
                  <a:gd name="textAreaRight" fmla="*/ 271440 w 271080"/>
                  <a:gd name="textAreaTop" fmla="*/ 0 h 730080"/>
                  <a:gd name="textAreaBottom" fmla="*/ 730440 h 7300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0"/>
              <p:cNvSpPr/>
              <p:nvPr/>
            </p:nvSpPr>
            <p:spPr>
              <a:xfrm>
                <a:off x="4681800" y="5952960"/>
                <a:ext cx="570960" cy="891720"/>
              </a:xfrm>
              <a:custGeom>
                <a:avLst/>
                <a:gdLst>
                  <a:gd name="textAreaLeft" fmla="*/ 0 w 570960"/>
                  <a:gd name="textAreaRight" fmla="*/ 571320 w 570960"/>
                  <a:gd name="textAreaTop" fmla="*/ 0 h 891720"/>
                  <a:gd name="textAreaBottom" fmla="*/ 892080 h 89172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1"/>
              <p:cNvSpPr/>
              <p:nvPr/>
            </p:nvSpPr>
            <p:spPr>
              <a:xfrm>
                <a:off x="3678120" y="5763240"/>
                <a:ext cx="1709280" cy="672840"/>
              </a:xfrm>
              <a:custGeom>
                <a:avLst/>
                <a:gdLst>
                  <a:gd name="textAreaLeft" fmla="*/ 0 w 1709280"/>
                  <a:gd name="textAreaRight" fmla="*/ 1709640 w 1709280"/>
                  <a:gd name="textAreaTop" fmla="*/ 0 h 672840"/>
                  <a:gd name="textAreaBottom" fmla="*/ 673200 h 6728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>
                <a:off x="5241960" y="6474240"/>
                <a:ext cx="155160" cy="370440"/>
              </a:xfrm>
              <a:custGeom>
                <a:avLst/>
                <a:gdLst>
                  <a:gd name="textAreaLeft" fmla="*/ 0 w 155160"/>
                  <a:gd name="textAreaRight" fmla="*/ 155160 w 155160"/>
                  <a:gd name="textAreaTop" fmla="*/ 0 h 370440"/>
                  <a:gd name="textAreaBottom" fmla="*/ 370800 h 37044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3"/>
              <p:cNvSpPr/>
              <p:nvPr/>
            </p:nvSpPr>
            <p:spPr>
              <a:xfrm>
                <a:off x="2818800" y="5829480"/>
                <a:ext cx="762480" cy="101520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1015200"/>
                  <a:gd name="textAreaBottom" fmla="*/ 1015560 h 101520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4"/>
            <p:cNvGrpSpPr/>
            <p:nvPr/>
          </p:nvGrpSpPr>
          <p:grpSpPr>
            <a:xfrm>
              <a:off x="6552000" y="5333400"/>
              <a:ext cx="2142360" cy="1300320"/>
              <a:chOff x="6552000" y="5333400"/>
              <a:chExt cx="2142360" cy="1300320"/>
            </a:xfrm>
          </p:grpSpPr>
          <p:sp>
            <p:nvSpPr>
              <p:cNvPr id="140" name="Freeform 35"/>
              <p:cNvSpPr/>
              <p:nvPr/>
            </p:nvSpPr>
            <p:spPr>
              <a:xfrm>
                <a:off x="6666120" y="5399640"/>
                <a:ext cx="1904400" cy="1157760"/>
              </a:xfrm>
              <a:custGeom>
                <a:avLst/>
                <a:gdLst>
                  <a:gd name="textAreaLeft" fmla="*/ 0 w 1904400"/>
                  <a:gd name="textAreaRight" fmla="*/ 1904760 w 1904400"/>
                  <a:gd name="textAreaTop" fmla="*/ 0 h 1157760"/>
                  <a:gd name="textAreaBottom" fmla="*/ 1158120 h 115776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6"/>
              <p:cNvSpPr/>
              <p:nvPr/>
            </p:nvSpPr>
            <p:spPr>
              <a:xfrm>
                <a:off x="6552000" y="5342400"/>
                <a:ext cx="862560" cy="1167480"/>
              </a:xfrm>
              <a:custGeom>
                <a:avLst/>
                <a:gdLst>
                  <a:gd name="textAreaLeft" fmla="*/ 0 w 862560"/>
                  <a:gd name="textAreaRight" fmla="*/ 862920 w 862560"/>
                  <a:gd name="textAreaTop" fmla="*/ 0 h 1167480"/>
                  <a:gd name="textAreaBottom" fmla="*/ 1167840 h 116748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7"/>
              <p:cNvSpPr/>
              <p:nvPr/>
            </p:nvSpPr>
            <p:spPr>
              <a:xfrm>
                <a:off x="7605000" y="5333400"/>
                <a:ext cx="965880" cy="398880"/>
              </a:xfrm>
              <a:custGeom>
                <a:avLst/>
                <a:gdLst>
                  <a:gd name="textAreaLeft" fmla="*/ 0 w 965880"/>
                  <a:gd name="textAreaRight" fmla="*/ 966240 w 965880"/>
                  <a:gd name="textAreaTop" fmla="*/ 0 h 398880"/>
                  <a:gd name="textAreaBottom" fmla="*/ 399240 h 39888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8"/>
              <p:cNvSpPr/>
              <p:nvPr/>
            </p:nvSpPr>
            <p:spPr>
              <a:xfrm>
                <a:off x="8325000" y="6358320"/>
                <a:ext cx="114120" cy="853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39"/>
              <p:cNvSpPr/>
              <p:nvPr/>
            </p:nvSpPr>
            <p:spPr>
              <a:xfrm>
                <a:off x="7149960" y="6462720"/>
                <a:ext cx="1117800" cy="171000"/>
              </a:xfrm>
              <a:custGeom>
                <a:avLst/>
                <a:gdLst>
                  <a:gd name="textAreaLeft" fmla="*/ 0 w 1117800"/>
                  <a:gd name="textAreaRight" fmla="*/ 1118160 w 111780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>
                <a:off x="8467560" y="5798880"/>
                <a:ext cx="226800" cy="54036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540360"/>
                  <a:gd name="textAreaBottom" fmla="*/ 540360 h 540360"/>
                </a:gdLst>
                <a:ahLst/>
                <a:rect l="textAreaLeft" t="textAreaTop" r="textAreaRight" b="textAreaBottom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>
                <a:off x="8031600" y="5751360"/>
                <a:ext cx="131400" cy="14256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>
                <a:off x="7054560" y="5637240"/>
                <a:ext cx="1136880" cy="682920"/>
              </a:xfrm>
              <a:custGeom>
                <a:avLst/>
                <a:gdLst>
                  <a:gd name="textAreaLeft" fmla="*/ 0 w 1136880"/>
                  <a:gd name="textAreaRight" fmla="*/ 1137240 w 1136880"/>
                  <a:gd name="textAreaTop" fmla="*/ 0 h 682920"/>
                  <a:gd name="textAreaBottom" fmla="*/ 683280 h 68292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>
                <a:off x="6902640" y="5570640"/>
                <a:ext cx="1441080" cy="84456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>
                <a:off x="7243560" y="5542200"/>
                <a:ext cx="578880" cy="104400"/>
              </a:xfrm>
              <a:custGeom>
                <a:avLst/>
                <a:gdLst>
                  <a:gd name="textAreaLeft" fmla="*/ 0 w 578880"/>
                  <a:gd name="textAreaRight" fmla="*/ 579240 w 5788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5"/>
              <p:cNvSpPr/>
              <p:nvPr/>
            </p:nvSpPr>
            <p:spPr>
              <a:xfrm>
                <a:off x="7083360" y="5646960"/>
                <a:ext cx="104400" cy="75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6"/>
              <p:cNvSpPr/>
              <p:nvPr/>
            </p:nvSpPr>
            <p:spPr>
              <a:xfrm>
                <a:off x="7215120" y="5725800"/>
                <a:ext cx="821160" cy="5054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7"/>
              <p:cNvSpPr/>
              <p:nvPr/>
            </p:nvSpPr>
            <p:spPr>
              <a:xfrm>
                <a:off x="7265880" y="5760720"/>
                <a:ext cx="707040" cy="42912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8"/>
              <p:cNvSpPr/>
              <p:nvPr/>
            </p:nvSpPr>
            <p:spPr>
              <a:xfrm>
                <a:off x="7316280" y="5792400"/>
                <a:ext cx="612000" cy="3693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7386120" y="5837040"/>
                <a:ext cx="472320" cy="280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7443360" y="5868720"/>
                <a:ext cx="352080" cy="219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1"/>
              <p:cNvSpPr/>
              <p:nvPr/>
            </p:nvSpPr>
            <p:spPr>
              <a:xfrm>
                <a:off x="7519320" y="591588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2"/>
            <p:cNvGrpSpPr/>
            <p:nvPr/>
          </p:nvGrpSpPr>
          <p:grpSpPr>
            <a:xfrm>
              <a:off x="8380440" y="4800240"/>
              <a:ext cx="672480" cy="407160"/>
              <a:chOff x="8380440" y="4800240"/>
              <a:chExt cx="672480" cy="407160"/>
            </a:xfrm>
          </p:grpSpPr>
          <p:sp>
            <p:nvSpPr>
              <p:cNvPr id="158" name="Freeform 53"/>
              <p:cNvSpPr/>
              <p:nvPr/>
            </p:nvSpPr>
            <p:spPr>
              <a:xfrm>
                <a:off x="8380440" y="5055840"/>
                <a:ext cx="606240" cy="151560"/>
              </a:xfrm>
              <a:custGeom>
                <a:avLst/>
                <a:gdLst>
                  <a:gd name="textAreaLeft" fmla="*/ 0 w 606240"/>
                  <a:gd name="textAreaRight" fmla="*/ 606600 w 60624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4"/>
              <p:cNvSpPr/>
              <p:nvPr/>
            </p:nvSpPr>
            <p:spPr>
              <a:xfrm>
                <a:off x="8435880" y="4800240"/>
                <a:ext cx="407880" cy="8496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5"/>
              <p:cNvSpPr/>
              <p:nvPr/>
            </p:nvSpPr>
            <p:spPr>
              <a:xfrm>
                <a:off x="8958240" y="4866480"/>
                <a:ext cx="94680" cy="24624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6"/>
              <p:cNvSpPr/>
              <p:nvPr/>
            </p:nvSpPr>
            <p:spPr>
              <a:xfrm>
                <a:off x="8530560" y="5150520"/>
                <a:ext cx="303840" cy="2808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7"/>
              <p:cNvSpPr/>
              <p:nvPr/>
            </p:nvSpPr>
            <p:spPr>
              <a:xfrm>
                <a:off x="8418240" y="4828320"/>
                <a:ext cx="254880" cy="293760"/>
              </a:xfrm>
              <a:custGeom>
                <a:avLst/>
                <a:gdLst>
                  <a:gd name="textAreaLeft" fmla="*/ 0 w 254880"/>
                  <a:gd name="textAreaRight" fmla="*/ 255240 w 25488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8"/>
              <p:cNvSpPr/>
              <p:nvPr/>
            </p:nvSpPr>
            <p:spPr>
              <a:xfrm>
                <a:off x="8711280" y="4828320"/>
                <a:ext cx="294120" cy="331560"/>
              </a:xfrm>
              <a:custGeom>
                <a:avLst/>
                <a:gdLst>
                  <a:gd name="textAreaLeft" fmla="*/ 0 w 294120"/>
                  <a:gd name="textAreaRight" fmla="*/ 294480 w 2941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8483400" y="4853880"/>
                <a:ext cx="473040" cy="2934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293400"/>
                  <a:gd name="textAreaBottom" fmla="*/ 293400 h 2934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0"/>
              <p:cNvGrpSpPr/>
              <p:nvPr/>
            </p:nvGrpSpPr>
            <p:grpSpPr>
              <a:xfrm>
                <a:off x="8540280" y="4896360"/>
                <a:ext cx="357480" cy="206640"/>
                <a:chOff x="8540280" y="4896360"/>
                <a:chExt cx="357480" cy="206640"/>
              </a:xfrm>
            </p:grpSpPr>
            <p:sp>
              <p:nvSpPr>
                <p:cNvPr id="166" name="Oval 61"/>
                <p:cNvSpPr/>
                <p:nvPr/>
              </p:nvSpPr>
              <p:spPr>
                <a:xfrm>
                  <a:off x="8540280" y="4896360"/>
                  <a:ext cx="357480" cy="20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2"/>
                <p:cNvSpPr/>
                <p:nvPr/>
              </p:nvSpPr>
              <p:spPr>
                <a:xfrm>
                  <a:off x="8574840" y="4918320"/>
                  <a:ext cx="286200" cy="15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3"/>
                <p:cNvSpPr/>
                <p:nvPr/>
              </p:nvSpPr>
              <p:spPr>
                <a:xfrm>
                  <a:off x="8618760" y="4933800"/>
                  <a:ext cx="196560" cy="12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4"/>
                <p:cNvSpPr/>
                <p:nvPr/>
              </p:nvSpPr>
              <p:spPr>
                <a:xfrm>
                  <a:off x="8661240" y="4958640"/>
                  <a:ext cx="114840" cy="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FB0E61-5A8F-43CC-AFDF-2D88A6D2921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Терроризм и экстремизм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5867280" y="1557360"/>
            <a:ext cx="2335320" cy="3516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США впервые опубликовали видео с устроившими теракт 11 сентября."/>
          <p:cNvPicPr/>
          <p:nvPr/>
        </p:nvPicPr>
        <p:blipFill>
          <a:blip r:embed="rId2"/>
          <a:stretch/>
        </p:blipFill>
        <p:spPr>
          <a:xfrm>
            <a:off x="468360" y="184464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57200" y="198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100" spc="-1" strike="noStrike">
                <a:solidFill>
                  <a:srgbClr val="ff9900"/>
                </a:solidFill>
                <a:latin typeface="Arial"/>
              </a:rPr>
              <a:t>Терроризм в Москве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179280" y="907920"/>
            <a:ext cx="87854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ctr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Террористический акт в Москве 2002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3 октября 2002 года в 21.05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центре Москвы (в театральном центре на Дубровке) боле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 вооруженных террористов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захватили зал, в котором шел популярный мюзикл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«Норд-Ост»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Террористы требовали прекратить войну в Чечне, угрожая расстрелять заложников и взорвать зал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6 октября в 5.32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сле уникальной в мировой истории спецоперации более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0 заложников были освобожден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Уничтожены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0 террорист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32 мужчин и 18 женщин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7 заложник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гиб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8 октября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ыл объявлен день трау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5796000" y="4437000"/>
            <a:ext cx="30798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250920" y="260280"/>
            <a:ext cx="86835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Террористический акт на Тушинском аэродро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5 июля 2003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Москве был совершён террористический акт: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у входа на Тушинский аэродром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где в это время проходил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рок-фестиваль «Крылья»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были взорваны две бомбы. Взрывы произвели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две террористки-смертниц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По официальным данным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погибло 13 и ранено 59 человек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Больших жертв удалось избежать только потому, что охрана, заподозрив этих женщин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не пропустила их в толп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участников фестива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spcBef>
                <a:spcPts val="7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179280" y="189000"/>
            <a:ext cx="87552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Террористический акт окол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Arial"/>
              </a:rPr>
              <a:t>гостиницы «Национал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ctr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 декабря 2003 год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езультате взрыва около гостиницы "Националь" в центре Москвы, по уточненным данным, пять человек погибли и 13 получили ранения. Теракт возле гостиницы "Националь" совершила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дна террористка-смертниц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50920" y="-17640"/>
            <a:ext cx="87138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ff9900"/>
                </a:solidFill>
                <a:latin typeface="Arial"/>
              </a:rPr>
              <a:t>Захват заложников в Беслане</a:t>
            </a:r>
            <a:br>
              <a:rPr sz="1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179280" y="1143000"/>
            <a:ext cx="86788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римерно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 8 утра 1 сентября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районе села Хурикау, на границе Моздокского и Правобережного районов Северной Осетии, примерно в 60 км от Беслана, вооруженные люди остановили местного участкового, майора милиции и посадили его в свою маши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По предварительным данным, именно с помощью удостоверения сотрудника МВД боевики на ГАЗ-66 и двух легковых автомобилях беспрепятственно миновали несколько КПП по пути до Бесл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928960" y="3786120"/>
            <a:ext cx="389880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3995640" y="500040"/>
            <a:ext cx="493884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Во время проведения торжественной линейки по случаю 1 сентября они ворвались на территорию школы №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Всего на линейке, по данным комитета образования администрации Беслана, присутствовали 895 учеников и 59 учителей и технических сотрудников шко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바탕"/>
              </a:rPr>
              <a:t>Количество родителей, пришедших проводить детей в школу, неизвестно. Открыв беспорядочную стрельбу в воздух, боевики приказали всем присутствующим зайти в здание школы, однако большинство - в основном старшеклассники и взрослые - смогли просто разбежаться. Тех кто не смог это сделать - учеников младших классов и их родителей и часть учителей - бандиты загнали в спортз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643200" cy="27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179280" y="189000"/>
            <a:ext cx="8604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 первые же минуты захвата на звуки выстрелов к школе начали сбегаться сотрудники горотдела милиции. В хаотичной перестрелке погибли трое человек. Одно тело лежало у входа в здание, два других - на проезжей части у ограды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се погибшие - гражданские лиц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В течение всего дня боевики не давали забрать тела, открывая огонь при приближении людей к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911840" y="2857680"/>
            <a:ext cx="3946320" cy="2857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36655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Возьмите за правило всегда уточнять, где находиться резервные выходы из помещений. Заранее подумайте, как вы будете покидать здание, если в нем произойдёт ЧП. Никогда не пытайтесь выбраться из горящего здания на лифте. Во-первых, механизм лифта может быть повреждён. Во-вторых, обычно испуганные люди бегут к лифтам. Лифты не рассчитаны на перевозку столь большого количества пассажиров - поэтому драгоценные минуты, необходимые для спасения, могут быть потеря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В залах ожидания аэропортов, вокзалов и т.д. старайтесь располагаться подальше от хрупких и тяжелых конструкций. В случае взрыва они могут упасть или разлететься на мелкие кусочки, которые выступят в роли осколков, как правило, именно они могут явиться причиной факторов вторичного поражения и большинства ран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Будьте особо внимательны во время путешествий. Обращайте внимание на подозрительные детали и мелочи - лучше сообщить о них сотрудникам правоохранительных органов. Никогда не принимайте пакеты, вещи и посылки для передачи от незнакомцев и никогда не оставляйте свой багаж без присмо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5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 u="sng">
                <a:solidFill>
                  <a:srgbClr val="cc6600"/>
                </a:solidFill>
                <a:uFillTx/>
                <a:latin typeface="Arial"/>
              </a:rPr>
              <a:t>Что делать, если вы оказались в заложниках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Не выделяйтесь и не сопротивляйт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Не пытайтесь  беж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Постарайтесь оценить обстановку и избегайте необдуманных действ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Не оказывайте  сопротив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  Как можно быстрее постарайтесь взять себя в руки, всеми силами подавить в себе панику и, на сколько это возможно успоко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.  Подготовиться к моральным, физическим и эмоциональным испытан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6.  Говорить спокойным ровным голос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067280" y="360360"/>
            <a:ext cx="47718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Экстремизм и терроризм</a:t>
            </a:r>
            <a:r>
              <a:rPr b="0" lang="en-GB" sz="2800" spc="-1" strike="noStrike">
                <a:solidFill>
                  <a:srgbClr val="c00000"/>
                </a:solidFill>
                <a:latin typeface="Arial Black"/>
              </a:rPr>
              <a:t> – это форм</a:t>
            </a: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ы</a:t>
            </a:r>
            <a:r>
              <a:rPr b="0" lang="en-GB" sz="2800" spc="-1" strike="noStrike">
                <a:solidFill>
                  <a:srgbClr val="c00000"/>
                </a:solidFill>
                <a:latin typeface="Arial Black"/>
              </a:rPr>
              <a:t> организованного насилия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95280" y="2997360"/>
            <a:ext cx="500220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556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25560"/>
                <a:tab algn="l" pos="939960"/>
                <a:tab algn="l" pos="1854360"/>
                <a:tab algn="l" pos="2768760"/>
                <a:tab algn="l" pos="3683160"/>
                <a:tab algn="l" pos="4597560"/>
                <a:tab algn="l" pos="5511960"/>
                <a:tab algn="l" pos="6426360"/>
                <a:tab algn="l" pos="7340760"/>
                <a:tab algn="l" pos="8255160"/>
                <a:tab algn="l" pos="9169560"/>
                <a:tab algn="l" pos="10083960"/>
                <a:tab algn="l" pos="10333080"/>
                <a:tab algn="l" pos="10782360"/>
              </a:tabLst>
            </a:pPr>
            <a:r>
              <a:rPr b="1" lang="en-GB" sz="3100" spc="-1" strike="noStrike">
                <a:solidFill>
                  <a:srgbClr val="320e04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6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5921640" cy="37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7.   Ни в коем случае не допускать действий, которые могут спровоцировать нападающих к применению оружия и привести к человеческим жер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8.  Переносить лишения, оскорбления и унижения без вызова и возра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9.  Экономьте и поддерживайте силы, чем угодно используйте любую возмож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выполнила преподаватель иностранного языка Панченко Лариса Сергеев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824040"/>
            <a:ext cx="82296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Терроризм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—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еступление, главной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целью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которого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является нарушение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общественной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безопасности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, которое выражается в посягательстве на: жизнь и здоровье граждан, объекты критической инфраструктуры, природную среду, информационную среду, органы государственного управления, государственных и общественных деятелей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185400"/>
            <a:ext cx="8229600" cy="61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 Black"/>
              </a:rPr>
              <a:t>Терроризм –</a:t>
            </a: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кции, сопряженные с применением насилия или угрозой насилия, сопровождаемые выдвижением конкретных требований. Насилие направлено против гражданских объектов и лиц. Мотивы имеют политический или иной характер. Исполнители малочисленны, оторваны от населения, являются членами организованных групп, берут на себя ответственность  за совершаемые акции. Акции совершаются так, чтобы привлечь максимум внимания и оказать воздействие на власть или определённые группы населения, выходя за рамки причинения непосредственного физического ущерба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54720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Террористический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акт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овершение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взрыва, поджога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ных действий, устрашающих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население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оздающих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пасность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гибели человека, причинения значительного имущественного ущерба либо наступления иных тяжких последствий, в целях дестабилизации деятельности органов власти или международных организаций либо воздействия на принятие ими решений, а также угроза совершения указанных действий в тех же целях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33"/>
                </a:solidFill>
                <a:latin typeface="Impact"/>
              </a:rPr>
              <a:t>Три стороны конфликта террористической акци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Те, кто совершает теракт (террористы)</a:t>
            </a:r>
            <a:r>
              <a:rPr b="1" lang="ar-SA" sz="4000" spc="-1" strike="noStrike">
                <a:solidFill>
                  <a:srgbClr val="000066"/>
                </a:solidFill>
                <a:latin typeface="Arial"/>
                <a:ea typeface="Arial"/>
              </a:rPr>
              <a:t>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Непосредственные жертвы а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Те, кого хотят запугать и заставить вести себя определённым образ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79280" y="-372960"/>
            <a:ext cx="8964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Террористическая деятельность </a:t>
            </a:r>
            <a:br>
              <a:rPr sz="2800"/>
            </a:b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включает следующие действия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179280" y="981000"/>
            <a:ext cx="87472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рганизацию, планирование, подготовку и реализацию террористической ак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Подстрекательство к террористической акции, насилию над физическими лицами или организациями, уничтожению материальных объектов в террористических целя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Организацию незаконного вооруженного формирования, преступного сообщества (преступной организации), организованной группы для совершения террористической акции, а равно участие в такой ак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Вербовку, вооружение, обучение и использование террорист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Font typeface="Wingdings" charset="2"/>
              <a:buChar char="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Финансирование заведомо террористической организации или террористической группы или иное содействие 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785960" y="485784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572080" y="4857840"/>
            <a:ext cx="272088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1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Захват автобуса с деть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декабря 1988 г. в Минеральных водах 4 бандита потребовали крупную сумму денег в иностранной валюте и самолет для вылета за рубеж. В противном случае угрожали всех сжечь: под каждым сиденьем террористы поставили по три 3-литровых банки бензина. История с захватом детей прогремела на всю страну. По горячим следам были сняты 2 фильма: документальный «Заложники из 4-го «Г» и художественный «Взбесившийся автобус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2779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Разрушение Всемирного Торгового Цен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3348000" y="836640"/>
            <a:ext cx="56167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 algn="just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11 сентября 2001 года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, в 28-ю годовщину подготовленного ЦРУ </a:t>
            </a: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военного путча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в Чили, и 11-ю годовщину речи Буша-старшего "Новый мировой порядок", террористы захватили четыре самолета. Согласно официальной версии девятнадцать арабов угнали 4 самолета; врезались на двух из них в башни Всемирного Торгового центра, что стало причиной пожара внутри, и врезались на третьем в Пентагон. Согласно официальной версии, в результате пожара стальные несущие балки расплавились, что стало причиной обрушения баше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spcBef>
                <a:spcPts val="499"/>
              </a:spcBef>
              <a:tabLst>
                <a:tab algn="l" pos="0"/>
                <a:tab algn="l" pos="36360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313080" cy="5510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Admin</cp:lastModifiedBy>
  <dcterms:modified xsi:type="dcterms:W3CDTF">2022-04-29T13:17:22Z</dcterms:modified>
  <cp:revision>7</cp:revision>
  <dc:subject/>
  <dc:title>Защита населения</dc:title>
</cp:coreProperties>
</file>