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F48-7CC4-4BD0-AB9B-0924FF67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604152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152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AE1-15AC-4448-A29C-BA33D3B6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77080" y="403704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804-A020-4BE6-B5BA-F599313B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23720" y="175248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66360" y="175248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023720" y="403704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66360" y="403704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88B-E3EF-49EA-97B2-05D2A203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C73B-13D7-4142-8CDD-EC74B374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981080" y="1752480"/>
            <a:ext cx="604152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EB81-9A6A-420D-8C49-64712A5C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604152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1FA0-6B4A-4045-B620-4B58C9E0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AD69-2934-49E4-8DA8-359EB72F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DFC4-F905-47E1-9B23-520FF46A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364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62F5-1B1D-46B4-A517-53756A68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DB64-5046-484C-8A02-744CA894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981080" y="1752480"/>
            <a:ext cx="604152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67C-0516-4F0C-AF82-2C33C6AC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77080" y="403704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15B5-DF38-4EE8-B2CC-C5D3528B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152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C48C-74E7-424C-BD82-8D5FB256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604152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152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C042-8763-45E2-B9E0-3A8508F6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77080" y="403704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F62B-2A09-45B5-8882-D8125720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23720" y="175248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6360" y="175248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023720" y="403704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6360" y="403704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0FA1-350E-4548-9817-0EAE86A2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604152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2F0-CBC3-40F9-B011-40A8B183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8D3-4480-4095-9066-7FBFB219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CFD-A4A0-46E2-98DB-B57C1343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364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C1F-3249-4630-AC0B-BB7237EA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616-E8A8-4644-966D-65E96639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7080" y="403704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218-00C2-4BFF-9EC9-028DD47C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152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E3D8-1C5F-4D84-A3A4-3C9FCFEB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 hidden="1"/>
          <p:cNvSpPr/>
          <p:nvPr/>
        </p:nvSpPr>
        <p:spPr>
          <a:xfrm>
            <a:off x="-990720" y="76320"/>
            <a:ext cx="3339720" cy="6629040"/>
          </a:xfrm>
          <a:custGeom>
            <a:avLst/>
            <a:gdLst>
              <a:gd name="textAreaLeft" fmla="*/ 0 w 3339720"/>
              <a:gd name="textAreaRight" fmla="*/ 3340080 w 3339720"/>
              <a:gd name="textAreaTop" fmla="*/ 0 h 6629040"/>
              <a:gd name="textAreaBottom" fmla="*/ 6629400 h 6629040"/>
            </a:gdLst>
            <a:ahLst/>
            <a:rect l="textAreaLeft" t="textAreaTop" r="textAreaRight" b="textAreaBottom"/>
            <a:pathLst>
              <a:path w="3317780" h="6477009">
                <a:moveTo>
                  <a:pt x="1860712" y="2923534"/>
                </a:moveTo>
                <a:cubicBezTo>
                  <a:pt x="1944660" y="1493706"/>
                  <a:pt x="1492916" y="2558773"/>
                  <a:pt x="1479709" y="2562879"/>
                </a:cubicBezTo>
                <a:cubicBezTo>
                  <a:pt x="3317780" y="1849120"/>
                  <a:pt x="1173778" y="0"/>
                  <a:pt x="1621941" y="8"/>
                </a:cubicBezTo>
                <a:cubicBezTo>
                  <a:pt x="0" y="1257313"/>
                  <a:pt x="2466688" y="913421"/>
                  <a:pt x="2602364" y="2258084"/>
                </a:cubicBezTo>
                <a:cubicBezTo>
                  <a:pt x="2812155" y="1330547"/>
                  <a:pt x="2128243" y="1925755"/>
                  <a:pt x="1964838" y="2628909"/>
                </a:cubicBezTo>
                <a:cubicBezTo>
                  <a:pt x="1801433" y="3332063"/>
                  <a:pt x="1842490" y="6212005"/>
                  <a:pt x="1621936" y="6477009"/>
                </a:cubicBezTo>
                <a:cubicBezTo>
                  <a:pt x="1173776" y="6477006"/>
                  <a:pt x="3025088" y="1778999"/>
                  <a:pt x="1860712" y="2923534"/>
                </a:cubicBezTo>
                <a:close/>
              </a:path>
            </a:pathLst>
          </a:custGeom>
          <a:gradFill rotWithShape="0">
            <a:gsLst>
              <a:gs pos="25000">
                <a:srgbClr val="000000"/>
              </a:gs>
              <a:gs pos="100000">
                <a:srgbClr val="404040"/>
              </a:gs>
            </a:gsLst>
            <a:lin ang="5400000"/>
          </a:gradFill>
          <a:ln>
            <a:noFill/>
          </a:ln>
          <a:effectLst>
            <a:outerShdw algn="ctr" blurRad="76320" rotWithShape="0" sx="102000" sy="102000">
              <a:schemeClr val="tx1">
                <a:lumMod val="75000"/>
                <a:lumOff val="25000"/>
                <a:alpha val="40000"/>
              </a:schemeClr>
            </a:outerShdw>
          </a:effectLst>
          <a:scene3d>
            <a:camera prst="orthographicFront"/>
            <a:lightRig dir="t" rig="morning"/>
          </a:scene3d>
          <a:sp3d>
            <a:bevelT prst="convex" w="25400" h="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" name="Freeform 10"/>
          <p:cNvSpPr/>
          <p:nvPr/>
        </p:nvSpPr>
        <p:spPr>
          <a:xfrm flipH="1">
            <a:off x="215280" y="380880"/>
            <a:ext cx="2639520" cy="5028840"/>
          </a:xfrm>
          <a:custGeom>
            <a:avLst/>
            <a:gdLst>
              <a:gd name="textAreaLeft" fmla="*/ 360 w 2639520"/>
              <a:gd name="textAreaRight" fmla="*/ 2640240 w 2639520"/>
              <a:gd name="textAreaTop" fmla="*/ 0 h 5028840"/>
              <a:gd name="textAreaBottom" fmla="*/ 5029200 h 5028840"/>
            </a:gdLst>
            <a:ahLst/>
            <a:rect l="textAreaLeft" t="textAreaTop" r="textAreaRight" b="textAreaBottom"/>
            <a:pathLst>
              <a:path w="2928136" h="5578260">
                <a:moveTo>
                  <a:pt x="0" y="1053955"/>
                </a:moveTo>
                <a:cubicBezTo>
                  <a:pt x="849961" y="667873"/>
                  <a:pt x="530324" y="4656582"/>
                  <a:pt x="690002" y="4740060"/>
                </a:cubicBezTo>
                <a:cubicBezTo>
                  <a:pt x="746344" y="4782326"/>
                  <a:pt x="625000" y="1780895"/>
                  <a:pt x="958067" y="1554822"/>
                </a:cubicBezTo>
                <a:cubicBezTo>
                  <a:pt x="1204042" y="2617693"/>
                  <a:pt x="2516314" y="0"/>
                  <a:pt x="2928136" y="107023"/>
                </a:cubicBezTo>
                <a:cubicBezTo>
                  <a:pt x="1435513" y="2045643"/>
                  <a:pt x="468189" y="5267469"/>
                  <a:pt x="228600" y="2501761"/>
                </a:cubicBezTo>
                <a:cubicBezTo>
                  <a:pt x="360324" y="5578260"/>
                  <a:pt x="2153781" y="2236695"/>
                  <a:pt x="2470934" y="1696096"/>
                </a:cubicBezTo>
                <a:cubicBezTo>
                  <a:pt x="429222" y="2772608"/>
                  <a:pt x="411822" y="1160981"/>
                  <a:pt x="0" y="1053958"/>
                </a:cubicBezTo>
                <a:lnTo>
                  <a:pt x="0" y="1053955"/>
                </a:lnTo>
                <a:close/>
              </a:path>
            </a:pathLst>
          </a:custGeom>
          <a:gradFill rotWithShape="0">
            <a:gsLst>
              <a:gs pos="25000">
                <a:srgbClr val="000000"/>
              </a:gs>
              <a:gs pos="100000">
                <a:srgbClr val="404040"/>
              </a:gs>
            </a:gsLst>
            <a:lin ang="5400000"/>
          </a:gradFill>
          <a:ln>
            <a:noFill/>
          </a:ln>
          <a:effectLst>
            <a:outerShdw algn="ctr" blurRad="63360" rotWithShape="0" sx="101000" sy="101000">
              <a:schemeClr val="tx1">
                <a:lumMod val="75000"/>
                <a:lumOff val="25000"/>
                <a:alpha val="40000"/>
              </a:schemeClr>
            </a:outerShdw>
            <a:reflection algn="bl" blurRad="6350" dir="5400000" dist="101600" endA="100" endPos="40000" rotWithShape="0" stA="35000" sy="-100000"/>
          </a:effectLst>
          <a:scene3d>
            <a:camera prst="orthographicFront"/>
            <a:lightRig dir="t" rig="morning">
              <a:rot lat="0" lon="0" rev="12600000"/>
            </a:lightRig>
          </a:scene3d>
          <a:sp3d>
            <a:bevelT prst="riblet" w="25400" h="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  <p:grpSp>
        <p:nvGrpSpPr>
          <p:cNvPr id="2" name="Group 32"/>
          <p:cNvGrpSpPr/>
          <p:nvPr/>
        </p:nvGrpSpPr>
        <p:grpSpPr>
          <a:xfrm>
            <a:off x="6823440" y="4940280"/>
            <a:ext cx="2476080" cy="2335320"/>
            <a:chOff x="6823440" y="4940280"/>
            <a:chExt cx="2476080" cy="2335320"/>
          </a:xfrm>
        </p:grpSpPr>
        <p:sp>
          <p:nvSpPr>
            <p:cNvPr id="3" name="Freeform 9"/>
            <p:cNvSpPr/>
            <p:nvPr/>
          </p:nvSpPr>
          <p:spPr>
            <a:xfrm flipH="1" flipV="1" rot="6563400">
              <a:off x="7059960" y="5604480"/>
              <a:ext cx="915840" cy="1151280"/>
            </a:xfrm>
            <a:custGeom>
              <a:avLst/>
              <a:gdLst>
                <a:gd name="textAreaLeft" fmla="*/ 360 w 915840"/>
                <a:gd name="textAreaRight" fmla="*/ 916560 w 915840"/>
                <a:gd name="textAreaTop" fmla="*/ 360 h 1151280"/>
                <a:gd name="textAreaBottom" fmla="*/ 1152000 h 1151280"/>
              </a:gdLst>
              <a:ahLst/>
              <a:rect l="textAreaLeft" t="textAreaTop" r="textAreaRight" b="textAreaBottom"/>
              <a:pathLst>
                <a:path w="8199932" h="6332480">
                  <a:moveTo>
                    <a:pt x="2018323" y="2929074"/>
                  </a:moveTo>
                  <a:cubicBezTo>
                    <a:pt x="3003249" y="2846754"/>
                    <a:pt x="5361173" y="2118523"/>
                    <a:pt x="6391441" y="2370154"/>
                  </a:cubicBezTo>
                  <a:cubicBezTo>
                    <a:pt x="4898818" y="4308774"/>
                    <a:pt x="7624732" y="5885963"/>
                    <a:pt x="8199932" y="4438858"/>
                  </a:cubicBezTo>
                  <a:cubicBezTo>
                    <a:pt x="7518693" y="6332480"/>
                    <a:pt x="4790153" y="3688663"/>
                    <a:pt x="5245657" y="2521195"/>
                  </a:cubicBezTo>
                  <a:cubicBezTo>
                    <a:pt x="4165470" y="2430848"/>
                    <a:pt x="2526554" y="3142096"/>
                    <a:pt x="1789514" y="3071441"/>
                  </a:cubicBezTo>
                  <a:cubicBezTo>
                    <a:pt x="0" y="2987026"/>
                    <a:pt x="1550711" y="0"/>
                    <a:pt x="2018323" y="292907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5098"/>
                  </a:srgbClr>
                </a:gs>
              </a:gsLst>
              <a:lin ang="6558000"/>
            </a:gradFill>
            <a:ln>
              <a:noFill/>
            </a:ln>
            <a:scene3d>
              <a:camera prst="orthographicFront"/>
              <a:lightRig dir="t" rig="balanced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 flipH="1" flipV="1" rot="6563400">
              <a:off x="7490880" y="4987440"/>
              <a:ext cx="915840" cy="1151280"/>
            </a:xfrm>
            <a:custGeom>
              <a:avLst/>
              <a:gdLst>
                <a:gd name="textAreaLeft" fmla="*/ 360 w 915840"/>
                <a:gd name="textAreaRight" fmla="*/ 916560 w 915840"/>
                <a:gd name="textAreaTop" fmla="*/ 360 h 1151280"/>
                <a:gd name="textAreaBottom" fmla="*/ 1152000 h 1151280"/>
              </a:gdLst>
              <a:ahLst/>
              <a:rect l="textAreaLeft" t="textAreaTop" r="textAreaRight" b="textAreaBottom"/>
              <a:pathLst>
                <a:path w="8199932" h="6332480">
                  <a:moveTo>
                    <a:pt x="2018323" y="2929074"/>
                  </a:moveTo>
                  <a:cubicBezTo>
                    <a:pt x="3003249" y="2846754"/>
                    <a:pt x="5361173" y="2118523"/>
                    <a:pt x="6391441" y="2370154"/>
                  </a:cubicBezTo>
                  <a:cubicBezTo>
                    <a:pt x="4898818" y="4308774"/>
                    <a:pt x="7624732" y="5885963"/>
                    <a:pt x="8199932" y="4438858"/>
                  </a:cubicBezTo>
                  <a:cubicBezTo>
                    <a:pt x="7518693" y="6332480"/>
                    <a:pt x="4790153" y="3688663"/>
                    <a:pt x="5245657" y="2521195"/>
                  </a:cubicBezTo>
                  <a:cubicBezTo>
                    <a:pt x="4165470" y="2430848"/>
                    <a:pt x="2526554" y="3142096"/>
                    <a:pt x="1789514" y="3071441"/>
                  </a:cubicBezTo>
                  <a:cubicBezTo>
                    <a:pt x="0" y="2987026"/>
                    <a:pt x="1550711" y="0"/>
                    <a:pt x="2018323" y="292907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35294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6558000"/>
            </a:gradFill>
            <a:ln>
              <a:noFill/>
            </a:ln>
            <a:scene3d>
              <a:camera prst="orthographicFront"/>
              <a:lightRig dir="t" rig="balanced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5" name="Freeform 8"/>
            <p:cNvSpPr/>
            <p:nvPr/>
          </p:nvSpPr>
          <p:spPr>
            <a:xfrm flipH="1" flipV="1" rot="6563400">
              <a:off x="7745760" y="5398920"/>
              <a:ext cx="915840" cy="1151280"/>
            </a:xfrm>
            <a:custGeom>
              <a:avLst/>
              <a:gdLst>
                <a:gd name="textAreaLeft" fmla="*/ 360 w 915840"/>
                <a:gd name="textAreaRight" fmla="*/ 916560 w 915840"/>
                <a:gd name="textAreaTop" fmla="*/ 360 h 1151280"/>
                <a:gd name="textAreaBottom" fmla="*/ 1152000 h 1151280"/>
              </a:gdLst>
              <a:ahLst/>
              <a:rect l="textAreaLeft" t="textAreaTop" r="textAreaRight" b="textAreaBottom"/>
              <a:pathLst>
                <a:path w="8199932" h="6332480">
                  <a:moveTo>
                    <a:pt x="2018323" y="2929074"/>
                  </a:moveTo>
                  <a:cubicBezTo>
                    <a:pt x="3003249" y="2846754"/>
                    <a:pt x="5361173" y="2118523"/>
                    <a:pt x="6391441" y="2370154"/>
                  </a:cubicBezTo>
                  <a:cubicBezTo>
                    <a:pt x="4898818" y="4308774"/>
                    <a:pt x="7624732" y="5885963"/>
                    <a:pt x="8199932" y="4438858"/>
                  </a:cubicBezTo>
                  <a:cubicBezTo>
                    <a:pt x="7518693" y="6332480"/>
                    <a:pt x="4790153" y="3688663"/>
                    <a:pt x="5245657" y="2521195"/>
                  </a:cubicBezTo>
                  <a:cubicBezTo>
                    <a:pt x="4165470" y="2430848"/>
                    <a:pt x="2526554" y="3142096"/>
                    <a:pt x="1789514" y="3071441"/>
                  </a:cubicBezTo>
                  <a:cubicBezTo>
                    <a:pt x="0" y="2987026"/>
                    <a:pt x="1550711" y="0"/>
                    <a:pt x="2018323" y="292907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25098"/>
                  </a:srgbClr>
                </a:gs>
                <a:gs pos="100000">
                  <a:srgbClr val="000000">
                    <a:alpha val="10196"/>
                  </a:srgbClr>
                </a:gs>
              </a:gsLst>
              <a:lin ang="6558000"/>
            </a:gradFill>
            <a:ln>
              <a:noFill/>
            </a:ln>
            <a:scene3d>
              <a:camera prst="orthographicFront"/>
              <a:lightRig dir="t" rig="balanced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 flipH="1" flipV="1" rot="6563400">
              <a:off x="7340760" y="6076440"/>
              <a:ext cx="915840" cy="1151280"/>
            </a:xfrm>
            <a:custGeom>
              <a:avLst/>
              <a:gdLst>
                <a:gd name="textAreaLeft" fmla="*/ 360 w 915840"/>
                <a:gd name="textAreaRight" fmla="*/ 916560 w 915840"/>
                <a:gd name="textAreaTop" fmla="*/ 360 h 1151280"/>
                <a:gd name="textAreaBottom" fmla="*/ 1152000 h 1151280"/>
              </a:gdLst>
              <a:ahLst/>
              <a:rect l="textAreaLeft" t="textAreaTop" r="textAreaRight" b="textAreaBottom"/>
              <a:pathLst>
                <a:path w="8199932" h="6332480">
                  <a:moveTo>
                    <a:pt x="2018323" y="2929074"/>
                  </a:moveTo>
                  <a:cubicBezTo>
                    <a:pt x="3003249" y="2846754"/>
                    <a:pt x="5361173" y="2118523"/>
                    <a:pt x="6391441" y="2370154"/>
                  </a:cubicBezTo>
                  <a:cubicBezTo>
                    <a:pt x="4898818" y="4308774"/>
                    <a:pt x="7624732" y="5885963"/>
                    <a:pt x="8199932" y="4438858"/>
                  </a:cubicBezTo>
                  <a:cubicBezTo>
                    <a:pt x="7518693" y="6332480"/>
                    <a:pt x="4790153" y="3688663"/>
                    <a:pt x="5245657" y="2521195"/>
                  </a:cubicBezTo>
                  <a:cubicBezTo>
                    <a:pt x="4165470" y="2430848"/>
                    <a:pt x="2526554" y="3142096"/>
                    <a:pt x="1789514" y="3071441"/>
                  </a:cubicBezTo>
                  <a:cubicBezTo>
                    <a:pt x="0" y="2987026"/>
                    <a:pt x="1550711" y="0"/>
                    <a:pt x="2018323" y="292907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6558000"/>
            </a:gradFill>
            <a:ln>
              <a:noFill/>
            </a:ln>
            <a:scene3d>
              <a:camera prst="orthographicFront"/>
              <a:lightRig dir="t" rig="balanced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 flipH="1" flipV="1" rot="6563400">
              <a:off x="8146080" y="5820120"/>
              <a:ext cx="915840" cy="1151280"/>
            </a:xfrm>
            <a:custGeom>
              <a:avLst/>
              <a:gdLst>
                <a:gd name="textAreaLeft" fmla="*/ 360 w 915840"/>
                <a:gd name="textAreaRight" fmla="*/ 916560 w 915840"/>
                <a:gd name="textAreaTop" fmla="*/ 360 h 1151280"/>
                <a:gd name="textAreaBottom" fmla="*/ 1152000 h 1151280"/>
              </a:gdLst>
              <a:ahLst/>
              <a:rect l="textAreaLeft" t="textAreaTop" r="textAreaRight" b="textAreaBottom"/>
              <a:pathLst>
                <a:path w="8199932" h="6332480">
                  <a:moveTo>
                    <a:pt x="2018323" y="2929074"/>
                  </a:moveTo>
                  <a:cubicBezTo>
                    <a:pt x="3003249" y="2846754"/>
                    <a:pt x="5361173" y="2118523"/>
                    <a:pt x="6391441" y="2370154"/>
                  </a:cubicBezTo>
                  <a:cubicBezTo>
                    <a:pt x="4898818" y="4308774"/>
                    <a:pt x="7624732" y="5885963"/>
                    <a:pt x="8199932" y="4438858"/>
                  </a:cubicBezTo>
                  <a:cubicBezTo>
                    <a:pt x="7518693" y="6332480"/>
                    <a:pt x="4790153" y="3688663"/>
                    <a:pt x="5245657" y="2521195"/>
                  </a:cubicBezTo>
                  <a:cubicBezTo>
                    <a:pt x="4165470" y="2430848"/>
                    <a:pt x="2526554" y="3142096"/>
                    <a:pt x="1789514" y="3071441"/>
                  </a:cubicBezTo>
                  <a:cubicBezTo>
                    <a:pt x="0" y="2987026"/>
                    <a:pt x="1550711" y="0"/>
                    <a:pt x="2018323" y="292907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15294"/>
                  </a:srgbClr>
                </a:gs>
                <a:gs pos="100000">
                  <a:srgbClr val="000000">
                    <a:alpha val="5098"/>
                  </a:srgbClr>
                </a:gs>
              </a:gsLst>
              <a:lin ang="6558000"/>
            </a:gradFill>
            <a:ln>
              <a:noFill/>
            </a:ln>
            <a:scene3d>
              <a:camera prst="orthographicFront"/>
              <a:lightRig dir="t" rig="balanced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14560" y="1600200"/>
            <a:ext cx="5238360" cy="159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7200" y="6529320"/>
            <a:ext cx="2133360" cy="25524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lstStyle>
            <a:lvl1pPr indent="0">
              <a:lnSpc>
                <a:spcPct val="100000"/>
              </a:lnSpc>
              <a:buNone/>
              <a:defRPr b="1" lang="ru-RU" sz="1000" spc="-1" strike="noStrike">
                <a:solidFill>
                  <a:srgbClr val="404040">
                    <a:alpha val="4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ru-RU" sz="1000" spc="-1" strike="noStrike">
                <a:solidFill>
                  <a:srgbClr val="404040">
                    <a:alpha val="40000"/>
                  </a:srgbClr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457200" y="6264360"/>
            <a:ext cx="2895120" cy="25524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8028000" y="6208560"/>
            <a:ext cx="1049040" cy="68544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2800" spc="-1" strike="noStrike">
                <a:solidFill>
                  <a:srgbClr val="404040">
                    <a:alpha val="40000"/>
                  </a:srgbClr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84D6E1-EDC5-42FC-99D4-55C0DC8DA57E}" type="slidenum">
              <a:rPr b="1" lang="ru-RU" sz="2800" spc="-1" strike="noStrike">
                <a:solidFill>
                  <a:srgbClr val="404040">
                    <a:alpha val="40000"/>
                  </a:srgbClr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000000">
                    <a:alpha val="90000"/>
                  </a:srgbClr>
                </a:solidFill>
                <a:latin typeface="Century Gothic"/>
              </a:rPr>
              <a:t>Click to edit the outline text format</a:t>
            </a: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>
                    <a:alpha val="90000"/>
                  </a:srgbClr>
                </a:solidFill>
                <a:latin typeface="Century Gothic"/>
              </a:rPr>
              <a:t>Second Outline Level</a:t>
            </a:r>
            <a:endParaRPr b="0" lang="ru-RU" sz="20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>
                    <a:alpha val="90000"/>
                  </a:srgbClr>
                </a:solidFill>
                <a:latin typeface="Century Gothic"/>
              </a:rPr>
              <a:t>Third Outline Level</a:t>
            </a:r>
            <a:endParaRPr b="0" lang="ru-RU" sz="18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>
                    <a:alpha val="90000"/>
                  </a:srgbClr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>
                    <a:alpha val="90000"/>
                  </a:srgbClr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>
                    <a:alpha val="90000"/>
                  </a:srgbClr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>
                    <a:alpha val="90000"/>
                  </a:srgbClr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7" hidden="1"/>
          <p:cNvSpPr/>
          <p:nvPr/>
        </p:nvSpPr>
        <p:spPr>
          <a:xfrm>
            <a:off x="-990720" y="76320"/>
            <a:ext cx="3339720" cy="6629040"/>
          </a:xfrm>
          <a:custGeom>
            <a:avLst/>
            <a:gdLst>
              <a:gd name="textAreaLeft" fmla="*/ 0 w 3339720"/>
              <a:gd name="textAreaRight" fmla="*/ 3340080 w 3339720"/>
              <a:gd name="textAreaTop" fmla="*/ 0 h 6629040"/>
              <a:gd name="textAreaBottom" fmla="*/ 6629400 h 6629040"/>
            </a:gdLst>
            <a:ahLst/>
            <a:rect l="textAreaLeft" t="textAreaTop" r="textAreaRight" b="textAreaBottom"/>
            <a:pathLst>
              <a:path w="3317780" h="6477009">
                <a:moveTo>
                  <a:pt x="1860712" y="2923534"/>
                </a:moveTo>
                <a:cubicBezTo>
                  <a:pt x="1944660" y="1493706"/>
                  <a:pt x="1492916" y="2558773"/>
                  <a:pt x="1479709" y="2562879"/>
                </a:cubicBezTo>
                <a:cubicBezTo>
                  <a:pt x="3317780" y="1849120"/>
                  <a:pt x="1173778" y="0"/>
                  <a:pt x="1621941" y="8"/>
                </a:cubicBezTo>
                <a:cubicBezTo>
                  <a:pt x="0" y="1257313"/>
                  <a:pt x="2466688" y="913421"/>
                  <a:pt x="2602364" y="2258084"/>
                </a:cubicBezTo>
                <a:cubicBezTo>
                  <a:pt x="2812155" y="1330547"/>
                  <a:pt x="2128243" y="1925755"/>
                  <a:pt x="1964838" y="2628909"/>
                </a:cubicBezTo>
                <a:cubicBezTo>
                  <a:pt x="1801433" y="3332063"/>
                  <a:pt x="1842490" y="6212005"/>
                  <a:pt x="1621936" y="6477009"/>
                </a:cubicBezTo>
                <a:cubicBezTo>
                  <a:pt x="1173776" y="6477006"/>
                  <a:pt x="3025088" y="1778999"/>
                  <a:pt x="1860712" y="2923534"/>
                </a:cubicBezTo>
                <a:close/>
              </a:path>
            </a:pathLst>
          </a:custGeom>
          <a:gradFill rotWithShape="0">
            <a:gsLst>
              <a:gs pos="25000">
                <a:srgbClr val="000000"/>
              </a:gs>
              <a:gs pos="100000">
                <a:srgbClr val="404040"/>
              </a:gs>
            </a:gsLst>
            <a:lin ang="5400000"/>
          </a:gradFill>
          <a:ln>
            <a:noFill/>
          </a:ln>
          <a:effectLst>
            <a:outerShdw algn="ctr" blurRad="76320" rotWithShape="0" sx="102000" sy="102000">
              <a:schemeClr val="tx1">
                <a:lumMod val="75000"/>
                <a:lumOff val="25000"/>
                <a:alpha val="40000"/>
              </a:schemeClr>
            </a:outerShdw>
          </a:effectLst>
          <a:scene3d>
            <a:camera prst="orthographicFront"/>
            <a:lightRig dir="t" rig="morning"/>
          </a:scene3d>
          <a:sp3d>
            <a:bevelT prst="convex" w="25400" h="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981080" y="1752480"/>
            <a:ext cx="60415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Образец текста</a:t>
            </a: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1" marL="5778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Второй уровень</a:t>
            </a: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2" marL="806400" indent="-228600">
              <a:lnSpc>
                <a:spcPct val="100000"/>
              </a:lnSpc>
              <a:spcBef>
                <a:spcPts val="1199"/>
              </a:spcBef>
              <a:buClr>
                <a:srgbClr val="64a73b"/>
              </a:buClr>
              <a:buFont typeface="Wingdings" charset="2"/>
              <a:buChar char="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Третий уровень</a:t>
            </a:r>
            <a:endParaRPr b="0" lang="ru-RU" sz="20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3" marL="1035000" indent="-228600">
              <a:lnSpc>
                <a:spcPct val="100000"/>
              </a:lnSpc>
              <a:spcBef>
                <a:spcPts val="1199"/>
              </a:spcBef>
              <a:buClr>
                <a:srgbClr val="aa2b1e"/>
              </a:buClr>
              <a:buFont typeface="Wingdings" charset="2"/>
              <a:buChar char="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Четвертый уровень</a:t>
            </a:r>
            <a:endParaRPr b="0" lang="ru-RU" sz="18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4" marL="1263600" indent="-228600">
              <a:lnSpc>
                <a:spcPct val="100000"/>
              </a:lnSpc>
              <a:spcBef>
                <a:spcPts val="1199"/>
              </a:spcBef>
              <a:buClr>
                <a:srgbClr val="71685c"/>
              </a:buClr>
              <a:buFont typeface="Wingdings" charset="2"/>
              <a:buChar char=""/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889600" y="6499080"/>
            <a:ext cx="2133360" cy="25524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000" spc="-1" strike="noStrike">
                <a:solidFill>
                  <a:srgbClr val="404040">
                    <a:alpha val="40000"/>
                  </a:srgbClr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000" spc="-1" strike="noStrike">
                <a:solidFill>
                  <a:srgbClr val="404040">
                    <a:alpha val="40000"/>
                  </a:srgbClr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1981080" y="6499080"/>
            <a:ext cx="2895120" cy="25524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28000" y="6208560"/>
            <a:ext cx="1049040" cy="68544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2800" spc="-1" strike="noStrike">
                <a:solidFill>
                  <a:srgbClr val="404040">
                    <a:alpha val="40000"/>
                  </a:srgbClr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A0506E-5040-410C-963C-870498F1479F}" type="slidenum">
              <a:rPr b="1" lang="ru-RU" sz="2800" spc="-1" strike="noStrike">
                <a:solidFill>
                  <a:srgbClr val="404040">
                    <a:alpha val="40000"/>
                  </a:srgbClr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061000"/>
            <a:ext cx="7704360" cy="295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6000" spc="-1" strike="noStrike">
                <a:solidFill>
                  <a:srgbClr val="7030a0"/>
                </a:solidFill>
                <a:latin typeface="Century Gothic"/>
              </a:rPr>
              <a:t>«Две стороны одной </a:t>
            </a:r>
            <a:r>
              <a:rPr b="1" lang="ru-RU" sz="6000" spc="-1" strike="noStrike">
                <a:solidFill>
                  <a:srgbClr val="7030a0"/>
                </a:solidFill>
                <a:latin typeface="Century Gothic"/>
              </a:rPr>
              <a:t>	</a:t>
            </a:r>
            <a:r>
              <a:rPr b="1" lang="ru-RU" sz="6000" spc="-1" strike="noStrike">
                <a:solidFill>
                  <a:srgbClr val="7030a0"/>
                </a:solidFill>
                <a:latin typeface="Century Gothic"/>
              </a:rPr>
              <a:t>	</a:t>
            </a:r>
            <a:r>
              <a:rPr b="1" lang="ru-RU" sz="6000" spc="-1" strike="noStrike">
                <a:solidFill>
                  <a:srgbClr val="7030a0"/>
                </a:solidFill>
                <a:latin typeface="Century Gothic"/>
              </a:rPr>
              <a:t>	</a:t>
            </a:r>
            <a:r>
              <a:rPr b="1" lang="ru-RU" sz="6000" spc="-1" strike="noStrike">
                <a:solidFill>
                  <a:srgbClr val="7030a0"/>
                </a:solidFill>
                <a:latin typeface="Century Gothic"/>
              </a:rPr>
              <a:t>медали»</a:t>
            </a:r>
            <a:endParaRPr b="0" lang="ru-RU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79640" y="1197000"/>
            <a:ext cx="584316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ru-RU" sz="3600" spc="97" strike="noStrike">
                <a:solidFill>
                  <a:srgbClr val="7030a0"/>
                </a:solidFill>
                <a:latin typeface="Century Gothic"/>
              </a:rPr>
              <a:t>Презентация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5652000" y="5013000"/>
            <a:ext cx="3491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одготовила: Бородкина Е.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нструктор по физической культу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БДОУ «Детский сад общеразвивающего вида №9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25560"/>
            <a:ext cx="8819640" cy="153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Цель физической культуры-быть здоровым и с фигурой.</a:t>
            </a:r>
            <a:endParaRPr b="0" lang="ru-RU" sz="28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pic>
        <p:nvPicPr>
          <p:cNvPr id="115" name="Picture 2" descr="Картинка 88 из 167646"/>
          <p:cNvPicPr/>
          <p:nvPr/>
        </p:nvPicPr>
        <p:blipFill>
          <a:blip r:embed="rId1"/>
          <a:srcRect l="0" t="0" r="0" b="2874"/>
          <a:stretch/>
        </p:blipFill>
        <p:spPr>
          <a:xfrm>
            <a:off x="1187280" y="1197000"/>
            <a:ext cx="7116480" cy="51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03564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оанализировав ответы, мы поняли, что люди разделяют эти два понятия и спортом считают более профессиональную, углублённую сферу деятельности, состоящую в сопоставлении их физических и интеллектуальных способностей.</a:t>
            </a:r>
            <a:endParaRPr b="0" lang="ru-RU" sz="28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pic>
        <p:nvPicPr>
          <p:cNvPr id="117" name="Picture 4" descr="Картинка 1193 из 373439"/>
          <p:cNvPicPr/>
          <p:nvPr/>
        </p:nvPicPr>
        <p:blipFill>
          <a:blip r:embed="rId1"/>
          <a:stretch/>
        </p:blipFill>
        <p:spPr>
          <a:xfrm>
            <a:off x="1908000" y="2565360"/>
            <a:ext cx="5616360" cy="4066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856360" cy="22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азница состоит в том, что физкультура - это самостоятельные занятия по укреплению организма, а спорт это вид деятельности в котором люди соревнуются.</a:t>
            </a:r>
            <a:endParaRPr b="0" lang="ru-RU" sz="28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6" descr="Картинка 280 из 154552"/>
          <p:cNvPicPr/>
          <p:nvPr/>
        </p:nvPicPr>
        <p:blipFill>
          <a:blip r:embed="rId1"/>
          <a:srcRect l="0" t="16480" r="8788" b="0"/>
          <a:stretch/>
        </p:blipFill>
        <p:spPr>
          <a:xfrm>
            <a:off x="0" y="3500280"/>
            <a:ext cx="4887720" cy="335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www.volozhin.gov.by/pub/Image/sc%20sport.jpg"/>
          <p:cNvPicPr/>
          <p:nvPr/>
        </p:nvPicPr>
        <p:blipFill>
          <a:blip r:embed="rId2"/>
          <a:stretch/>
        </p:blipFill>
        <p:spPr>
          <a:xfrm>
            <a:off x="4716360" y="1628640"/>
            <a:ext cx="4198680" cy="3149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360" cy="162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того чтобы заниматься физкультурой не требуется больших затрат, нужно только немного свободного времени и много желания.</a:t>
            </a:r>
            <a:endParaRPr b="0" lang="ru-RU" sz="28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pic>
        <p:nvPicPr>
          <p:cNvPr id="123" name="Picture 2" descr="Картинка 15 из 59"/>
          <p:cNvPicPr/>
          <p:nvPr/>
        </p:nvPicPr>
        <p:blipFill>
          <a:blip r:embed="rId1"/>
          <a:stretch/>
        </p:blipFill>
        <p:spPr>
          <a:xfrm>
            <a:off x="0" y="4289400"/>
            <a:ext cx="3850920" cy="2582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Картинка 25 из 59"/>
          <p:cNvPicPr/>
          <p:nvPr/>
        </p:nvPicPr>
        <p:blipFill>
          <a:blip r:embed="rId2"/>
          <a:stretch/>
        </p:blipFill>
        <p:spPr>
          <a:xfrm>
            <a:off x="3225960" y="2654280"/>
            <a:ext cx="3198600" cy="2571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Картинка 19 из 311"/>
          <p:cNvPicPr/>
          <p:nvPr/>
        </p:nvPicPr>
        <p:blipFill>
          <a:blip r:embed="rId3"/>
          <a:stretch/>
        </p:blipFill>
        <p:spPr>
          <a:xfrm>
            <a:off x="6221520" y="1341360"/>
            <a:ext cx="2922120" cy="255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Картинка 24 из 311"/>
          <p:cNvPicPr/>
          <p:nvPr/>
        </p:nvPicPr>
        <p:blipFill>
          <a:blip r:embed="rId4"/>
          <a:stretch/>
        </p:blipFill>
        <p:spPr>
          <a:xfrm>
            <a:off x="73080" y="1581120"/>
            <a:ext cx="3058920" cy="2315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Картинка 74 из 403"/>
          <p:cNvPicPr/>
          <p:nvPr/>
        </p:nvPicPr>
        <p:blipFill>
          <a:blip r:embed="rId5"/>
          <a:stretch/>
        </p:blipFill>
        <p:spPr>
          <a:xfrm>
            <a:off x="5940360" y="4773600"/>
            <a:ext cx="2752200" cy="2063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76320"/>
            <a:ext cx="8927640" cy="1983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алоподвижный образ жизни всё чаще становится нормой существования взрослых и детей.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" name="Picture 5" descr="Картинка 19 из 58747"/>
          <p:cNvPicPr/>
          <p:nvPr/>
        </p:nvPicPr>
        <p:blipFill>
          <a:blip r:embed="rId1"/>
          <a:stretch/>
        </p:blipFill>
        <p:spPr>
          <a:xfrm>
            <a:off x="1116000" y="2205000"/>
            <a:ext cx="7143480" cy="448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Проблемы волнующие подростков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31" name="Объект 9"/>
          <p:cNvGraphicFramePr/>
          <p:nvPr/>
        </p:nvGraphicFramePr>
        <p:xfrm>
          <a:off x="1930320" y="1701720"/>
          <a:ext cx="6143400" cy="447480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132" name="Объект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0320" y="1701720"/>
                    <a:ext cx="6143400" cy="44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Ежедневно делайте зарядку, побольше гуляйте, ведите активный образ жизни….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4" name="Picture 2" descr="Картинка 564 из 8649"/>
          <p:cNvPicPr/>
          <p:nvPr/>
        </p:nvPicPr>
        <p:blipFill>
          <a:blip r:embed="rId1"/>
          <a:stretch/>
        </p:blipFill>
        <p:spPr>
          <a:xfrm>
            <a:off x="0" y="4048200"/>
            <a:ext cx="3825360" cy="2668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Картинка 10 из 160972"/>
          <p:cNvPicPr/>
          <p:nvPr/>
        </p:nvPicPr>
        <p:blipFill>
          <a:blip r:embed="rId2"/>
          <a:stretch/>
        </p:blipFill>
        <p:spPr>
          <a:xfrm>
            <a:off x="3419640" y="2752560"/>
            <a:ext cx="3312720" cy="24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Картинка 9 из 163319"/>
          <p:cNvPicPr/>
          <p:nvPr/>
        </p:nvPicPr>
        <p:blipFill>
          <a:blip r:embed="rId3"/>
          <a:srcRect l="0" t="14730" r="0" b="0"/>
          <a:stretch/>
        </p:blipFill>
        <p:spPr>
          <a:xfrm>
            <a:off x="6480000" y="1484280"/>
            <a:ext cx="2663640" cy="217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Ваше здоровье в ваших руках!!!</a:t>
            </a: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8" name="Picture 2" descr="Картинка 15 из 344533"/>
          <p:cNvPicPr/>
          <p:nvPr/>
        </p:nvPicPr>
        <p:blipFill>
          <a:blip r:embed="rId1"/>
          <a:stretch/>
        </p:blipFill>
        <p:spPr>
          <a:xfrm>
            <a:off x="1116000" y="1700280"/>
            <a:ext cx="7596000" cy="504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542000" cy="60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Цели и задачи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: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Узнать что такое физкультур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2. Узнать что такое спорт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3. Что общего у физкультуры и спорта?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4. Чем они отличаются?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5. Понять какое место занимают занятия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физкультурой и спортом в жизни человек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6. Плюсы и минусы занятий спортом и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физкультурой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110000" cy="12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Мы решили проверить гипотезу: «физкультура и спорт – это одно и то же». </a:t>
            </a:r>
            <a:endParaRPr b="0" lang="ru-RU" sz="2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Picture 2" descr="Картинка 37 из 151427"/>
          <p:cNvPicPr/>
          <p:nvPr/>
        </p:nvPicPr>
        <p:blipFill>
          <a:blip r:embed="rId1"/>
          <a:stretch/>
        </p:blipFill>
        <p:spPr>
          <a:xfrm>
            <a:off x="4932360" y="1052640"/>
            <a:ext cx="4055760" cy="2679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Картинка 179 из 153003"/>
          <p:cNvPicPr/>
          <p:nvPr/>
        </p:nvPicPr>
        <p:blipFill>
          <a:blip r:embed="rId2"/>
          <a:stretch/>
        </p:blipFill>
        <p:spPr>
          <a:xfrm>
            <a:off x="165240" y="3703680"/>
            <a:ext cx="4777920" cy="3180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569080" cy="1080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В чём сходство и различие физкультуры и спорта?</a:t>
            </a:r>
            <a:br>
              <a:rPr sz="2500"/>
            </a:br>
            <a:endParaRPr b="0" lang="ru-RU" sz="2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9" name="Picture 2" descr="http://megaobzor.com/load/wtf/03_2010/12/sport_3000x2000/1.JPG"/>
          <p:cNvPicPr/>
          <p:nvPr/>
        </p:nvPicPr>
        <p:blipFill>
          <a:blip r:embed="rId1"/>
          <a:stretch/>
        </p:blipFill>
        <p:spPr>
          <a:xfrm>
            <a:off x="4967280" y="620640"/>
            <a:ext cx="4152600" cy="273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://www.segodnya.ua/img/forall/a/140448/46.jpg"/>
          <p:cNvPicPr/>
          <p:nvPr/>
        </p:nvPicPr>
        <p:blipFill>
          <a:blip r:embed="rId2"/>
          <a:stretch/>
        </p:blipFill>
        <p:spPr>
          <a:xfrm>
            <a:off x="250920" y="2924280"/>
            <a:ext cx="5213160" cy="34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2880" y="189000"/>
            <a:ext cx="8604000" cy="1152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Выявить положительные и отрицательные стороны этих занятий.</a:t>
            </a:r>
            <a:endParaRPr b="0" lang="ru-RU" sz="2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2" name="Picture 4" descr="Картинка 262 из 64465"/>
          <p:cNvPicPr/>
          <p:nvPr/>
        </p:nvPicPr>
        <p:blipFill>
          <a:blip r:embed="rId1"/>
          <a:stretch/>
        </p:blipFill>
        <p:spPr>
          <a:xfrm>
            <a:off x="0" y="4456080"/>
            <a:ext cx="3425400" cy="237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Картинка 15 из 462100"/>
          <p:cNvPicPr/>
          <p:nvPr/>
        </p:nvPicPr>
        <p:blipFill>
          <a:blip r:embed="rId2"/>
          <a:stretch/>
        </p:blipFill>
        <p:spPr>
          <a:xfrm>
            <a:off x="2843280" y="1957320"/>
            <a:ext cx="3371400" cy="251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Картинка 26 из 167658"/>
          <p:cNvPicPr/>
          <p:nvPr/>
        </p:nvPicPr>
        <p:blipFill>
          <a:blip r:embed="rId3"/>
          <a:srcRect l="8117" t="0" r="0" b="7074"/>
          <a:stretch/>
        </p:blipFill>
        <p:spPr>
          <a:xfrm>
            <a:off x="5940360" y="1031760"/>
            <a:ext cx="320328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76320"/>
            <a:ext cx="9035640" cy="1839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Физкультура и спорт используют для своих целей одни и те же средства - в основном физические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упражнения и игры.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6" name="Picture 2" descr="Картинка 401 из 154552"/>
          <p:cNvPicPr/>
          <p:nvPr/>
        </p:nvPicPr>
        <p:blipFill>
          <a:blip r:embed="rId1"/>
          <a:stretch/>
        </p:blipFill>
        <p:spPr>
          <a:xfrm>
            <a:off x="5219640" y="2973240"/>
            <a:ext cx="3769920" cy="3592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Картинка 373 из 154552"/>
          <p:cNvPicPr/>
          <p:nvPr/>
        </p:nvPicPr>
        <p:blipFill>
          <a:blip r:embed="rId2"/>
          <a:srcRect l="6860" t="17395" r="0" b="0"/>
          <a:stretch/>
        </p:blipFill>
        <p:spPr>
          <a:xfrm>
            <a:off x="179280" y="1700280"/>
            <a:ext cx="4614480" cy="30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680" y="0"/>
            <a:ext cx="8891280" cy="27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очитав множество литературы, мы выяснили, что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порт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это организованная по определенным правилам деятельность людей, состоящая в сопоставлении их физических и интеллектуальных способностей.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9" name="Picture 2" descr="Картинка 298 из 154552"/>
          <p:cNvPicPr/>
          <p:nvPr/>
        </p:nvPicPr>
        <p:blipFill>
          <a:blip r:embed="rId1"/>
          <a:stretch/>
        </p:blipFill>
        <p:spPr>
          <a:xfrm>
            <a:off x="2681280" y="2565360"/>
            <a:ext cx="4770000" cy="41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820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ы поняли, что в спорте грань между пользой и вредом очень тонка. И почувствовать эту грань можно, только занимаясь спортом — а никак не на расстоянии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pic>
        <p:nvPicPr>
          <p:cNvPr id="111" name="Picture 2" descr="Картинка 17 из 64465"/>
          <p:cNvPicPr/>
          <p:nvPr/>
        </p:nvPicPr>
        <p:blipFill>
          <a:blip r:embed="rId1"/>
          <a:stretch/>
        </p:blipFill>
        <p:spPr>
          <a:xfrm>
            <a:off x="1403280" y="1989000"/>
            <a:ext cx="6633720" cy="467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234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Физическая культура — сфера деятельности, направленная на сохранение и укрепление здоровья.</a:t>
            </a:r>
            <a:endParaRPr b="0" lang="ru-RU" sz="28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pic>
        <p:nvPicPr>
          <p:cNvPr id="113" name="Picture 2" descr="Картинка 159 из 154552"/>
          <p:cNvPicPr/>
          <p:nvPr/>
        </p:nvPicPr>
        <p:blipFill>
          <a:blip r:embed="rId1"/>
          <a:srcRect l="0" t="3791" r="0" b="0"/>
          <a:stretch/>
        </p:blipFill>
        <p:spPr>
          <a:xfrm>
            <a:off x="463680" y="1268280"/>
            <a:ext cx="8186400" cy="53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Symphony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ymphony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Симфония</Template>
  <TotalTime>436</TotalTime>
  <Application>LibreOffice/7.4.7.2$Linux_X86_64 LibreOffice_project/40$Build-2</Application>
  <AppVersion>15.0000</AppVersion>
  <Words>363</Words>
  <Paragraphs>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6:07:00Z</dcterms:created>
  <dc:creator>Mike</dc:creator>
  <dc:description/>
  <dc:language>en-US</dc:language>
  <cp:lastModifiedBy>Пользователь</cp:lastModifiedBy>
  <dcterms:modified xsi:type="dcterms:W3CDTF">2022-04-30T12:59:13Z</dcterms:modified>
  <cp:revision>3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