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156-5E4D-4F8F-8E33-CCA403DA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6B5-60FF-4871-B640-B5A128D7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6B3-AC9B-4116-BC7E-18F16566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2E0-2CDB-4EE8-80E7-7C05917D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D56E-D3B0-4F7A-99DC-D95AA20E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FD2C-57E4-4A2A-ABE4-89166C00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09DD-C36D-4F31-914E-43CD994C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4183-DEBF-4F03-825C-B9814D5D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7A8C-5CF9-4C4E-9B66-C818E646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BFCC-6A35-4270-A746-1934C9FA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7F01-503E-46EA-9A43-9CA4126B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F6B0-9E9A-44C8-90E7-90D96950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DF82-6C2F-411E-901C-16E4102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71F9-C59A-412C-BCD0-3406C3E6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8721-F928-40EE-B7C2-CA634626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4A2B-FA76-4A53-A8EC-2BF19354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D3BF-A1EB-4C8C-AB91-D9450B9D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ECA-EB0C-4466-8E09-E7CEF48C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0BE-898A-47DD-8323-0449DAD0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F11-FC3C-4DCA-9BF4-F3928A26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37B-7C3A-4C72-AF8B-9A17A1B7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B00-A5B7-40AF-98A7-0A58CE5C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F202-CD85-47BE-B949-92634CAF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528-8341-40A3-8531-959DAF42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C2E0-E9EF-4430-8A69-63F50B28249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ABDB-A365-4779-8AB0-9CF3313E1DD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" Target="slide6.xm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" Target="slide9.xm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" Target="slide10.xml"/><Relationship Id="rId10" Type="http://schemas.openxmlformats.org/officeDocument/2006/relationships/image" Target="../media/image10.png"/><Relationship Id="rId11" Type="http://schemas.openxmlformats.org/officeDocument/2006/relationships/slide" Target="slide10.xml"/><Relationship Id="rId12" Type="http://schemas.openxmlformats.org/officeDocument/2006/relationships/image" Target="../media/image11.png"/><Relationship Id="rId13" Type="http://schemas.openxmlformats.org/officeDocument/2006/relationships/slide" Target="slide9.xml"/><Relationship Id="rId14" Type="http://schemas.openxmlformats.org/officeDocument/2006/relationships/slide" Target="slide9.xml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hysics.nad.ru/" TargetMode="External"/><Relationship Id="rId3" Type="http://schemas.openxmlformats.org/officeDocument/2006/relationships/hyperlink" Target="http://festival.1september.ru/" TargetMode="External"/><Relationship Id="rId4" Type="http://schemas.openxmlformats.org/officeDocument/2006/relationships/hyperlink" Target="http://www.ege.edu.ru/%29,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«Формирование познавательного интереса учащихся с помощью современных образовательных технологий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Picture 9" descr="Картинки по запросу личностно-ориентированные технологии"/>
          <p:cNvPicPr/>
          <p:nvPr/>
        </p:nvPicPr>
        <p:blipFill>
          <a:blip r:embed="rId1"/>
          <a:stretch/>
        </p:blipFill>
        <p:spPr>
          <a:xfrm>
            <a:off x="7093080" y="436572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2987640" y="2276640"/>
            <a:ext cx="3286080" cy="9144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КТ на урок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5000760" y="692280"/>
            <a:ext cx="3892320" cy="1236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подготовке  к экзаменам,  олимпиад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500040" y="620640"/>
            <a:ext cx="3784680" cy="12938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 изложении нового материал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Скругленный прямоугольник 6"/>
          <p:cNvSpPr/>
          <p:nvPr/>
        </p:nvSpPr>
        <p:spPr>
          <a:xfrm>
            <a:off x="357120" y="3429000"/>
            <a:ext cx="2643120" cy="1128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контроля знани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Скругленный прямоугольник 7"/>
          <p:cNvSpPr/>
          <p:nvPr/>
        </p:nvSpPr>
        <p:spPr>
          <a:xfrm>
            <a:off x="6072120" y="3571920"/>
            <a:ext cx="2714760" cy="98568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и закреплен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Скругленный прямоугольник 8"/>
          <p:cNvSpPr/>
          <p:nvPr/>
        </p:nvSpPr>
        <p:spPr>
          <a:xfrm>
            <a:off x="1547640" y="4797360"/>
            <a:ext cx="2857680" cy="127152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 выполнении домашней работ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Скругленный прямоугольник 9"/>
          <p:cNvSpPr/>
          <p:nvPr/>
        </p:nvSpPr>
        <p:spPr>
          <a:xfrm>
            <a:off x="5003640" y="4797360"/>
            <a:ext cx="2714760" cy="12002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 внеклассной работ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7" name="Прямая со стрелкой 11"/>
          <p:cNvCxnSpPr>
            <a:stCxn id="100" idx="3"/>
            <a:endCxn id="101" idx="2"/>
          </p:cNvCxnSpPr>
          <p:nvPr/>
        </p:nvCxnSpPr>
        <p:spPr>
          <a:xfrm flipV="1">
            <a:off x="6286680" y="1940760"/>
            <a:ext cx="660600" cy="79308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08" name="Прямая со стрелкой 13"/>
          <p:cNvCxnSpPr>
            <a:stCxn id="100" idx="1"/>
            <a:endCxn id="102" idx="2"/>
          </p:cNvCxnSpPr>
          <p:nvPr/>
        </p:nvCxnSpPr>
        <p:spPr>
          <a:xfrm flipH="1" flipV="1">
            <a:off x="2391480" y="1926360"/>
            <a:ext cx="583560" cy="807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9" name="Прямая со стрелкой 15"/>
          <p:cNvCxnSpPr>
            <a:stCxn id="100" idx="2"/>
            <a:endCxn id="104" idx="1"/>
          </p:cNvCxnSpPr>
          <p:nvPr/>
        </p:nvCxnSpPr>
        <p:spPr>
          <a:xfrm>
            <a:off x="4630320" y="3203640"/>
            <a:ext cx="1429560" cy="862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10" name="Прямая со стрелкой 17"/>
          <p:cNvCxnSpPr>
            <a:stCxn id="100" idx="2"/>
            <a:endCxn id="103" idx="3"/>
          </p:cNvCxnSpPr>
          <p:nvPr/>
        </p:nvCxnSpPr>
        <p:spPr>
          <a:xfrm flipH="1">
            <a:off x="3012480" y="3203640"/>
            <a:ext cx="1618200" cy="7912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11" name="Line 15"/>
          <p:cNvSpPr/>
          <p:nvPr/>
        </p:nvSpPr>
        <p:spPr>
          <a:xfrm flipH="1">
            <a:off x="3924000" y="3213000"/>
            <a:ext cx="647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4572000" y="3213000"/>
            <a:ext cx="107964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ичины использование ИКТ на уроках физики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Прямоугольник 11"/>
          <p:cNvSpPr/>
          <p:nvPr/>
        </p:nvSpPr>
        <p:spPr>
          <a:xfrm>
            <a:off x="719280" y="1989000"/>
            <a:ext cx="8424720" cy="44830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 различных типов электронных средств учебного назначения, активизирует   учебную деятельность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чно освобождает  учителя от выполнения информационной, тренировочной и контролирующей функций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ет  у учащихся навыки  самостоятельного овладения знаниям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имулирует  положительную  мотивацию  учения за счет интегрирования всех форм наглядност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ет  учебную деятельность с немедленной обратной связью и развитой системой помощ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9"/>
          <p:cNvSpPr/>
          <p:nvPr/>
        </p:nvSpPr>
        <p:spPr>
          <a:xfrm>
            <a:off x="3419640" y="2951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УЛЬТИМЕДИ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973080" y="1247760"/>
            <a:ext cx="152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имация процессов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ений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45000" y="4921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улы, текст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6397560" y="15256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хемы, график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370560" y="1335240"/>
            <a:ext cx="1914480" cy="94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633840" y="407880"/>
            <a:ext cx="1913040" cy="112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5"/>
          <a:stretch/>
        </p:blipFill>
        <p:spPr>
          <a:xfrm>
            <a:off x="6784920" y="2620800"/>
            <a:ext cx="1914480" cy="111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480" y="2639880"/>
            <a:ext cx="2120760" cy="1121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8"/>
          <a:stretch/>
        </p:blipFill>
        <p:spPr>
          <a:xfrm>
            <a:off x="804960" y="4316400"/>
            <a:ext cx="1914480" cy="1120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334200" y="4352760"/>
            <a:ext cx="1914480" cy="1121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633840" y="5010120"/>
            <a:ext cx="1913040" cy="11224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6537240" y="4452840"/>
            <a:ext cx="163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ы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ы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обия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780000" y="5084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ртуальные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бораторные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20">
            <a:hlinkClick r:id="rId13" action="ppaction://hlinksldjump"/>
          </p:cNvPr>
          <p:cNvSpPr/>
          <p:nvPr/>
        </p:nvSpPr>
        <p:spPr>
          <a:xfrm>
            <a:off x="250920" y="2951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езентации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Box 21">
            <a:hlinkClick r:id="rId14" action="ppaction://hlinksldjump"/>
          </p:cNvPr>
          <p:cNvSpPr/>
          <p:nvPr/>
        </p:nvSpPr>
        <p:spPr>
          <a:xfrm>
            <a:off x="90000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сты, электронные тренажёры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16" descr=""/>
          <p:cNvPicPr/>
          <p:nvPr/>
        </p:nvPicPr>
        <p:blipFill>
          <a:blip r:embed="rId15"/>
          <a:stretch/>
        </p:blipFill>
        <p:spPr>
          <a:xfrm>
            <a:off x="755640" y="1197000"/>
            <a:ext cx="1914480" cy="1122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0"/>
          <p:cNvSpPr/>
          <p:nvPr/>
        </p:nvSpPr>
        <p:spPr>
          <a:xfrm>
            <a:off x="3348000" y="2637000"/>
            <a:ext cx="2448000" cy="107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ЛЬТИМЕДИ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4284720" y="1773360"/>
            <a:ext cx="431640" cy="647640"/>
          </a:xfrm>
          <a:prstGeom prst="upArrow">
            <a:avLst>
              <a:gd name="adj1" fmla="val 50000"/>
              <a:gd name="adj2" fmla="val 3751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22"/>
          <p:cNvSpPr/>
          <p:nvPr/>
        </p:nvSpPr>
        <p:spPr>
          <a:xfrm rot="2842800">
            <a:off x="5903280" y="2097360"/>
            <a:ext cx="432000" cy="647640"/>
          </a:xfrm>
          <a:prstGeom prst="upArrow">
            <a:avLst>
              <a:gd name="adj1" fmla="val 50000"/>
              <a:gd name="adj2" fmla="val 3747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23"/>
          <p:cNvSpPr/>
          <p:nvPr/>
        </p:nvSpPr>
        <p:spPr>
          <a:xfrm rot="18351600">
            <a:off x="2808360" y="2025360"/>
            <a:ext cx="431640" cy="647640"/>
          </a:xfrm>
          <a:prstGeom prst="upArrow">
            <a:avLst>
              <a:gd name="adj1" fmla="val 50000"/>
              <a:gd name="adj2" fmla="val 3751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24"/>
          <p:cNvSpPr/>
          <p:nvPr/>
        </p:nvSpPr>
        <p:spPr>
          <a:xfrm rot="10800000">
            <a:off x="4356000" y="4005000"/>
            <a:ext cx="432000" cy="647640"/>
          </a:xfrm>
          <a:prstGeom prst="upArrow">
            <a:avLst>
              <a:gd name="adj1" fmla="val 50000"/>
              <a:gd name="adj2" fmla="val 3747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25"/>
          <p:cNvSpPr/>
          <p:nvPr/>
        </p:nvSpPr>
        <p:spPr>
          <a:xfrm rot="16200000">
            <a:off x="2519280" y="2815560"/>
            <a:ext cx="431640" cy="648000"/>
          </a:xfrm>
          <a:prstGeom prst="upArrow">
            <a:avLst>
              <a:gd name="adj1" fmla="val 50000"/>
              <a:gd name="adj2" fmla="val 37531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26"/>
          <p:cNvSpPr/>
          <p:nvPr/>
        </p:nvSpPr>
        <p:spPr>
          <a:xfrm rot="5400000">
            <a:off x="6119640" y="2889360"/>
            <a:ext cx="431640" cy="647640"/>
          </a:xfrm>
          <a:prstGeom prst="upArrow">
            <a:avLst>
              <a:gd name="adj1" fmla="val 50000"/>
              <a:gd name="adj2" fmla="val 3751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27"/>
          <p:cNvSpPr/>
          <p:nvPr/>
        </p:nvSpPr>
        <p:spPr>
          <a:xfrm rot="13428600">
            <a:off x="2792160" y="3776040"/>
            <a:ext cx="431640" cy="647640"/>
          </a:xfrm>
          <a:prstGeom prst="upArrow">
            <a:avLst>
              <a:gd name="adj1" fmla="val 50000"/>
              <a:gd name="adj2" fmla="val 3751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28"/>
          <p:cNvSpPr/>
          <p:nvPr/>
        </p:nvSpPr>
        <p:spPr>
          <a:xfrm rot="8340000">
            <a:off x="5940360" y="3715920"/>
            <a:ext cx="432000" cy="647640"/>
          </a:xfrm>
          <a:prstGeom prst="upArrow">
            <a:avLst>
              <a:gd name="adj1" fmla="val 50000"/>
              <a:gd name="adj2" fmla="val 37479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Box 27"/>
          <p:cNvSpPr/>
          <p:nvPr/>
        </p:nvSpPr>
        <p:spPr>
          <a:xfrm>
            <a:off x="7311960" y="285264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идео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400px-Ljhohfhygghuh"/>
          <p:cNvPicPr/>
          <p:nvPr/>
        </p:nvPicPr>
        <p:blipFill>
          <a:blip r:embed="rId1"/>
          <a:stretch/>
        </p:blipFill>
        <p:spPr>
          <a:xfrm>
            <a:off x="5334120" y="3068640"/>
            <a:ext cx="3809880" cy="2990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 которые применяются час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изика в анимациях» (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/>
              </a:rPr>
              <a:t>http://physics.nad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стиваль «Открытый урок» (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/>
              </a:rPr>
              <a:t>http://festival.1september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й информационный портал ЕГЭ (</a:t>
            </a:r>
            <a:r>
              <a:rPr b="0" lang="ru-RU" sz="24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/>
              </a:rPr>
              <a:t>http://www.ege.edu.ru/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ПИ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fipi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колледж. Физика»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ollege.ru/physics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изика Ru»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fizika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общеобразовательный портал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chool.edu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рофизический портал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fportal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диная коллекция образовательных ресурсов «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chool-collection.edu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физик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k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narod.ru/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у ЕГЭ Гущин (http://phys.reshuege.ru/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ский портал(www.uc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324000" y="1280160"/>
            <a:ext cx="88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я критического мышлен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еское мышление– это способность анализировать информацию с помощью логики и личностно-психологического подхода, с тем, чтобы применять полученные результаты как к стандартным, так и нестандартным ситуациям, вопросам и проблемам. Этому процессу присуща открытость новым идея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324000" y="24804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фазы технологии развития критического мышл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Стрелка вниз 2"/>
          <p:cNvSpPr/>
          <p:nvPr/>
        </p:nvSpPr>
        <p:spPr>
          <a:xfrm rot="16200000">
            <a:off x="1834920" y="1915560"/>
            <a:ext cx="485640" cy="112392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Стрелка вниз 3"/>
          <p:cNvSpPr/>
          <p:nvPr/>
        </p:nvSpPr>
        <p:spPr>
          <a:xfrm rot="16200000">
            <a:off x="1801800" y="3204720"/>
            <a:ext cx="484200" cy="11350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Стрелка вниз 4"/>
          <p:cNvSpPr/>
          <p:nvPr/>
        </p:nvSpPr>
        <p:spPr>
          <a:xfrm rot="16200000">
            <a:off x="1743840" y="4920120"/>
            <a:ext cx="484200" cy="101916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Прямоугольник 5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Вызов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Прямоугольник 6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Вызов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2556000" y="22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Вызов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3203640" y="1989000"/>
            <a:ext cx="186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939760" y="3429000"/>
            <a:ext cx="54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ие содержан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2700360" y="508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90360"/>
            <a:ext cx="8675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методические приемы развития критического мышлен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Кластер»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мозговой штурм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разминка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  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се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Корзина идей»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онтрольных вопросов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Знаю../Хочу узнать.…/Узнал…»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й проект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Чтение с остановками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Составления сиквейнов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2214720" y="98100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ектная технолог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1258920" y="2070720"/>
            <a:ext cx="67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цель любого проекта – формирование различных ключевых компетенций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торыми в современной педагогике понимаются комплексные свойства личности, включающие взаимосвязанные знания, умения, ценности, а также готовность мобилизовать их в необходимой ситуац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39640" y="692280"/>
          <a:ext cx="7920000" cy="5976720"/>
        </p:xfrm>
        <a:graphic>
          <a:graphicData uri="http://schemas.openxmlformats.org/drawingml/2006/table">
            <a:tbl>
              <a:tblPr/>
              <a:tblGrid>
                <a:gridCol w="2687760"/>
                <a:gridCol w="2616120"/>
                <a:gridCol w="2616120"/>
              </a:tblGrid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 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17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темы проекта, определение его цели и задач, разработка реализации плана идеи, формирование микрогрупп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мотивации участников, консультирование по выбору тематики и жанра проекта, помощь в подборке необходимых материалов, выработка критериев оценки деятельности каждого участника на всех этапа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19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ов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, анализ и систематизация собранной информации, запись интервью, обсуждение собранного материала в микрогруппах, выдвижение и проверка гипотезы, оформление макета и стендового доклада, самоконтрол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рное консультирование по содержанию проекта, помощь в систематизации и обработке материала, консультация по оформлению проекта, отслеживание деятельности каждого ученика, оцен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2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проекта, подготовка к защит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выступающих, помощь  в оформлении проек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6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воей деятельности. «Что дала мне работа над проектом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каждого участника проект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1"/>
          <p:cNvSpPr/>
          <p:nvPr/>
        </p:nvSpPr>
        <p:spPr>
          <a:xfrm>
            <a:off x="2124000" y="85680"/>
            <a:ext cx="49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проект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блемное обучение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е элементов проблемного обучения позволяет создать на уроке условия для творческой мыслительной работы учащих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блемное обучение выступает как одна из важнейших педагогических технологий, обеспечивающих возникновение мотивационного компонента учебно-познавательной компетенции учащихся на уроках физи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Картинки по запросу проблемное обучение"/>
          <p:cNvPicPr/>
          <p:nvPr/>
        </p:nvPicPr>
        <p:blipFill>
          <a:blip r:embed="rId1"/>
          <a:stretch/>
        </p:blipFill>
        <p:spPr>
          <a:xfrm>
            <a:off x="6516720" y="333360"/>
            <a:ext cx="24098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84360" y="1557360"/>
            <a:ext cx="7596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едагогической науки привело к тому, что в школе появилась новая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цел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у учащихся ключевые образовательные компетенции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362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хнология проблемного обучения предусматрива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оздание проблемной ситуации, анализ ее и в ходе анализа подвести учащихся к необходимости изучения определенной проблем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Включение учащихся в активный поиск решения проблемы на основе имеющихся знаний и мобилизации познавательных способност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Предполагаемое решение проблемы проверяется иногда теоретически, чаще экспериментально. Проблема решается, и на основе этого решения делается вывод, который несет в себе новое знание об изучаемом объек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755640" y="1209600"/>
            <a:ext cx="741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дготовительный этап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этап создания проблемной ситуаци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сознание учащимися темы или отдельного вопроса темы в виде учебной проблемы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ыдвижение гипотезы, предположений, обоснование гипотезы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доказательство, решение и вывод по сформулированной учебной проблем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крепление и обсуждение полученных данных, применение этих знаний в новых ситуация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983160" y="549360"/>
            <a:ext cx="51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блемного урок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2561760" y="105264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овые технолог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971640" y="2293560"/>
            <a:ext cx="684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пределению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 это вид деятельности в условиях ситуаций, направленных на воссоздание и усвоение общественного опыта, в котором складывается и совершенствуется самоуправление поведение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900000" y="249840"/>
            <a:ext cx="345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области применения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995640" y="348480"/>
            <a:ext cx="468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(характеристике) характеру педагогического процесса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ющ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971640" y="3226320"/>
            <a:ext cx="248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игровой технологии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тацион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0" y="1542960"/>
            <a:ext cx="543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предметной области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е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химические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биологические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4572000" y="1307880"/>
            <a:ext cx="432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игровой среде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редмет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едметам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нат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ич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ион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еские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о средствами передвиже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"/>
          <p:cNvSpPr/>
          <p:nvPr/>
        </p:nvSpPr>
        <p:spPr>
          <a:xfrm>
            <a:off x="2848680" y="98100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ейс – технологи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1187280" y="261252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-технологии – это не повторение за учителем, не пересказ параграфа или статьи, не ответ на вопрос преподавателя, это анализ конкретной ситуации, который заставляет поднять пласт полученных знаний и применить их на практик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55640" y="1557360"/>
          <a:ext cx="7632720" cy="424800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333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91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своение новой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Освоение метода сбора дан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своение метода анали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мение работать с текст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оотнесение теоретических и практических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ts val="1672"/>
                        </a:lnSpc>
                        <a:spcBef>
                          <a:spcPts val="388"/>
                        </a:spcBef>
                        <a:spcAft>
                          <a:spcPts val="388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     Создание авторск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зование и дости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х цел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вышение уров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х навы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оявление опыта приня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й, действий в нов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marL="177840"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ции, решения пробл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Rectangle 1"/>
          <p:cNvSpPr/>
          <p:nvPr/>
        </p:nvSpPr>
        <p:spPr>
          <a:xfrm>
            <a:off x="459720" y="264600"/>
            <a:ext cx="828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, возможные при использован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«Кейс-метода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»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539640" y="720000"/>
            <a:ext cx="76327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ученика с кейс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— знакомство с ситуацией, её особенностями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— выделение   основной   проблемы (проблем)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— предложение концепций или тем для «мозгового штурма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этап — анализ последствий принятия того или иного решения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этап — решение кейса — предложение одного или нескольких вариантов последовательности действи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611280" y="61596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учителя в кейс – технологи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здание кейса или использование уже имеющегос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аспределение учеников по малым группам (4-6 человек)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знакомство учащихся с ситуацией, системой оценивания решений проблемы, сроками выполнения заданий организация работы учащихся в малых группах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докладчиков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организация презентации решений в малых группах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рганизация общей дискусси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обобщающее выступление учителя, его анализ ситуаци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оценивание учащихся учителе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1904760" y="767520"/>
            <a:ext cx="485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я модульного обуч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26920" y="1670760"/>
            <a:ext cx="72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модульного обучения лежат четыре основополагающих понятия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чебный блок- модуль (модульная программа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ременной цикл (законченный блок-модуль материала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чебное занятие (очень часто это   «спаренный урок»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.Учебный элемент (алгоритм действий ученика на урок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ым темпом развиваются компьютерные технологии. Успех в обучении  во многом зависит от мастерства учителя и учета индивидуальных способностей обучающих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ANd9GcRqxE-8n_e28el2BuCMHOwVhHe4xe-Lpn6cEqKyYneoIULXsdIMaQ"/>
          <p:cNvPicPr/>
          <p:nvPr/>
        </p:nvPicPr>
        <p:blipFill>
          <a:blip r:embed="rId1"/>
          <a:stretch/>
        </p:blipFill>
        <p:spPr>
          <a:xfrm>
            <a:off x="7380360" y="333360"/>
            <a:ext cx="1514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1709640" y="40536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доровьесберегающие технолог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900000" y="1844640"/>
            <a:ext cx="77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здоровьесберегающими образовательными технологиями понимают все те технологии, использование которых идет на сохранение здоровья учащихся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128880" y="766440"/>
            <a:ext cx="83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для глаз по методу Г.А.Шичк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Прямоугольник 2"/>
          <p:cNvSpPr/>
          <p:nvPr/>
        </p:nvSpPr>
        <p:spPr>
          <a:xfrm>
            <a:off x="2773080" y="2421000"/>
            <a:ext cx="55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ая гимнастик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901440" y="4726800"/>
            <a:ext cx="405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минутк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403920" y="836640"/>
            <a:ext cx="85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ология интегрированного обучени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1332000" y="2100600"/>
            <a:ext cx="684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 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это глубокое взаимопроникновение, слияние, насколько это возможно, в одном учебном материале обобщённых знаний в той или иной облас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24000" y="1413000"/>
          <a:ext cx="8424720" cy="4392360"/>
        </p:xfrm>
        <a:graphic>
          <a:graphicData uri="http://schemas.openxmlformats.org/drawingml/2006/table">
            <a:tbl>
              <a:tblPr/>
              <a:tblGrid>
                <a:gridCol w="2655720"/>
                <a:gridCol w="3022560"/>
                <a:gridCol w="2746440"/>
              </a:tblGrid>
              <a:tr h="277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     Подготов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     Исполн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рефлексивный.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14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ланирование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 организация творческой группы,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 конструирование содержания урока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репетиц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67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этого этапа – вызвать интерес учащихся к теме урока, к его содержанию. Способы вызова интереса учащихся могут быть различные, например, описание проблемной ситуации или интересного случа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ключительной части урока необходимо обобщить всё сказанное на уроке, подвести итог рассуждениям учеников, сформулировать чёткие выводы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этом этапе проводится анализ урока. Необходимо учесть все его достоинства и недоста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8" name="Rectangle 1"/>
          <p:cNvSpPr/>
          <p:nvPr/>
        </p:nvSpPr>
        <p:spPr>
          <a:xfrm>
            <a:off x="971640" y="192960"/>
            <a:ext cx="7380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нтегрированного урока.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подготовки и проведения интегрированного урока имеет свою специфику. Он состоит из нескольких этапов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численные положительные результаты внедрения данных технологий позволяют формировать различные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мпетенц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ичностную, учебно-познавательную, коммуникативную, информационную, здоровьесберегающу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971640" y="1628640"/>
            <a:ext cx="7561080" cy="30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 актуальна  в настоящее время проблема развития творческих способностей учащихся основной  задачей, которой  стало воспитание творческой личности  средствами каждого учебного предмета. Чтобы учение не превратилось для ребят в скучное и однообразное занятие, нужно на каждом уроке вызывать у ребят приятное ощущение новизны познаваем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826920" y="1260000"/>
            <a:ext cx="7490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приёмов – область педагогического знания, отражающего характеристики глубинных процессов   педагогической   деятельности, особенности их взаимодействия, управление которыми      обеспечивает необходимую эффективность учебно-воспитательного        процесса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476360" y="894240"/>
            <a:ext cx="56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форм, методов, приёмов и средств передачи социального опыта, а также техническое оснащение этого процесса;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8971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способов организации учебно-познавательного процесса или последовательность определённых действий, операций, связанных с конкретной деятельностью учителя и направленных на достижение поставленных целей (технологическая цепочка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593640"/>
            <a:ext cx="9144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– коммуникационная технолог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развития критического мышл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ая технолог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развивающего обуч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сберегающие технологии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хнологи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ная технолог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мастерских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с – технолог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интегрированного обучени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ка сотрудничества.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 уровневой дифференциации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ые технологии.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технологи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400px-Ljhohfhygghuh"/>
          <p:cNvPicPr/>
          <p:nvPr/>
        </p:nvPicPr>
        <p:blipFill>
          <a:blip r:embed="rId1"/>
          <a:stretch/>
        </p:blipFill>
        <p:spPr>
          <a:xfrm>
            <a:off x="5148360" y="3068640"/>
            <a:ext cx="3809880" cy="2990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формационные технологи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физики, в силу особенностей самого предмета, представляет собой благоприятную сферу для применения современных информационных технологи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7T15:40:26Z</dcterms:created>
  <dc:creator>Ольга</dc:creator>
  <dc:description/>
  <dc:language>en-US</dc:language>
  <cp:lastModifiedBy>143</cp:lastModifiedBy>
  <dcterms:modified xsi:type="dcterms:W3CDTF">2018-02-05T12:31:43Z</dcterms:modified>
  <cp:revision>36</cp:revision>
  <dc:subject/>
  <dc:title>Современные образовательные технологии на уроках физики.</dc:title>
</cp:coreProperties>
</file>