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D7C-EFE1-403D-B307-3489F5A6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190-E648-41A3-AFE2-7DC5FF2A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7E9-A84D-4D70-B9BA-A2A0BA2B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08A-D7F8-4E99-BD08-CCE099AA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BF1D-E7D3-4631-9CB8-3F2E4EE0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A881-FE73-4D92-976A-5636B4A6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2D86-4070-4569-964B-A8CF3327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8D6D-5C68-4770-9C1F-33A634AB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84F1-E962-4294-8AFA-DB39365B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9311-BF69-45E6-85D9-E9A49D2C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C5BC-2A41-468F-8CFC-4D68055A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F5B-9C39-4910-B885-57294F35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C753-6BA6-4668-8B9F-8E188431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46E-FE55-4C35-B147-66F2D78C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45E9-F3FD-405B-94D9-6B9A5ADB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1DC2-B60E-4630-A148-F06D28A5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1245-248E-4759-9313-1FFF9FCD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101-B4AE-4593-9507-388E0C1E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C09-6D7C-41A2-AC53-BA9913AB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7D2-BE7A-4FC9-93E4-4C41E19F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791-5364-4F79-84FC-C8F66386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8E5-7CAB-454B-8FBA-7FD57CDF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211-B368-4F6A-84AB-405E58F1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427-650E-4532-9F45-BEBA8358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6796-630D-4F12-86D2-50A415850B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5988-65FF-4B35-82C8-A69B6BEA24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" Target="slide10.xml"/><Relationship Id="rId10" Type="http://schemas.openxmlformats.org/officeDocument/2006/relationships/image" Target="../media/image10.png"/><Relationship Id="rId11" Type="http://schemas.openxmlformats.org/officeDocument/2006/relationships/slide" Target="slide10.xml"/><Relationship Id="rId12" Type="http://schemas.openxmlformats.org/officeDocument/2006/relationships/image" Target="../media/image11.png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hysics.nad.ru/" TargetMode="External"/><Relationship Id="rId3" Type="http://schemas.openxmlformats.org/officeDocument/2006/relationships/hyperlink" Target="http://festival.1september.ru/" TargetMode="External"/><Relationship Id="rId4" Type="http://schemas.openxmlformats.org/officeDocument/2006/relationships/hyperlink" Target="http://www.ege.edu.ru/%29,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«Формирование познавательного интереса учащихся с помощью современных образовательных технологий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9" descr="Картинки по запросу личностно-ориентированные технологии"/>
          <p:cNvPicPr/>
          <p:nvPr/>
        </p:nvPicPr>
        <p:blipFill>
          <a:blip r:embed="rId1"/>
          <a:stretch/>
        </p:blipFill>
        <p:spPr>
          <a:xfrm>
            <a:off x="7093080" y="43657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2987640" y="2276640"/>
            <a:ext cx="3286080" cy="9144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КТ на урок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5000760" y="692280"/>
            <a:ext cx="3892320" cy="1236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подготовке  к экзаменам,  олимпиад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500040" y="620640"/>
            <a:ext cx="3784680" cy="12938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 изложении нового материал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Скругленный прямоугольник 6"/>
          <p:cNvSpPr/>
          <p:nvPr/>
        </p:nvSpPr>
        <p:spPr>
          <a:xfrm>
            <a:off x="357120" y="3429000"/>
            <a:ext cx="2643120" cy="1128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контроля знан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Скругленный прямоугольник 7"/>
          <p:cNvSpPr/>
          <p:nvPr/>
        </p:nvSpPr>
        <p:spPr>
          <a:xfrm>
            <a:off x="6072120" y="3571920"/>
            <a:ext cx="2714760" cy="98568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 закреплен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1547640" y="4797360"/>
            <a:ext cx="2857680" cy="12715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домашней работ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Скругленный прямоугольник 9"/>
          <p:cNvSpPr/>
          <p:nvPr/>
        </p:nvSpPr>
        <p:spPr>
          <a:xfrm>
            <a:off x="5003640" y="4797360"/>
            <a:ext cx="2714760" cy="1200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 внеклассной работ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7" name="Прямая со стрелкой 11"/>
          <p:cNvCxnSpPr>
            <a:stCxn id="100" idx="3"/>
            <a:endCxn id="101" idx="2"/>
          </p:cNvCxnSpPr>
          <p:nvPr/>
        </p:nvCxnSpPr>
        <p:spPr>
          <a:xfrm flipV="1">
            <a:off x="6286680" y="1940760"/>
            <a:ext cx="660600" cy="793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08" name="Прямая со стрелкой 13"/>
          <p:cNvCxnSpPr>
            <a:stCxn id="100" idx="1"/>
            <a:endCxn id="102" idx="2"/>
          </p:cNvCxnSpPr>
          <p:nvPr/>
        </p:nvCxnSpPr>
        <p:spPr>
          <a:xfrm flipH="1" flipV="1">
            <a:off x="2391480" y="1926360"/>
            <a:ext cx="583560" cy="807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9" name="Прямая со стрелкой 15"/>
          <p:cNvCxnSpPr>
            <a:stCxn id="100" idx="2"/>
            <a:endCxn id="104" idx="1"/>
          </p:cNvCxnSpPr>
          <p:nvPr/>
        </p:nvCxnSpPr>
        <p:spPr>
          <a:xfrm>
            <a:off x="4630320" y="3203640"/>
            <a:ext cx="1429560" cy="862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0" name="Прямая со стрелкой 17"/>
          <p:cNvCxnSpPr>
            <a:stCxn id="100" idx="2"/>
            <a:endCxn id="103" idx="3"/>
          </p:cNvCxnSpPr>
          <p:nvPr/>
        </p:nvCxnSpPr>
        <p:spPr>
          <a:xfrm flipH="1">
            <a:off x="3012480" y="3203640"/>
            <a:ext cx="1618200" cy="7912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1" name="Line 15"/>
          <p:cNvSpPr/>
          <p:nvPr/>
        </p:nvSpPr>
        <p:spPr>
          <a:xfrm flipH="1">
            <a:off x="3924000" y="3213000"/>
            <a:ext cx="647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572000" y="3213000"/>
            <a:ext cx="1079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чины использование ИКТ на уроках физик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719280" y="1989000"/>
            <a:ext cx="8424720" cy="44830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 различных типов электронных средств учебного назначения, активизирует   учебную деятельность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но освобождает  учителя от выполнения информационной, тренировочной и контролирующей функций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т  у учащихся навыки  самостоятельного овладения знаниям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ует  положительную  мотивацию  учения за счет интегрирования всех форм наглядност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  учебную деятельность с немедленной обратной связью и развитой системой помощ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9"/>
          <p:cNvSpPr/>
          <p:nvPr/>
        </p:nvSpPr>
        <p:spPr>
          <a:xfrm>
            <a:off x="3419640" y="2951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ЬТИМЕДИ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973080" y="1247760"/>
            <a:ext cx="15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имация процессов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ени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45000" y="4921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улы, текс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6397560" y="15256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хемы, график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70560" y="1335240"/>
            <a:ext cx="1914480" cy="94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33840" y="407880"/>
            <a:ext cx="1913040" cy="112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5"/>
          <a:stretch/>
        </p:blipFill>
        <p:spPr>
          <a:xfrm>
            <a:off x="6784920" y="2620800"/>
            <a:ext cx="1914480" cy="111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80" y="2639880"/>
            <a:ext cx="2120760" cy="112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8"/>
          <a:stretch/>
        </p:blipFill>
        <p:spPr>
          <a:xfrm>
            <a:off x="804960" y="4316400"/>
            <a:ext cx="1914480" cy="1120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334200" y="4352760"/>
            <a:ext cx="1914480" cy="1121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633840" y="5010120"/>
            <a:ext cx="1913040" cy="1122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6537240" y="4452840"/>
            <a:ext cx="163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обия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780000" y="5084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ртуальны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бораторные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20">
            <a:hlinkClick r:id="rId13" action="ppaction://hlinksldjump"/>
          </p:cNvPr>
          <p:cNvSpPr/>
          <p:nvPr/>
        </p:nvSpPr>
        <p:spPr>
          <a:xfrm>
            <a:off x="250920" y="2951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зентаци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21">
            <a:hlinkClick r:id="rId14" action="ppaction://hlinksldjump"/>
          </p:cNvPr>
          <p:cNvSpPr/>
          <p:nvPr/>
        </p:nvSpPr>
        <p:spPr>
          <a:xfrm>
            <a:off x="90000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сты, электронные тренажёр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16" descr=""/>
          <p:cNvPicPr/>
          <p:nvPr/>
        </p:nvPicPr>
        <p:blipFill>
          <a:blip r:embed="rId15"/>
          <a:stretch/>
        </p:blipFill>
        <p:spPr>
          <a:xfrm>
            <a:off x="755640" y="1197000"/>
            <a:ext cx="1914480" cy="1122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0"/>
          <p:cNvSpPr/>
          <p:nvPr/>
        </p:nvSpPr>
        <p:spPr>
          <a:xfrm>
            <a:off x="3348000" y="2637000"/>
            <a:ext cx="2448000" cy="107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ЛЬТИМЕДИ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4284720" y="177336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22"/>
          <p:cNvSpPr/>
          <p:nvPr/>
        </p:nvSpPr>
        <p:spPr>
          <a:xfrm rot="2842800">
            <a:off x="5903280" y="2097360"/>
            <a:ext cx="432000" cy="647640"/>
          </a:xfrm>
          <a:prstGeom prst="upArrow">
            <a:avLst>
              <a:gd name="adj1" fmla="val 50000"/>
              <a:gd name="adj2" fmla="val 3747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23"/>
          <p:cNvSpPr/>
          <p:nvPr/>
        </p:nvSpPr>
        <p:spPr>
          <a:xfrm rot="18351600">
            <a:off x="2808360" y="202536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24"/>
          <p:cNvSpPr/>
          <p:nvPr/>
        </p:nvSpPr>
        <p:spPr>
          <a:xfrm rot="10800000">
            <a:off x="4356000" y="4005000"/>
            <a:ext cx="432000" cy="647640"/>
          </a:xfrm>
          <a:prstGeom prst="upArrow">
            <a:avLst>
              <a:gd name="adj1" fmla="val 50000"/>
              <a:gd name="adj2" fmla="val 3747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25"/>
          <p:cNvSpPr/>
          <p:nvPr/>
        </p:nvSpPr>
        <p:spPr>
          <a:xfrm rot="16200000">
            <a:off x="2519280" y="2815560"/>
            <a:ext cx="431640" cy="648000"/>
          </a:xfrm>
          <a:prstGeom prst="upArrow">
            <a:avLst>
              <a:gd name="adj1" fmla="val 50000"/>
              <a:gd name="adj2" fmla="val 3753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26"/>
          <p:cNvSpPr/>
          <p:nvPr/>
        </p:nvSpPr>
        <p:spPr>
          <a:xfrm rot="5400000">
            <a:off x="6119640" y="288936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27"/>
          <p:cNvSpPr/>
          <p:nvPr/>
        </p:nvSpPr>
        <p:spPr>
          <a:xfrm rot="13428600">
            <a:off x="2792160" y="377604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28"/>
          <p:cNvSpPr/>
          <p:nvPr/>
        </p:nvSpPr>
        <p:spPr>
          <a:xfrm rot="8340000">
            <a:off x="5940360" y="3715920"/>
            <a:ext cx="432000" cy="647640"/>
          </a:xfrm>
          <a:prstGeom prst="upArrow">
            <a:avLst>
              <a:gd name="adj1" fmla="val 50000"/>
              <a:gd name="adj2" fmla="val 3747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7311960" y="28526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иде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400px-Ljhohfhygghuh"/>
          <p:cNvPicPr/>
          <p:nvPr/>
        </p:nvPicPr>
        <p:blipFill>
          <a:blip r:embed="rId1"/>
          <a:stretch/>
        </p:blipFill>
        <p:spPr>
          <a:xfrm>
            <a:off x="5334120" y="3068640"/>
            <a:ext cx="3809880" cy="2990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 которые применяются ча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изика в анимациях» (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http://physics.na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стиваль «Открытый урок» (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http://festival.1september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информационный портал ЕГЭ (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/>
              </a:rPr>
              <a:t>http://www.ege.edu.ru/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ПИ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ipi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колледж. Физика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ollege.ru/physics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изика Ru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izika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общеобразовательный порта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chool.edu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рофизический порта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fportal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диная коллекция образовательных ресурсов «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chool-collection.edu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физик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k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narod.ru/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у ЕГЭ Гущин (http://phys.reshuege.ru/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ский портал(www.uc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324000" y="1280160"/>
            <a:ext cx="88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критического мышле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ое мышление– это способность анализировать информацию с помощью логики и личностно-психологического подхода, с тем, чтобы применять полученные результаты как к стандартным, так и нестандартным ситуациям, вопросам и проблемам. Этому процессу присуща открытость новым идея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324000" y="24804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фазы технологии развития критического мышл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Стрелка вниз 2"/>
          <p:cNvSpPr/>
          <p:nvPr/>
        </p:nvSpPr>
        <p:spPr>
          <a:xfrm rot="16200000">
            <a:off x="1834920" y="1915560"/>
            <a:ext cx="485640" cy="11239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Стрелка вниз 3"/>
          <p:cNvSpPr/>
          <p:nvPr/>
        </p:nvSpPr>
        <p:spPr>
          <a:xfrm rot="16200000">
            <a:off x="1801800" y="3204720"/>
            <a:ext cx="484200" cy="11350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Стрелка вниз 4"/>
          <p:cNvSpPr/>
          <p:nvPr/>
        </p:nvSpPr>
        <p:spPr>
          <a:xfrm rot="16200000">
            <a:off x="1743840" y="4920120"/>
            <a:ext cx="484200" cy="101916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Вызов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Прямоугольник 6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Вызов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2556000" y="22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Вызов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3203640" y="1989000"/>
            <a:ext cx="186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939760" y="3429000"/>
            <a:ext cx="54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содержа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2700360" y="508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90360"/>
            <a:ext cx="8675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методические приемы развития критического мышле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Кластер»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озговой штурм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разминк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Корзина идей»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онтрольных вопросов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Знаю../Хочу узнать.…/Узнал…»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й проект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Чтение с остановками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Составления сиквейнов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2214720" y="98100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ктная технолог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258920" y="2070720"/>
            <a:ext cx="67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цель любого проекта – формирование различных ключевых компетенций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ыми в современной педагогике понимаются комплексные свойства личности, включающие взаимосвязанные знания, умения, ценности, а также готовность мобилизовать их в необходимой ситуац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39640" y="692280"/>
          <a:ext cx="7920000" cy="5976720"/>
        </p:xfrm>
        <a:graphic>
          <a:graphicData uri="http://schemas.openxmlformats.org/drawingml/2006/table">
            <a:tbl>
              <a:tblPr/>
              <a:tblGrid>
                <a:gridCol w="2687760"/>
                <a:gridCol w="2616120"/>
                <a:gridCol w="2616120"/>
              </a:tblGrid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17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темы проекта, определение его цели и задач, разработка реализации плана идеи, формирование микрогруп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мотивации участников, консультирование по выбору тематики и жанра проекта, помощь в подборке необходимых материалов, выработка критериев оценки деятельности каждого участника на всех этапа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1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ов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, анализ и систематизация собранной информации, запись интервью, обсуждение собранного материала в микрогруппах, выдвижение и проверка гипотезы, оформление макета и стендового доклада, самоконтрол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рное консультирование по содержанию проекта, помощь в систематизации и обработке материала, консультация по оформлению проекта, отслеживание деятельности каждого ученика, оце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проекта, подготовка к защит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выступающих, помощь  в оформлении проек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6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воей деятельности. «Что дала мне работа над проектом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каждого участника проек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1"/>
          <p:cNvSpPr/>
          <p:nvPr/>
        </p:nvSpPr>
        <p:spPr>
          <a:xfrm>
            <a:off x="2124000" y="85680"/>
            <a:ext cx="49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проект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ное обучени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е элементов проблемного обучения позволяет создать на уроке условия для творческой мыслительной работы учащих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ное обучение выступает как одна из важнейших педагогических технологий, обеспечивающих возникновение мотивационного компонента учебно-познавательной компетенции учащихся на уроках физ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Картинки по запросу проблемное обучение"/>
          <p:cNvPicPr/>
          <p:nvPr/>
        </p:nvPicPr>
        <p:blipFill>
          <a:blip r:embed="rId1"/>
          <a:stretch/>
        </p:blipFill>
        <p:spPr>
          <a:xfrm>
            <a:off x="6516720" y="333360"/>
            <a:ext cx="2409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84360" y="1557360"/>
            <a:ext cx="759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дагогической науки привело к тому, что в школе появилась новая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цел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у учащихся ключевые образовательные компетенции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 предусматрива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оздание проблемной ситуации, анализ ее и в ходе анализа подвести учащихся к необходимости изучения определенной пробле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Включение учащихся в активный поиск решения проблемы на основе имеющихся знаний и мобилизации познавательных способност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Предполагаемое решение проблемы проверяется иногда теоретически, чаще экспериментально. Проблема решается, и на основе этого решения делается вывод, который несет в себе новое знание об изучаемом объек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755640" y="1209600"/>
            <a:ext cx="741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дготовительный этап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этап создания проблемной ситуаци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сознание учащимися темы или отдельного вопроса темы в виде учебной проблемы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ыдвижение гипотезы, предположений, обоснование гипотезы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доказательство, решение и вывод по сформулированной учебной проблем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крепление и обсуждение полученных данных, применение этих знаний в новых ситуация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983160" y="549360"/>
            <a:ext cx="51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блемного уро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2561760" y="105264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овые технолог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971640" y="2293560"/>
            <a:ext cx="68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ределению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это вид деятельности в условиях ситуаций, направленных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900000" y="24984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области применения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995640" y="348480"/>
            <a:ext cx="46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(характеристике) характеру педагогического процесса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ющ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971640" y="3226320"/>
            <a:ext cx="248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игровой технологии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тацион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0" y="1542960"/>
            <a:ext cx="543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предметной области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е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химические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биологические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572000" y="1307880"/>
            <a:ext cx="432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игровой среде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редмет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дметам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ч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он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еские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о средствами передвиж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2848680" y="98100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ейс – технолог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1187280" y="261252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-технологии – это не повторение за учителем, не пересказ параграфа или статьи, не ответ на вопрос преподавателя, это анализ конкретной ситуации, который заставляет поднять пласт полученных знаний и применить их на практи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55640" y="1557360"/>
          <a:ext cx="7632720" cy="42480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1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своение новой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воение метода сбора дан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своение метода анали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мение работать с текс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оотнесение теоретических и практических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spcBef>
                          <a:spcPts val="388"/>
                        </a:spcBef>
                        <a:spcAft>
                          <a:spcPts val="3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     Создание авторск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зование и дост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х це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вышение уров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х навы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явление опыта приня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й, действий в нов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, решения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1"/>
          <p:cNvSpPr/>
          <p:nvPr/>
        </p:nvSpPr>
        <p:spPr>
          <a:xfrm>
            <a:off x="459720" y="264600"/>
            <a:ext cx="828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, возможные при использован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«Кейс-метода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»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539640" y="720000"/>
            <a:ext cx="7632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ученика с кейс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— знакомство с ситуацией, её особенностям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— выделение   основной   проблемы (проблем)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— предложение концепций или тем для «мозгового штурм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 — анализ последствий принятия того или иного решения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этап — решение кейса — предложение одного или нескольких вариантов последовательности действи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611280" y="61596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учителя в кейс – технолог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здание кейса или использование уже имеющегос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аспределение учеников по малым группам (4-6 человек)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знакомство учащихся с ситуацией, системой оценивания решений проблемы, сроками выполнения заданий организация работы учащихся в малых группах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докладчик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рганизация презентации решений в малых группах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рганизация общей дискусси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бобщающее выступление учителя, его анализ ситуаци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оценивание учащихся учителе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904760" y="767520"/>
            <a:ext cx="48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модульного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26920" y="167076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модульного обучения лежат четыре основополагающих понятия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чебный блок- модуль (модульная программа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ременной цикл (законченный блок-модуль материала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ебное занятие (очень часто это   «спаренный урок»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.Учебный элемент (алгоритм действий ученика на урок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ым темпом развиваются компьютерные технологии. Успех в обучении  во многом зависит от мастерства учителя и учета индивидуальных способностей обучающих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Nd9GcRqxE-8n_e28el2BuCMHOwVhHe4xe-Lpn6cEqKyYneoIULXsdIMaQ"/>
          <p:cNvPicPr/>
          <p:nvPr/>
        </p:nvPicPr>
        <p:blipFill>
          <a:blip r:embed="rId1"/>
          <a:stretch/>
        </p:blipFill>
        <p:spPr>
          <a:xfrm>
            <a:off x="7380360" y="333360"/>
            <a:ext cx="1514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1709640" y="40536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доровьесберегающие 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900000" y="1844640"/>
            <a:ext cx="77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здоровьесберегающими образовательными технологиями понимают все те технологии, использование которых идет на сохранение здоровья учащихся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28880" y="766440"/>
            <a:ext cx="83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глаз по методу Г.А.Шичк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2773080" y="2421000"/>
            <a:ext cx="55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ая гимнасти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901440" y="4726800"/>
            <a:ext cx="40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403920" y="836640"/>
            <a:ext cx="85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интегрированного обучен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1332000" y="2100600"/>
            <a:ext cx="68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 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 глубокое взаимопроникновение, слияние, насколько это возможно, в одном учебном материале обобщённых знаний в той или иной облас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24000" y="1413000"/>
          <a:ext cx="8424720" cy="4392360"/>
        </p:xfrm>
        <a:graphic>
          <a:graphicData uri="http://schemas.openxmlformats.org/drawingml/2006/table">
            <a:tbl>
              <a:tblPr/>
              <a:tblGrid>
                <a:gridCol w="2655720"/>
                <a:gridCol w="3022560"/>
                <a:gridCol w="2746440"/>
              </a:tblGrid>
              <a:tr h="27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     Подготов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     Исполн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рефлексивный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4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ланиро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 организация творческой группы,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 конструирование содержания урок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репетиц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этого этапа – вызвать интерес учащихся к теме урока, к его содержанию. Способы вызова интереса учащихся могут быть различные, например, описание проблемной ситуации или интересного случа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ключительной части урока необходимо обобщить всё сказанное на уроке, подвести итог рассуждениям учеников, сформулировать чёткие вывод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этом этапе проводится анализ урока. Необходимо учесть все его достоинства и недоста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1"/>
          <p:cNvSpPr/>
          <p:nvPr/>
        </p:nvSpPr>
        <p:spPr>
          <a:xfrm>
            <a:off x="971640" y="192960"/>
            <a:ext cx="7380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нтегрированного урока.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подготовки и проведения интегрированного урока имеет свою специфику. Он состоит из нескольких этап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ные положительные результаты внедрения данных технологий позволяют формировать различные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етенц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чностную, учебно-познавательную, коммуникативную, информационную, здоровьесберегающу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971640" y="1628640"/>
            <a:ext cx="7561080" cy="30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актуальна  в настоящее время проблема развития творческих способностей учащихся основной  задачей, которой  стало воспитание творческой личности  средствами каждого учебного предмета. Чтобы учение не превратилось для ребят в скучное и однообразное занятие, нужно на каждом уроке вызывать у ребят приятное ощущение новизны познаваем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826920" y="1260000"/>
            <a:ext cx="7490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приёмов – область педагогического знания, отражающего характеристики глубинных процессов   педагогической   деятельности, особенности их взаимодействия, управление которыми      обеспечивает необходимую эффективность учебно-воспитательного        процесса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476360" y="894240"/>
            <a:ext cx="56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форм, методов, приёмов и средств передачи социального опыта, а также техническое оснащение этого процесса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8971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способов организации учебно-познавательного процесса или последовательность определённых действий, операций, связанных с конкретной деятельностью учителя и направленных на достижение поставленных целей (технологическая цепочка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59364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– коммуникационная техн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вития критического мышл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техн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вивающего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 технологии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ная техн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мастерски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 – техн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интегрированного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ка сотрудничества.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уровневой дифференциации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технологии.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технологи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400px-Ljhohfhygghuh"/>
          <p:cNvPicPr/>
          <p:nvPr/>
        </p:nvPicPr>
        <p:blipFill>
          <a:blip r:embed="rId1"/>
          <a:stretch/>
        </p:blipFill>
        <p:spPr>
          <a:xfrm>
            <a:off x="5148360" y="3068640"/>
            <a:ext cx="3809880" cy="2990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формационные технолог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физики, в силу особенностей самого предмета, представляет собой благоприятную сферу для применения современных информационных технологи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7T15:40:26Z</dcterms:created>
  <dc:creator>Ольга</dc:creator>
  <dc:description/>
  <dc:language>en-US</dc:language>
  <cp:lastModifiedBy>143</cp:lastModifiedBy>
  <dcterms:modified xsi:type="dcterms:W3CDTF">2018-02-05T12:31:43Z</dcterms:modified>
  <cp:revision>36</cp:revision>
  <dc:subject/>
  <dc:title>Современные образовательные технологии на уроках физики.</dc:title>
</cp:coreProperties>
</file>