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FDB26-8F13-4172-9A6D-43E934ED4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A9CC25-FFB6-45B0-87C4-CA83ECB535C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A3DB65-03E3-4632-B55A-C7829F99BA0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080-D49C-4229-BF16-20576F7B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D98-5F40-4F60-BCC4-AC64EE39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38A-28E5-41BF-AE01-3AEF270F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428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20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436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428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20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9D0-A2C4-431B-88AD-6E351BDA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5C7E-EB2A-4EE1-8085-89AA5654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13E0-BED8-4D59-9224-A645259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2C23-A7FD-47E1-AAD9-CF3EB30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BC7-3B6D-45FE-B885-1A64959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DBD3-0512-4DDB-BFCE-8357DD8F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4280"/>
            <a:ext cx="6377760" cy="59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364-F692-4793-B274-AADD6327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CE16-4611-4C82-91D8-5D497CF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51E-7F86-4E5D-85D9-90C79549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EB43-7341-4593-B138-363F26F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CC0-6C59-425F-932D-BE15304F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51B8-D08A-4793-BDA5-5A49FDAF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14CE-6E70-4A86-A22B-DD345440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428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456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436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428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20000"/>
            <a:ext cx="2561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7E6D-D1D0-4990-8357-2573A739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DF6-F66E-4DAF-A692-3009DC8A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F01-3AD8-4DC9-8F53-2373FB70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B37-F65C-4EDE-B614-5476D0F1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71880" y="764280"/>
            <a:ext cx="6377760" cy="59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80DD-0B31-4B6B-8E0D-FC3620C2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4A2-1C61-42A8-BEB7-02007E2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640" y="432000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62A-60DA-4A20-B6B3-8EE0AD03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640" y="2194560"/>
            <a:ext cx="38818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4360" y="4320000"/>
            <a:ext cx="795492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F6E-06EE-4CF6-8E25-55FF875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C0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3640" cy="18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803240"/>
            <a:ext cx="7314840" cy="182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6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6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932080" y="4323960"/>
            <a:ext cx="2297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914400" y="4323960"/>
            <a:ext cx="48801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058080" y="1431000"/>
            <a:ext cx="217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80E192-5958-488A-BA73-DFD15E65057F}" type="slidenum"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C0-HD-TOP.png"/>
          <p:cNvPicPr/>
          <p:nvPr/>
        </p:nvPicPr>
        <p:blipFill>
          <a:blip r:embed="rId2"/>
          <a:stretch/>
        </p:blipFill>
        <p:spPr>
          <a:xfrm>
            <a:off x="0" y="0"/>
            <a:ext cx="9143640" cy="1080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40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12320" y="6356520"/>
            <a:ext cx="2136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94360" y="6355800"/>
            <a:ext cx="5680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72160" y="380880"/>
            <a:ext cx="197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17931E-94C1-40CE-A811-BFA7EE21DCB7}" type="slidenum">
              <a:rPr b="0" lang="ru-RU" sz="105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5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4"/>
          <p:cNvSpPr/>
          <p:nvPr/>
        </p:nvSpPr>
        <p:spPr>
          <a:xfrm>
            <a:off x="1763640" y="620640"/>
            <a:ext cx="688500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chemeClr val="accent3">
                    <a:lumMod val="75000"/>
                  </a:schemeClr>
                </a:solidFill>
                <a:latin typeface="Century Gothic"/>
              </a:rPr>
              <a:t>Игровой стретчин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571840" y="6143760"/>
            <a:ext cx="5214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нструктор по физической культуре      Бородкина Е.Е.  МДОУ №16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2791080" y="2349000"/>
            <a:ext cx="4830480" cy="362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58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200" spc="-1" strike="noStrike" cap="all">
                <a:solidFill>
                  <a:schemeClr val="accent3"/>
                </a:solidFill>
                <a:latin typeface="Century Gothic"/>
              </a:rPr>
              <a:t>Что такое </a:t>
            </a: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игровой стретчинг</a:t>
            </a:r>
            <a:r>
              <a:rPr b="0" lang="ru-RU" sz="3200" spc="-1" strike="noStrike" cap="all">
                <a:solidFill>
                  <a:schemeClr val="accent3"/>
                </a:solidFill>
                <a:latin typeface="Century Gothic"/>
              </a:rPr>
              <a:t>?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Это специально подобранные упражнения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а растяжку мышц, связок, сухожилий,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проводимые с детьми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 игровой форме.  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«Растяжка  - это гибкость,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гибкость – это молодость,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молодость – это здоровье!»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1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                        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Значение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2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величивается подвижность суставов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ышцы становятся более эластичными и гибкими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вышается общая двигательная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ктивность;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Хорошая гибкость позволяет выполнять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пражнения с большей амплитудой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движений;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Упражнения направлены на формирование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равильной осанки.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-206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Воспитываются выносливость и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старательность.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  <a:p>
            <a:pPr marL="20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</a:t>
            </a:r>
            <a:endParaRPr b="0" lang="ru-RU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Задачи игрового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физических качеств: мышечной силы, ловкости, выносливости, гибкост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азвитие психических качеств: внимание, память, воображение, умственные способности. 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Укрепление костно-мышечной системы, повышение функциональной деятельности органов и систем организма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оздание условий для положительного психоэмоционального состояния детей, и творчества в движении.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428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Основные правила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4360" y="219456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разогрев перед упражнениями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медленное и плавное выполнение упражнений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«правило ровной спины» - следите за осанкой, т.к. сгорбленность уменьшает гибкость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спокойное дыхание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- регулярная растяжка симметрично для обеих сторон тела.</a:t>
            </a:r>
            <a:endParaRPr b="0" lang="ru-RU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1640" y="332640"/>
            <a:ext cx="6377760" cy="12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Разогрев мышц, подготовка организма к упражнениям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107640" y="2493000"/>
            <a:ext cx="3942360" cy="295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4500000" y="2493000"/>
            <a:ext cx="3894120" cy="292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Упражнения стретчинга носят имитационных характер 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87640" y="4007160"/>
            <a:ext cx="12956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Рыбк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444360" y="3981960"/>
            <a:ext cx="143964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Звезд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636000" y="6406560"/>
            <a:ext cx="18000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Calibri"/>
              </a:rPr>
              <a:t>«Добрые кошки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1"/>
          <a:stretch/>
        </p:blipFill>
        <p:spPr>
          <a:xfrm>
            <a:off x="323640" y="1413000"/>
            <a:ext cx="3456000" cy="2592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"/>
          <p:cNvPicPr/>
          <p:nvPr/>
        </p:nvPicPr>
        <p:blipFill>
          <a:blip r:embed="rId2"/>
          <a:stretch/>
        </p:blipFill>
        <p:spPr>
          <a:xfrm>
            <a:off x="5076000" y="1422720"/>
            <a:ext cx="3443400" cy="25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6" descr=""/>
          <p:cNvPicPr/>
          <p:nvPr/>
        </p:nvPicPr>
        <p:blipFill>
          <a:blip r:embed="rId3"/>
          <a:stretch/>
        </p:blipFill>
        <p:spPr>
          <a:xfrm>
            <a:off x="2992320" y="3754800"/>
            <a:ext cx="3495240" cy="262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7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3200" spc="-1" strike="noStrike" cap="all">
                <a:solidFill>
                  <a:schemeClr val="accent3"/>
                </a:solidFill>
                <a:latin typeface="Century Gothic"/>
              </a:rPr>
              <a:t>Основная часть. Упражнения игрового стретчинга</a:t>
            </a:r>
            <a:endParaRPr b="0" lang="ru-RU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 rot="20886000">
            <a:off x="741240" y="1368720"/>
            <a:ext cx="3601080" cy="29376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"/>
          <p:cNvPicPr/>
          <p:nvPr/>
        </p:nvPicPr>
        <p:blipFill>
          <a:blip r:embed="rId2"/>
          <a:stretch/>
        </p:blipFill>
        <p:spPr>
          <a:xfrm rot="997200">
            <a:off x="4572000" y="1516680"/>
            <a:ext cx="3826440" cy="2869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3"/>
          <a:stretch/>
        </p:blipFill>
        <p:spPr>
          <a:xfrm>
            <a:off x="457200" y="4250520"/>
            <a:ext cx="3629880" cy="2537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6" descr=""/>
          <p:cNvPicPr/>
          <p:nvPr/>
        </p:nvPicPr>
        <p:blipFill>
          <a:blip r:embed="rId4"/>
          <a:stretch/>
        </p:blipFill>
        <p:spPr>
          <a:xfrm>
            <a:off x="4788000" y="4271040"/>
            <a:ext cx="3610440" cy="251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След самолета">
  <a:themeElements>
    <a:clrScheme name="След самолета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лед самолета">
  <a:themeElements>
    <a:clrScheme name="След самолета">
      <a:dk1>
        <a:srgbClr val="000000"/>
      </a:dk1>
      <a:lt1>
        <a:srgbClr val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4545"/>
      </a:dk2>
      <a:lt2>
        <a:srgbClr val="dadada"/>
      </a:lt2>
      <a:accent1>
        <a:srgbClr val="df2e28"/>
      </a:accent1>
      <a:accent2>
        <a:srgbClr val="fe801a"/>
      </a:accent2>
      <a:accent3>
        <a:srgbClr val="e9bf35"/>
      </a:accent3>
      <a:accent4>
        <a:srgbClr val="81bb42"/>
      </a:accent4>
      <a:accent5>
        <a:srgbClr val="32c7a9"/>
      </a:accent5>
      <a:accent6>
        <a:srgbClr val="4a9bdc"/>
      </a:accent6>
      <a:hlink>
        <a:srgbClr val="f0532b"/>
      </a:hlink>
      <a:folHlink>
        <a:srgbClr val="f38b5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37[[fn=След самолета]]</Template>
  <TotalTime>646</TotalTime>
  <Application>LibreOffice/7.4.7.2$Linux_X86_64 LibreOffice_project/40$Build-2</Application>
  <AppVersion>15.0000</AppVersion>
  <Words>231</Words>
  <Paragraphs>4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3:33:06Z</dcterms:created>
  <dc:creator>XTreme</dc:creator>
  <dc:description/>
  <dc:language>en-US</dc:language>
  <cp:lastModifiedBy>Пользователь</cp:lastModifiedBy>
  <dcterms:modified xsi:type="dcterms:W3CDTF">2022-04-30T13:08:30Z</dcterms:modified>
  <cp:revision>88</cp:revision>
  <dc:subject/>
  <dc:title>Игровой стретчин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8</vt:r8>
  </property>
</Properties>
</file>