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EDCB68-CD21-49A5-B6C6-2E890029B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E9AFCB-7C71-446A-A44E-CE7BD73E07F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358A55-8AD5-4B4C-8B98-02CADBA9BA7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596-628C-4755-AD4E-219EE9B5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795492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4360" y="4320000"/>
            <a:ext cx="795492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4FC-F061-4CC1-B4D2-C6EA0A09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64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360" y="432000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640" y="432000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8BB-EF07-4BE4-A5F5-ED4904FD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4280" y="219456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200" y="219456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4360" y="432000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4280" y="432000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200" y="432000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5EFC-63E8-4433-8E26-28FF8095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18CB-96E2-459F-9EF0-E26A15CD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4360" y="219456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5A89-A2B5-4DDE-868B-D8EEC1CA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866D-AEAD-41CD-9585-5A5AEA5B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3881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4560"/>
            <a:ext cx="3881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D438-2B4D-4EEF-9BA9-C80B3DC3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9B34-9E25-4B0A-880C-51FDF2B2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4280"/>
            <a:ext cx="6377760" cy="59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A4AF-086A-46B9-ACA8-12B0E40E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4560"/>
            <a:ext cx="3881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4360" y="432000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F63A-74A1-4DAC-A5C9-A5B54C47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4360" y="219456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DAF5-1E8F-4BB6-AA19-18592731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3881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2000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DDCF-9387-4DC3-A4D5-5D71DEA6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4360" y="4320000"/>
            <a:ext cx="795492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FA2D-02F4-400B-B982-6BE2FE84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795492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4360" y="4320000"/>
            <a:ext cx="795492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C281-15C8-4753-9841-B35DF4CA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360" y="432000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2000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0A88-C5B7-4B44-A14A-FF7361D9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4280" y="219456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456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4360" y="432000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4280" y="432000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2000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1A60-101B-4117-AFBB-BAB9FA2C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742-1190-4365-9C94-42ED6D3F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3881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640" y="2194560"/>
            <a:ext cx="3881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B04C-88A0-428B-B230-CB495DC0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09D2-559B-484C-B1D9-79972D06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71880" y="764280"/>
            <a:ext cx="6377760" cy="59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92E-1B89-43DE-9848-1CBE0715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640" y="2194560"/>
            <a:ext cx="3881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4360" y="432000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701-720A-483F-9005-2DCE497B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3881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64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640" y="432000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636-A13B-445C-8BE2-04698D6F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64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4360" y="4320000"/>
            <a:ext cx="795492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228-4E3B-4AAA-A6AF-AF9371F2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9143640" cy="1080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C0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3640" cy="186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803240"/>
            <a:ext cx="7314840" cy="182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6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ru-RU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932080" y="4323960"/>
            <a:ext cx="2297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914400" y="4323960"/>
            <a:ext cx="4880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058080" y="1431000"/>
            <a:ext cx="217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D64FC6-A6D4-4C11-97DF-AB33F8C95B5E}" type="slidenum">
              <a:rPr b="0" lang="ru-RU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9143640" cy="1080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4360" y="219456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412320" y="6356520"/>
            <a:ext cx="2136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94360" y="6355800"/>
            <a:ext cx="5680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72160" y="380880"/>
            <a:ext cx="197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CE6E4D-645C-477F-BC99-C80E18252383}" type="slidenum">
              <a:rPr b="0" lang="ru-RU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4"/>
          <p:cNvSpPr/>
          <p:nvPr/>
        </p:nvSpPr>
        <p:spPr>
          <a:xfrm>
            <a:off x="1763640" y="620640"/>
            <a:ext cx="688500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 cap="all">
                <a:solidFill>
                  <a:schemeClr val="accent3">
                    <a:lumMod val="75000"/>
                  </a:schemeClr>
                </a:solidFill>
                <a:latin typeface="Century Gothic"/>
              </a:rPr>
              <a:t>Игровой стретчин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571840" y="6143760"/>
            <a:ext cx="5214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нструктор по физической культуре      Бородкина Е.Е.  МДОУ №16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2791080" y="2349000"/>
            <a:ext cx="4830480" cy="362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58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3200" spc="-1" strike="noStrike" cap="all">
                <a:solidFill>
                  <a:schemeClr val="accent3"/>
                </a:solidFill>
                <a:latin typeface="Century Gothic"/>
              </a:rPr>
              <a:t>Что такое </a:t>
            </a:r>
            <a:r>
              <a:rPr b="1" lang="ru-RU" sz="3200" spc="-1" strike="noStrike" cap="all">
                <a:solidFill>
                  <a:schemeClr val="accent3"/>
                </a:solidFill>
                <a:latin typeface="Century Gothic"/>
              </a:rPr>
              <a:t>игровой стретчинг</a:t>
            </a:r>
            <a:r>
              <a:rPr b="0" lang="ru-RU" sz="3200" spc="-1" strike="noStrike" cap="all">
                <a:solidFill>
                  <a:schemeClr val="accent3"/>
                </a:solidFill>
                <a:latin typeface="Century Gothic"/>
              </a:rPr>
              <a:t>?</a:t>
            </a:r>
            <a:br>
              <a:rPr sz="3200"/>
            </a:b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2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Это специально подобранные упражнения 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marL="221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на растяжку мышц, связок, сухожилий, 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marL="221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проводимые с детьми 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marL="221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в игровой форме.  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marL="221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«Растяжка  - это гибкость,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marL="221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гибкость – это молодость,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marL="221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молодость – это здоровье!» 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marL="221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                        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 cap="all">
                <a:solidFill>
                  <a:schemeClr val="accent3"/>
                </a:solidFill>
                <a:latin typeface="Century Gothic"/>
              </a:rPr>
              <a:t>Значение стретчинга</a:t>
            </a: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2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-2062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Увеличивается подвижность суставов;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-2062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Мышцы становятся более эластичными и гибкими;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-2062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вышается общая двигательная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-2062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активность;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-2062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Хорошая гибкость позволяет выполнять 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упражнения с большей амплитудой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движений; 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-2062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Упражнения направлены на формирование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равильной осанки. 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-2062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Воспитываются выносливость и 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старательность.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 cap="all">
                <a:solidFill>
                  <a:schemeClr val="accent3"/>
                </a:solidFill>
                <a:latin typeface="Century Gothic"/>
              </a:rPr>
              <a:t>Задачи игрового стретчинга</a:t>
            </a: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2640"/>
            <a:ext cx="822924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Развитие физических качеств: мышечной силы, ловкости, выносливости, гибкости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Развитие психических качеств: внимание, память, воображение, умственные способности. 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Укрепление костно-мышечной системы, повышение функциональной деятельности органов и систем организма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Создание условий для положительного психоэмоционального состояния детей, и творчества в движении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 cap="all">
                <a:solidFill>
                  <a:schemeClr val="accent3"/>
                </a:solidFill>
                <a:latin typeface="Century Gothic"/>
              </a:rPr>
              <a:t>Основные правила стретчинга</a:t>
            </a: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-разогрев перед упражнениями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- медленное и плавное выполнение упражнений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-«правило ровной спины» - следите за осанкой, т.к. сгорбленность уменьшает гибкость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-спокойное дыхание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- регулярная растяжка симметрично для обеих сторон тела.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1640" y="33264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 cap="all">
                <a:solidFill>
                  <a:schemeClr val="accent3"/>
                </a:solidFill>
                <a:latin typeface="Century Gothic"/>
              </a:rPr>
              <a:t>Разогрев мышц, подготовка организма к упражнениям стретчинга</a:t>
            </a: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Рисунок 2" descr=""/>
          <p:cNvPicPr/>
          <p:nvPr/>
        </p:nvPicPr>
        <p:blipFill>
          <a:blip r:embed="rId1"/>
          <a:stretch/>
        </p:blipFill>
        <p:spPr>
          <a:xfrm>
            <a:off x="107640" y="2493000"/>
            <a:ext cx="3942360" cy="29566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"/>
          <p:cNvPicPr/>
          <p:nvPr/>
        </p:nvPicPr>
        <p:blipFill>
          <a:blip r:embed="rId2"/>
          <a:stretch/>
        </p:blipFill>
        <p:spPr>
          <a:xfrm>
            <a:off x="4500000" y="2493000"/>
            <a:ext cx="3894120" cy="292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 cap="all">
                <a:solidFill>
                  <a:schemeClr val="accent3"/>
                </a:solidFill>
                <a:latin typeface="Century Gothic"/>
              </a:rPr>
              <a:t>Упражнения стретчинга носят имитационных характер </a:t>
            </a: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187640" y="4007160"/>
            <a:ext cx="129564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«Рыбк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444360" y="3981960"/>
            <a:ext cx="143964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«Звезд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636000" y="6406560"/>
            <a:ext cx="180000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«Добрые кошки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Рисунок 4" descr=""/>
          <p:cNvPicPr/>
          <p:nvPr/>
        </p:nvPicPr>
        <p:blipFill>
          <a:blip r:embed="rId1"/>
          <a:stretch/>
        </p:blipFill>
        <p:spPr>
          <a:xfrm>
            <a:off x="323640" y="1413000"/>
            <a:ext cx="3456000" cy="2592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"/>
          <p:cNvPicPr/>
          <p:nvPr/>
        </p:nvPicPr>
        <p:blipFill>
          <a:blip r:embed="rId2"/>
          <a:stretch/>
        </p:blipFill>
        <p:spPr>
          <a:xfrm>
            <a:off x="5076000" y="1422720"/>
            <a:ext cx="3443400" cy="25826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"/>
          <p:cNvPicPr/>
          <p:nvPr/>
        </p:nvPicPr>
        <p:blipFill>
          <a:blip r:embed="rId3"/>
          <a:stretch/>
        </p:blipFill>
        <p:spPr>
          <a:xfrm>
            <a:off x="2992320" y="3754800"/>
            <a:ext cx="3495240" cy="2621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7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 cap="all">
                <a:solidFill>
                  <a:schemeClr val="accent3"/>
                </a:solidFill>
                <a:latin typeface="Century Gothic"/>
              </a:rPr>
              <a:t>Основная часть. Упражнения игрового стретчинга</a:t>
            </a: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 rot="20886000">
            <a:off x="741240" y="1368720"/>
            <a:ext cx="3601080" cy="29376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"/>
          <p:cNvPicPr/>
          <p:nvPr/>
        </p:nvPicPr>
        <p:blipFill>
          <a:blip r:embed="rId2"/>
          <a:stretch/>
        </p:blipFill>
        <p:spPr>
          <a:xfrm rot="997200">
            <a:off x="4572000" y="1516680"/>
            <a:ext cx="3826440" cy="2869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"/>
          <p:cNvPicPr/>
          <p:nvPr/>
        </p:nvPicPr>
        <p:blipFill>
          <a:blip r:embed="rId3"/>
          <a:stretch/>
        </p:blipFill>
        <p:spPr>
          <a:xfrm>
            <a:off x="457200" y="4250520"/>
            <a:ext cx="3629880" cy="25372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"/>
          <p:cNvPicPr/>
          <p:nvPr/>
        </p:nvPicPr>
        <p:blipFill>
          <a:blip r:embed="rId4"/>
          <a:stretch/>
        </p:blipFill>
        <p:spPr>
          <a:xfrm>
            <a:off x="4788000" y="4271040"/>
            <a:ext cx="3610440" cy="2516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След самолета">
  <a:themeElements>
    <a:clrScheme name="След самолета">
      <a:dk1>
        <a:srgbClr val="000000"/>
      </a:dk1>
      <a:lt1>
        <a:srgbClr val="ffffff"/>
      </a:lt1>
      <a:dk2>
        <a:srgbClr val="454545"/>
      </a:dk2>
      <a:lt2>
        <a:srgbClr val="dadada"/>
      </a:lt2>
      <a:accent1>
        <a:srgbClr val="df2e28"/>
      </a:accent1>
      <a:accent2>
        <a:srgbClr val="fe801a"/>
      </a:accent2>
      <a:accent3>
        <a:srgbClr val="e9bf35"/>
      </a:accent3>
      <a:accent4>
        <a:srgbClr val="81bb42"/>
      </a:accent4>
      <a:accent5>
        <a:srgbClr val="32c7a9"/>
      </a:accent5>
      <a:accent6>
        <a:srgbClr val="4a9bdc"/>
      </a:accent6>
      <a:hlink>
        <a:srgbClr val="f0532b"/>
      </a:hlink>
      <a:folHlink>
        <a:srgbClr val="f38b5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лед самолета">
  <a:themeElements>
    <a:clrScheme name="След самолета">
      <a:dk1>
        <a:srgbClr val="000000"/>
      </a:dk1>
      <a:lt1>
        <a:srgbClr val="ffffff"/>
      </a:lt1>
      <a:dk2>
        <a:srgbClr val="454545"/>
      </a:dk2>
      <a:lt2>
        <a:srgbClr val="dadada"/>
      </a:lt2>
      <a:accent1>
        <a:srgbClr val="df2e28"/>
      </a:accent1>
      <a:accent2>
        <a:srgbClr val="fe801a"/>
      </a:accent2>
      <a:accent3>
        <a:srgbClr val="e9bf35"/>
      </a:accent3>
      <a:accent4>
        <a:srgbClr val="81bb42"/>
      </a:accent4>
      <a:accent5>
        <a:srgbClr val="32c7a9"/>
      </a:accent5>
      <a:accent6>
        <a:srgbClr val="4a9bdc"/>
      </a:accent6>
      <a:hlink>
        <a:srgbClr val="f0532b"/>
      </a:hlink>
      <a:folHlink>
        <a:srgbClr val="f38b5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54545"/>
      </a:dk2>
      <a:lt2>
        <a:srgbClr val="dadada"/>
      </a:lt2>
      <a:accent1>
        <a:srgbClr val="df2e28"/>
      </a:accent1>
      <a:accent2>
        <a:srgbClr val="fe801a"/>
      </a:accent2>
      <a:accent3>
        <a:srgbClr val="e9bf35"/>
      </a:accent3>
      <a:accent4>
        <a:srgbClr val="81bb42"/>
      </a:accent4>
      <a:accent5>
        <a:srgbClr val="32c7a9"/>
      </a:accent5>
      <a:accent6>
        <a:srgbClr val="4a9bdc"/>
      </a:accent6>
      <a:hlink>
        <a:srgbClr val="f0532b"/>
      </a:hlink>
      <a:folHlink>
        <a:srgbClr val="f38b5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4033937[[fn=След самолета]]</Template>
  <TotalTime>646</TotalTime>
  <Application>LibreOffice/7.4.7.2$Linux_X86_64 LibreOffice_project/40$Build-2</Application>
  <AppVersion>15.0000</AppVersion>
  <Words>231</Words>
  <Paragraphs>4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3:33:06Z</dcterms:created>
  <dc:creator>XTreme</dc:creator>
  <dc:description/>
  <dc:language>en-US</dc:language>
  <cp:lastModifiedBy>Пользователь</cp:lastModifiedBy>
  <dcterms:modified xsi:type="dcterms:W3CDTF">2022-04-30T13:08:30Z</dcterms:modified>
  <cp:revision>88</cp:revision>
  <dc:subject/>
  <dc:title>Игровой стретчин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8</vt:r8>
  </property>
</Properties>
</file>