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26D-2DB9-45CF-8817-9C3900A9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895-B846-4759-9301-75C5BF80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327-76DA-44AC-A705-1776852B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E2A-1974-49A6-B71A-C4E1B597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E866-A027-4ED3-A3B0-7FF26C33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5358-906D-49FB-BD74-05FFD712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EC2F-6EF9-404D-9F90-7DACE9EE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B86A-17CE-440C-96DF-FA6455D6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7CD5-0CB9-4435-810D-A37C703F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FF72-7C1E-4D78-AA0E-9A9537C5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EA7C-199C-4BE5-9F10-133BD8E0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BDF-FFC0-487C-89FF-48740E17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A13A-0DFE-4004-9E59-B272A87C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5C80-3F73-47DC-9417-4D5E32BB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CDAE-A39A-4103-965E-3609B78F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D629-3A4F-4D53-A137-D787DC93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036B-740D-461B-8F09-8B777F90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60CD5-E5C8-4604-BF7C-5A68475E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A721E-7643-4B01-804D-826668AA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81430-E066-4D79-BEAF-37BDE775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2BED9-1831-42FE-BD72-D9E4D4E9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B411C-47AC-41C9-84F3-F134A28C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6BD-5254-491F-9360-D60A4E99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F6520-FEDF-4124-848C-60D9586A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395F9-A0E4-4DD1-87D3-670C33EC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404B5-1316-48C6-AD9C-9A297DC6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C0CF4-6408-4581-858F-B5F55D98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95E5E-23FD-493C-B8A9-4D899929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D7236-69A8-4455-932E-AF565C7B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EB46E-59DC-4D18-9F9E-EEC761E6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10304-2786-4970-B5FD-B706860E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F56B9-FD96-4C5C-B748-39485CB0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492F4-4D56-41A7-86C5-475CB7DA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2C1-5E64-4BB2-B0DE-38FE7129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4DD03-4E86-4161-AF16-3E781B44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82B83-3926-4DD8-95B7-AE60A49A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DB4AB-4DF4-4F84-AFFE-6EBF7AA2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A3AF-7EB7-47F7-8B13-A6F789B8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5EEA6-B43C-4B72-B1FF-614DDA72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B641D-0BE2-46B1-B394-C3E571C1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B477-595E-43DD-B9E1-F17FF194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BC3C5-764A-4B51-A23B-F75167DC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52473-7AE1-4E09-9603-8192465E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29A-7ADF-44CA-BA5D-9C072692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081-DAED-4D15-91E2-D77B46CC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39D-DB79-438A-9682-C6BF667F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61F-3D32-4B87-8DB8-B08B6B19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EBC-DCC8-4B8E-A9BC-61665AAF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A115-9E6F-4407-8516-41D30D375F6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A738-8EED-4B76-A4B5-4D7E99B04853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D9C9-E6F9-4528-A034-578626A63F8F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2A13-83A2-41AF-8D0D-15B444820C4F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Консультация для родителей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85520" y="1428840"/>
            <a:ext cx="73580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ЩИЕ ПРАВИЛА ВЫПОЛНЕНИЯ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АРЯДКИ В ДОМАШНИХ УСЛОВИЯХ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Picture 2" descr="C:\Documents and Settings\Irishka\Desktop\здоровьеберегающие технологии\luchik-zaryadka73533.jpg"/>
          <p:cNvPicPr/>
          <p:nvPr/>
        </p:nvPicPr>
        <p:blipFill>
          <a:blip r:embed="rId1"/>
          <a:stretch/>
        </p:blipFill>
        <p:spPr>
          <a:xfrm>
            <a:off x="5364000" y="2276640"/>
            <a:ext cx="2071800" cy="37162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"/>
          <p:cNvSpPr/>
          <p:nvPr/>
        </p:nvSpPr>
        <p:spPr>
          <a:xfrm>
            <a:off x="714240" y="413064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Бородкина Е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ДОУ «ЦРР-детский сад №168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гимнастика"/>
          <p:cNvPicPr/>
          <p:nvPr/>
        </p:nvPicPr>
        <p:blipFill>
          <a:blip r:embed="rId1"/>
          <a:stretch/>
        </p:blipFill>
        <p:spPr>
          <a:xfrm>
            <a:off x="1643040" y="642960"/>
            <a:ext cx="56437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0009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4c600"/>
                </a:solidFill>
                <a:latin typeface="Century Gothic"/>
              </a:rPr>
              <a:t>Исходные положения для ру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57120" y="121428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Расположены в порядке нарастания труд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уки свободно опущены ладонями к туловищу, плечи слегка отведены назад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(рис. 3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 Руки за спину — руки свободно лежат за спиной, кисть одной руки держит кисть другой. Не рекомендуется обхватывать кистью одной руки локоть другой. При таком положении лопатки расходятся, а не сближаются (рис. 4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2" descr="гимнастика"/>
          <p:cNvPicPr/>
          <p:nvPr/>
        </p:nvPicPr>
        <p:blipFill>
          <a:blip r:embed="rId1"/>
          <a:stretch/>
        </p:blipFill>
        <p:spPr>
          <a:xfrm>
            <a:off x="1717560" y="428760"/>
            <a:ext cx="58039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3. Руки на поясе (а не на бедре) - обе руки, согнутые в локтях, находятся на поясе, четыре пальца, прижатые один к другому, направлены вперед, а большой палец - назад, лопатки сближены (рис. 5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4. Руки, согнутые в локтях, отведены назад - обе руки, согнутые в локтях, отведены назад так, чтобы предплечья рас­полагались горизонтально. Пальцы сжаты в кулаки, ладони обращены друг к другу (вовнутрь) или вниз (к полу). Плечи отведены назад, лопатки сомкнуты (рис. 6)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5. Выпрямленные руки отведены назад и находятся на расстоянии немного уже плеч. Пальцы прижаты друг к другу (могут быть сжаты в кулаки), ладони обращены друг к другу, лопатки сомкнуты (рис. 7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3" descr="утренняя гимнастика"/>
          <p:cNvPicPr/>
          <p:nvPr/>
        </p:nvPicPr>
        <p:blipFill>
          <a:blip r:embed="rId1"/>
          <a:stretch/>
        </p:blipFill>
        <p:spPr>
          <a:xfrm>
            <a:off x="1143000" y="5716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Руки перед грудью - руки согнуты в локтях, кисти на­ходятся перед грудью, немного ниже плеч, локти - на высоте плеч и отведены назад, лопатки сомкнуты, пальцы сжаты в кулаки или вытянуты, ладони обращены вниз (рис. 8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7. Руки в стороны - руки подняты в стороны на высоту плеч и отведены назад. Ладони обращены вниз, вперед или вверх (рис. 9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8. Руки вверх - руки вытянуты вверх шире плеч, ладони обращены друг к другу (вовнутрь) или вперед (рис. 10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4" descr="утренняя зарядка"/>
          <p:cNvPicPr/>
          <p:nvPr/>
        </p:nvPicPr>
        <p:blipFill>
          <a:blip r:embed="rId1"/>
          <a:stretch/>
        </p:blipFill>
        <p:spPr>
          <a:xfrm>
            <a:off x="1023840" y="479520"/>
            <a:ext cx="7263000" cy="59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57120" y="42876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Физическое воспитание – одно из необходимых условий правильного развития детей. Приобщая ребенка к спорту с раннего детства, мы обеспечиваем ему физическую закалку, повышаем активность, воспитываем силу и ловкость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Родители обязаны наблюдать за ребенком, отслеживать его психическое, физическое и эмоциональное развитие, предупреждать возникновение различных отклонений в нем, создавать условия, способствующие гармоничному развитию ребен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94920" y="1268280"/>
            <a:ext cx="83581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Гимнастика или зарядка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– одна из наиболее распространенных форм применения физкультуры, состоящая из комплекса физических упражнений умеренной нагрузки. Зарядка тонизирует организм, повышая основные процессы жизнедеятельности – кровообращение, обмен веществ, дыхани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 периодических занятиях улучшается сон, аппетит, повышается трудоспособность. Это прекрасное средство укрепления здоровья полезно всем – и пожилым людям и детям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9640" y="1125000"/>
            <a:ext cx="8229600" cy="47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дбирать упражнения нужно с учетом возраста, состояния здоровья, подготовленности. Зарядка в идеале должна проводиться на свежем воздухе и сочетаться с легкой пробежкой, но если такой возможности нет, то помещение должно быть хорошо проветриваемым.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ля занятий необходимо подобрать одежду, не сковывающую движени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 наличии определенных проблем со здоровьем можно и даже нужно вводить в свой комплекс утренних упражнений и некоторые упражнения лечебной физкультуры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28760" y="4287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e3d2d"/>
                </a:solidFill>
                <a:latin typeface="Century Gothic"/>
              </a:rPr>
              <a:t>После гимнастики рекомендуются водные процедуры – влажное обтирание, душ. При выполнении упражнений необходимо следить за дыханием и самочувствием, интенсивные упражнения сочетать со спокойными, нормализующими дыхание. </a:t>
            </a:r>
            <a:endParaRPr b="0" lang="en-US" sz="31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e3d2d"/>
                </a:solidFill>
                <a:latin typeface="Century Gothic"/>
              </a:rPr>
              <a:t>Главное, чтобы, как и при любом другом занятии, чтобы гимнастика доставляла вам и вашему ребенку удовольствие.</a:t>
            </a:r>
            <a:endParaRPr b="0" lang="en-US" sz="3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500040" y="785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e3d2d"/>
                </a:solidFill>
                <a:latin typeface="Century Gothic"/>
              </a:rPr>
              <a:t>Пусть утренняя зарядка не носит принудительный характер для малыша, разнообразьте движения, превратите гимнастику в игру, только вы знаете, что любит ваш ребенок и как его увлечь. </a:t>
            </a:r>
            <a:endParaRPr b="0" lang="en-US" sz="31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e3d2d"/>
                </a:solidFill>
                <a:latin typeface="Century Gothic"/>
              </a:rPr>
              <a:t>И будьте всегда рядом с ребенком, выполняйте все упражнения вместе с ним, это сблизит вас еще больше, да и принесет уйму пользы для вашего здоровья. </a:t>
            </a:r>
            <a:br>
              <a:rPr sz="3100"/>
            </a:br>
            <a:endParaRPr b="0" lang="en-US" sz="3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6437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Общие правила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для домашней зарядки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28400" y="1500120"/>
            <a:ext cx="8329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 утренняя зарядка не может полноценно заменить подвижные игры или специальные физические упражнения ;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одежда для зарядки не должна стеснять движения; 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во время занятий предложите ребёнку сначала, например, сделать одно упражнение для рук и плечевого пояса, затем 2 – 3 упражнения для туловища и 2 – 3 упражнения для ног;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заканчивать гимнастику лучше всего спокойной ходьбой; </a:t>
            </a:r>
            <a:br>
              <a:rPr sz="2400"/>
            </a:b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57200" y="50004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 продолжительность занятий с младшими детьми должна составлять около 5 минут, а со старшими детьми около 8 минут;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не следует включать в домашнюю зарядку упражнения, требующие от ребёнка напряжённого внимания;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занятия должны иметь определённую последовательность. Первые упражнения не должны требовать большие затраты сил, а последующие можно выполнять с большей нагрузкой;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упражнения, вовлекающие большие группы мышц требуют меньшего количества повторений;</a:t>
            </a:r>
            <a:br>
              <a:rPr sz="2400"/>
            </a:br>
            <a:r>
              <a:rPr b="0" i="1" lang="ru-RU" sz="2400" spc="-1" strike="noStrike">
                <a:solidFill>
                  <a:srgbClr val="3e3d2d"/>
                </a:solidFill>
                <a:latin typeface="Century Gothic"/>
              </a:rPr>
              <a:t>- если ребёнок теряет интерес к каким-то упражнениям, постарайтесь их заменить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ИСХОДНЫЕ ПОЛОЖЕНИЯ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ВСЕГО ТЕЛ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0200"/>
            <a:ext cx="8400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e3d2d"/>
                </a:solidFill>
                <a:latin typeface="Century Gothic"/>
              </a:rPr>
              <a:t>Исходное положение влияет на правильность выполнения движений и общую устойчивость тела.</a:t>
            </a:r>
            <a:endParaRPr b="0" lang="en-US" sz="3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ru-RU" sz="3400" spc="-1" strike="noStrike">
                <a:solidFill>
                  <a:srgbClr val="3e3d2d"/>
                </a:solidFill>
                <a:latin typeface="Century Gothic"/>
              </a:rPr>
              <a:t>Основные исходные положения в утренней гимнастике - стоя и сидя.</a:t>
            </a:r>
            <a:endParaRPr b="0" lang="en-US" sz="3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e3d2d"/>
                </a:solidFill>
                <a:latin typeface="Century Gothic"/>
              </a:rPr>
              <a:t>Упражнения с исходным положением «сидя на полу» можно выполнять только при наличии теплого пола или ковра.</a:t>
            </a:r>
            <a:endParaRPr b="0" lang="en-US" sz="3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13880" y="285840"/>
            <a:ext cx="76438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4c600"/>
                </a:solidFill>
                <a:latin typeface="Century Gothic"/>
              </a:rPr>
              <a:t>Исходные положения для ног</a:t>
            </a: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 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0004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Century Gothic"/>
              </a:rPr>
              <a:t>Основная стойка 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— пятки поставлены вместе, а носки слегка разведены — употребляется при упражнениях для мышц верхних и нижних конечностей (рис. 1). 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 младшей группе дети стоят расставив ноги на ширину ступни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тойка, при которой ноги расставлены на ширину плеч, ступни ног ставятся параллельно друг другу. Такая стойка обеспечивает наибольшую устойчивость и правильное распределение давления массы тела на конечности, способствует пре­дупреждению плоскостопия. Взрослый, показывая эту стойку, расставляет ноги уже своих плеч, т.к. в ином случае дети, под­ражая, ставят ноги слишком широко. Эта стойка используется при упражнениях для туловища во всех группах (рис. 2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05:18:46Z</dcterms:created>
  <dc:creator>Irishka</dc:creator>
  <dc:description/>
  <dc:language>en-US</dc:language>
  <cp:lastModifiedBy>Пользователь</cp:lastModifiedBy>
  <dcterms:modified xsi:type="dcterms:W3CDTF">2017-04-24T20:47:23Z</dcterms:modified>
  <cp:revision>11</cp:revision>
  <dc:subject/>
  <dc:title>Консультация для родителей</dc:title>
</cp:coreProperties>
</file>