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F1A-1B79-4C23-A3B9-9DCAF1EB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487-3A7A-4FB7-BAD6-17466AF3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A36-0E5C-440D-8465-29CB9A03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4F69-85A6-4007-A235-9215C6E4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F7BE-825F-4D42-8FED-480D357F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BE0D-8280-47C9-AEC3-851B02B5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1EB6-A94D-4487-9464-5CA758E0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8899-2491-49C0-84D0-17B8C85F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F121-8651-42B3-B710-D24B6FF4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E030-FC44-4707-8C2C-53001CFF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DCDA-B7C5-4924-801C-2AF6A2DF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DA3-1E40-4EA8-808F-1F8A2666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36A0-6D57-46BF-BFD4-733558AB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4D2B-FA49-4A83-BC3A-5E89662B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95B5-BE79-4387-8758-9FF9D46B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7D51-C529-467C-917B-DFBA9E96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C95B-3111-44B8-8E10-C2DC551A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61F94-2CC1-47EC-B548-A4C0BFA5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F746D-9587-45F2-BC44-64563C9B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ADA21-DA9B-4765-B3EE-2985F4F3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15947-0DF8-4D00-B839-02F42987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18BCB-3378-41A2-A20D-B3998FE8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778-5D0D-414F-BD0F-13CCE9B4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87078-7302-453A-9029-8211B3FB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DA13F-ACAA-458A-866D-BE8F39AC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CB586-5631-4C2E-87BE-F5876C3D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C9A2A-4019-48C7-A807-A46A386C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01869-529A-40F9-A582-5FF063FC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094C7-377B-4FF8-924A-A56C0E30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73469-EC09-43C5-ABBB-C43E9752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8C355-2943-4148-BC08-95F8FA54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ABE1A-35F2-4467-9DE8-59585FE7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5B6DB-87DE-49E4-BD04-2B5A0C6A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E66-F4DF-44B9-9585-77CCB531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0CD28-D891-49B0-A8A0-7B3E5F14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90961-5C97-4736-AA38-F4FB985F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ACEDF-AE0C-4CFF-85B6-8133EC0C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3F69F-98AA-450F-92C0-EF614097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E62FB-4D83-4FF1-B7A7-9D789467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64612-C2CC-4D2D-83E9-2FC8503F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A877B-FF81-406E-B09F-A9E438F9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7A15B-B2C2-4027-93F1-EDD56DF4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6753-FF6E-49EF-913C-F6705883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E41-DE93-4741-B23E-DE09B6D8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C6E-3C4D-4F35-A6C9-F05E2C8B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CBD-450E-4C06-AC9D-AFD3235F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E95-5D82-4988-99F9-4D886BF4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E28-81D1-4DD8-8196-493F8E95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2A62-5FD2-44FC-A3C8-DF6D58624B1D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4C4D-B4DC-4FD2-AC53-75F99CC3ACA2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3A84-80D3-475A-8039-D7F0FE4FAD63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D816-E92A-463F-9E8D-0FE8C006985A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Консультация для родителей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85520" y="1428840"/>
            <a:ext cx="73580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БЩИЕ ПРАВИЛА ВЫПОЛНЕНИЯ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АРЯДКИ В ДОМАШНИХ УСЛОВИЯХ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7" name="Picture 2" descr="C:\Documents and Settings\Irishka\Desktop\здоровьеберегающие технологии\luchik-zaryadka73533.jpg"/>
          <p:cNvPicPr/>
          <p:nvPr/>
        </p:nvPicPr>
        <p:blipFill>
          <a:blip r:embed="rId1"/>
          <a:stretch/>
        </p:blipFill>
        <p:spPr>
          <a:xfrm>
            <a:off x="5364000" y="2276640"/>
            <a:ext cx="2071800" cy="37162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"/>
          <p:cNvSpPr/>
          <p:nvPr/>
        </p:nvSpPr>
        <p:spPr>
          <a:xfrm>
            <a:off x="714240" y="413064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Бородкина Е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«ЦРР-детский сад №16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1" descr="гимнастика"/>
          <p:cNvPicPr/>
          <p:nvPr/>
        </p:nvPicPr>
        <p:blipFill>
          <a:blip r:embed="rId1"/>
          <a:stretch/>
        </p:blipFill>
        <p:spPr>
          <a:xfrm>
            <a:off x="1643040" y="642960"/>
            <a:ext cx="564372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9720" y="428760"/>
            <a:ext cx="70009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4c600"/>
                </a:solidFill>
                <a:latin typeface="Century Gothic"/>
              </a:rPr>
              <a:t>Исходные положения для ру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57120" y="1214280"/>
            <a:ext cx="8429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Расположены в порядке нарастания труд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уки свободно опущены ладонями к туловищу, плечи слегка отведены назад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(рис. 3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 Руки за спину — руки свободно лежат за спиной, кисть одной руки держит кисть другой. Не рекомендуется обхватывать кистью одной руки локоть другой. При таком положении лопатки расходятся, а не сближаются (рис. 4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2" descr="гимнастика"/>
          <p:cNvPicPr/>
          <p:nvPr/>
        </p:nvPicPr>
        <p:blipFill>
          <a:blip r:embed="rId1"/>
          <a:stretch/>
        </p:blipFill>
        <p:spPr>
          <a:xfrm>
            <a:off x="1717560" y="428760"/>
            <a:ext cx="58039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3. Руки на поясе (а не на бедре) - обе руки, согнутые в локтях, находятся на поясе, четыре пальца, прижатые один к другому, направлены вперед, а большой палец - назад, лопатки сближены (рис. 5)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4. Руки, согнутые в локтях, отведены назад - обе руки, согнутые в локтях, отведены назад так, чтобы предплечья рас­полагались горизонтально. Пальцы сжаты в кулаки, ладони обращены друг к другу (вовнутрь) или вниз (к полу). Плечи отведены назад, лопатки сомкнуты (рис. 6)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5. Выпрямленные руки отведены назад и находятся на расстоянии немного уже плеч. Пальцы прижаты друг к другу (могут быть сжаты в кулаки), ладони обращены друг к другу, лопатки сомкнуты (рис. 7)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3" descr="утренняя гимнастика"/>
          <p:cNvPicPr/>
          <p:nvPr/>
        </p:nvPicPr>
        <p:blipFill>
          <a:blip r:embed="rId1"/>
          <a:stretch/>
        </p:blipFill>
        <p:spPr>
          <a:xfrm>
            <a:off x="1143000" y="57168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Руки перед грудью - руки согнуты в локтях, кисти на­ходятся перед грудью, немного ниже плеч, локти - на высоте плеч и отведены назад, лопатки сомкнуты, пальцы сжаты в кулаки или вытянуты, ладони обращены вниз (рис. 8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7. Руки в стороны - руки подняты в стороны на высоту плеч и отведены назад. Ладони обращены вниз, вперед или вверх (рис. 9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8. Руки вверх - руки вытянуты вверх шире плеч, ладони обращены друг к другу (вовнутрь) или вперед (рис. 10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4" descr="утренняя зарядка"/>
          <p:cNvPicPr/>
          <p:nvPr/>
        </p:nvPicPr>
        <p:blipFill>
          <a:blip r:embed="rId1"/>
          <a:stretch/>
        </p:blipFill>
        <p:spPr>
          <a:xfrm>
            <a:off x="1023840" y="479520"/>
            <a:ext cx="726300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57120" y="42876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Физическое воспитание – одно из необходимых условий правильного развития детей. Приобщая ребенка к спорту с раннего детства, мы обеспечиваем ему физическую закалку, повышаем активность, воспитываем силу и ловкость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одители обязаны наблюдать за ребенком, отслеживать его психическое, физическое и эмоциональное развитие, предупреждать возникновение различных отклонений в нем, создавать условия, способствующие гармоничному развитию ребен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94920" y="1268280"/>
            <a:ext cx="83581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Гимнастика или зарядка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– одна из наиболее распространенных форм применения физкультуры, состоящая из комплекса физических упражнений умеренной нагрузки. Зарядка тонизирует организм, повышая основные процессы жизнедеятельности – кровообращение, обмен веществ, дыхани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 периодических занятиях улучшается сон, аппетит, повышается трудоспособность. Это прекрасное средство укрепления здоровья полезно всем – и пожилым людям и детям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9640" y="1125000"/>
            <a:ext cx="8229600" cy="47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дбирать упражнения нужно с учетом возраста, состояния здоровья, подготовленности. Зарядка в идеале должна проводиться на свежем воздухе и сочетаться с легкой пробежкой, но если такой возможности нет, то помещение должно быть хорошо проветриваемым.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занятий необходимо подобрать одежду, не сковывающую движени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 наличии определенных проблем со здоровьем можно и даже нужно вводить в свой комплекс утренних упражнений и некоторые упражнения лечебной физкультуры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28760" y="4287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e3d2d"/>
                </a:solidFill>
                <a:latin typeface="Century Gothic"/>
              </a:rPr>
              <a:t>После гимнастики рекомендуются водные процедуры – влажное обтирание, душ. При выполнении упражнений необходимо следить за дыханием и самочувствием, интенсивные упражнения сочетать со спокойными, нормализующими дыхание. </a:t>
            </a:r>
            <a:endParaRPr b="0" lang="en-US" sz="31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e3d2d"/>
                </a:solidFill>
                <a:latin typeface="Century Gothic"/>
              </a:rPr>
              <a:t>Главное, чтобы, как и при любом другом занятии, чтобы гимнастика доставляла вам и вашему ребенку удовольствие.</a:t>
            </a:r>
            <a:endParaRPr b="0" lang="en-US" sz="31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500040" y="7858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e3d2d"/>
                </a:solidFill>
                <a:latin typeface="Century Gothic"/>
              </a:rPr>
              <a:t>Пусть утренняя зарядка не носит принудительный характер для малыша, разнообразьте движения, превратите гимнастику в игру, только вы знаете, что любит ваш ребенок и как его увлечь. </a:t>
            </a:r>
            <a:endParaRPr b="0" lang="en-US" sz="31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e3d2d"/>
                </a:solidFill>
                <a:latin typeface="Century Gothic"/>
              </a:rPr>
              <a:t>И будьте всегда рядом с ребенком, выполняйте все упражнения вместе с ним, это сблизит вас еще больше, да и принесет уйму пользы для вашего здоровья. </a:t>
            </a:r>
            <a:br>
              <a:rPr sz="3100"/>
            </a:br>
            <a:endParaRPr b="0" lang="en-US" sz="31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6437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Общие правила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для домашней зарядки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28400" y="1500120"/>
            <a:ext cx="83293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 утренняя зарядка не может полноценно заменить подвижные игры или специальные физические упражнения ;</a:t>
            </a:r>
            <a:br>
              <a:rPr sz="2400"/>
            </a:b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одежда для зарядки не должна стеснять движения; </a:t>
            </a:r>
            <a:br>
              <a:rPr sz="2400"/>
            </a:b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во время занятий предложите ребёнку сначала, например, сделать одно упражнение для рук и плечевого пояса, затем 2 – 3 упражнения для туловища и 2 – 3 упражнения для ног;</a:t>
            </a:r>
            <a:br>
              <a:rPr sz="2400"/>
            </a:b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заканчивать гимнастику лучше всего спокойной ходьбой; </a:t>
            </a:r>
            <a:br>
              <a:rPr sz="2400"/>
            </a:b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57200" y="5000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 продолжительность занятий с младшими детьми должна составлять около 5 минут, а со старшими детьми около 8 минут;</a:t>
            </a:r>
            <a:br>
              <a:rPr sz="2400"/>
            </a:b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не следует включать в домашнюю зарядку упражнения, требующие от ребёнка напряжённого внимания;</a:t>
            </a:r>
            <a:br>
              <a:rPr sz="2400"/>
            </a:b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занятия должны иметь определённую последовательность. Первые упражнения не должны требовать большие затраты сил, а последующие можно выполнять с большей нагрузкой;</a:t>
            </a:r>
            <a:br>
              <a:rPr sz="2400"/>
            </a:b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упражнения, вовлекающие большие группы мышц требуют меньшего количества повторений;</a:t>
            </a:r>
            <a:br>
              <a:rPr sz="2400"/>
            </a:b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 если ребёнок теряет интерес к каким-то упражнениям, постарайтесь их заменить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ИСХОДНЫЕ ПОЛОЖЕНИЯ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ВСЕГО ТЕЛ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0200"/>
            <a:ext cx="8400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e3d2d"/>
                </a:solidFill>
                <a:latin typeface="Century Gothic"/>
              </a:rPr>
              <a:t>Исходное положение влияет на правильность выполнения движений и общую устойчивость тела.</a:t>
            </a:r>
            <a:endParaRPr b="0" lang="en-US" sz="3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ru-RU" sz="3400" spc="-1" strike="noStrike">
                <a:solidFill>
                  <a:srgbClr val="3e3d2d"/>
                </a:solidFill>
                <a:latin typeface="Century Gothic"/>
              </a:rPr>
              <a:t>Основные исходные положения в утренней гимнастике - стоя и сидя.</a:t>
            </a:r>
            <a:endParaRPr b="0" lang="en-US" sz="3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e3d2d"/>
                </a:solidFill>
                <a:latin typeface="Century Gothic"/>
              </a:rPr>
              <a:t>Упражнения с исходным положением «сидя на полу» можно выполнять только при наличии теплого пола или ковра.</a:t>
            </a:r>
            <a:endParaRPr b="0" lang="en-US" sz="3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13880" y="285840"/>
            <a:ext cx="76438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4c600"/>
                </a:solidFill>
                <a:latin typeface="Century Gothic"/>
              </a:rPr>
              <a:t>Исходные положения для ног</a:t>
            </a: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 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0004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Century Gothic"/>
              </a:rPr>
              <a:t>Основная стойка 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— пятки поставлены вместе, а носки слегка разведены — употребляется при упражнениях для мышц верхних и нижних конечностей (рис. 1). 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 младшей группе дети стоят расставив ноги на ширину ступни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тойка, при которой ноги расставлены на ширину плеч, ступни ног ставятся параллельно друг другу. Такая стойка обеспечивает наибольшую устойчивость и правильное распределение давления массы тела на конечности, способствует пре­дупреждению плоскостопия. Взрослый, показывая эту стойку, расставляет ноги уже своих плеч, т.к. в ином случае дети, под­ражая, ставят ноги слишком широко. Эта стойка используется при упражнениях для туловища во всех группах (рис. 2)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05:18:46Z</dcterms:created>
  <dc:creator>Irishka</dc:creator>
  <dc:description/>
  <dc:language>en-US</dc:language>
  <cp:lastModifiedBy>Пользователь</cp:lastModifiedBy>
  <dcterms:modified xsi:type="dcterms:W3CDTF">2017-04-24T20:47:23Z</dcterms:modified>
  <cp:revision>11</cp:revision>
  <dc:subject/>
  <dc:title>Консультация для родителей</dc:title>
</cp:coreProperties>
</file>