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A3D-9601-42CD-AC70-703BE960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6A8-34BD-4A62-86C6-ACA0706C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0AE-4057-4F46-BC79-3AAE413B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745-69C8-4DE3-B511-18A954ED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EFD-3F7E-40F2-9FA5-03D645C5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D20-C19A-4BFB-8B6C-93CFDF8A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8DA-CBE0-4B8A-85AC-36AA28CD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50F-8EDD-4C39-9EB8-C6798270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5DE-6346-4709-BFAF-B43143CC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D6E9-DA8F-4112-B73F-C81D7A82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EDB-4BE4-467A-9104-C972BF9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8F6-36F8-416A-B8D6-28F11BA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47CD-5E16-4A17-84E0-4F7E9FEFC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26920" y="260280"/>
            <a:ext cx="756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Сложение и вычитание двузначных чисел с переходом через десят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ivan-vasilisa"/>
          <p:cNvPicPr/>
          <p:nvPr/>
        </p:nvPicPr>
        <p:blipFill>
          <a:blip r:embed="rId1"/>
          <a:stretch/>
        </p:blipFill>
        <p:spPr>
          <a:xfrm>
            <a:off x="395280" y="2104920"/>
            <a:ext cx="3738600" cy="4753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4932360" y="3141720"/>
            <a:ext cx="3889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рок – 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lbum_2502204027_75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1216962416_gusi_lebedi"/>
          <p:cNvPicPr/>
          <p:nvPr/>
        </p:nvPicPr>
        <p:blipFill>
          <a:blip r:embed="rId1"/>
          <a:stretch/>
        </p:blipFill>
        <p:spPr>
          <a:xfrm>
            <a:off x="0" y="3429000"/>
            <a:ext cx="468000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3780000" y="587700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195640" y="333360"/>
            <a:ext cx="59054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59+8-30-19-14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19+8+30-39-14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7093080" y="33336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7164360" y="227664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7" descr="uzel1"/>
          <p:cNvPicPr/>
          <p:nvPr/>
        </p:nvPicPr>
        <p:blipFill>
          <a:blip r:embed="rId2"/>
          <a:stretch/>
        </p:blipFill>
        <p:spPr>
          <a:xfrm>
            <a:off x="5334120" y="3070080"/>
            <a:ext cx="38098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goldunicorn_tarni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асилиса читала Змею Горынычу книгу.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В книге 64 страницы.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 первый день Василиса прочитала 6 страниц, во второй день – 8 страниц.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колько страниц осталось прочитат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24000" y="486900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539640" y="1700280"/>
            <a:ext cx="784872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24000" y="3333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2195640" y="1484280"/>
            <a:ext cx="0" cy="504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8388360" y="1484280"/>
            <a:ext cx="0" cy="504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1280" y="6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6 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2411280" y="76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8 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508720" y="76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 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2916360" y="6021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2771640" y="249228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64 с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539640" y="1484280"/>
            <a:ext cx="0" cy="504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1"/>
          <p:cNvSpPr/>
          <p:nvPr/>
        </p:nvSpPr>
        <p:spPr>
          <a:xfrm>
            <a:off x="3924360" y="1413000"/>
            <a:ext cx="0" cy="504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250920" y="35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)  6 + 8 = 14 (стр.)- прочитала за 2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24000" y="458136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) 64 – 14 = 50 (ст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250920" y="5516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50 страниц осталось прочитат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bilibin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van-vasilisa"/>
          <p:cNvPicPr/>
          <p:nvPr/>
        </p:nvPicPr>
        <p:blipFill>
          <a:blip r:embed="rId2"/>
          <a:stretch/>
        </p:blipFill>
        <p:spPr>
          <a:xfrm>
            <a:off x="1979640" y="1916280"/>
            <a:ext cx="3887640" cy="4941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2195640" y="18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bilibin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tale3"/>
          <p:cNvPicPr/>
          <p:nvPr/>
        </p:nvPicPr>
        <p:blipFill>
          <a:blip r:embed="rId2"/>
          <a:stretch/>
        </p:blipFill>
        <p:spPr>
          <a:xfrm>
            <a:off x="7380360" y="4365720"/>
            <a:ext cx="1763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76720" y="620640"/>
          <a:ext cx="3348000" cy="1887480"/>
        </p:xfrm>
        <a:graphic>
          <a:graphicData uri="http://schemas.openxmlformats.org/drawingml/2006/table">
            <a:tbl>
              <a:tblPr/>
              <a:tblGrid>
                <a:gridCol w="836640"/>
                <a:gridCol w="836640"/>
                <a:gridCol w="838080"/>
                <a:gridCol w="83664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9"/>
          <p:cNvSpPr/>
          <p:nvPr/>
        </p:nvSpPr>
        <p:spPr>
          <a:xfrm>
            <a:off x="2627280" y="371628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ИВА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0"/>
          <p:cNvSpPr/>
          <p:nvPr/>
        </p:nvSpPr>
        <p:spPr>
          <a:xfrm>
            <a:off x="2484360" y="494172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k_012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84360" y="620640"/>
            <a:ext cx="3097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2 + 19 =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1280" y="1989000"/>
            <a:ext cx="30970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61 – 14 = 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оло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4932360" y="620640"/>
            <a:ext cx="30970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6 - 9 = 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4932360" y="1989000"/>
            <a:ext cx="33130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7 + 18 =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003640" y="3789360"/>
            <a:ext cx="338616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60 – 7 = 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хле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11280" y="3789360"/>
            <a:ext cx="3168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26 + 40 = 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ре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611280" y="5300640"/>
            <a:ext cx="3168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59 – 24 = 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оп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5003640" y="5300640"/>
            <a:ext cx="345780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5 + 23 = 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опь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main_639390_origina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>
            <a:off x="395280" y="907920"/>
            <a:ext cx="345600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 + 28… 44 +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2"/>
          <p:cNvSpPr/>
          <p:nvPr/>
        </p:nvSpPr>
        <p:spPr>
          <a:xfrm>
            <a:off x="5435640" y="2492280"/>
            <a:ext cx="316872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4 - 18 … 56 +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>
            <a:off x="826920" y="4869000"/>
            <a:ext cx="3456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+ 15 … 73 -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"/>
          <p:cNvSpPr/>
          <p:nvPr/>
        </p:nvSpPr>
        <p:spPr>
          <a:xfrm>
            <a:off x="395280" y="260280"/>
            <a:ext cx="3456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7 + 2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&gt;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44 +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"/>
          <p:cNvSpPr/>
          <p:nvPr/>
        </p:nvSpPr>
        <p:spPr>
          <a:xfrm>
            <a:off x="5003640" y="4653000"/>
            <a:ext cx="3456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7 + 1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&gt;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73 -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2843280" y="1628640"/>
            <a:ext cx="3600360" cy="3024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404ca8f5-774e-5a6f-8d48-e6ba3fdd47a0.jpg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7:21:17Z</dcterms:created>
  <dc:creator>Житина</dc:creator>
  <dc:description/>
  <dc:language>en-US</dc:language>
  <cp:lastModifiedBy>ник</cp:lastModifiedBy>
  <dcterms:modified xsi:type="dcterms:W3CDTF">2022-04-10T09:35:37Z</dcterms:modified>
  <cp:revision>50</cp:revision>
  <dc:subject/>
  <dc:title>Урок - сказка</dc:title>
</cp:coreProperties>
</file>