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C4E-F88B-496D-809D-D0D0DA9E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3FB-9055-4F1A-A54E-9C4F0E1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C8A-CFF5-42F6-AA6A-C1BF53B1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34-5988-44DA-8693-7CD2A445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B27-830A-4505-9C11-C11AC4AC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F74-AB9C-4EB1-B9BA-5134AE2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879-65B4-4724-8F7D-2AB98AF7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DFC-1EFC-49B5-8BBA-5501D89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5A0-BD9C-4E2C-AF8C-0016A65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236-2185-4862-B6E5-8F690D3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4B8-EE71-401F-8FFD-6ECD0A1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AA1-4A04-4BC6-807F-41B74616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E73-24D2-4F48-88B6-5F9EA3C88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26028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ложение и вычитание двузначных чисел с переходом через деся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van-vasilisa"/>
          <p:cNvPicPr/>
          <p:nvPr/>
        </p:nvPicPr>
        <p:blipFill>
          <a:blip r:embed="rId1"/>
          <a:stretch/>
        </p:blipFill>
        <p:spPr>
          <a:xfrm>
            <a:off x="395280" y="2104920"/>
            <a:ext cx="3738600" cy="4753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932360" y="3141720"/>
            <a:ext cx="388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рок – 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lbum_2502204027_7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1216962416_gusi_lebedi"/>
          <p:cNvPicPr/>
          <p:nvPr/>
        </p:nvPicPr>
        <p:blipFill>
          <a:blip r:embed="rId1"/>
          <a:stretch/>
        </p:blipFill>
        <p:spPr>
          <a:xfrm>
            <a:off x="0" y="3429000"/>
            <a:ext cx="4680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3780000" y="5877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95640" y="333360"/>
            <a:ext cx="59054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59+8-30-19-14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19+8+30-39-14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7093080" y="33336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164360" y="2276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7" descr="uzel1"/>
          <p:cNvPicPr/>
          <p:nvPr/>
        </p:nvPicPr>
        <p:blipFill>
          <a:blip r:embed="rId2"/>
          <a:stretch/>
        </p:blipFill>
        <p:spPr>
          <a:xfrm>
            <a:off x="5334120" y="3070080"/>
            <a:ext cx="38098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goldunicorn_tarni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асилиса читала Змею Горынычу книгу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В книге 64 страницы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 первый день Василиса прочитала 6 страниц, во второй день – 8 страниц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колько страниц осталось прочит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24000" y="486900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39640" y="1700280"/>
            <a:ext cx="78487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24000" y="333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219564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838836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1280" y="6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411280" y="76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8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08720" y="76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916360" y="6021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2771640" y="2492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64 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53964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3924360" y="141300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250920" y="35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)  6 + 8 = 14 (стр.)- прочитала за 2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24000" y="458136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) 64 – 14 = 50 (ст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250920" y="551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 страниц осталось прочита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bilibin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van-vasilisa"/>
          <p:cNvPicPr/>
          <p:nvPr/>
        </p:nvPicPr>
        <p:blipFill>
          <a:blip r:embed="rId2"/>
          <a:stretch/>
        </p:blipFill>
        <p:spPr>
          <a:xfrm>
            <a:off x="1979640" y="1916280"/>
            <a:ext cx="3887640" cy="4941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219564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bilibin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tale3"/>
          <p:cNvPicPr/>
          <p:nvPr/>
        </p:nvPicPr>
        <p:blipFill>
          <a:blip r:embed="rId2"/>
          <a:stretch/>
        </p:blipFill>
        <p:spPr>
          <a:xfrm>
            <a:off x="7380360" y="4365720"/>
            <a:ext cx="17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76720" y="620640"/>
          <a:ext cx="3348000" cy="1887480"/>
        </p:xfrm>
        <a:graphic>
          <a:graphicData uri="http://schemas.openxmlformats.org/drawingml/2006/table">
            <a:tbl>
              <a:tblPr/>
              <a:tblGrid>
                <a:gridCol w="836640"/>
                <a:gridCol w="836640"/>
                <a:gridCol w="838080"/>
                <a:gridCol w="8366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9"/>
          <p:cNvSpPr/>
          <p:nvPr/>
        </p:nvSpPr>
        <p:spPr>
          <a:xfrm>
            <a:off x="2627280" y="3716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ИВ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0"/>
          <p:cNvSpPr/>
          <p:nvPr/>
        </p:nvSpPr>
        <p:spPr>
          <a:xfrm>
            <a:off x="2484360" y="494172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k_01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84360" y="620640"/>
            <a:ext cx="3097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2 + 19 =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1280" y="1989000"/>
            <a:ext cx="3097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61 – 14 = 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4932360" y="620640"/>
            <a:ext cx="3097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6 - 9 =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932360" y="1989000"/>
            <a:ext cx="3313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7 + 18 =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003640" y="3789360"/>
            <a:ext cx="33861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60 – 7 = 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11280" y="3789360"/>
            <a:ext cx="316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6 + 40 = 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е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611280" y="5300640"/>
            <a:ext cx="3168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9 – 24 = 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оп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5003640" y="5300640"/>
            <a:ext cx="34578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5 + 23 = 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пь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main_639390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95280" y="907920"/>
            <a:ext cx="34560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 + 28… 44 +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5435640" y="2492280"/>
            <a:ext cx="316872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4 - 18 … 56 +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826920" y="486900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+ 15 … 73 -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395280" y="26028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 + 2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&gt;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44 +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003640" y="465300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+ 1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&gt;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73 -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2843280" y="1628640"/>
            <a:ext cx="3600360" cy="302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404ca8f5-774e-5a6f-8d48-e6ba3fdd47a0.jpg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21:17Z</dcterms:created>
  <dc:creator>Житина</dc:creator>
  <dc:description/>
  <dc:language>en-US</dc:language>
  <cp:lastModifiedBy>ник</cp:lastModifiedBy>
  <dcterms:modified xsi:type="dcterms:W3CDTF">2022-04-10T09:35:37Z</dcterms:modified>
  <cp:revision>50</cp:revision>
  <dc:subject/>
  <dc:title>Урок - сказка</dc:title>
</cp:coreProperties>
</file>