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A3C6-2651-4A98-8D42-AA86C67B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8D8-7CFE-4F09-B9C5-28B1988D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6FA-4688-492A-8C89-342BDFC4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21F-93DD-4E1D-BCE8-91D03C4D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E7F1-5166-4683-8119-26B5F1F1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FAE-EE66-4A96-BE10-328E477B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C7B-EBF7-43A0-B3A8-74333C4E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F61B-13E1-486D-9985-94BBE0CD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BE3-5CBF-485B-BDAB-3A2B2E81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9DA-6528-4692-86CE-10FB14D1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09C-8065-4CEF-A5AF-E18A508A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29D-85A6-4DEE-A2DC-EBA514E4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6C72-A146-4B47-B887-80FE5AE44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Шум леса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ЗВУКИ ЛЕСА ПЕНИЕ ПТИЦ.mp3" descr=""/>
          <p:cNvPicPr/>
          <p:nvPr/>
        </p:nvPicPr>
        <p:blipFill>
          <a:blip r:embed="rId3"/>
          <a:stretch/>
        </p:blipFill>
        <p:spPr>
          <a:xfrm>
            <a:off x="1792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962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99625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6006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1" descr="фон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0_87507_dfd2fa49_L"/>
          <p:cNvPicPr/>
          <p:nvPr/>
        </p:nvPicPr>
        <p:blipFill>
          <a:blip r:embed="rId2"/>
          <a:stretch/>
        </p:blipFill>
        <p:spPr>
          <a:xfrm>
            <a:off x="2700360" y="549360"/>
            <a:ext cx="559584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8750"/>
          <p:cNvPicPr/>
          <p:nvPr/>
        </p:nvPicPr>
        <p:blipFill>
          <a:blip r:embed="rId1"/>
          <a:srcRect l="1622" t="0" r="162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звук волшебства - Превращение (www.hotplayer.ru).mp3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9093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img1"/>
          <p:cNvPicPr/>
          <p:nvPr/>
        </p:nvPicPr>
        <p:blipFill>
          <a:blip r:embed="rId2"/>
          <a:stretch/>
        </p:blipFill>
        <p:spPr>
          <a:xfrm>
            <a:off x="2533680" y="1413000"/>
            <a:ext cx="2692440" cy="3887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Копия img1"/>
          <p:cNvPicPr/>
          <p:nvPr/>
        </p:nvPicPr>
        <p:blipFill>
          <a:blip r:embed="rId3"/>
          <a:stretch/>
        </p:blipFill>
        <p:spPr>
          <a:xfrm>
            <a:off x="5435640" y="1341360"/>
            <a:ext cx="2598840" cy="3959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медведь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фон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udraya_sova"/>
          <p:cNvPicPr/>
          <p:nvPr/>
        </p:nvPicPr>
        <p:blipFill>
          <a:blip r:embed="rId2"/>
          <a:stretch/>
        </p:blipFill>
        <p:spPr>
          <a:xfrm>
            <a:off x="2484360" y="0"/>
            <a:ext cx="6246720" cy="6237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3" descr="фон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0d018d8abaf0e7b9a04cf96c7221ffcc"/>
          <p:cNvPicPr/>
          <p:nvPr/>
        </p:nvPicPr>
        <p:blipFill>
          <a:blip r:embed="rId2"/>
          <a:stretch/>
        </p:blipFill>
        <p:spPr>
          <a:xfrm>
            <a:off x="1835280" y="692280"/>
            <a:ext cx="5832360" cy="5592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фон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E:\Флешка работа\Итоговое\Картинки\0_6fa12_75abba60_XL.png"/>
          <p:cNvPicPr/>
          <p:nvPr/>
        </p:nvPicPr>
        <p:blipFill>
          <a:blip r:embed="rId2"/>
          <a:stretch/>
        </p:blipFill>
        <p:spPr>
          <a:xfrm>
            <a:off x="3132000" y="-762120"/>
            <a:ext cx="5077080" cy="7620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фон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80198702_ezhik7"/>
          <p:cNvPicPr/>
          <p:nvPr/>
        </p:nvPicPr>
        <p:blipFill>
          <a:blip r:embed="rId2"/>
          <a:stretch/>
        </p:blipFill>
        <p:spPr>
          <a:xfrm>
            <a:off x="1258920" y="237960"/>
            <a:ext cx="5076720" cy="6620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sensor7777777"/>
          <p:cNvPicPr/>
          <p:nvPr/>
        </p:nvPicPr>
        <p:blipFill>
          <a:blip r:embed="rId3"/>
          <a:stretch/>
        </p:blipFill>
        <p:spPr>
          <a:xfrm>
            <a:off x="5364000" y="378936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" descr="фон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123-300x300"/>
          <p:cNvPicPr/>
          <p:nvPr/>
        </p:nvPicPr>
        <p:blipFill>
          <a:blip r:embed="rId2"/>
          <a:stretch/>
        </p:blipFill>
        <p:spPr>
          <a:xfrm>
            <a:off x="2808360" y="189000"/>
            <a:ext cx="6335640" cy="633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1T11:11:57Z</dcterms:created>
  <dc:creator>МАРИНА БОРИСОВНА</dc:creator>
  <dc:description/>
  <dc:language>en-US</dc:language>
  <cp:lastModifiedBy>masha</cp:lastModifiedBy>
  <dcterms:modified xsi:type="dcterms:W3CDTF">2022-04-30T05:46:08Z</dcterms:modified>
  <cp:revision>10</cp:revision>
  <dc:subject/>
  <dc:title>Слайд 1</dc:title>
</cp:coreProperties>
</file>