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BCAFA-72BC-4B35-B252-5B754F48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31B89-14D8-44C6-A39E-1AAFB3DF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ACE37-4B50-4E12-9481-9E3DBA00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2C9C7-0A50-4F04-B753-06C81DF7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AC519-1156-41A4-B77A-BD147834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C9DAB-844F-49DC-A886-F47668C1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E66AE-9E02-4E9D-977C-66400A8C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E67E4-13BF-443D-843F-3C90823F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80E32-B19F-4A3D-8FCE-C3ED7FBC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61941-DA5C-42A7-8814-BD7DDF3A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38CA3-B10B-417B-A46E-B62C23CB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AABE0-F201-464F-8AAF-6A64D5AF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855CF-D7FE-456C-84B1-5096A225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D468A-DFB2-4609-8D9B-53D17812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10C88-87D6-4402-9DBD-9BC59993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237E7-4D22-46A7-96BB-B8C25359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69C9D-7BA7-4FD7-925B-9258C4EA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DAD6B-1964-4BC8-B296-36A8571E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BB9CC-4E2A-4EC7-9EE7-F7029E49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C96AF-7B16-42E6-93A2-4D6659E3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EA4E5-2425-4722-8851-97D7A526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DFB26-B885-4EB9-AFD6-C1160025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A21BE-8C06-4395-B672-28E5A668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6A884-8A66-4BE5-9BE7-FF077772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CF7B-AFA6-410F-A2DC-E7D60AC5F8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ED4E-F9B7-4944-AF14-08D03A4A176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208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ЖИЗНЬ НА ВОЙНЕ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/</a:t>
            </a: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по повести 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В. Кондратьева «Сашка»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/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92000" y="3860640"/>
            <a:ext cx="720252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Война – жесточе нету слова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Война – печальней нету слова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Война – святее нету слова…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А. Т. Твардовский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0976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1131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1199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1210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1377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1589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1804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2203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2266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2274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83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66"/>
                </a:solidFill>
                <a:latin typeface="Times New Roman"/>
              </a:rPr>
              <a:t>План урока: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. Кондратьев – писатель-фронтови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ихотворение А. Твардовского «Я убит подо Ржевом…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торическая справка о боях подо Ржев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уть писателя к «Сашке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нализ повес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удожественные детали, воссоздающие картину вой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шка как человек и бое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и испыт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обенности повест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исьменная рабо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2275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2294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2320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1349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братская могила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Garamond"/>
              </a:rPr>
              <a:t>     </a:t>
            </a: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Историческая справка о боях подо Ржевом</a:t>
            </a:r>
            <a:endParaRPr b="0" lang="en-US" sz="5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924000" y="458100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по воспоминания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. К. Жуков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. К. Рокоссовског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10" descr="0923_2"/>
          <p:cNvPicPr/>
          <p:nvPr/>
        </p:nvPicPr>
        <p:blipFill>
          <a:blip r:embed="rId1"/>
          <a:stretch/>
        </p:blipFill>
        <p:spPr>
          <a:xfrm>
            <a:off x="5219640" y="170028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0941"/>
          <p:cNvPicPr/>
          <p:nvPr/>
        </p:nvPicPr>
        <p:blipFill>
          <a:blip r:embed="rId2"/>
          <a:stretch/>
        </p:blipFill>
        <p:spPr>
          <a:xfrm>
            <a:off x="1619280" y="1700280"/>
            <a:ext cx="23302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1988640"/>
            <a:ext cx="8325000" cy="22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ru-RU" sz="9600" spc="-1" strike="noStrike">
                <a:solidFill>
                  <a:srgbClr val="ffcc66"/>
                </a:solidFill>
                <a:latin typeface="Times New Roman"/>
              </a:rPr>
              <a:t>Путь писателя </a:t>
            </a:r>
            <a:br>
              <a:rPr sz="9600"/>
            </a:br>
            <a:r>
              <a:rPr b="0" lang="ru-RU" sz="9600" spc="-1" strike="noStrike">
                <a:solidFill>
                  <a:srgbClr val="ffcc66"/>
                </a:solidFill>
                <a:latin typeface="Times New Roman"/>
              </a:rPr>
              <a:t>к «Сашке»</a:t>
            </a:r>
            <a:endParaRPr b="0" lang="en-US" sz="9600" spc="-1" strike="noStrike">
              <a:solidFill>
                <a:srgbClr val="ffcc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Garamond"/>
              </a:rPr>
              <a:t>Цель урока:</a:t>
            </a:r>
            <a:endParaRPr b="0" lang="en-US" sz="6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ыявить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пецифику изображения войны и характера рядового бойца в повести В. Кондратьева; доказать главную мысль писателя: даже в нечеловеческих условиях человек должен сохранить свою душу, не запятнать совести, оставаться человеком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Times New Roman"/>
              </a:rPr>
              <a:t>Вопросы для анализа повести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78880" indent="-578880" algn="just">
              <a:lnSpc>
                <a:spcPct val="100000"/>
              </a:lnSpc>
              <a:spcBef>
                <a:spcPts val="901"/>
              </a:spcBef>
              <a:buClr>
                <a:srgbClr val="00cc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зовите детали, картины, факты, с помощью которых автор рисует правдивую, достоверную картину боёв подо Ржево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just">
              <a:lnSpc>
                <a:spcPct val="100000"/>
              </a:lnSpc>
              <a:spcBef>
                <a:spcPts val="901"/>
              </a:spcBef>
              <a:buClr>
                <a:srgbClr val="00cc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каких эпизодах с особой силой раскрывается Сашка как человек и боец? Назовите мотивы его поступк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c66"/>
                </a:solidFill>
                <a:latin typeface="Times New Roman"/>
              </a:rPr>
              <a:t>Три испытания</a:t>
            </a:r>
            <a:endParaRPr b="0" lang="en-US" sz="7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«Испытание властью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24382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ие духовные качества Сашки проявляются в этом эпизод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4382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ва нравственная проблематика этой части повес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7" descr="Изображение03"/>
          <p:cNvPicPr/>
          <p:nvPr/>
        </p:nvPicPr>
        <p:blipFill>
          <a:blip r:embed="rId1"/>
          <a:stretch/>
        </p:blipFill>
        <p:spPr>
          <a:xfrm>
            <a:off x="179280" y="2708280"/>
            <a:ext cx="27496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ондратьев Вячеслав Леонидович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(1920 – 1993)</a:t>
            </a: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  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95280" y="184464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Сашка» (1979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Отпуск по ранению» (1981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Встречи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тенке» (198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На поле  Овсянниковском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Селижаровский тракт» (198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Красные ворота» (198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Этот сорок восьмой…» (19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9" descr="463"/>
          <p:cNvPicPr/>
          <p:nvPr/>
        </p:nvPicPr>
        <p:blipFill>
          <a:blip r:embed="rId1"/>
          <a:stretch/>
        </p:blipFill>
        <p:spPr>
          <a:xfrm>
            <a:off x="250920" y="1773360"/>
            <a:ext cx="36338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c66"/>
                </a:solidFill>
                <a:latin typeface="Times New Roman"/>
              </a:rPr>
              <a:t>Три испытания</a:t>
            </a:r>
            <a:endParaRPr b="0" lang="en-US" sz="7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«Испытание любовью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2413800" indent="-603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 добавляет к раскрытию Сашкиного характера изображение его взаимоотношений с Зин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413800" indent="-603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вы оцениваете поведение Сашки в финале второй части повес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Изображение01"/>
          <p:cNvPicPr/>
          <p:nvPr/>
        </p:nvPicPr>
        <p:blipFill>
          <a:blip r:embed="rId1"/>
          <a:stretch/>
        </p:blipFill>
        <p:spPr>
          <a:xfrm>
            <a:off x="179280" y="2637000"/>
            <a:ext cx="27496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c66"/>
                </a:solidFill>
                <a:latin typeface="Times New Roman"/>
              </a:rPr>
              <a:t>Три испытания</a:t>
            </a:r>
            <a:endParaRPr b="0" lang="en-US" sz="7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«Испытание дружбой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24382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вы мотивы Сашкиного заступничества за лейтенант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4382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вы оцениваете поступок Сашк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Изображение02"/>
          <p:cNvPicPr/>
          <p:nvPr/>
        </p:nvPicPr>
        <p:blipFill>
          <a:blip r:embed="rId1"/>
          <a:stretch/>
        </p:blipFill>
        <p:spPr>
          <a:xfrm>
            <a:off x="179280" y="2708280"/>
            <a:ext cx="27496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832464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cc66"/>
                </a:solidFill>
                <a:latin typeface="Times New Roman"/>
              </a:rPr>
              <a:t>Своеобразие главного героя</a:t>
            </a:r>
            <a:endParaRPr b="0" lang="en-US" sz="9600" spc="-1" strike="noStrike">
              <a:solidFill>
                <a:srgbClr val="ffcc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324640" cy="352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Есть «надо» и «сверх надо».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ашка, по мнению критика Игоря Дедкова, делает сверх надобного. </a:t>
            </a:r>
            <a:br>
              <a:rPr sz="4400"/>
            </a:br>
            <a:r>
              <a:rPr b="0" lang="ru-RU" sz="4400" spc="-1" strike="noStrike">
                <a:solidFill>
                  <a:srgbClr val="292929"/>
                </a:solidFill>
                <a:latin typeface="Times New Roman"/>
              </a:rPr>
              <a:t>        </a:t>
            </a:r>
            <a:r>
              <a:rPr b="1" lang="ru-RU" sz="4400" spc="-1" strike="noStrike" u="sng">
                <a:solidFill>
                  <a:srgbClr val="ffcc66"/>
                </a:solidFill>
                <a:uFillTx/>
                <a:latin typeface="Times New Roman"/>
              </a:rPr>
              <a:t>А как считаете вы?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Самостоятельная работа </a:t>
            </a:r>
            <a:br>
              <a:rPr sz="4800"/>
            </a:b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(по группам):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ыделить художественные особенности повест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324640" cy="42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«В бесчеловечной, кровавой войне человек остаётся человеком, а люди – людьми. Это для писателя главное. Об этом и написана повесть: о страшной войне и сохранённой человечности».</a:t>
            </a:r>
            <a:br>
              <a:rPr sz="4400"/>
            </a:br>
            <a:r>
              <a:rPr b="0" lang="ru-RU" sz="4200" spc="-1" strike="noStrike">
                <a:solidFill>
                  <a:srgbClr val="ffcc66"/>
                </a:solidFill>
                <a:latin typeface="Garamond"/>
              </a:rPr>
              <a:t>                                 </a:t>
            </a:r>
            <a:br>
              <a:rPr sz="4200"/>
            </a:br>
            <a:r>
              <a:rPr b="0" lang="ru-RU" sz="4200" spc="-1" strike="noStrike">
                <a:solidFill>
                  <a:srgbClr val="ffcc66"/>
                </a:solidFill>
                <a:latin typeface="Garamond"/>
              </a:rPr>
              <a:t>                              </a:t>
            </a:r>
            <a:r>
              <a:rPr b="0" lang="ru-RU" sz="4800" spc="-1" strike="noStrike">
                <a:solidFill>
                  <a:srgbClr val="ffcc66"/>
                </a:solidFill>
                <a:latin typeface="Garamond"/>
              </a:rPr>
              <a:t>Лев Айзерман.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Домашнее задание</a:t>
            </a:r>
            <a:endParaRPr b="0" lang="en-US" sz="5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одготовиться к уроку по теме: «Своеобразие раскрытия военной темы в прозе 1980-х – 90-х годов (1 гр. – В. Астафьев «Пастух и пастушка»; 2 гр. –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. Алексиевич «У войны не женское лицо»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Письменная работа</a:t>
            </a:r>
            <a:endParaRPr b="0" lang="en-US" sz="5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тветить на один из вопросов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960920" indent="-60336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то нового в изображении войны открыла мне повесть В. Кондратьева «Сашка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960920" indent="-60336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оё впечатление от повести В. Кондратьева «Сашка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960920" indent="-60336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Легко или трудно иметь такого друга, как Сашк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0096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0215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0403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0410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0910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0912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3:38:38Z</dcterms:created>
  <dc:creator>OEM</dc:creator>
  <dc:description/>
  <dc:language>en-US</dc:language>
  <cp:lastModifiedBy>Admin</cp:lastModifiedBy>
  <dcterms:modified xsi:type="dcterms:W3CDTF">2022-04-30T12:40:21Z</dcterms:modified>
  <cp:revision>11</cp:revision>
  <dc:subject/>
  <dc:title>ЖИЗНЬ НА ВОЙНЕ  /по повести  В. Кондратьева «Сашка»/</dc:title>
</cp:coreProperties>
</file>