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9E2-5B70-42AA-971F-F2222B21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9DA8-FA26-4582-82C2-D74CF746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3D9D-82AD-4379-8D1C-57756EEB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86A4-D02A-4554-BA75-4F6266BF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63D3-F52E-42EC-81F3-527CC1B7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67313-2659-469A-8A78-90CA6C5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8CBBB-62F4-4557-A194-B2937B8A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C44D-6DC5-4B40-A2A4-876D4A7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E43AD-8B66-4C41-A543-AEB9BDA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8F00-BF27-4ADC-B28F-2090D5D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74E92-CBF1-4B24-A749-2F5B2ED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FE99-CAD6-4961-BF14-6C724C47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69AAC-3C97-46C4-87DA-6298BB0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185A4-724E-4A28-BB9B-530514B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E30B-4E2F-420D-900E-BA9575C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4E9C5-25F9-4AB6-B037-FA511C95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D2ED-604E-4484-BCBC-E69CFF0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A219-7A41-4A02-93C8-97FF280D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54DA-B7AA-45D1-8691-83258CC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EB0A-E5E8-47D8-A2DC-8979E7D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C1C5-5320-4300-B05E-2D824C9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6054-FF03-46F1-97F0-A5D4375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52B5-1DEA-4E0E-9443-91910AB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DD3F-1FA6-4C71-835B-5928365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D015-41ED-408C-9FCC-1E7A41B974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923-B700-4458-BA27-54EC21B18A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ЖИЗНЬ НА ВОЙНЕ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о повести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В. Кондратьева «Сашка»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/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92000" y="3860640"/>
            <a:ext cx="72025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жесточе нету слов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печальней нету слов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святее нету слова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97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113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19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2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1377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158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80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20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26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27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Times New Roman"/>
              </a:rPr>
              <a:t>План урока: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Кондратьев – писатель-фронтов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хотворение А. Твардовского «Я убит подо Ржевом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ческая справка о боях подо Рже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ь писателя к «Сашк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пов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ественные детали, воссоздающие картину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шка как человек и бо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 испы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пове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сьменная раб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2275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229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232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34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братская могила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     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Историческая справка о боях подо Ржевом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24000" y="458100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 воспоминания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К. Жуко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. К. Рокоссовског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0923_2"/>
          <p:cNvPicPr/>
          <p:nvPr/>
        </p:nvPicPr>
        <p:blipFill>
          <a:blip r:embed="rId1"/>
          <a:stretch/>
        </p:blipFill>
        <p:spPr>
          <a:xfrm>
            <a:off x="5219640" y="170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941"/>
          <p:cNvPicPr/>
          <p:nvPr/>
        </p:nvPicPr>
        <p:blipFill>
          <a:blip r:embed="rId2"/>
          <a:stretch/>
        </p:blipFill>
        <p:spPr>
          <a:xfrm>
            <a:off x="1619280" y="1700280"/>
            <a:ext cx="2330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325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Путь писателя </a:t>
            </a:r>
            <a:br>
              <a:rPr sz="9600"/>
            </a:b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к «Сашке»</a:t>
            </a:r>
            <a:endParaRPr b="0" lang="en-US" sz="96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aramond"/>
              </a:rPr>
              <a:t>Цель урока: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явит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ецифику изображения войны и характера рядового бойца в повести В. Кондратьева; доказать главную мысль писателя: даже в нечеловеческих условиях человек должен сохранить свою душу, не запятнать совести, оставаться человеком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Вопросы для анализа повести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901"/>
              </a:spcBef>
              <a:buClr>
                <a:srgbClr val="00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детали, картины, факты, с помощью которых автор рисует правдивую, достоверную картину боёв подо Ржев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901"/>
              </a:spcBef>
              <a:buClr>
                <a:srgbClr val="00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каких эпизодах с особой силой раскрывается Сашка как человек и боец? Назовите мотивы его поступ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власть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духовные качества Сашки проявляются в этом эпизо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а нравственная проблематика этой части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Изображение03"/>
          <p:cNvPicPr/>
          <p:nvPr/>
        </p:nvPicPr>
        <p:blipFill>
          <a:blip r:embed="rId1"/>
          <a:stretch/>
        </p:blipFill>
        <p:spPr>
          <a:xfrm>
            <a:off x="179280" y="2708280"/>
            <a:ext cx="2749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дратьев Вячеслав Леонидови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(1920 – 1993)</a:t>
            </a: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ашка» (197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тпуск по ранению» (198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стречи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тенке» (198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а поле  Овсянниковск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елижаровский тракт» (198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Красные ворота» (198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Этот сорок восьмой…» (19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463"/>
          <p:cNvPicPr/>
          <p:nvPr/>
        </p:nvPicPr>
        <p:blipFill>
          <a:blip r:embed="rId1"/>
          <a:stretch/>
        </p:blipFill>
        <p:spPr>
          <a:xfrm>
            <a:off x="250920" y="1773360"/>
            <a:ext cx="3633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любовь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13800" indent="-603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добавляет к раскрытию Сашкиного характера изображение его взаимоотношений с Зи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13800" indent="-603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оцениваете поведение Сашки в финале второй части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Изображение01"/>
          <p:cNvPicPr/>
          <p:nvPr/>
        </p:nvPicPr>
        <p:blipFill>
          <a:blip r:embed="rId1"/>
          <a:stretch/>
        </p:blipFill>
        <p:spPr>
          <a:xfrm>
            <a:off x="179280" y="2637000"/>
            <a:ext cx="2749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дружб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ы мотивы Сашкиного заступничества за лейтенан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оцениваете поступок Саш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Изображение02"/>
          <p:cNvPicPr/>
          <p:nvPr/>
        </p:nvPicPr>
        <p:blipFill>
          <a:blip r:embed="rId1"/>
          <a:stretch/>
        </p:blipFill>
        <p:spPr>
          <a:xfrm>
            <a:off x="179280" y="2708280"/>
            <a:ext cx="2749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324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Своеобразие главного героя</a:t>
            </a:r>
            <a:endParaRPr b="0" lang="en-US" sz="96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324640" cy="35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Есть «надо» и «сверх надо».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ашка, по мнению критика Игоря Дедкова, делает сверх надобного. </a:t>
            </a:r>
            <a:br>
              <a:rPr sz="4400"/>
            </a:br>
            <a:r>
              <a:rPr b="0" lang="ru-RU" sz="4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А как считаете вы?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Самостоятельная работа </a:t>
            </a:r>
            <a:br>
              <a:rPr sz="4800"/>
            </a:b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(по группам):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делить художественные особенности пове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324640" cy="42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«В бесчеловечной, кровавой войне человек остаётся человеком, а люди – людьми. Это для писателя главное. Об этом и написана повесть: о страшной войне и сохранённой человечности».</a:t>
            </a:r>
            <a:br>
              <a:rPr sz="4400"/>
            </a:br>
            <a:r>
              <a:rPr b="0" lang="ru-RU" sz="4200" spc="-1" strike="noStrike">
                <a:solidFill>
                  <a:srgbClr val="ffcc66"/>
                </a:solidFill>
                <a:latin typeface="Garamond"/>
              </a:rPr>
              <a:t>                                 </a:t>
            </a:r>
            <a:br>
              <a:rPr sz="4200"/>
            </a:br>
            <a:r>
              <a:rPr b="0" lang="ru-RU" sz="4200" spc="-1" strike="noStrike">
                <a:solidFill>
                  <a:srgbClr val="ffcc66"/>
                </a:solidFill>
                <a:latin typeface="Garamond"/>
              </a:rPr>
              <a:t>                              </a:t>
            </a: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Лев Айзерман.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ься к уроку по теме: «Своеобразие раскрытия военной темы в прозе 1980-х – 90-х годов (1 гр. – В. Астафьев «Пастух и пастушка»; 2 гр.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. Алексиевич «У войны не женское лицо»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Письменная работа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ить на один из вопрос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нового в изображении войны открыла мне повесть В. Кондратьева «Сашка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ё впечатление от повести В. Кондратьева «Саш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егко или трудно иметь такого друга, как Саш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009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215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40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04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09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91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3:38:38Z</dcterms:created>
  <dc:creator>OEM</dc:creator>
  <dc:description/>
  <dc:language>en-US</dc:language>
  <cp:lastModifiedBy>Admin</cp:lastModifiedBy>
  <dcterms:modified xsi:type="dcterms:W3CDTF">2022-04-30T12:40:21Z</dcterms:modified>
  <cp:revision>11</cp:revision>
  <dc:subject/>
  <dc:title>ЖИЗНЬ НА ВОЙНЕ  /по повести  В. Кондратьева «Сашка»/</dc:title>
</cp:coreProperties>
</file>