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44BB-80A8-46E7-AD38-C4DA04EE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D7F-9B9E-455B-8F7B-713EA35E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2FC-44A5-4D44-BBD3-2DDAB4D9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712-73B4-48DB-A7C2-91D2F742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688C-3486-45DE-AC61-BE4ABB54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DF09-0DF0-41A0-B1FD-3D0D2F74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88A0-D536-447B-85C7-0CDA3AC1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3C0B-DDFC-4E20-9FE6-97989987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501F-E9C4-4A4C-A997-E2C103A6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1C6B-2995-49DE-8F5B-DB118278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4B3D-6A58-4348-B420-9B2ABDDA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8C3-E4A2-4A3E-923A-71E3A865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8C25-B90C-4B4D-BE7C-08176D3D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78FD-D459-42A2-9D71-BFF621AC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6B75-CF8E-426C-8287-1E2FA144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1EF0-FCC1-4D5B-8D70-4EB6D878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474F-BF4B-42D4-AFB2-16481480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B91E6-6221-421A-BF72-6F588CB1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4891-6065-4346-B5E0-4A50262F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E09A2-A811-4E73-AB02-AF7A7BFB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D9EB-6C8E-4087-BC20-3C8A3D58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442FC-720B-4BDB-8882-E03F802C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75A2-01EF-4304-A13E-49B3CEAF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C917-EADF-4FC9-8BE4-06864A6F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E61A-3368-4BA9-864F-2057E221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0D80-04FC-4D06-856B-FBDBBA4E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63518-E4A4-4DFC-99EB-34C2B015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0848-64E4-4E19-9862-DB873997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A7A8-D427-4341-9CF0-1909CBC5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B67B-0942-4C64-B49B-007F4936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4C1F-BABD-4B9B-9D1B-732DFF8B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B0F1-FA68-41CF-80FF-5AA81E48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1876F-2CDC-4591-BE2F-10AC7698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86A-F0B3-4820-B8F9-58ED837C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C700-F48B-4A5D-A170-5C85F864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B15C-91E0-4FB0-9607-1B7CA61A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0B41D-E478-4233-9F57-F1A53627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94CA5-C0BF-4929-A8BC-E6B7F43F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7B7F9-4D8F-4DA6-B7B6-E75D1D54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B15A9-CC59-41FA-B8DF-40D7ABDC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68621-A4CB-4CFC-90EC-EA0AAD7D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0BD2-D8B1-41AA-B49C-DCBD4B7A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1F794-C5BD-4D16-A814-677D6C8C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5046A-CCDC-4A35-A7E1-0EB462CC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A8E-C97F-4FB4-A612-E0C6A403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9194C-6C12-43A2-A880-0BB0E1B4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6CD59-14FC-4645-8B04-919C0923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82B6C-EDB5-4324-8A45-BCFAB4BF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A1527-6C9F-4D04-AD7E-5351FC7F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C8D84-D761-48EE-B455-0CC5F580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8AFC-FE39-465F-9AC7-4828DF0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C3466-E7A1-4978-B786-B4BC3170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7AD78-033D-4917-8428-D1EF7353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532C1-BB3A-426F-B66B-E8A0FAD7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F90DD-B4BA-459E-BA14-AEDFFB91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D71-8C1D-4C25-9F86-C1BF56F6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19DF9-6E6B-4B75-9BB6-E56FBD56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E79F6-B4BF-4557-BE4F-6EA92FFF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D50F0-F353-43A0-A3CC-B385D698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041CE-16C9-47B2-8B7A-233F156E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CB440-FF27-4742-B47E-B68E4A81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F2699-BAEE-4519-B693-1B537875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0CC2B-E049-47DD-87B8-7B077CAF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5976B-8B71-40DB-825C-FC93A02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1A038-B959-451D-B8E7-753C31A0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10949-70B9-4B10-B56C-12885DCE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FA1-EB8D-4204-BCD7-D7702420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8DFF6-DAD9-48D5-9DA3-5347B622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62D79-9F0E-4DD0-BD15-C84F2B62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4951F-06B6-4877-B3EE-9C7720FC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125B2-E7DF-4D87-8471-59A31B2E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C10AD-0AFC-490E-A9C7-9D51D741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BC6F1-6D0F-4CAA-8654-AB9112A3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0BEA3-EC9D-4C9D-8A13-14989BC2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2C905-1C8F-4474-8E9C-7C0133AC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67D1F-1D8D-4912-878F-08BAD2D7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615B0-C4BE-434B-B162-CFEE4F23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1F5-2E2A-4C61-941A-CCA71205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DADF8-723C-4B36-BE63-1B6D4D57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7A329-545E-4E6C-BCA0-48611B21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04582-0454-47C3-9A4D-1B40068E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A2654-36DA-428A-B747-EBE90BEA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FA976-11D7-4E77-B472-2087045A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D95-C3B4-4811-A464-5B080DA5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2FC8-6370-48AD-B756-C3DEB58C544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BC69-9A26-42EE-87FE-46ECDB96F44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4C2F-4D98-4BFF-B5E0-97624FFCBF2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7A11-C1B7-462C-B6AA-2231D15F580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4838-6F3B-4233-9D26-51C50150353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180A-9689-4B6B-BF76-7FA92535D3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26F6-3F9F-42DB-888E-2D66CAD8A79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ff3300"/>
                </a:solidFill>
                <a:latin typeface="Goudy Stout"/>
              </a:rPr>
              <a:t>УГОЛОК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76360" y="3429000"/>
            <a:ext cx="7485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00"/>
                </a:solidFill>
                <a:latin typeface="Goudy Stout"/>
              </a:rPr>
              <a:t>ЗДОРОВЬЯ</a:t>
            </a:r>
            <a:r>
              <a:rPr b="0" lang="ru-RU" sz="2800" spc="-1" strike="noStrike">
                <a:solidFill>
                  <a:srgbClr val="ffffff"/>
                </a:solidFill>
                <a:latin typeface="Goudy Stout"/>
              </a:rPr>
              <a:t>	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3419640" y="5589720"/>
            <a:ext cx="79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ор по физическо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дкина Е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68000" y="2205000"/>
            <a:ext cx="828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Что это значит? Спать, гулять, делать уроки, принимать пищу необходимо в одно и то же время. Твой организм быстро привыкает к режиму, ему легче будет справиться с любой нагрузкой.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  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Вместе с мамой составь свой режим дня и постарайся его соблюдать.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АВИЛО 1.</a:t>
            </a:r>
            <a:r>
              <a:rPr b="0" i="1" lang="ru-RU" sz="3600" spc="-1" strike="noStrike">
                <a:solidFill>
                  <a:srgbClr val="0080ff"/>
                </a:solidFill>
                <a:latin typeface="Arial"/>
              </a:rPr>
              <a:t>Организуй свой режим дн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4" descr="28d8236ec69et_prev_130_auto_5_80"/>
          <p:cNvPicPr/>
          <p:nvPr/>
        </p:nvPicPr>
        <p:blipFill>
          <a:blip r:embed="rId1"/>
          <a:stretch/>
        </p:blipFill>
        <p:spPr>
          <a:xfrm>
            <a:off x="5364000" y="4221000"/>
            <a:ext cx="2592720" cy="2492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900000" y="1844640"/>
            <a:ext cx="740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Спать надо не менее 10-ти часов, именно столько времени необходимо для отдыха клеткам организма. 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АВИЛО 2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4" descr="472301616"/>
          <p:cNvPicPr/>
          <p:nvPr/>
        </p:nvPicPr>
        <p:blipFill>
          <a:blip r:embed="rId1"/>
          <a:stretch/>
        </p:blipFill>
        <p:spPr>
          <a:xfrm>
            <a:off x="3708360" y="3503520"/>
            <a:ext cx="464508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 чего начать? 7 часов утра, ты проснулся, но вставать не хочется, глаза сами закрываются. Пересиль себя: быстро открой окно! Приготовься! Начали! 7-8 минут утренней гимнастики, сонливость ушла, ты чувствуешь себя бодрым и в отличном настроении можешь продолжать день.</a:t>
            </a:r>
            <a:endParaRPr b="0" lang="en-US" sz="28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 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язательно гуляй не менее 2-3 часов в день, и вечером-перед сном. Во время прогулки поиграй с друзьями в спортивные игры: теннис, волейбол, футбол, хоккей-такие игры укрепляют сердце, легкие, развивают выносливость</a:t>
            </a: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  </a:t>
            </a:r>
            <a:endParaRPr b="0" lang="en-US" sz="20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АВИЛО 3.</a:t>
            </a:r>
            <a:br>
              <a:rPr sz="4000"/>
            </a:b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Больше двигайся.</a:t>
            </a: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4" descr="image115"/>
          <p:cNvPicPr/>
          <p:nvPr/>
        </p:nvPicPr>
        <p:blipFill>
          <a:blip r:embed="rId1"/>
          <a:stretch/>
        </p:blipFill>
        <p:spPr>
          <a:xfrm>
            <a:off x="6300720" y="439560"/>
            <a:ext cx="2562120" cy="176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576080" y="2276280"/>
            <a:ext cx="753732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ля твоего растущего организма необходимы различные питательные вещества и витамины, поэтому твое питание должно быть разнообразным. Обязательно пей молоко, кефир, ешь творог, сыр, масло, йогурт. Не отказывайся от каши - она источник энергии. Один раз в день ешь мясо или рыбу. Очень полезны овощи, фрукты, ягоды, орехи. Обязательно завтракай перед школой, ешь не менее 4-х раз в день. Пей натуральные соки, компоты, кисели, обязательно пей чистую воду- не менее 1 стакана в день. 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АВИЛО 4.</a:t>
            </a:r>
            <a:br>
              <a:rPr sz="4000"/>
            </a:br>
            <a:r>
              <a:rPr b="0" i="1" lang="ru-RU" sz="4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Питайся правильн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   </a:t>
            </a: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Каждый человек в течение своей жизни имеет два комплекта зубов. Первые-временные (молочные- 20 зубов), с 6 до 14 лет временные зубы заменяются постоянными, их 32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   </a:t>
            </a: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Вместе постоянного зуба, если он заболеет и разрушится, новый уже не вырастет, поэтому очень важно правильно ухаживать за зубами, чтобы сохранить их на всю жизнь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   </a:t>
            </a: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Чистить зубы нужно 2 раза в день: утром-после завтрака, и вечером-перед сном. Важно правильно чистить зубы, этому тебя научит врач-стоматолог, которого необходимо посещать 2 раза в год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АВИЛО 5.</a:t>
            </a:r>
            <a:br>
              <a:rPr sz="4000"/>
            </a:b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Береги зуб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nb6465-39"/>
          <p:cNvPicPr/>
          <p:nvPr/>
        </p:nvPicPr>
        <p:blipFill>
          <a:blip r:embed="rId1"/>
          <a:stretch/>
        </p:blipFill>
        <p:spPr>
          <a:xfrm>
            <a:off x="6523200" y="549360"/>
            <a:ext cx="2031840" cy="158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Не трите глаза руками, носовым платком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Вытирайте лицо только своим чистым полотенцем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Осторожно обращайтесь с перьями, ножиками и другими острыми предметами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Не играйте в опасные для глаз игры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Если глаз засорился или заболел, немедленно обращайтесь к врачу или медицинской сестре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Занимайтесь при хорошем освещении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Книгу и тетрадь держите на расстоянии 35 см от глаз, не подносите их близко к глазам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Не читайте лёжа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Arial"/>
              </a:rPr>
              <a:t>При чтении делайте каждые полчаса перерыв на 5 минут.</a:t>
            </a: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  <a:p>
            <a:pPr marL="272880" indent="-272880">
              <a:lnSpc>
                <a:spcPct val="6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АВИЛО 6.</a:t>
            </a:r>
            <a:br>
              <a:rPr sz="4000"/>
            </a:b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Берегите зр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4" descr="глаз"/>
          <p:cNvPicPr/>
          <p:nvPr/>
        </p:nvPicPr>
        <p:blipFill>
          <a:blip r:embed="rId1"/>
          <a:stretch/>
        </p:blipFill>
        <p:spPr>
          <a:xfrm>
            <a:off x="7093080" y="692280"/>
            <a:ext cx="1428480" cy="107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   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Ты огорчаешься после того , как тебя поругают родители или ты поссоришься с друзьями,  нагрубишь кому-нибудь или обидишь малыша? Поэтому не совершай поступков, за которые тебе будет стыдно. Будь доброжелателен с другими, уважай окружающих тебя людей, и ты будешь всегда в хорошем настроении. </a:t>
            </a:r>
            <a:endParaRPr b="0" lang="en-US" sz="2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АВИЛО 7.</a:t>
            </a:r>
            <a:br>
              <a:rPr sz="4000"/>
            </a:br>
            <a:r>
              <a:rPr b="0" i="1" lang="ru-RU" sz="4000" spc="-1" strike="noStrike">
                <a:solidFill>
                  <a:srgbClr val="0080ff"/>
                </a:solidFill>
                <a:latin typeface="Arial"/>
              </a:rPr>
              <a:t>Не совершай дурных поступк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7T13:38:18Z</dcterms:created>
  <dc:creator>User</dc:creator>
  <dc:description/>
  <dc:language>en-US</dc:language>
  <cp:lastModifiedBy>Пользователь</cp:lastModifiedBy>
  <dcterms:modified xsi:type="dcterms:W3CDTF">2022-04-30T12:21:22Z</dcterms:modified>
  <cp:revision>14</cp:revision>
  <dc:subject/>
  <dc:title>УГОЛОК</dc:title>
</cp:coreProperties>
</file>