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DE9-1B6C-402F-8325-EB0A4E03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071-C9ED-4144-B4C3-7F74500B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15A-4604-423F-90EC-AD36EC44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3FB-26A0-42BA-9123-DCE4B7B6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CB2D-0FD8-4E2C-9BF2-ED258ED4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E4AB-F93D-4D89-8B3E-717B32B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551A-6CED-4347-8B69-94B1AB6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D345-A4E3-4E71-9B1E-F16DEB8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7C64-392E-4E6E-83C2-2444F61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70B7-70F4-4387-8B1F-BF8540C4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4BD-C789-4E61-A56C-421429FB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59F-AB0C-48C1-A0C4-499034F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1E2A-85B3-4BC6-AB65-5CC9E8BB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337A-27F3-4E41-AD13-A0B46745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D12E-B45D-4F67-B245-2E82A553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7176-7F34-4814-84B0-D6A1018C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7C1-35E6-4447-B58C-0F1F7C7F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9B4B-A28A-4602-B28B-E8CDAC53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2C1F-6FAB-4163-8A6C-4DA925F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9EA1-11C7-4826-A829-A2DD8BC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70BF-2C0B-4C5C-BBFF-4E5CB621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B321-4FE6-4CA4-A290-C3EE2944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44F-C4DD-4E49-AFE0-B42E3C7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1820-F6E0-4EF5-88D7-66836CEB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6DBC-9C90-499D-A0CE-AECE6DF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04F6-46FA-48C2-A917-A23CDF3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AC87-5AFF-427C-B1F1-617F1F78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ED27-E684-4386-8CEB-8CA50FA9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21D8-662E-48B0-9EC0-E2912223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6BB1-777B-4D85-8ED4-3DFFDB36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119A-FB74-4560-81A8-25F24658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DE08-41CF-48B7-A1AD-65C20AD0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6943-7B3E-40F0-BB67-6BE2B4D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7C0-C959-43EA-A3D3-1AAD051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F279-0B4F-414F-8F44-03F29A0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8991-21DA-4ECA-9EFD-674278F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84DB-CE84-479C-A51D-75779E8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3E27-37CB-48EF-B109-7190467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A1BD-A076-4345-B266-CDB0FFA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4FF3-810F-49E5-9D03-0C8A3DA0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6B3E-C77F-4EEA-98B1-5542014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1C90-8BBB-48A1-99EF-D87B9621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340D-9A70-407E-802D-0A679822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F00D-86B0-40E7-BF6B-C7CC9E4A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469-5786-4B2D-95F5-689C213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771B-4695-4A24-97A2-F50FEA4C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32175-0636-4936-B14B-87CBAE7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8DEA-0FBB-4E14-89AE-0BC10D7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E4DE-49C8-4843-98BE-BE884460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BB88-44A0-45FC-9C76-5A6488D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F5BE-FE9B-4B35-A50B-E2B4F3D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20B9-D446-4A54-B80D-6504F311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F45D-6ACA-4F19-A967-7538C9D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B1959-F356-4F77-8846-62FFAA5C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D0B6-FB31-41AF-840E-7DB02EC0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67C-0AD1-4792-956D-8F42566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2234-2393-4BFF-B095-CA08AE98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912E-EAA5-4DF3-9CCC-390FDC8A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C176-EADA-4A98-9E99-3EC0D565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BBF0-87F4-4F4C-BF82-158FCC05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B1B4-6E26-4D46-86EF-95063F8B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7FD0-791D-4D7C-9C3D-4AF3ACD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6119-052D-4CEA-A76B-935FC1F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0116-147E-44E9-A762-B7B37A1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0D6CD-2410-4AD1-8D85-75ECA0E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0C2D-3672-478F-B7E1-9BCF6B1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9B9-7CF0-4245-8C24-0020995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10854-15E0-43FE-A670-6FDEFB5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3624-452C-483E-B067-C64C100D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FE8F3-D75B-436F-A3D5-5E05C41B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301B-9565-4047-8AEC-25C193F4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D22B-0CD4-4807-8EC9-3C87603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9D97-C194-4F16-99EA-C6462C02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333F-A9E1-4E29-B414-D025A32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79A9-2EC4-47F6-A4D9-4A433AEB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9CE2-ED19-4DD1-BEEB-B277710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2BE2E-FAEE-4019-ADE1-7621264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F09-C6A1-44CF-A593-9FC9A77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40D5-AC9C-4A58-98A5-CA109BD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2D07-1521-4E36-886F-2E667C6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B1AB-4203-40F2-B3D6-3F16C1C1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3B49A-4659-4870-B50D-8F6CD99D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75CC-32DB-4343-9BB4-1F3457F9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6F6-FE88-4E24-AB53-9C81B64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002-ED7D-4D32-8BE2-C2EC56CCEC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089-7239-4262-8F11-81C26E3836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C780-AE96-4A67-A2A5-39D2216F7A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6A7-0CA1-4F6C-A606-755C1641CA7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1C9-DD84-4FD3-8928-65E0F88365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237-BD5D-42BC-8BFE-00C172BC5C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A5E-3A12-4A3C-BA24-A159981E07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3300"/>
                </a:solidFill>
                <a:latin typeface="Goudy Stout"/>
              </a:rPr>
              <a:t>УГОЛОК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7485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Goudy Stout"/>
              </a:rPr>
              <a:t>ЗДОРОВЬЯ</a:t>
            </a:r>
            <a:r>
              <a:rPr b="0" lang="ru-RU" sz="2800" spc="-1" strike="noStrike">
                <a:solidFill>
                  <a:srgbClr val="ffffff"/>
                </a:solidFill>
                <a:latin typeface="Goudy Stout"/>
              </a:rPr>
              <a:t>	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3419640" y="5589720"/>
            <a:ext cx="79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 по физическ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кина Е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220500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Что это значит? Спать, гулять, делать уроки, принимать пищу необходимо в одно и то же время. Твой организм быстро привыкает к режиму, ему легче будет справиться с любой нагрузкой.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месте с мамой составь свой режим дня и постарайся его соблюдать.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АВИЛО 1.</a:t>
            </a:r>
            <a:r>
              <a:rPr b="0" i="1" lang="ru-RU" sz="3600" spc="-1" strike="noStrike">
                <a:solidFill>
                  <a:srgbClr val="0080ff"/>
                </a:solidFill>
                <a:latin typeface="Arial"/>
              </a:rPr>
              <a:t>Организуй свой режим дн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28d8236ec69et_prev_130_auto_5_80"/>
          <p:cNvPicPr/>
          <p:nvPr/>
        </p:nvPicPr>
        <p:blipFill>
          <a:blip r:embed="rId1"/>
          <a:stretch/>
        </p:blipFill>
        <p:spPr>
          <a:xfrm>
            <a:off x="5364000" y="4221000"/>
            <a:ext cx="259272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900000" y="184464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пать надо не менее 10-ти часов, именно столько времени необходимо для отдыха клеткам организма. 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О 2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472301616"/>
          <p:cNvPicPr/>
          <p:nvPr/>
        </p:nvPicPr>
        <p:blipFill>
          <a:blip r:embed="rId1"/>
          <a:stretch/>
        </p:blipFill>
        <p:spPr>
          <a:xfrm>
            <a:off x="3708360" y="3503520"/>
            <a:ext cx="46450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 чего начать? 7 часов утра, ты проснулся, но вставать не хочется, глаза сами закрываются. Пересиль себя: быстро открой окно! Приготовься! Начали! 7-8 минут утренней гимнастики, сонливость ушла, ты чувствуешь себя бодрым и в отличном настроении можешь продолжать день.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язательно гуляй не менее 2-3 часов в день, и вечером-перед сном. Во время прогулки поиграй с друзьями в спортивные игры: теннис, волейбол, футбол, хоккей-такие игры укрепляют сердце, легкие, развивают выносливость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3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Больше двигайся.</a:t>
            </a: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4" descr="image115"/>
          <p:cNvPicPr/>
          <p:nvPr/>
        </p:nvPicPr>
        <p:blipFill>
          <a:blip r:embed="rId1"/>
          <a:stretch/>
        </p:blipFill>
        <p:spPr>
          <a:xfrm>
            <a:off x="6300720" y="439560"/>
            <a:ext cx="2562120" cy="176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576080" y="2276280"/>
            <a:ext cx="75373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твоего растущего организма необходимы различные питательные вещества и витамины, поэтому твое питание должно быть разнообразным. Обязательно пей молоко, кефир, ешь творог, сыр, масло, йогурт. Не отказывайся от каши - она источник энергии. Один раз в день ешь мясо или рыбу. Очень полезны овощи, фрукты, ягоды, орехи. Обязательно завтракай перед школой, ешь не менее 4-х раз в день. Пей натуральные соки, компоты, кисели, обязательно пей чистую воду- не менее 1 стакана в день. 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4.</a:t>
            </a:r>
            <a:br>
              <a:rPr sz="4000"/>
            </a:br>
            <a:r>
              <a:rPr b="0" i="1" lang="ru-RU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Питайся правиль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Каждый человек в течение своей жизни имеет два комплекта зубов. Первые-временные (молочные- 20 зубов), с 6 до 14 лет временные зубы заменяются постоянными, их 32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Вместе постоянного зуба, если он заболеет и разрушится, новый уже не вырастет, поэтому очень важно правильно ухаживать за зубами, чтобы сохранить их на всю жизнь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Чистить зубы нужно 2 раза в день: утром-после завтрака, и вечером-перед сном. Важно правильно чистить зубы, этому тебя научит врач-стоматолог, которого необходимо посещать 2 раза в год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5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Береги зу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nb6465-39"/>
          <p:cNvPicPr/>
          <p:nvPr/>
        </p:nvPicPr>
        <p:blipFill>
          <a:blip r:embed="rId1"/>
          <a:stretch/>
        </p:blipFill>
        <p:spPr>
          <a:xfrm>
            <a:off x="6523200" y="549360"/>
            <a:ext cx="2031840" cy="158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Не трите глаза руками, носовым платком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Вытирайте лицо только своим чистым полотенцем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Осторожно обращайтесь с перьями, ножиками и другими острыми предметами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Не играйте в опасные для глаз игры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Если глаз засорился или заболел, немедленно обращайтесь к врачу или медицинской сестре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Занимайтесь при хорошем освещении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Книгу и тетрадь держите на расстоянии 35 см от глаз, не подносите их близко к глазам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Не читайте лёжа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При чтении делайте каждые полчаса перерыв на 5 минут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6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Берегите з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4" descr="глаз"/>
          <p:cNvPicPr/>
          <p:nvPr/>
        </p:nvPicPr>
        <p:blipFill>
          <a:blip r:embed="rId1"/>
          <a:stretch/>
        </p:blipFill>
        <p:spPr>
          <a:xfrm>
            <a:off x="7093080" y="692280"/>
            <a:ext cx="1428480" cy="107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Ты огорчаешься после того , как тебя поругают родители или ты поссоришься с друзьями,  нагрубишь кому-нибудь или обидишь малыша? Поэтому не совершай поступков, за которые тебе будет стыдно. Будь доброжелателен с другими, уважай окружающих тебя людей, и ты будешь всегда в хорошем настроении. 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7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Не совершай дурных поступ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13:38:18Z</dcterms:created>
  <dc:creator>User</dc:creator>
  <dc:description/>
  <dc:language>en-US</dc:language>
  <cp:lastModifiedBy>Пользователь</cp:lastModifiedBy>
  <dcterms:modified xsi:type="dcterms:W3CDTF">2022-04-30T12:21:22Z</dcterms:modified>
  <cp:revision>14</cp:revision>
  <dc:subject/>
  <dc:title>УГОЛОК</dc:title>
</cp:coreProperties>
</file>