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D09-8CD4-4150-87BA-C4919AC2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D2F-9169-4B1C-9822-2E18DB45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9DD-B7CA-41AE-9D07-6EBAB407F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B21-A0B7-4021-89A4-96DD4D6E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6AD8-E5A7-46B9-B357-FF60D8CF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DA8A-7D10-47AD-A736-FC55388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21B1-79CB-4E41-A12A-E6C77603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36FF-9C1D-43B8-B9B6-12ABAB4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7F1-211C-4014-811E-C53F83E5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140A-FCA0-47F6-991E-FB57D1F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011C-A90D-4402-8438-841620D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F77-DC2D-48E6-B646-1709B134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75CF-52F4-480B-9B6E-E29AFF9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80DB-9F38-4055-B766-262FDDC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A2ED-380D-4EB2-8D03-56D0795E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53AD-F22D-4126-91F2-15E12A26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33D-C2FD-4C04-8528-BC5DA4A1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7977-C3AC-46A9-942C-28083EC0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460AD-A1C9-469C-9A8E-88C806EA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2ECD1-B51D-44AB-9B57-B3D6B331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F7F52-1E67-426A-9233-81457AEC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8B184-A0D5-4191-AF60-E008666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07A-308A-4F38-AFC3-1C0DDF12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D9DE6-3B53-493F-9D19-00427A0A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5A1BF-8149-446E-8057-787F0D0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92E54-0D5F-447A-BFBB-1006D9A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82DF6-9CB7-425F-A1D2-10E1F05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14A024-9D78-46F6-9BB4-5EC6A88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07E6A-298F-4BA4-B0DE-EB940DEF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6C05B-9E2C-4629-A062-11F03B32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70434-1132-4582-86AF-35052EC3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D8F4-563A-4237-8430-33021F3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270F-7D79-4FEA-9618-801BDDD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99B-5B49-4C13-882C-E8335EE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D2BA-CEEA-48AA-8CE9-920BE24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36234-3AFC-46CC-B7EB-253182A1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A9BB9-B4CF-4EAE-BAB1-AF7EFF5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8F10C-2B12-4647-A60B-CEC203A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014F-BE45-499E-BED8-CC838B49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968F-F0C4-4202-91A1-4A4DCDC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6E05-A0C0-4BC7-8482-4E7B9E06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3332-55F4-49A3-95E1-1EA73F78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B20B-D4CD-4571-86C0-8F1C03D8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401A1-E390-42F0-9ACE-D3BC7CC5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C9C-D340-4137-990C-787402D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09AFE-C143-4E4C-BF0D-44E3121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D5FBC-57A3-48D7-BDCB-02859F96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FECC9-8A36-45DA-B9E3-2BAC25FC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C313B-DD55-42A6-A573-A61FCD8D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340B7-D3B5-41DB-B530-B1A276AA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95296-73F8-43AB-BB3D-93B0B87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F8BD2-ACFD-4194-8C27-E3EDAD1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3737F2-4C91-4B41-A1E3-B6F71506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62EA4-3B07-4FB6-AF61-7BE807E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6C8B8-B224-4533-992F-7FA7C4DF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F47-0663-4A31-87AA-A190F75E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6A8B7-AB89-4B22-802C-3033BAE1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458C7-F3EE-4516-A922-3134C41F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8E8BB-7DA8-47D5-ABEC-F8D74AEB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A0415-0948-4990-A5C6-50BA8689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243FC-8595-4B4F-8FCD-49A318A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F0C10-1151-454B-A2DF-C610422E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A4CB7-8633-45B8-B03D-C657D60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E6E80-C388-460F-9DEC-E04059E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4E8AA-6FE5-412B-B10E-F3EAB1C0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5F6FA-369F-429B-B335-C8FD0ED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617-8CE2-42F6-BFE6-AFB997D7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C3D48-66AD-4CCC-B132-8107E75C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E293A-9BEF-4C86-ADAB-74CB6E16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96045-793C-469B-8F7B-A26E21BB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73568F-F51E-4CF9-AD4E-8693E67F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C6A15-0180-4865-B431-8F3D8FF9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7CB60-87BB-4096-821F-4B3A2AC5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269F6-5C98-4D0E-B29A-D4E05E75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E33A0-C6D3-4C18-9935-9F5A61F2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BEA77-68DF-4C9D-86A5-D51C0657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C59F1-DFFE-4CC4-8B56-7436A91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9906-B96E-4BE4-8B11-BB19389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545FE-E830-4384-A44F-9A090A9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F265A-82D5-462D-A1ED-66750513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67F61-DBEE-466D-816B-938A4395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5CC50-2294-47A5-9387-8DEF1700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01201-4BBC-47C4-BCCF-0DE3CA19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7AE-2CBC-4AB9-93DA-A5E3C00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57E-DDBE-4584-967C-792E8A4598B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71F-385F-4450-9CBE-F3F359EA5D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B416-5A25-4071-AF17-3D77C315D7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5270-A031-4ED9-ACE4-2113D0C5F5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CDFB-214C-4F3F-B5A9-091ED8FBE0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7BB6-8433-43D0-A8DB-FA20D35A97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C083-5323-4DE9-92B3-945C9EB4F8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«ПУТЬ К УСПЕХУ» </a:t>
            </a:r>
            <a:br>
              <a:rPr sz="3200"/>
            </a:b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ИЛИ </a:t>
            </a:r>
            <a:br>
              <a:rPr sz="3200"/>
            </a:br>
            <a:r>
              <a:rPr b="1" i="1" lang="ru-RU" sz="3200" spc="-1" strike="noStrike">
                <a:solidFill>
                  <a:srgbClr val="5a160b"/>
                </a:solidFill>
                <a:latin typeface="Bookman Old Style"/>
              </a:rPr>
              <a:t>КАК ОБЩАТЬСЯ С ДЕТЬМИ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81080" y="53341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2110"/>
                </a:solidFill>
                <a:latin typeface="Bookman Old Style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2110"/>
                </a:solidFill>
                <a:latin typeface="Bookman Old Style"/>
              </a:rPr>
              <a:t>Воробьева Наталья Леонидовн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Овал 3"/>
          <p:cNvSpPr/>
          <p:nvPr/>
        </p:nvSpPr>
        <p:spPr>
          <a:xfrm>
            <a:off x="762120" y="3581280"/>
            <a:ext cx="990360" cy="990720"/>
          </a:xfrm>
          <a:prstGeom prst="ellipse">
            <a:avLst/>
          </a:prstGeom>
          <a:solidFill>
            <a:srgbClr val="feb687">
              <a:alpha val="72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4"/>
          <p:cNvSpPr/>
          <p:nvPr/>
        </p:nvSpPr>
        <p:spPr>
          <a:xfrm>
            <a:off x="914400" y="3733920"/>
            <a:ext cx="685800" cy="685800"/>
          </a:xfrm>
          <a:prstGeom prst="ellipse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6"/>
          <p:cNvSpPr/>
          <p:nvPr/>
        </p:nvSpPr>
        <p:spPr>
          <a:xfrm>
            <a:off x="0" y="0"/>
            <a:ext cx="1523880" cy="14479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5"/>
          <p:cNvSpPr/>
          <p:nvPr/>
        </p:nvSpPr>
        <p:spPr>
          <a:xfrm>
            <a:off x="152280" y="152280"/>
            <a:ext cx="1219320" cy="1143000"/>
          </a:xfrm>
          <a:prstGeom prst="ellipse">
            <a:avLst/>
          </a:prstGeom>
          <a:solidFill>
            <a:srgbClr val="feb68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7"/>
          <p:cNvSpPr/>
          <p:nvPr/>
        </p:nvSpPr>
        <p:spPr>
          <a:xfrm>
            <a:off x="304920" y="304920"/>
            <a:ext cx="914400" cy="838080"/>
          </a:xfrm>
          <a:prstGeom prst="ellipse">
            <a:avLst/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6629400" y="380880"/>
            <a:ext cx="20829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05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люблю своего ребенка, потому что это МОЙ ребен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принимаю ребенка таким, какой он ес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Мой ребенок хороший, хотя и может иногда поступать плохо. Плох не ребенок, а поступ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верю в то, что у моего ребенка много достоинств, главное – их увиде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a160b"/>
                </a:solidFill>
                <a:latin typeface="Century Schoolbook"/>
              </a:rPr>
              <a:t>Я хочу, чтобы он нашел себя в жизн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5" name="AutoShape 4"/>
          <p:cNvGrpSpPr/>
          <p:nvPr/>
        </p:nvGrpSpPr>
        <p:grpSpPr>
          <a:xfrm>
            <a:off x="500040" y="195120"/>
            <a:ext cx="7680240" cy="1127160"/>
            <a:chOff x="500040" y="195120"/>
            <a:chExt cx="7680240" cy="1127160"/>
          </a:xfrm>
        </p:grpSpPr>
        <p:pic>
          <p:nvPicPr>
            <p:cNvPr id="386" name="AutoShape 4" descr=""/>
            <p:cNvPicPr/>
            <p:nvPr/>
          </p:nvPicPr>
          <p:blipFill>
            <a:blip r:embed="rId1"/>
            <a:stretch/>
          </p:blipFill>
          <p:spPr>
            <a:xfrm>
              <a:off x="500040" y="195120"/>
              <a:ext cx="76802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92080" y="384120"/>
              <a:ext cx="6902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a160b"/>
                  </a:solidFill>
                  <a:latin typeface="Bookman Old Style"/>
                </a:rPr>
                <a:t>Правил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a160b"/>
                  </a:solidFill>
                  <a:latin typeface="Bookman Old Style"/>
                </a:rPr>
                <a:t>безусловного при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AutoShape 4"/>
          <p:cNvGrpSpPr/>
          <p:nvPr/>
        </p:nvGrpSpPr>
        <p:grpSpPr>
          <a:xfrm>
            <a:off x="884160" y="500040"/>
            <a:ext cx="6991560" cy="743040"/>
            <a:chOff x="884160" y="500040"/>
            <a:chExt cx="6991560" cy="743040"/>
          </a:xfrm>
        </p:grpSpPr>
        <p:pic>
          <p:nvPicPr>
            <p:cNvPr id="390" name="AutoShape 4" descr=""/>
            <p:cNvPicPr/>
            <p:nvPr/>
          </p:nvPicPr>
          <p:blipFill>
            <a:blip r:embed="rId1"/>
            <a:stretch/>
          </p:blipFill>
          <p:spPr>
            <a:xfrm>
              <a:off x="884160" y="500040"/>
              <a:ext cx="69915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241280" y="633240"/>
              <a:ext cx="62802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4"/>
          <p:cNvSpPr/>
          <p:nvPr/>
        </p:nvSpPr>
        <p:spPr>
          <a:xfrm>
            <a:off x="1964160" y="6094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Ребенок ждет от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"/>
          <p:cNvSpPr/>
          <p:nvPr/>
        </p:nvSpPr>
        <p:spPr>
          <a:xfrm>
            <a:off x="609480" y="205740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AutoShape 4"/>
          <p:cNvGrpSpPr/>
          <p:nvPr/>
        </p:nvGrpSpPr>
        <p:grpSpPr>
          <a:xfrm>
            <a:off x="1414440" y="652320"/>
            <a:ext cx="5851440" cy="822600"/>
            <a:chOff x="1414440" y="652320"/>
            <a:chExt cx="5851440" cy="822600"/>
          </a:xfrm>
        </p:grpSpPr>
        <p:pic>
          <p:nvPicPr>
            <p:cNvPr id="396" name="AutoShape 4" descr=""/>
            <p:cNvPicPr/>
            <p:nvPr/>
          </p:nvPicPr>
          <p:blipFill>
            <a:blip r:embed="rId1"/>
            <a:stretch/>
          </p:blipFill>
          <p:spPr>
            <a:xfrm>
              <a:off x="1414440" y="652320"/>
              <a:ext cx="585144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720800" y="797040"/>
              <a:ext cx="52452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Упражнение «Хлопок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2" descr="C:\Users\User\Desktop\86754.png"/>
          <p:cNvPicPr/>
          <p:nvPr/>
        </p:nvPicPr>
        <p:blipFill>
          <a:blip r:embed="rId2"/>
          <a:stretch/>
        </p:blipFill>
        <p:spPr>
          <a:xfrm>
            <a:off x="205740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0492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</a:rPr>
              <a:t>Тактильный контакт – отличный способ установить психологическую связь с ребенком, который пока не понимает сл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Часто разговаривайте с ребен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Наблюдайте за поведением ребенка в любых ситуация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чите ребенка выражать свои мыс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</a:rPr>
              <a:t>Проявляйте психологическую гибкость, поощряйте детскую инициативу и не слишком ограничивайте самостоятельность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Доверяйте ребен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0" name="AutoShape 4"/>
          <p:cNvGrpSpPr/>
          <p:nvPr/>
        </p:nvGrpSpPr>
        <p:grpSpPr>
          <a:xfrm>
            <a:off x="884160" y="42840"/>
            <a:ext cx="6991560" cy="1047600"/>
            <a:chOff x="884160" y="42840"/>
            <a:chExt cx="6991560" cy="1047600"/>
          </a:xfrm>
        </p:grpSpPr>
        <p:pic>
          <p:nvPicPr>
            <p:cNvPr id="401" name="AutoShape 4" descr=""/>
            <p:cNvPicPr/>
            <p:nvPr/>
          </p:nvPicPr>
          <p:blipFill>
            <a:blip r:embed="rId1"/>
            <a:stretch/>
          </p:blipFill>
          <p:spPr>
            <a:xfrm>
              <a:off x="884160" y="42840"/>
              <a:ext cx="69915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241280" y="220680"/>
              <a:ext cx="628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Как научить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«понимать» ребенка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914400"/>
            <a:ext cx="746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Упражнение выполняется в форме беседы с ребенк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Категория вопросов может расширяться или менятьс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Bookman Old Style"/>
              </a:rPr>
              <a:t>Сначала родители  фиксируют свои ответы в бланке, а затем беседуют с ребенк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цвет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праздник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ая еда ребёнка 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ый школьный предмет ребёнка  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Имя лучшего друга (подруги) ребёнк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Любимая песня ребёнка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_________________________________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сле выполнения задания ответы сверяют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05" name="AutoShape 4"/>
          <p:cNvGrpSpPr/>
          <p:nvPr/>
        </p:nvGrpSpPr>
        <p:grpSpPr>
          <a:xfrm>
            <a:off x="804960" y="122400"/>
            <a:ext cx="6991200" cy="742680"/>
            <a:chOff x="804960" y="122400"/>
            <a:chExt cx="6991200" cy="742680"/>
          </a:xfrm>
        </p:grpSpPr>
        <p:pic>
          <p:nvPicPr>
            <p:cNvPr id="406" name="AutoShape 4" descr=""/>
            <p:cNvPicPr/>
            <p:nvPr/>
          </p:nvPicPr>
          <p:blipFill>
            <a:blip r:embed="rId1"/>
            <a:stretch/>
          </p:blipFill>
          <p:spPr>
            <a:xfrm>
              <a:off x="804960" y="122400"/>
              <a:ext cx="69912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65320" y="252360"/>
              <a:ext cx="62802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man Old Style"/>
                </a:rPr>
                <a:t>Упражнение «ЭКЗАМЕН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315200" y="5410080"/>
            <a:ext cx="1704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Рисунок 3" descr="C:\Users\User\Desktop\88.png"/>
          <p:cNvPicPr/>
          <p:nvPr/>
        </p:nvPicPr>
        <p:blipFill>
          <a:blip r:embed="rId1"/>
          <a:stretch/>
        </p:blipFill>
        <p:spPr>
          <a:xfrm>
            <a:off x="228600" y="457200"/>
            <a:ext cx="10666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10" name="AutoShape 4"/>
          <p:cNvGrpSpPr/>
          <p:nvPr/>
        </p:nvGrpSpPr>
        <p:grpSpPr>
          <a:xfrm>
            <a:off x="1719360" y="426960"/>
            <a:ext cx="6686280" cy="816120"/>
            <a:chOff x="1719360" y="426960"/>
            <a:chExt cx="6686280" cy="816120"/>
          </a:xfrm>
        </p:grpSpPr>
        <p:pic>
          <p:nvPicPr>
            <p:cNvPr id="411" name="AutoShape 4" descr=""/>
            <p:cNvPicPr/>
            <p:nvPr/>
          </p:nvPicPr>
          <p:blipFill>
            <a:blip r:embed="rId2"/>
            <a:stretch/>
          </p:blipFill>
          <p:spPr>
            <a:xfrm>
              <a:off x="1719360" y="426960"/>
              <a:ext cx="668628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065320" y="568440"/>
              <a:ext cx="6004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Притча о ПОНИМАН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6"/>
          <p:cNvSpPr/>
          <p:nvPr/>
        </p:nvSpPr>
        <p:spPr>
          <a:xfrm>
            <a:off x="152280" y="1828800"/>
            <a:ext cx="8534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Однажды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к мудрецу из далекой деревни пришли молодые лю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удрец, мы слышали, что ты даешь всем мудрые советы, указываешь правильный путь, открываешь истину. Помоги нам! Старшее поколение в нашей деревне перестало нас понимать, а с этим нам очень трудно жить. Что нам дел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удрец посмотрел на них и спрос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А на каком языке вы говор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Все молодое поколение говорит на тарабарс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А старшие жит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Задумались молодые люди и призна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Мы у них не спраш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— </a:t>
            </a:r>
            <a:r>
              <a:rPr b="0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Именно поэтому у вас получается их только слушать, но не сл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AutoShape 4"/>
          <p:cNvGrpSpPr/>
          <p:nvPr/>
        </p:nvGrpSpPr>
        <p:grpSpPr>
          <a:xfrm>
            <a:off x="1189080" y="195120"/>
            <a:ext cx="6607080" cy="669960"/>
            <a:chOff x="1189080" y="195120"/>
            <a:chExt cx="6607080" cy="669960"/>
          </a:xfrm>
        </p:grpSpPr>
        <p:pic>
          <p:nvPicPr>
            <p:cNvPr id="415" name="AutoShape 4" descr=""/>
            <p:cNvPicPr/>
            <p:nvPr/>
          </p:nvPicPr>
          <p:blipFill>
            <a:blip r:embed="rId1"/>
            <a:stretch/>
          </p:blipFill>
          <p:spPr>
            <a:xfrm>
              <a:off x="1189080" y="195120"/>
              <a:ext cx="6607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528920" y="317520"/>
              <a:ext cx="59338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4"/>
          <p:cNvSpPr/>
          <p:nvPr/>
        </p:nvSpPr>
        <p:spPr>
          <a:xfrm>
            <a:off x="2203200" y="3301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Ребенок ждет от родител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2"/>
          <p:cNvSpPr/>
          <p:nvPr/>
        </p:nvSpPr>
        <p:spPr>
          <a:xfrm>
            <a:off x="609480" y="167652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33520" y="228564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Уважать</a:t>
            </a:r>
            <a:r>
              <a:rPr b="0" lang="ru-RU" sz="32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ребенка</a:t>
            </a:r>
            <a:r>
              <a:rPr b="0" lang="ru-RU" sz="3200" spc="-1" strike="noStrike">
                <a:solidFill>
                  <a:srgbClr val="c00000"/>
                </a:solidFill>
                <a:latin typeface="Bookman Old Style"/>
              </a:rPr>
              <a:t> – </a:t>
            </a:r>
            <a:r>
              <a:rPr b="0" lang="ru-RU" sz="3200" spc="-1" strike="noStrike">
                <a:solidFill>
                  <a:srgbClr val="862110"/>
                </a:solidFill>
                <a:latin typeface="Bookman Old Style"/>
              </a:rPr>
              <a:t>это значит понимать его, прислушиваться к его мнению, к его желаниям, к его потребностя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1" name="AutoShape 4"/>
          <p:cNvGrpSpPr/>
          <p:nvPr/>
        </p:nvGrpSpPr>
        <p:grpSpPr>
          <a:xfrm>
            <a:off x="1798560" y="195120"/>
            <a:ext cx="6991560" cy="1170000"/>
            <a:chOff x="1798560" y="195120"/>
            <a:chExt cx="6991560" cy="1170000"/>
          </a:xfrm>
        </p:grpSpPr>
        <p:pic>
          <p:nvPicPr>
            <p:cNvPr id="422" name="AutoShape 4" descr=""/>
            <p:cNvPicPr/>
            <p:nvPr/>
          </p:nvPicPr>
          <p:blipFill>
            <a:blip r:embed="rId1"/>
            <a:stretch/>
          </p:blipFill>
          <p:spPr>
            <a:xfrm>
              <a:off x="1798560" y="195120"/>
              <a:ext cx="69915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2155680" y="390600"/>
              <a:ext cx="62802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  <a:ea typeface="Times New Roman"/>
                </a:rPr>
                <a:t>Что значит, «уважать»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4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C:\Users\User\Desktop\444.png"/>
          <p:cNvPicPr/>
          <p:nvPr/>
        </p:nvPicPr>
        <p:blipFill>
          <a:blip r:embed="rId3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User\Desktop\1234534.jpg"/>
          <p:cNvPicPr/>
          <p:nvPr/>
        </p:nvPicPr>
        <p:blipFill>
          <a:blip r:embed="rId4"/>
          <a:stretch/>
        </p:blipFill>
        <p:spPr>
          <a:xfrm>
            <a:off x="380880" y="304920"/>
            <a:ext cx="990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25160" indent="-42516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 вы считаете, что более приемлемо в проявлении уважительного отношения к ребенку –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контроль </a:t>
            </a: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или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доверие</a:t>
            </a: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AutoShape 4"/>
          <p:cNvGrpSpPr/>
          <p:nvPr/>
        </p:nvGrpSpPr>
        <p:grpSpPr>
          <a:xfrm>
            <a:off x="804960" y="152280"/>
            <a:ext cx="6991200" cy="865440"/>
            <a:chOff x="804960" y="152280"/>
            <a:chExt cx="6991200" cy="865440"/>
          </a:xfrm>
        </p:grpSpPr>
        <p:pic>
          <p:nvPicPr>
            <p:cNvPr id="431" name="AutoShape 4" descr=""/>
            <p:cNvPicPr/>
            <p:nvPr/>
          </p:nvPicPr>
          <p:blipFill>
            <a:blip r:embed="rId1"/>
            <a:stretch/>
          </p:blipFill>
          <p:spPr>
            <a:xfrm>
              <a:off x="804960" y="152280"/>
              <a:ext cx="699120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1165320" y="303120"/>
              <a:ext cx="62802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  <a:ea typeface="Times New Roman"/>
                </a:rPr>
                <a:t>«ЗОЛОТАЯ СЕРЕДИН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3" name=""/>
          <p:cNvGraphicFramePr/>
          <p:nvPr/>
        </p:nvGraphicFramePr>
        <p:xfrm>
          <a:off x="685800" y="2286000"/>
          <a:ext cx="7848720" cy="4267080"/>
        </p:xfrm>
        <a:graphic>
          <a:graphicData uri="http://schemas.openxmlformats.org/drawingml/2006/table">
            <a:tbl>
              <a:tblPr/>
              <a:tblGrid>
                <a:gridCol w="2178000"/>
                <a:gridCol w="567072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МОЖНО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вс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МОЖНО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с соблюдением определенных грани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НЕЛЬЗЯ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кроме особых обстоятель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Bookman Old Style"/>
                          <a:ea typeface="Times New Roman"/>
                        </a:rPr>
                        <a:t>НЕЛЬЗЯ</a:t>
                      </a:r>
                      <a:r>
                        <a:rPr b="1" lang="ru-RU" sz="2000" spc="-1" strike="noStrike">
                          <a:solidFill>
                            <a:srgbClr val="862110"/>
                          </a:solidFill>
                          <a:latin typeface="Bookman Old Style"/>
                          <a:ea typeface="Times New Roman"/>
                        </a:rPr>
                        <a:t> никог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862110"/>
                      </a:solidFill>
                    </a:lnL>
                    <a:lnR w="18720">
                      <a:solidFill>
                        <a:srgbClr val="862110"/>
                      </a:solidFill>
                    </a:lnR>
                    <a:lnT w="18720">
                      <a:solidFill>
                        <a:srgbClr val="862110"/>
                      </a:solidFill>
                    </a:lnT>
                    <a:lnB w="18720">
                      <a:solidFill>
                        <a:srgbClr val="86211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4" name="TextBox 9"/>
          <p:cNvSpPr/>
          <p:nvPr/>
        </p:nvSpPr>
        <p:spPr>
          <a:xfrm>
            <a:off x="152280" y="1219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1800" spc="-1" strike="noStrike">
                <a:solidFill>
                  <a:srgbClr val="c00000"/>
                </a:solidFill>
                <a:latin typeface="Bookman Old Style"/>
              </a:rPr>
              <a:t>Детям не только нужен порядок и правила, они хотят и ждут их! Это делает их жизнь понятной и предсказуемой, создает чувство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C:\Users\User\Desktop\43565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Прямоугольник 4"/>
          <p:cNvSpPr/>
          <p:nvPr/>
        </p:nvSpPr>
        <p:spPr>
          <a:xfrm>
            <a:off x="152280" y="28954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62110"/>
                </a:solidFill>
                <a:latin typeface="Bookman Old Style"/>
                <a:ea typeface="Times New Roman"/>
              </a:rPr>
              <a:t>Благодар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62110"/>
                </a:solidFill>
                <a:latin typeface="Bookman Old Style"/>
                <a:ea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609480" y="38088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entury Schoolbook"/>
              </a:rPr>
              <a:t>С целью получения обратной связи, прошу вас принять участие в голосовании и ответить на вопрос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15800" indent="-41580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Считаете ли вы данную информацию интересной и познавательной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-37944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 вы считаете, какая психологическая проблема лежит в основе этого мультфильма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62110"/>
                </a:solidFill>
                <a:latin typeface="Bookman Old Style"/>
              </a:rPr>
              <a:t>«РАЗНОЦВЕТНАЯ СЕМЬЯ»</a:t>
            </a:r>
            <a:br>
              <a:rPr sz="3000"/>
            </a:br>
            <a:r>
              <a:rPr b="0" lang="ru-RU" sz="3000" spc="-1" strike="noStrike">
                <a:solidFill>
                  <a:srgbClr val="862110"/>
                </a:solidFill>
                <a:latin typeface="Bookman Old Style"/>
              </a:rPr>
              <a:t>СКАЗ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C:\Users\User\Desktop\1234.jpg"/>
          <p:cNvPicPr/>
          <p:nvPr/>
        </p:nvPicPr>
        <p:blipFill>
          <a:blip r:embed="rId1"/>
          <a:stretch/>
        </p:blipFill>
        <p:spPr>
          <a:xfrm>
            <a:off x="2362320" y="1371600"/>
            <a:ext cx="6324480" cy="5257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User\Desktop\5436.jpg"/>
          <p:cNvPicPr/>
          <p:nvPr/>
        </p:nvPicPr>
        <p:blipFill>
          <a:blip r:embed="rId2"/>
          <a:srcRect l="29175" t="12506" r="25011" b="12506"/>
          <a:stretch/>
        </p:blipFill>
        <p:spPr>
          <a:xfrm>
            <a:off x="1371600" y="3048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75960" y="0"/>
            <a:ext cx="87627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862110"/>
                </a:solidFill>
                <a:latin typeface="Bookman Old Style"/>
              </a:rPr>
              <a:t>В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 одной коробке с карандашами родился маленький карандашик. Взрослые карандаши — мама, папа, бабушка и дедушка — были цветными. Причем у каждого из них был свой цвет. Маленький карандашик еще не имел своего цвета, ему предстояло стать цветны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Каждый день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синяя мама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 учила его, как стать сини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Bookman Old Style"/>
              </a:rPr>
              <a:t>Красный папа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— как окраситься в красный цвет, потому что его выбирают чаще всего, рисуя прекрасные карти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	</a:t>
            </a:r>
            <a:r>
              <a:rPr b="1" lang="ru-RU" sz="2400" spc="-1" strike="noStrike">
                <a:solidFill>
                  <a:srgbClr val="ffe636"/>
                </a:solidFill>
                <a:latin typeface="Bookman Old Style"/>
              </a:rPr>
              <a:t>Желтый дед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спорил со всеми, говоря о важности желтого цвета, а </a:t>
            </a:r>
            <a:r>
              <a:rPr b="1" lang="ru-RU" sz="2400" spc="-1" strike="noStrike">
                <a:solidFill>
                  <a:srgbClr val="00b050"/>
                </a:solidFill>
                <a:latin typeface="Bookman Old Style"/>
              </a:rPr>
              <a:t>зеленая бабушка </a:t>
            </a: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брала внука за руку, и на какое-то мгновение он зелене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Bookman Old Style"/>
              </a:rPr>
              <a:t>Так проходил день за дн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28600" y="8377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entury Schoolbook"/>
              </a:rPr>
              <a:t>Вопрос: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2520" indent="-45252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2110"/>
                </a:solidFill>
                <a:latin typeface="Century Schoolbook"/>
              </a:rPr>
              <a:t>Каким цветом станет маленький карандашик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10" descr="C:\Users\User\Desktop\444.png"/>
          <p:cNvPicPr/>
          <p:nvPr/>
        </p:nvPicPr>
        <p:blipFill>
          <a:blip r:embed="rId1"/>
          <a:stretch/>
        </p:blipFill>
        <p:spPr>
          <a:xfrm>
            <a:off x="7161120" y="5334120"/>
            <a:ext cx="1703520" cy="1371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7162920" y="5334120"/>
            <a:ext cx="1703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AutoShape 4"/>
          <p:cNvGrpSpPr/>
          <p:nvPr/>
        </p:nvGrpSpPr>
        <p:grpSpPr>
          <a:xfrm>
            <a:off x="828720" y="195120"/>
            <a:ext cx="6986520" cy="1279800"/>
            <a:chOff x="828720" y="195120"/>
            <a:chExt cx="6986520" cy="1279800"/>
          </a:xfrm>
        </p:grpSpPr>
        <p:pic>
          <p:nvPicPr>
            <p:cNvPr id="371" name="AutoShape 4" descr=""/>
            <p:cNvPicPr/>
            <p:nvPr/>
          </p:nvPicPr>
          <p:blipFill>
            <a:blip r:embed="rId1"/>
            <a:stretch/>
          </p:blipFill>
          <p:spPr>
            <a:xfrm>
              <a:off x="828720" y="195120"/>
              <a:ext cx="698652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184400" y="406440"/>
              <a:ext cx="6280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Box 4"/>
          <p:cNvSpPr/>
          <p:nvPr/>
        </p:nvSpPr>
        <p:spPr>
          <a:xfrm>
            <a:off x="2138040" y="330120"/>
            <a:ext cx="38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Чего же ребенок жд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160b"/>
                </a:solidFill>
                <a:latin typeface="Bookman Old Style"/>
                <a:ea typeface="Calibri"/>
              </a:rPr>
              <a:t>от р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2"/>
          <p:cNvSpPr/>
          <p:nvPr/>
        </p:nvSpPr>
        <p:spPr>
          <a:xfrm>
            <a:off x="609480" y="2057400"/>
            <a:ext cx="80773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Безусловного при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Поним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5a160b"/>
                </a:solidFill>
                <a:latin typeface="Bookman Old Style"/>
                <a:ea typeface="Times New Roman"/>
              </a:rPr>
              <a:t>Ув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0" descr="C:\Users\User\Desktop\444.png"/>
          <p:cNvPicPr/>
          <p:nvPr/>
        </p:nvPicPr>
        <p:blipFill>
          <a:blip r:embed="rId2"/>
          <a:stretch/>
        </p:blipFill>
        <p:spPr>
          <a:xfrm>
            <a:off x="6970680" y="5181480"/>
            <a:ext cx="189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AutoShape 4"/>
          <p:cNvGrpSpPr/>
          <p:nvPr/>
        </p:nvGrpSpPr>
        <p:grpSpPr>
          <a:xfrm>
            <a:off x="652320" y="2408400"/>
            <a:ext cx="7680600" cy="1504800"/>
            <a:chOff x="652320" y="2408400"/>
            <a:chExt cx="7680600" cy="1504800"/>
          </a:xfrm>
        </p:grpSpPr>
        <p:pic>
          <p:nvPicPr>
            <p:cNvPr id="377" name="AutoShape 4" descr=""/>
            <p:cNvPicPr/>
            <p:nvPr/>
          </p:nvPicPr>
          <p:blipFill>
            <a:blip r:embed="rId1"/>
            <a:stretch/>
          </p:blipFill>
          <p:spPr>
            <a:xfrm>
              <a:off x="652320" y="2408400"/>
              <a:ext cx="76806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44720" y="2651040"/>
              <a:ext cx="690228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Bookman Old Style"/>
                </a:rPr>
                <a:t>Что значит,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Bookman Old Style"/>
                </a:rPr>
                <a:t>«безусловное принятие»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1920" y="12189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1600" spc="-1" strike="noStrike">
                <a:solidFill>
                  <a:srgbClr val="5a160b"/>
                </a:solidFill>
                <a:latin typeface="Century Schoolbook"/>
              </a:rPr>
              <a:t>Жила-была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 пожилая китайская женщина, у которой было два больших кувшина. Они свешивались по концам коромысла, лежащего у неё на плече. У одного из них была трещина, в то время как другой был безупречным и всегда вмещал в себя полную порцию воды. В конце длинного пути от реки к дому старой женщины кувшин с трещиной всегда оставался заполненным лишь наполовину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В течение двух лет это происходило каждый день: старая женщина приносила домой всегда только полтора кувшина воды. Безупречно целый кувшин был очень горд своей работой, а бедный кувшин с трещиной стыдился своего недостатка и был расстроен, что он может делать только половину того, для чего он был сделан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Спустя два года кувшин обратился к женщине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- Мне стыдно из-за моей трещины, из которой всю дорогу к твоему дому бежит вода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	</a:t>
            </a: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Женщина усмехнулась: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Ты заметил, что на твоей стороне дорожки растут цветы, а на стороне другого кувшина – нет? На твоей стороне дорожки я посеяла семена цветов, потому что знала о твоём недостатке. Так что ты поливаешь их каждый день, когда мы идём домой. Два года я могла любоваться этими чудесными цветами и украшать ими свой до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160b"/>
                </a:solidFill>
                <a:latin typeface="Century Schoolbook"/>
              </a:rPr>
              <a:t>ЕСЛИ БЫ ТЫ НЕ БЫЛ ТАКИМ, КАКОЙ ТЫ ЕСТЬ, ТО ЭТОЙ КРАСОТЫ НЕ БЫЛО БЫ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80" name="AutoShape 4"/>
          <p:cNvGrpSpPr/>
          <p:nvPr/>
        </p:nvGrpSpPr>
        <p:grpSpPr>
          <a:xfrm>
            <a:off x="2176560" y="195120"/>
            <a:ext cx="5467320" cy="852480"/>
            <a:chOff x="2176560" y="195120"/>
            <a:chExt cx="5467320" cy="852480"/>
          </a:xfrm>
        </p:grpSpPr>
        <p:pic>
          <p:nvPicPr>
            <p:cNvPr id="381" name="AutoShape 4" descr=""/>
            <p:cNvPicPr/>
            <p:nvPr/>
          </p:nvPicPr>
          <p:blipFill>
            <a:blip r:embed="rId1"/>
            <a:stretch/>
          </p:blipFill>
          <p:spPr>
            <a:xfrm>
              <a:off x="2176560" y="195120"/>
              <a:ext cx="546732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465280" y="344520"/>
              <a:ext cx="4899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5a160b"/>
                  </a:solidFill>
                  <a:latin typeface="Bookman Old Style"/>
                </a:rPr>
                <a:t>ПРИТЧА «КУВШИН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2" descr="C:\Users\User\Desktop\222222.jpg"/>
          <p:cNvPicPr/>
          <p:nvPr/>
        </p:nvPicPr>
        <p:blipFill>
          <a:blip r:embed="rId2"/>
          <a:srcRect l="21861" t="21886" r="25389" b="14016"/>
          <a:stretch/>
        </p:blipFill>
        <p:spPr>
          <a:xfrm>
            <a:off x="228600" y="152280"/>
            <a:ext cx="108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5-07T04:45:25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