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96160" cy="6035760"/>
          </a:xfrm>
          <a:custGeom>
            <a:avLst/>
            <a:gdLst/>
            <a:ahLst/>
            <a:rect l="l" t="t" r="r" b="b"/>
            <a:pathLst>
              <a:path w="24157" h="16767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7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  <a:lnTo>
                  <a:pt x="0" y="16553"/>
                </a:lnTo>
                <a:lnTo>
                  <a:pt x="0" y="16554"/>
                </a:lnTo>
                <a:cubicBezTo>
                  <a:pt x="0" y="16591"/>
                  <a:pt x="10" y="16628"/>
                  <a:pt x="29" y="16660"/>
                </a:cubicBezTo>
                <a:cubicBezTo>
                  <a:pt x="47" y="16693"/>
                  <a:pt x="74" y="16720"/>
                  <a:pt x="107" y="16738"/>
                </a:cubicBezTo>
                <a:cubicBezTo>
                  <a:pt x="139" y="16757"/>
                  <a:pt x="176" y="16767"/>
                  <a:pt x="213" y="16767"/>
                </a:cubicBezTo>
                <a:lnTo>
                  <a:pt x="23943" y="16767"/>
                </a:lnTo>
                <a:lnTo>
                  <a:pt x="23944" y="16767"/>
                </a:lnTo>
                <a:cubicBezTo>
                  <a:pt x="23981" y="16767"/>
                  <a:pt x="24018" y="16757"/>
                  <a:pt x="24050" y="16738"/>
                </a:cubicBezTo>
                <a:cubicBezTo>
                  <a:pt x="24083" y="16720"/>
                  <a:pt x="24110" y="16693"/>
                  <a:pt x="24128" y="16660"/>
                </a:cubicBezTo>
                <a:cubicBezTo>
                  <a:pt x="24147" y="16628"/>
                  <a:pt x="24157" y="16591"/>
                  <a:pt x="24157" y="16554"/>
                </a:cubicBezTo>
                <a:lnTo>
                  <a:pt x="24156" y="213"/>
                </a:lnTo>
                <a:lnTo>
                  <a:pt x="24157" y="213"/>
                </a:lnTo>
                <a:lnTo>
                  <a:pt x="24157" y="213"/>
                </a:lnTo>
                <a:cubicBezTo>
                  <a:pt x="24157" y="176"/>
                  <a:pt x="24147" y="139"/>
                  <a:pt x="24128" y="107"/>
                </a:cubicBezTo>
                <a:cubicBezTo>
                  <a:pt x="24110" y="74"/>
                  <a:pt x="24083" y="47"/>
                  <a:pt x="24050" y="29"/>
                </a:cubicBezTo>
                <a:cubicBezTo>
                  <a:pt x="24018" y="10"/>
                  <a:pt x="23981" y="0"/>
                  <a:pt x="23944" y="0"/>
                </a:cubicBezTo>
                <a:lnTo>
                  <a:pt x="213" y="0"/>
                </a:lnTo>
              </a:path>
            </a:pathLst>
          </a:cu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10960" y="5354640"/>
            <a:ext cx="8722080" cy="1328760"/>
            <a:chOff x="210960" y="5354640"/>
            <a:chExt cx="8722080" cy="1328760"/>
          </a:xfrm>
        </p:grpSpPr>
        <p:sp>
          <p:nvSpPr>
            <p:cNvPr id="2" name=""/>
            <p:cNvSpPr/>
            <p:nvPr/>
          </p:nvSpPr>
          <p:spPr>
            <a:xfrm>
              <a:off x="6054840" y="5499000"/>
              <a:ext cx="2878200" cy="712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622600" y="5372280"/>
              <a:ext cx="5549760" cy="8474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832120" y="5383080"/>
              <a:ext cx="5472000" cy="77328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16720" y="5370480"/>
              <a:ext cx="3309840" cy="64944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10960" y="5354640"/>
              <a:ext cx="872208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8696160" cy="2468520"/>
          </a:xfrm>
          <a:custGeom>
            <a:avLst/>
            <a:gdLst/>
            <a:ahLst/>
            <a:rect l="l" t="t" r="r" b="b"/>
            <a:pathLst>
              <a:path w="24157" h="6858">
                <a:moveTo>
                  <a:pt x="230" y="0"/>
                </a:moveTo>
                <a:lnTo>
                  <a:pt x="231" y="0"/>
                </a:lnTo>
                <a:cubicBezTo>
                  <a:pt x="190" y="0"/>
                  <a:pt x="150" y="11"/>
                  <a:pt x="115" y="31"/>
                </a:cubicBezTo>
                <a:cubicBezTo>
                  <a:pt x="80" y="51"/>
                  <a:pt x="51" y="80"/>
                  <a:pt x="31" y="115"/>
                </a:cubicBezTo>
                <a:cubicBezTo>
                  <a:pt x="11" y="150"/>
                  <a:pt x="0" y="190"/>
                  <a:pt x="0" y="231"/>
                </a:cubicBezTo>
                <a:lnTo>
                  <a:pt x="0" y="6627"/>
                </a:lnTo>
                <a:lnTo>
                  <a:pt x="0" y="6627"/>
                </a:lnTo>
                <a:cubicBezTo>
                  <a:pt x="0" y="6668"/>
                  <a:pt x="11" y="6708"/>
                  <a:pt x="31" y="6743"/>
                </a:cubicBezTo>
                <a:cubicBezTo>
                  <a:pt x="51" y="6778"/>
                  <a:pt x="80" y="6807"/>
                  <a:pt x="115" y="6827"/>
                </a:cubicBezTo>
                <a:cubicBezTo>
                  <a:pt x="150" y="6847"/>
                  <a:pt x="190" y="6858"/>
                  <a:pt x="231" y="6858"/>
                </a:cubicBezTo>
                <a:lnTo>
                  <a:pt x="23926" y="6858"/>
                </a:lnTo>
                <a:lnTo>
                  <a:pt x="23926" y="6858"/>
                </a:lnTo>
                <a:cubicBezTo>
                  <a:pt x="23967" y="6858"/>
                  <a:pt x="24007" y="6847"/>
                  <a:pt x="24042" y="6827"/>
                </a:cubicBezTo>
                <a:cubicBezTo>
                  <a:pt x="24077" y="6807"/>
                  <a:pt x="24106" y="6778"/>
                  <a:pt x="24126" y="6743"/>
                </a:cubicBezTo>
                <a:cubicBezTo>
                  <a:pt x="24146" y="6708"/>
                  <a:pt x="24157" y="6668"/>
                  <a:pt x="24157" y="6627"/>
                </a:cubicBezTo>
                <a:lnTo>
                  <a:pt x="24156" y="230"/>
                </a:lnTo>
                <a:lnTo>
                  <a:pt x="24157" y="231"/>
                </a:lnTo>
                <a:lnTo>
                  <a:pt x="24157" y="231"/>
                </a:lnTo>
                <a:cubicBezTo>
                  <a:pt x="24157" y="190"/>
                  <a:pt x="24146" y="150"/>
                  <a:pt x="24126" y="115"/>
                </a:cubicBezTo>
                <a:cubicBezTo>
                  <a:pt x="24106" y="80"/>
                  <a:pt x="24077" y="51"/>
                  <a:pt x="24042" y="31"/>
                </a:cubicBezTo>
                <a:cubicBezTo>
                  <a:pt x="24007" y="11"/>
                  <a:pt x="23967" y="0"/>
                  <a:pt x="23926" y="0"/>
                </a:cubicBezTo>
                <a:lnTo>
                  <a:pt x="230" y="0"/>
                </a:lnTo>
              </a:path>
            </a:pathLst>
          </a:cu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10960" y="1679400"/>
            <a:ext cx="8722080" cy="1328760"/>
            <a:chOff x="210960" y="1679400"/>
            <a:chExt cx="8722080" cy="1328760"/>
          </a:xfrm>
        </p:grpSpPr>
        <p:sp>
          <p:nvSpPr>
            <p:cNvPr id="47" name=""/>
            <p:cNvSpPr/>
            <p:nvPr/>
          </p:nvSpPr>
          <p:spPr>
            <a:xfrm>
              <a:off x="6046920" y="1824120"/>
              <a:ext cx="2874960" cy="7128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19360" y="1697040"/>
              <a:ext cx="5541840" cy="8478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28880" y="1708200"/>
              <a:ext cx="5465880" cy="7729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08800" y="1695600"/>
              <a:ext cx="3306600" cy="6490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0960" y="1679400"/>
              <a:ext cx="8722080" cy="13287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авайте знакомитьс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557360"/>
            <a:ext cx="3960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Фаррахова Лейсан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ученица 8 класса «Девятернинской ООШ им.Л.Айтуганова АМР Р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74508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2276640"/>
            <a:ext cx="2017800" cy="761760"/>
          </a:xfrm>
          <a:custGeom>
            <a:avLst/>
            <a:gdLst/>
            <a:ahLst/>
            <a:rect l="l" t="t" r="r" b="b"/>
            <a:pathLst>
              <a:path w="5606" h="2117">
                <a:moveTo>
                  <a:pt x="352" y="0"/>
                </a:moveTo>
                <a:lnTo>
                  <a:pt x="353" y="0"/>
                </a:lnTo>
                <a:cubicBezTo>
                  <a:pt x="291" y="0"/>
                  <a:pt x="230" y="16"/>
                  <a:pt x="176" y="47"/>
                </a:cubicBezTo>
                <a:cubicBezTo>
                  <a:pt x="123" y="78"/>
                  <a:pt x="78" y="123"/>
                  <a:pt x="47" y="176"/>
                </a:cubicBezTo>
                <a:cubicBezTo>
                  <a:pt x="16" y="230"/>
                  <a:pt x="0" y="291"/>
                  <a:pt x="0" y="353"/>
                </a:cubicBezTo>
                <a:lnTo>
                  <a:pt x="0" y="1764"/>
                </a:lnTo>
                <a:lnTo>
                  <a:pt x="0" y="1764"/>
                </a:lnTo>
                <a:cubicBezTo>
                  <a:pt x="0" y="1826"/>
                  <a:pt x="16" y="1887"/>
                  <a:pt x="47" y="1941"/>
                </a:cubicBezTo>
                <a:cubicBezTo>
                  <a:pt x="78" y="1994"/>
                  <a:pt x="123" y="2039"/>
                  <a:pt x="176" y="2070"/>
                </a:cubicBezTo>
                <a:cubicBezTo>
                  <a:pt x="230" y="2101"/>
                  <a:pt x="291" y="2117"/>
                  <a:pt x="353" y="2117"/>
                </a:cubicBezTo>
                <a:lnTo>
                  <a:pt x="5253" y="2117"/>
                </a:lnTo>
                <a:lnTo>
                  <a:pt x="5253" y="2117"/>
                </a:lnTo>
                <a:cubicBezTo>
                  <a:pt x="5315" y="2117"/>
                  <a:pt x="5376" y="2101"/>
                  <a:pt x="5430" y="2070"/>
                </a:cubicBezTo>
                <a:cubicBezTo>
                  <a:pt x="5483" y="2039"/>
                  <a:pt x="5528" y="1994"/>
                  <a:pt x="5559" y="1941"/>
                </a:cubicBezTo>
                <a:cubicBezTo>
                  <a:pt x="5590" y="1887"/>
                  <a:pt x="5606" y="1826"/>
                  <a:pt x="5606" y="1764"/>
                </a:cubicBezTo>
                <a:lnTo>
                  <a:pt x="5606" y="352"/>
                </a:lnTo>
                <a:lnTo>
                  <a:pt x="5606" y="353"/>
                </a:lnTo>
                <a:lnTo>
                  <a:pt x="5606" y="353"/>
                </a:lnTo>
                <a:cubicBezTo>
                  <a:pt x="5606" y="291"/>
                  <a:pt x="5590" y="230"/>
                  <a:pt x="5559" y="176"/>
                </a:cubicBezTo>
                <a:cubicBezTo>
                  <a:pt x="5528" y="123"/>
                  <a:pt x="5483" y="78"/>
                  <a:pt x="5430" y="47"/>
                </a:cubicBezTo>
                <a:cubicBezTo>
                  <a:pt x="5376" y="16"/>
                  <a:pt x="5315" y="0"/>
                  <a:pt x="5253" y="0"/>
                </a:cubicBezTo>
                <a:lnTo>
                  <a:pt x="352" y="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Сти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2708280"/>
            <a:ext cx="2303640" cy="1728720"/>
          </a:xfrm>
          <a:custGeom>
            <a:avLst/>
            <a:gdLst/>
            <a:ahLst/>
            <a:rect l="l" t="t" r="r" b="b"/>
            <a:pathLst>
              <a:path w="3200" h="2401">
                <a:moveTo>
                  <a:pt x="0" y="2401"/>
                </a:moveTo>
                <a:lnTo>
                  <a:pt x="3200" y="2401"/>
                </a:lnTo>
                <a:lnTo>
                  <a:pt x="180" y="90"/>
                </a:lnTo>
                <a:lnTo>
                  <a:pt x="3200" y="2401"/>
                </a:lnTo>
                <a:lnTo>
                  <a:pt x="270" y="90"/>
                </a:lnTo>
                <a:close/>
              </a:path>
            </a:pathLst>
          </a:custGeom>
          <a:solidFill>
            <a:srgbClr val="e5b8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  <a:ea typeface="DejaVu Sans"/>
              </a:rPr>
              <a:t>Снегов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1628640"/>
            <a:ext cx="2303640" cy="600120"/>
          </a:xfrm>
          <a:prstGeom prst="rect">
            <a:avLst/>
          </a:prstGeom>
          <a:solidFill>
            <a:srgbClr val="b8cc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ndara"/>
                <a:ea typeface="DejaVu Sans"/>
              </a:rPr>
              <a:t>Должен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ndara"/>
              </a:rPr>
              <a:t>Требования к издел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2276640"/>
            <a:ext cx="1774800" cy="761760"/>
          </a:xfrm>
          <a:custGeom>
            <a:avLst/>
            <a:gdLst/>
            <a:ahLst/>
            <a:rect l="l" t="t" r="r" b="b"/>
            <a:pathLst>
              <a:path w="4931" h="2117">
                <a:moveTo>
                  <a:pt x="352" y="0"/>
                </a:moveTo>
                <a:lnTo>
                  <a:pt x="353" y="0"/>
                </a:lnTo>
                <a:cubicBezTo>
                  <a:pt x="291" y="0"/>
                  <a:pt x="230" y="16"/>
                  <a:pt x="176" y="47"/>
                </a:cubicBezTo>
                <a:cubicBezTo>
                  <a:pt x="123" y="78"/>
                  <a:pt x="78" y="123"/>
                  <a:pt x="47" y="176"/>
                </a:cubicBezTo>
                <a:cubicBezTo>
                  <a:pt x="16" y="230"/>
                  <a:pt x="0" y="291"/>
                  <a:pt x="0" y="353"/>
                </a:cubicBezTo>
                <a:lnTo>
                  <a:pt x="0" y="1764"/>
                </a:lnTo>
                <a:lnTo>
                  <a:pt x="0" y="1764"/>
                </a:lnTo>
                <a:cubicBezTo>
                  <a:pt x="0" y="1826"/>
                  <a:pt x="16" y="1887"/>
                  <a:pt x="47" y="1941"/>
                </a:cubicBezTo>
                <a:cubicBezTo>
                  <a:pt x="78" y="1994"/>
                  <a:pt x="123" y="2039"/>
                  <a:pt x="176" y="2070"/>
                </a:cubicBezTo>
                <a:cubicBezTo>
                  <a:pt x="230" y="2101"/>
                  <a:pt x="291" y="2117"/>
                  <a:pt x="353" y="2117"/>
                </a:cubicBezTo>
                <a:lnTo>
                  <a:pt x="4578" y="2117"/>
                </a:lnTo>
                <a:lnTo>
                  <a:pt x="4578" y="2117"/>
                </a:lnTo>
                <a:cubicBezTo>
                  <a:pt x="4640" y="2117"/>
                  <a:pt x="4701" y="2101"/>
                  <a:pt x="4755" y="2070"/>
                </a:cubicBezTo>
                <a:cubicBezTo>
                  <a:pt x="4808" y="2039"/>
                  <a:pt x="4853" y="1994"/>
                  <a:pt x="4884" y="1941"/>
                </a:cubicBezTo>
                <a:cubicBezTo>
                  <a:pt x="4915" y="1887"/>
                  <a:pt x="4931" y="1826"/>
                  <a:pt x="4931" y="1764"/>
                </a:cubicBezTo>
                <a:lnTo>
                  <a:pt x="4931" y="352"/>
                </a:lnTo>
                <a:lnTo>
                  <a:pt x="4931" y="353"/>
                </a:lnTo>
                <a:lnTo>
                  <a:pt x="4931" y="353"/>
                </a:lnTo>
                <a:cubicBezTo>
                  <a:pt x="4931" y="291"/>
                  <a:pt x="4915" y="230"/>
                  <a:pt x="4884" y="176"/>
                </a:cubicBezTo>
                <a:cubicBezTo>
                  <a:pt x="4853" y="123"/>
                  <a:pt x="4808" y="78"/>
                  <a:pt x="4755" y="47"/>
                </a:cubicBezTo>
                <a:cubicBezTo>
                  <a:pt x="4701" y="16"/>
                  <a:pt x="4640" y="0"/>
                  <a:pt x="4578" y="0"/>
                </a:cubicBezTo>
                <a:lnTo>
                  <a:pt x="352" y="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Проч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3789360"/>
            <a:ext cx="1944720" cy="762120"/>
          </a:xfrm>
          <a:custGeom>
            <a:avLst/>
            <a:gdLst/>
            <a:ahLst/>
            <a:rect l="l" t="t" r="r" b="b"/>
            <a:pathLst>
              <a:path w="5403" h="2118">
                <a:moveTo>
                  <a:pt x="353" y="0"/>
                </a:moveTo>
                <a:lnTo>
                  <a:pt x="353" y="0"/>
                </a:lnTo>
                <a:cubicBezTo>
                  <a:pt x="291" y="0"/>
                  <a:pt x="230" y="16"/>
                  <a:pt x="177" y="47"/>
                </a:cubicBezTo>
                <a:cubicBezTo>
                  <a:pt x="123" y="78"/>
                  <a:pt x="78" y="123"/>
                  <a:pt x="47" y="177"/>
                </a:cubicBezTo>
                <a:cubicBezTo>
                  <a:pt x="16" y="230"/>
                  <a:pt x="0" y="291"/>
                  <a:pt x="0" y="353"/>
                </a:cubicBezTo>
                <a:lnTo>
                  <a:pt x="0" y="1765"/>
                </a:lnTo>
                <a:lnTo>
                  <a:pt x="0" y="1765"/>
                </a:lnTo>
                <a:cubicBezTo>
                  <a:pt x="0" y="1827"/>
                  <a:pt x="16" y="1888"/>
                  <a:pt x="47" y="1942"/>
                </a:cubicBezTo>
                <a:cubicBezTo>
                  <a:pt x="78" y="1995"/>
                  <a:pt x="123" y="2040"/>
                  <a:pt x="177" y="2071"/>
                </a:cubicBezTo>
                <a:cubicBezTo>
                  <a:pt x="230" y="2102"/>
                  <a:pt x="291" y="2118"/>
                  <a:pt x="353" y="2118"/>
                </a:cubicBezTo>
                <a:lnTo>
                  <a:pt x="5050" y="2118"/>
                </a:lnTo>
                <a:lnTo>
                  <a:pt x="5050" y="2118"/>
                </a:lnTo>
                <a:cubicBezTo>
                  <a:pt x="5112" y="2118"/>
                  <a:pt x="5173" y="2102"/>
                  <a:pt x="5227" y="2071"/>
                </a:cubicBezTo>
                <a:cubicBezTo>
                  <a:pt x="5280" y="2040"/>
                  <a:pt x="5325" y="1995"/>
                  <a:pt x="5356" y="1942"/>
                </a:cubicBezTo>
                <a:cubicBezTo>
                  <a:pt x="5387" y="1888"/>
                  <a:pt x="5403" y="1827"/>
                  <a:pt x="5403" y="1765"/>
                </a:cubicBezTo>
                <a:lnTo>
                  <a:pt x="5403" y="353"/>
                </a:lnTo>
                <a:lnTo>
                  <a:pt x="5403" y="353"/>
                </a:lnTo>
                <a:lnTo>
                  <a:pt x="5403" y="353"/>
                </a:lnTo>
                <a:cubicBezTo>
                  <a:pt x="5403" y="291"/>
                  <a:pt x="5387" y="230"/>
                  <a:pt x="5356" y="177"/>
                </a:cubicBezTo>
                <a:cubicBezTo>
                  <a:pt x="5325" y="123"/>
                  <a:pt x="5280" y="78"/>
                  <a:pt x="5227" y="47"/>
                </a:cubicBezTo>
                <a:cubicBezTo>
                  <a:pt x="5173" y="16"/>
                  <a:pt x="5112" y="0"/>
                  <a:pt x="5050" y="0"/>
                </a:cubicBezTo>
                <a:lnTo>
                  <a:pt x="353" y="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Краси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157720"/>
            <a:ext cx="2160360" cy="762120"/>
          </a:xfrm>
          <a:custGeom>
            <a:avLst/>
            <a:gdLst/>
            <a:ahLst/>
            <a:rect l="l" t="t" r="r" b="b"/>
            <a:pathLst>
              <a:path w="6002" h="2118">
                <a:moveTo>
                  <a:pt x="353" y="0"/>
                </a:moveTo>
                <a:lnTo>
                  <a:pt x="353" y="0"/>
                </a:lnTo>
                <a:cubicBezTo>
                  <a:pt x="291" y="0"/>
                  <a:pt x="230" y="16"/>
                  <a:pt x="177" y="47"/>
                </a:cubicBezTo>
                <a:cubicBezTo>
                  <a:pt x="123" y="78"/>
                  <a:pt x="78" y="123"/>
                  <a:pt x="47" y="177"/>
                </a:cubicBezTo>
                <a:cubicBezTo>
                  <a:pt x="16" y="230"/>
                  <a:pt x="0" y="291"/>
                  <a:pt x="0" y="353"/>
                </a:cubicBezTo>
                <a:lnTo>
                  <a:pt x="0" y="1765"/>
                </a:lnTo>
                <a:lnTo>
                  <a:pt x="0" y="1765"/>
                </a:lnTo>
                <a:cubicBezTo>
                  <a:pt x="0" y="1827"/>
                  <a:pt x="16" y="1888"/>
                  <a:pt x="47" y="1942"/>
                </a:cubicBezTo>
                <a:cubicBezTo>
                  <a:pt x="78" y="1995"/>
                  <a:pt x="123" y="2040"/>
                  <a:pt x="177" y="2071"/>
                </a:cubicBezTo>
                <a:cubicBezTo>
                  <a:pt x="230" y="2102"/>
                  <a:pt x="291" y="2118"/>
                  <a:pt x="353" y="2118"/>
                </a:cubicBezTo>
                <a:lnTo>
                  <a:pt x="5649" y="2118"/>
                </a:lnTo>
                <a:lnTo>
                  <a:pt x="5649" y="2118"/>
                </a:lnTo>
                <a:cubicBezTo>
                  <a:pt x="5711" y="2118"/>
                  <a:pt x="5772" y="2102"/>
                  <a:pt x="5826" y="2071"/>
                </a:cubicBezTo>
                <a:cubicBezTo>
                  <a:pt x="5879" y="2040"/>
                  <a:pt x="5924" y="1995"/>
                  <a:pt x="5955" y="1942"/>
                </a:cubicBezTo>
                <a:cubicBezTo>
                  <a:pt x="5986" y="1888"/>
                  <a:pt x="6002" y="1827"/>
                  <a:pt x="6002" y="1765"/>
                </a:cubicBezTo>
                <a:lnTo>
                  <a:pt x="6002" y="353"/>
                </a:lnTo>
                <a:lnTo>
                  <a:pt x="6002" y="353"/>
                </a:lnTo>
                <a:lnTo>
                  <a:pt x="6002" y="353"/>
                </a:lnTo>
                <a:cubicBezTo>
                  <a:pt x="6002" y="291"/>
                  <a:pt x="5986" y="230"/>
                  <a:pt x="5955" y="177"/>
                </a:cubicBezTo>
                <a:cubicBezTo>
                  <a:pt x="5924" y="123"/>
                  <a:pt x="5879" y="78"/>
                  <a:pt x="5826" y="47"/>
                </a:cubicBezTo>
                <a:cubicBezTo>
                  <a:pt x="5772" y="16"/>
                  <a:pt x="5711" y="0"/>
                  <a:pt x="5649" y="0"/>
                </a:cubicBezTo>
                <a:lnTo>
                  <a:pt x="353" y="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Современ-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5157720"/>
            <a:ext cx="2232000" cy="762120"/>
          </a:xfrm>
          <a:custGeom>
            <a:avLst/>
            <a:gdLst/>
            <a:ahLst/>
            <a:rect l="l" t="t" r="r" b="b"/>
            <a:pathLst>
              <a:path w="6201" h="2118">
                <a:moveTo>
                  <a:pt x="353" y="0"/>
                </a:moveTo>
                <a:lnTo>
                  <a:pt x="353" y="0"/>
                </a:lnTo>
                <a:cubicBezTo>
                  <a:pt x="291" y="0"/>
                  <a:pt x="230" y="16"/>
                  <a:pt x="177" y="47"/>
                </a:cubicBezTo>
                <a:cubicBezTo>
                  <a:pt x="123" y="78"/>
                  <a:pt x="78" y="123"/>
                  <a:pt x="47" y="177"/>
                </a:cubicBezTo>
                <a:cubicBezTo>
                  <a:pt x="16" y="230"/>
                  <a:pt x="0" y="291"/>
                  <a:pt x="0" y="353"/>
                </a:cubicBezTo>
                <a:lnTo>
                  <a:pt x="0" y="1765"/>
                </a:lnTo>
                <a:lnTo>
                  <a:pt x="0" y="1765"/>
                </a:lnTo>
                <a:cubicBezTo>
                  <a:pt x="0" y="1827"/>
                  <a:pt x="16" y="1888"/>
                  <a:pt x="47" y="1942"/>
                </a:cubicBezTo>
                <a:cubicBezTo>
                  <a:pt x="78" y="1995"/>
                  <a:pt x="123" y="2040"/>
                  <a:pt x="177" y="2071"/>
                </a:cubicBezTo>
                <a:cubicBezTo>
                  <a:pt x="230" y="2102"/>
                  <a:pt x="291" y="2118"/>
                  <a:pt x="353" y="2118"/>
                </a:cubicBezTo>
                <a:lnTo>
                  <a:pt x="5848" y="2118"/>
                </a:lnTo>
                <a:lnTo>
                  <a:pt x="5848" y="2118"/>
                </a:lnTo>
                <a:cubicBezTo>
                  <a:pt x="5910" y="2118"/>
                  <a:pt x="5971" y="2102"/>
                  <a:pt x="6025" y="2071"/>
                </a:cubicBezTo>
                <a:cubicBezTo>
                  <a:pt x="6078" y="2040"/>
                  <a:pt x="6123" y="1995"/>
                  <a:pt x="6154" y="1942"/>
                </a:cubicBezTo>
                <a:cubicBezTo>
                  <a:pt x="6185" y="1888"/>
                  <a:pt x="6201" y="1827"/>
                  <a:pt x="6201" y="1765"/>
                </a:cubicBezTo>
                <a:lnTo>
                  <a:pt x="6201" y="353"/>
                </a:lnTo>
                <a:lnTo>
                  <a:pt x="6201" y="353"/>
                </a:lnTo>
                <a:lnTo>
                  <a:pt x="6201" y="353"/>
                </a:lnTo>
                <a:cubicBezTo>
                  <a:pt x="6201" y="291"/>
                  <a:pt x="6185" y="230"/>
                  <a:pt x="6154" y="177"/>
                </a:cubicBezTo>
                <a:cubicBezTo>
                  <a:pt x="6123" y="123"/>
                  <a:pt x="6078" y="78"/>
                  <a:pt x="6025" y="47"/>
                </a:cubicBezTo>
                <a:cubicBezTo>
                  <a:pt x="5971" y="16"/>
                  <a:pt x="5910" y="0"/>
                  <a:pt x="5848" y="0"/>
                </a:cubicBezTo>
                <a:lnTo>
                  <a:pt x="353" y="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Безопас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005360"/>
            <a:ext cx="2160360" cy="761760"/>
          </a:xfrm>
          <a:custGeom>
            <a:avLst/>
            <a:gdLst/>
            <a:ahLst/>
            <a:rect l="l" t="t" r="r" b="b"/>
            <a:pathLst>
              <a:path w="6002" h="2117">
                <a:moveTo>
                  <a:pt x="352" y="0"/>
                </a:moveTo>
                <a:lnTo>
                  <a:pt x="353" y="0"/>
                </a:lnTo>
                <a:cubicBezTo>
                  <a:pt x="291" y="0"/>
                  <a:pt x="230" y="16"/>
                  <a:pt x="176" y="47"/>
                </a:cubicBezTo>
                <a:cubicBezTo>
                  <a:pt x="123" y="78"/>
                  <a:pt x="78" y="123"/>
                  <a:pt x="47" y="176"/>
                </a:cubicBezTo>
                <a:cubicBezTo>
                  <a:pt x="16" y="230"/>
                  <a:pt x="0" y="291"/>
                  <a:pt x="0" y="353"/>
                </a:cubicBezTo>
                <a:lnTo>
                  <a:pt x="0" y="1764"/>
                </a:lnTo>
                <a:lnTo>
                  <a:pt x="0" y="1764"/>
                </a:lnTo>
                <a:cubicBezTo>
                  <a:pt x="0" y="1826"/>
                  <a:pt x="16" y="1887"/>
                  <a:pt x="47" y="1941"/>
                </a:cubicBezTo>
                <a:cubicBezTo>
                  <a:pt x="78" y="1994"/>
                  <a:pt x="123" y="2039"/>
                  <a:pt x="176" y="2070"/>
                </a:cubicBezTo>
                <a:cubicBezTo>
                  <a:pt x="230" y="2101"/>
                  <a:pt x="291" y="2117"/>
                  <a:pt x="353" y="2117"/>
                </a:cubicBezTo>
                <a:lnTo>
                  <a:pt x="5649" y="2117"/>
                </a:lnTo>
                <a:lnTo>
                  <a:pt x="5649" y="2117"/>
                </a:lnTo>
                <a:cubicBezTo>
                  <a:pt x="5711" y="2117"/>
                  <a:pt x="5772" y="2101"/>
                  <a:pt x="5826" y="2070"/>
                </a:cubicBezTo>
                <a:cubicBezTo>
                  <a:pt x="5879" y="2039"/>
                  <a:pt x="5924" y="1994"/>
                  <a:pt x="5955" y="1941"/>
                </a:cubicBezTo>
                <a:cubicBezTo>
                  <a:pt x="5986" y="1887"/>
                  <a:pt x="6002" y="1826"/>
                  <a:pt x="6002" y="1764"/>
                </a:cubicBezTo>
                <a:lnTo>
                  <a:pt x="6002" y="352"/>
                </a:lnTo>
                <a:lnTo>
                  <a:pt x="6002" y="353"/>
                </a:lnTo>
                <a:lnTo>
                  <a:pt x="6002" y="353"/>
                </a:lnTo>
                <a:cubicBezTo>
                  <a:pt x="6002" y="291"/>
                  <a:pt x="5986" y="230"/>
                  <a:pt x="5955" y="176"/>
                </a:cubicBezTo>
                <a:cubicBezTo>
                  <a:pt x="5924" y="123"/>
                  <a:pt x="5879" y="78"/>
                  <a:pt x="5826" y="47"/>
                </a:cubicBezTo>
                <a:cubicBezTo>
                  <a:pt x="5772" y="16"/>
                  <a:pt x="5711" y="0"/>
                  <a:pt x="5649" y="0"/>
                </a:cubicBezTo>
                <a:lnTo>
                  <a:pt x="352" y="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Выполнено аккур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114560" y="4939920"/>
            <a:ext cx="72216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25840" y="5516640"/>
            <a:ext cx="579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234200" y="4653000"/>
            <a:ext cx="3636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00000" y="3211560"/>
            <a:ext cx="28728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141720"/>
            <a:ext cx="287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17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2418840"/>
            <a:ext cx="1440" cy="43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ndara"/>
              </a:rPr>
              <a:t>Что я использовал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1557360"/>
            <a:ext cx="7056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619280" y="1341360"/>
            <a:ext cx="5688000" cy="487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403280" y="1557360"/>
            <a:ext cx="5905440" cy="465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476360" y="1628640"/>
            <a:ext cx="7201080" cy="4511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692360" y="1628640"/>
            <a:ext cx="6121440" cy="4753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971640" y="1557360"/>
            <a:ext cx="662616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ndara"/>
              </a:rPr>
              <a:t>Предварительный  расчёт  себестоимости  изде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773360"/>
          <a:ext cx="8426160" cy="4719240"/>
        </p:xfrm>
        <a:graphic>
          <a:graphicData uri="http://schemas.openxmlformats.org/drawingml/2006/table">
            <a:tbl>
              <a:tblPr/>
              <a:tblGrid>
                <a:gridCol w="1000080"/>
                <a:gridCol w="2499480"/>
                <a:gridCol w="1784520"/>
                <a:gridCol w="1430640"/>
                <a:gridCol w="1711440"/>
              </a:tblGrid>
              <a:tr h="703080"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за 1 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стиковые стаканчики для одноразового исполь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р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ка белого ц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а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р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н  цветной из 5 лис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ли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р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бы для степл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р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ка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ру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72880" indent="-271440" algn="ct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 gridSpan="5">
                  <a:txBody>
                    <a:bodyPr lIns="90000" rIns="90000" anchor="t">
                      <a:noAutofit/>
                    </a:bodyPr>
                    <a:p>
                      <a:pPr marL="272880" indent="-271440" algn="r"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: 595 руб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ndara"/>
              </a:rPr>
              <a:t>Экологическое обоснование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71560" y="2674800"/>
            <a:ext cx="7408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1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При сжигании пластика выде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-  ядовитый газ – фосге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-  диоксины, разрушающие дыхательную 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пищеварительную систе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-  ядовитое вещество – стиро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-  опасные для живых организмов – формальдегиды и фен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Технология изгото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497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51200" y="2674800"/>
            <a:ext cx="362916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1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Из стаканчиков образуем круг, диаметром 60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На первый ряд ушло 25 стаканчиков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8432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Demi"/>
              </a:rPr>
              <a:t>Второй и  третьи ряды используем такие же количество стак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6237360"/>
            <a:ext cx="8064360" cy="36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40908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69228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Demi"/>
              </a:rPr>
              <a:t>Затем « наращиваем» верх до образования ша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4176720" cy="3889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788000" y="2492280"/>
            <a:ext cx="396072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Верхний 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4392720" cy="4176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932360" y="2674800"/>
            <a:ext cx="421164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Диаметр меньшего круга- 4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Берём восемнадцать стака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Получились два к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68360" y="2708280"/>
            <a:ext cx="460224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Делаем пампуш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624720" cy="4319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5903640" cy="3961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692360" y="1773360"/>
            <a:ext cx="612144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МБОУ «Девятернинская ООШ им.Л.Айтуганова Агрызского муниципального района Республики Татарста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162864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Творческий проект на муниципальный  конкурс «Очумелые руч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2779560"/>
            <a:ext cx="56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DejaVu Sans"/>
              </a:rPr>
              <a:t>«Снеговик из пластиковых стаканчиков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5400" y="4371840"/>
            <a:ext cx="869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                     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Фаррахова Лейсан Фле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ученица 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учителя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Шакирова Зульфия Хайдаро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Фаррахов Флер Ромим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Вот как я сшила шап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6264360" cy="4535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547640" y="1557360"/>
            <a:ext cx="6264360" cy="4535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698508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Из досок делаем крестови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4248000" cy="4537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148360" y="2060640"/>
            <a:ext cx="36716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Стойка для снегов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590544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Demi"/>
              </a:rPr>
              <a:t>Наш снеговик гот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3240000" cy="4321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3819240" cy="45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rot="21180000">
            <a:off x="0" y="0"/>
            <a:ext cx="3025800" cy="417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6720" y="189000"/>
            <a:ext cx="586728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  <a:ea typeface="DejaVu Sans"/>
              </a:rPr>
              <a:t>Не знаете, что 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  <a:ea typeface="DejaVu Sans"/>
              </a:rPr>
              <a:t>подарить на новогодние праздники бабушке, маме, сестре или подруг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  <a:ea typeface="DejaVu Sans"/>
              </a:rPr>
              <a:t>Не можете 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  <a:ea typeface="DejaVu Sans"/>
              </a:rPr>
              <a:t>занять себя в свободное время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  <a:ea typeface="DejaVu Sans"/>
              </a:rPr>
              <a:t>Надоели 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  <a:ea typeface="DejaVu Sans"/>
              </a:rPr>
              <a:t>телевизор и компьютер?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DejaVu Sans"/>
              </a:rPr>
              <a:t> Мы 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  <a:ea typeface="DejaVu Sans"/>
              </a:rPr>
              <a:t>знаем,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DejaVu Sans"/>
              </a:rPr>
              <a:t>чем вам помочь!!! Просто посмотрите технику изделий «Снеговик", сходите в ближайшие магазины канцтоваров и стройматериалов и купите необходимые материалы. Поверьте, 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  <a:ea typeface="DejaVu Sans"/>
              </a:rPr>
              <a:t>результат превзойдет все ожидания: 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DejaVu Sans"/>
              </a:rPr>
              <a:t>вы сделаете прекрасный подарок, великолепно оформите территорию для праздника,  отлично проведете время, ну, а телевизор с компьютером останутся в одиночестве до "лучших времен"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55640" y="2492280"/>
            <a:ext cx="74088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ndara"/>
              </a:rPr>
              <a:t>Узнала много интересного о том, какие разнообразные изделия можно делать из обычных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ca0d08"/>
                </a:solidFill>
                <a:latin typeface="Candara"/>
              </a:rPr>
              <a:t>Получила большое моральное удовлетво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47628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a_Moderno"/>
                <a:ea typeface="Arial"/>
              </a:rPr>
              <a:t>Результаты моей работы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71560" y="2674800"/>
            <a:ext cx="7408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47628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_Moderno"/>
              </a:rPr>
              <a:t>Благодарю  за 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538280" y="2708280"/>
            <a:ext cx="57592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_Moderno"/>
              </a:rPr>
              <a:t>Тема</a:t>
            </a:r>
            <a:r>
              <a:rPr b="0" lang="en-US" sz="4400" spc="-1" strike="noStrike">
                <a:solidFill>
                  <a:srgbClr val="ffffff"/>
                </a:solidFill>
                <a:latin typeface="a_Moderno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_Moderno"/>
              </a:rPr>
              <a:t>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«Из любого материала изготовить изделие для новогоднего оформления территор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Все с нетерпением ждут Нового года! Готовятся к нему заранее, покупают разные украшения, готовят неожиданные сюрпризы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Как же  Новый год без СНЕГОВ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Каждый год лепим снеговик из снега, хочу попробовать сделать его из другого материала.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7628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a_Moderno"/>
              </a:rPr>
              <a:t>Почему меня заинтересовала эта тема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4360" y="1773360"/>
            <a:ext cx="740880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ca0d08"/>
                </a:solidFill>
                <a:latin typeface="Candara"/>
              </a:rPr>
              <a:t>Спроектировать и изготовить издел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ca0d08"/>
                </a:solidFill>
                <a:latin typeface="Candara"/>
              </a:rPr>
              <a:t>Дать возможность реализации своих творческих идей при изготовлении макета изделии для новогоднего оформления терр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ca0d08"/>
                </a:solidFill>
                <a:latin typeface="Arial"/>
              </a:rPr>
              <a:t>Учиться видеть и творить красоту из самых обычных  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_Moderno"/>
              </a:rPr>
              <a:t>Цели исследова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33336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Банк и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56000" y="1700280"/>
            <a:ext cx="4379760" cy="3451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1640" y="5514480"/>
            <a:ext cx="78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Снеговик из треугольных модулей разн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Снеговик из пластиковых бутыл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6120000" cy="41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Снеговики, скрученные из полос гофрированного карто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92360" y="2674800"/>
            <a:ext cx="396720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Снеговик из нито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68360" y="2133720"/>
            <a:ext cx="374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4:38:45Z</dcterms:created>
  <dc:creator>Дмитрий</dc:creator>
  <dc:description/>
  <dc:language>en-US</dc:language>
  <cp:lastModifiedBy>User</cp:lastModifiedBy>
  <dcterms:modified xsi:type="dcterms:W3CDTF">2016-03-31T13:59:26Z</dcterms:modified>
  <cp:revision>116</cp:revision>
  <dc:subject/>
  <dc:title>Проект «Автопарк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