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AA1-9619-4453-94D7-93EC4D00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C0F-0B6C-420E-A909-EA515F4A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F6E-F80F-4AFF-BEA5-98955BA5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6EB-7042-411B-9623-DFC85E9B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E4A-5D11-45C1-ABE4-C66B5CAF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2B4-A744-43E1-9431-5049D3CA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E4C-8837-4718-BDF0-2F28A152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F7E-7C0C-4D0F-9C2B-CB8A0E5E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AC7-E49B-4F12-AC35-4B87A6A9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3D4-0E3D-41FB-A707-2D3615F7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A15-32D4-4453-9658-9B88CF9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DFA-F4A2-4B42-B301-E47EEB3A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28B1-C510-4D43-940F-9290A5518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8;&#1077;&#1082;&#1089;&#1090;&#1086;&#1074;&#1072;&#1103;_&#1080;&#1085;&#1092;&#1086;&#1088;&#1084;&#1072;&#1094;&#1080;&#1103;" TargetMode="External"/><Relationship Id="rId2" Type="http://schemas.openxmlformats.org/officeDocument/2006/relationships/hyperlink" Target="https://ru.wikipedia.org/wiki/&#1063;&#1080;&#1089;&#1083;&#1086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ff9933"/>
                </a:solidFill>
                <a:latin typeface="Georgia"/>
              </a:rPr>
              <a:t>Производство – основа экономик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143160"/>
            <a:ext cx="73580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LC Chal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24000" y="1125360"/>
            <a:ext cx="84960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деление 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разделение процесса произво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ряд отдельных операций, выполняе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ными рабо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2840"/>
          <p:cNvPicPr/>
          <p:nvPr/>
        </p:nvPicPr>
        <p:blipFill>
          <a:blip r:embed="rId1"/>
          <a:stretch/>
        </p:blipFill>
        <p:spPr>
          <a:xfrm>
            <a:off x="395280" y="4508640"/>
            <a:ext cx="2305080" cy="1879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i"/>
          <p:cNvPicPr/>
          <p:nvPr/>
        </p:nvPicPr>
        <p:blipFill>
          <a:blip r:embed="rId2"/>
          <a:stretch/>
        </p:blipFill>
        <p:spPr>
          <a:xfrm>
            <a:off x="2411280" y="3860640"/>
            <a:ext cx="3094200" cy="205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1383862416_2"/>
          <p:cNvPicPr/>
          <p:nvPr/>
        </p:nvPicPr>
        <p:blipFill>
          <a:blip r:embed="rId3"/>
          <a:stretch/>
        </p:blipFill>
        <p:spPr>
          <a:xfrm>
            <a:off x="5219640" y="2421000"/>
            <a:ext cx="3568680" cy="23320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468360" y="26028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4.Разделение труда и специал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971640" y="1052640"/>
            <a:ext cx="7488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это сосредото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ной деятельности на относительн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зких направл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2627280" y="3500280"/>
            <a:ext cx="3888000" cy="1656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1332000" y="3141720"/>
            <a:ext cx="151128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1763640" y="4653000"/>
            <a:ext cx="151128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5867280" y="4653000"/>
            <a:ext cx="151128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й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6300720" y="3068640"/>
            <a:ext cx="151128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3780000" y="5157720"/>
            <a:ext cx="1511280" cy="1295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4"/>
          <p:cNvSpPr/>
          <p:nvPr/>
        </p:nvSpPr>
        <p:spPr>
          <a:xfrm>
            <a:off x="539640" y="40464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Производство – главный источник экономических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извод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процесс создания экономических благ (товаров и услуг) для удовлетворения потребностей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center-comptech.ru/img/klipart-people-antikrizis-5_small.gif"/>
          <p:cNvPicPr/>
          <p:nvPr/>
        </p:nvPicPr>
        <p:blipFill>
          <a:blip r:embed="rId1"/>
          <a:stretch/>
        </p:blipFill>
        <p:spPr>
          <a:xfrm>
            <a:off x="5292720" y="4437000"/>
            <a:ext cx="3333600" cy="181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s://libre.life/7523/0412/1/img/01.jpg"/>
          <p:cNvPicPr/>
          <p:nvPr/>
        </p:nvPicPr>
        <p:blipFill>
          <a:blip r:embed="rId2"/>
          <a:srcRect l="0" t="16244" r="4691" b="23417"/>
          <a:stretch/>
        </p:blipFill>
        <p:spPr>
          <a:xfrm>
            <a:off x="539640" y="4437000"/>
            <a:ext cx="4680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Производство  - основа эконом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3357720"/>
            <a:ext cx="2530440" cy="12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льскох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яйств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sib-ing.ru/system/uploads/static_image/292/Bez_imeni-1.jpg"/>
          <p:cNvPicPr/>
          <p:nvPr/>
        </p:nvPicPr>
        <p:blipFill>
          <a:blip r:embed="rId1"/>
          <a:stretch/>
        </p:blipFill>
        <p:spPr>
          <a:xfrm>
            <a:off x="2700360" y="3213000"/>
            <a:ext cx="3362400" cy="181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im3-tub-ru.yandex.net/i?id=dab4456c165a2682e29d44551509bc00&amp;n=33&amp;h=215&amp;w=325"/>
          <p:cNvPicPr/>
          <p:nvPr/>
        </p:nvPicPr>
        <p:blipFill>
          <a:blip r:embed="rId2"/>
          <a:stretch/>
        </p:blipFill>
        <p:spPr>
          <a:xfrm>
            <a:off x="6048360" y="1989000"/>
            <a:ext cx="3095640" cy="204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vsehpozdravil.ru/res/files/postcards/12439.jpg"/>
          <p:cNvPicPr/>
          <p:nvPr/>
        </p:nvPicPr>
        <p:blipFill>
          <a:blip r:embed="rId3"/>
          <a:stretch/>
        </p:blipFill>
        <p:spPr>
          <a:xfrm>
            <a:off x="395280" y="445464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443280" y="1341360"/>
            <a:ext cx="22431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1640" y="2707920"/>
            <a:ext cx="295272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ышлен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трасль экономик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окупность предприятий и организаций, производящих однородную продукцию или услуг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560" y="3284280"/>
            <a:ext cx="3236760" cy="284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fs00.infourok.ru/images/doc/161/186253/img5.jpg"/>
          <p:cNvPicPr/>
          <p:nvPr/>
        </p:nvPicPr>
        <p:blipFill>
          <a:blip r:embed="rId3"/>
          <a:srcRect l="0" t="12840" r="0" b="0"/>
          <a:stretch/>
        </p:blipFill>
        <p:spPr>
          <a:xfrm>
            <a:off x="1619280" y="2514600"/>
            <a:ext cx="5840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Отрасли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24000" y="1484280"/>
            <a:ext cx="3527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я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80000" y="1557360"/>
            <a:ext cx="3311640" cy="1224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я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95280" y="5300640"/>
            <a:ext cx="316692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/х, строительст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яжелая промышлен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егкая промышл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5292720" y="5445000"/>
            <a:ext cx="3598920" cy="129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ое обслужива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е, транспорт,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7"/>
          <p:cNvSpPr/>
          <p:nvPr/>
        </p:nvSpPr>
        <p:spPr>
          <a:xfrm>
            <a:off x="684360" y="3141720"/>
            <a:ext cx="2928960" cy="2071800"/>
          </a:xfrm>
          <a:prstGeom prst="ellips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средства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(блага, используемые для производства других бла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6"/>
          <p:cNvSpPr/>
          <p:nvPr/>
        </p:nvSpPr>
        <p:spPr>
          <a:xfrm>
            <a:off x="3564000" y="2997360"/>
            <a:ext cx="2714400" cy="1928520"/>
          </a:xfrm>
          <a:prstGeom prst="ellips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предметы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(для удовлетворения личных потребностей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 rot="10800000">
            <a:off x="826920" y="765000"/>
            <a:ext cx="852480" cy="733680"/>
          </a:xfrm>
          <a:custGeom>
            <a:avLst/>
            <a:gdLst>
              <a:gd name="textAreaLeft" fmla="*/ 0 w 852480"/>
              <a:gd name="textAreaRight" fmla="*/ 730800 w 852480"/>
              <a:gd name="textAreaTop" fmla="*/ 489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 rot="5400000">
            <a:off x="7406280" y="73872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85080" y="2781360"/>
            <a:ext cx="485640" cy="2735280"/>
          </a:xfrm>
          <a:prstGeom prst="downArrow">
            <a:avLst>
              <a:gd name="adj1" fmla="val 50000"/>
              <a:gd name="adj2" fmla="val 1408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 rot="19269600">
            <a:off x="3780000" y="2491920"/>
            <a:ext cx="485640" cy="792360"/>
          </a:xfrm>
          <a:prstGeom prst="downArrow">
            <a:avLst>
              <a:gd name="adj1" fmla="val 50000"/>
              <a:gd name="adj2" fmla="val 407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1908000" y="270828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324000" y="2708280"/>
            <a:ext cx="485640" cy="2735280"/>
          </a:xfrm>
          <a:prstGeom prst="downArrow">
            <a:avLst>
              <a:gd name="adj1" fmla="val 50000"/>
              <a:gd name="adj2" fmla="val 1408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11280" y="1052640"/>
            <a:ext cx="79214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результат экономическо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площенный в товарах и услуг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826920" y="2852640"/>
            <a:ext cx="2953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В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356000" y="2924280"/>
            <a:ext cx="432144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ЛУ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эконом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носящая удовлетвор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6372360" y="2349360"/>
            <a:ext cx="360360" cy="574920"/>
          </a:xfrm>
          <a:prstGeom prst="downArrow">
            <a:avLst>
              <a:gd name="adj1" fmla="val 50000"/>
              <a:gd name="adj2" fmla="val 40653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979640" y="2349360"/>
            <a:ext cx="360360" cy="503280"/>
          </a:xfrm>
          <a:prstGeom prst="downArrow">
            <a:avLst>
              <a:gd name="adj1" fmla="val 50000"/>
              <a:gd name="adj2" fmla="val 40663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684360" y="4581360"/>
            <a:ext cx="597528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ойства това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требительская стоимость – полез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новая стоимость – спосо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иваться на другие тов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1979640" y="3789360"/>
            <a:ext cx="360360" cy="790560"/>
          </a:xfrm>
          <a:prstGeom prst="downArrow">
            <a:avLst>
              <a:gd name="adj1" fmla="val 50000"/>
              <a:gd name="adj2" fmla="val 66515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2046600" y="260280"/>
            <a:ext cx="38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. Товары и ус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468360" y="549360"/>
            <a:ext cx="806436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ы произво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ресурсы, котор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производства экономических бла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24000" y="2565360"/>
            <a:ext cx="1657080" cy="9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195640" y="2565360"/>
            <a:ext cx="1657080" cy="9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924360" y="2565360"/>
            <a:ext cx="1657440" cy="9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ПИ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724360" y="2565360"/>
            <a:ext cx="3168720" cy="934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ПРИНИМАТЕ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971640" y="1916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771640" y="191628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4500720" y="1916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7451640" y="191628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ree"/>
          <p:cNvSpPr/>
          <p:nvPr/>
        </p:nvSpPr>
        <p:spPr>
          <a:xfrm>
            <a:off x="395280" y="4437000"/>
            <a:ext cx="1368360" cy="1594080"/>
          </a:xfrm>
          <a:custGeom>
            <a:avLst/>
            <a:gdLst>
              <a:gd name="textAreaLeft" fmla="*/ 47880 w 1368360"/>
              <a:gd name="textAreaRight" fmla="*/ 1334880 w 1368360"/>
              <a:gd name="textAreaTop" fmla="*/ 1657440 h 1594080"/>
              <a:gd name="textAreaBottom" fmla="*/ 2087640 h 1594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j0291984"/>
          <p:cNvPicPr/>
          <p:nvPr/>
        </p:nvPicPr>
        <p:blipFill>
          <a:blip r:embed="rId1"/>
          <a:stretch/>
        </p:blipFill>
        <p:spPr>
          <a:xfrm>
            <a:off x="1979640" y="4005360"/>
            <a:ext cx="1565280" cy="165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300px-HwacheonCentreLathe_460x1000[1]"/>
          <p:cNvPicPr/>
          <p:nvPr/>
        </p:nvPicPr>
        <p:blipFill>
          <a:blip r:embed="rId2"/>
          <a:stretch/>
        </p:blipFill>
        <p:spPr>
          <a:xfrm>
            <a:off x="3635280" y="4869000"/>
            <a:ext cx="2232000" cy="171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cartoon-business-man-02[1]"/>
          <p:cNvPicPr/>
          <p:nvPr/>
        </p:nvPicPr>
        <p:blipFill>
          <a:blip r:embed="rId3"/>
          <a:stretch/>
        </p:blipFill>
        <p:spPr>
          <a:xfrm>
            <a:off x="6877080" y="4005360"/>
            <a:ext cx="1784160" cy="27367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1"/>
          <p:cNvSpPr/>
          <p:nvPr/>
        </p:nvSpPr>
        <p:spPr>
          <a:xfrm>
            <a:off x="826920" y="350028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2"/>
          <p:cNvSpPr/>
          <p:nvPr/>
        </p:nvSpPr>
        <p:spPr>
          <a:xfrm>
            <a:off x="2843280" y="3500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3"/>
          <p:cNvSpPr/>
          <p:nvPr/>
        </p:nvSpPr>
        <p:spPr>
          <a:xfrm>
            <a:off x="4500720" y="3500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4"/>
          <p:cNvSpPr/>
          <p:nvPr/>
        </p:nvSpPr>
        <p:spPr>
          <a:xfrm>
            <a:off x="7020000" y="3500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900000" y="907920"/>
            <a:ext cx="74883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информ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чему информация в современном обще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очень важным ресурс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кст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передаваемая в виде символов, предназначенных обозначать лексемы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Числ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 виде цифр и знаков, обозначающих математически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ая — в виде изображений, предметов, граф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овая — устная или в виде записи и передачи лексем языка аудиальным пут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еоинформация — передаваемая в виде видеоза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Производительн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количество товаров и услуг, произведённых на единицу израсходованных производствен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17:53Z</dcterms:created>
  <dc:creator>катя</dc:creator>
  <dc:description/>
  <dc:language>en-US</dc:language>
  <cp:lastModifiedBy>arsalanbalzhimaev@gmail.com</cp:lastModifiedBy>
  <dcterms:modified xsi:type="dcterms:W3CDTF">2022-01-17T02:15:24Z</dcterms:modified>
  <cp:revision>41</cp:revision>
  <dc:subject/>
  <dc:title>Социальная структура 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9990</vt:lpwstr>
  </property>
</Properties>
</file>