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EEC-634A-433C-924A-0A2FB433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F4E-FE20-4E53-AFC7-B73D77BF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39C-2A06-4BB9-8372-E769D428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9CF-3403-4C65-BBE6-D470ECD7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1F9B-98BF-4BFD-A575-1D0D3261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363C-16C2-4462-BBF8-63906981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D7C4-DEBE-4079-846B-AE1B6810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B321-38D4-4072-8356-352A1F71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64A9-F078-487F-8EE4-9804E7DD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5A92-1D10-400D-9147-53729959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E711-E29F-46B8-9BCB-C16B57F9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8A6-0F2D-4D11-89BE-651F5486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34FD-190A-4A92-8B37-878BB52F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03BD-906A-4AAE-91FC-DE0F10FD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65DC-5519-467F-A865-1B30E3D7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13F-0BE6-4631-B432-5B29FF5E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E33F-B5D7-4983-A19F-EE65D49B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4782-0F5C-41EF-8E4C-D205E7B9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A89D-0186-4BF5-BE38-8C2DA658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B0A5-FDCA-4237-AA64-821708F4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AE90-AD98-44B4-8264-290CE9A8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ECB4-C94B-4159-9A9A-A292D101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C89-AF72-47BC-9209-2FFC9C32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FFD2-9118-4A60-ACC6-EB88A5B9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37EE-04C0-4F30-8AD4-E525730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144F-57EF-491D-9957-42A996A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0EB1-22E7-4003-B004-6B52EEF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6CB83-BEE5-44C7-A69F-3A1B473F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F3DA-367A-434E-80F3-A75541A5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FAC6-D0CB-44E8-9DCB-94F35B9E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F4A2-656C-46A1-B9D4-79E1AB04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03E3-64A8-4717-8518-F71537E5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E470-8606-44EE-800D-1153A2D8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E30-BB10-4A1C-B2DF-08A5982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95D7-E795-4589-AFD7-D49ADB58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F1F4-52E1-4FC4-B5ED-3F9E087F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A167-1AAC-4778-BE40-B28B0274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3FBC-D7C9-455A-B5AC-0F4054FB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BA4A8-78B3-4C37-9CA4-0FF4A56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F848-3282-4342-A277-814EF0BD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1CC8-4DCC-430B-A5F0-1EF0EE48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914E-01B9-4787-B58C-1E65274F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08456-ADDB-4849-A164-B24E6080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6A2-0CBC-42FE-96BD-28532201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D31-CC60-423E-90AB-86944A74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CDB-3AE6-4D81-A976-3D0F2FEA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8A9-A727-46D3-BC8E-DE03561E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7DD-D278-49B3-8CC1-24722E27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F7FF-2DDF-4761-9978-9EC9721AFE12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22B0-503A-4EB2-9F96-13846D588F2D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BFB0-B511-43A6-A8E5-C38994CFA2AF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E234-D079-4565-854C-1A8AA69B776C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49120" y="573120"/>
            <a:ext cx="8718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ЛИЧНОСТЬ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4920" y="1714680"/>
            <a:ext cx="8497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чность(от латинского – персона, особа) – это человеческий индивид как субъект отношений и созн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Личность – это устойчивая система социально значимых черт, характеризующих индивида как члена того или иного обще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нятие личность является социально – историческим, социальным, так как личностью не рождаются, а становятс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нятие характеризует человека как общественное существ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1052640"/>
            <a:ext cx="8353440" cy="576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подхода к  определению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68360" y="2133720"/>
            <a:ext cx="3672000" cy="39592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076720" y="2133720"/>
            <a:ext cx="3672000" cy="39592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39640" y="2276640"/>
            <a:ext cx="35276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ерез сущностные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 значимые черты характера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устрем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оспособнос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292720" y="2349360"/>
            <a:ext cx="338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ерез набор функций(ролей) в общест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я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ртс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226836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7708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Заголовок 3"/>
          <p:cNvSpPr/>
          <p:nvPr/>
        </p:nvSpPr>
        <p:spPr>
          <a:xfrm>
            <a:off x="285840" y="714240"/>
            <a:ext cx="86486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95a74"/>
                </a:solidFill>
                <a:latin typeface="Calibri"/>
              </a:rPr>
              <a:t>ОСНОВНЫЕ ПРИЗНАКИ ЛИЧНОСТИ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5" descr=""/>
          <p:cNvPicPr/>
          <p:nvPr/>
        </p:nvPicPr>
        <p:blipFill>
          <a:blip r:embed="rId1"/>
          <a:stretch/>
        </p:blipFill>
        <p:spPr>
          <a:xfrm>
            <a:off x="249120" y="1463760"/>
            <a:ext cx="8570880" cy="508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9"/>
          <p:cNvGraphicFramePr/>
          <p:nvPr/>
        </p:nvGraphicFramePr>
        <p:xfrm>
          <a:off x="4067280" y="2708280"/>
          <a:ext cx="1009440" cy="31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2708280"/>
                    <a:ext cx="100944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714240" y="785880"/>
            <a:ext cx="7499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95a74"/>
                </a:solidFill>
                <a:latin typeface="Calibri"/>
              </a:rPr>
              <a:t>УСТОЙЧИВОСТЬ И ИЗМЕНЧИВОСТЬ ЛИЧНОСТ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500200"/>
            <a:ext cx="4038480" cy="3557880"/>
          </a:xfrm>
          <a:prstGeom prst="rect">
            <a:avLst/>
          </a:prstGeom>
          <a:solidFill>
            <a:srgbClr val="faa4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ойчивость личности проявляется в таких чертах, как направленность, жизненные установки и убе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3"/>
          <p:cNvSpPr/>
          <p:nvPr/>
        </p:nvSpPr>
        <p:spPr>
          <a:xfrm>
            <a:off x="4691160" y="2500200"/>
            <a:ext cx="4038480" cy="3557880"/>
          </a:xfrm>
          <a:prstGeom prst="rect">
            <a:avLst/>
          </a:prstGeom>
          <a:solidFill>
            <a:srgbClr val="b7e7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чивость личности может проявляться как в изменчивости моделей поведения, так и в смене настроений, эмоций, жизненного опы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Заголовок 6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95a74"/>
                </a:solidFill>
                <a:latin typeface="Calibri"/>
              </a:rPr>
              <a:t>МНОГОУРОВНЕВЫЕ МОДЕЛИ СТРУКТУРЫ ЛИЧНОСТ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Содержимое 8" descr=""/>
          <p:cNvPicPr/>
          <p:nvPr/>
        </p:nvPicPr>
        <p:blipFill>
          <a:blip r:embed="rId1"/>
          <a:stretch/>
        </p:blipFill>
        <p:spPr>
          <a:xfrm>
            <a:off x="426960" y="1689120"/>
            <a:ext cx="85582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3Ma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Заголовок 6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95a74"/>
                </a:solidFill>
                <a:latin typeface="Calibri"/>
              </a:rPr>
              <a:t>Структура личности по З.Фрей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одержимое 9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6272280" cy="499932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10" descr="Freud.jpg"/>
          <p:cNvPicPr/>
          <p:nvPr/>
        </p:nvPicPr>
        <p:blipFill>
          <a:blip r:embed="rId2"/>
          <a:stretch/>
        </p:blipFill>
        <p:spPr>
          <a:xfrm>
            <a:off x="6443640" y="1628640"/>
            <a:ext cx="2232000" cy="22575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6300720" y="393372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гмунд Фрейд (1856—1939 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оположник психо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5" descr="freudsmind.gif"/>
          <p:cNvPicPr/>
          <p:nvPr/>
        </p:nvPicPr>
        <p:blipFill>
          <a:blip r:embed="rId3"/>
          <a:stretch/>
        </p:blipFill>
        <p:spPr>
          <a:xfrm>
            <a:off x="6372360" y="4508640"/>
            <a:ext cx="23032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395280" y="907920"/>
            <a:ext cx="8497800" cy="57636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987640" y="98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5280" y="2133720"/>
            <a:ext cx="2590920" cy="403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276720" y="2133720"/>
            <a:ext cx="2590560" cy="403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6227640" y="2133720"/>
            <a:ext cx="2590920" cy="403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468360" y="2421000"/>
            <a:ext cx="24480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человека  в системе обществен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348000" y="2421000"/>
            <a:ext cx="24480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циальная 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 поведения, одобренный нормативно и соответствующий социальному стат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300720" y="2349360"/>
            <a:ext cx="23749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и, интересы, взгляды, идеалы, мотивы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619280" y="1484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4500720" y="1484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7451640" y="1484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324000" y="1341360"/>
            <a:ext cx="8569080" cy="5749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4360" y="141300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оры формирования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50920" y="2565360"/>
            <a:ext cx="2592360" cy="3960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76720" y="2565360"/>
            <a:ext cx="2592360" cy="3960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6300720" y="2565360"/>
            <a:ext cx="2592360" cy="3960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24000" y="2637000"/>
            <a:ext cx="25192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следствен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физиологии высшей нерв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томо- физиологические 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419640" y="2637000"/>
            <a:ext cx="23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3348000" y="2565360"/>
            <a:ext cx="237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372360" y="278136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родно – географически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>
            <a:off x="1476360" y="191628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4427640" y="191628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7524720" y="191628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Время рождения личности</a:t>
            </a:r>
            <a:br>
              <a:rPr sz="2900"/>
            </a:b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900000" y="5373720"/>
            <a:ext cx="792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 flipV="1">
            <a:off x="900000" y="1268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900000" y="1268280"/>
            <a:ext cx="770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 flipV="1">
            <a:off x="2268360" y="1989000"/>
            <a:ext cx="0" cy="338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2268360" y="1989000"/>
            <a:ext cx="633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 flipV="1">
            <a:off x="3708360" y="2781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3708360" y="278136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 flipV="1">
            <a:off x="5076720" y="357300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076720" y="3573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3708360" y="5373720"/>
            <a:ext cx="1368360" cy="79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4"/>
          <p:cNvSpPr/>
          <p:nvPr/>
        </p:nvSpPr>
        <p:spPr>
          <a:xfrm>
            <a:off x="3708360" y="537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года – 17,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900000" y="5373720"/>
            <a:ext cx="1368360" cy="79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971640" y="537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 – 9 меся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2268360" y="5373720"/>
            <a:ext cx="1440000" cy="79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2340000" y="537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месяцев – 2,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2268360" y="1341360"/>
            <a:ext cx="1872000" cy="5749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2340000" y="1484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3708360" y="2060640"/>
            <a:ext cx="4464000" cy="64764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3"/>
          <p:cNvSpPr/>
          <p:nvPr/>
        </p:nvSpPr>
        <p:spPr>
          <a:xfrm>
            <a:off x="3851280" y="220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, индивид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5076720" y="2852640"/>
            <a:ext cx="3095640" cy="64764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5"/>
          <p:cNvSpPr/>
          <p:nvPr/>
        </p:nvSpPr>
        <p:spPr>
          <a:xfrm>
            <a:off x="5076720" y="2924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черты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6"/>
          <p:cNvSpPr/>
          <p:nvPr/>
        </p:nvSpPr>
        <p:spPr>
          <a:xfrm>
            <a:off x="5076720" y="5373720"/>
            <a:ext cx="3167280" cy="79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7"/>
          <p:cNvSpPr/>
          <p:nvPr/>
        </p:nvSpPr>
        <p:spPr>
          <a:xfrm>
            <a:off x="5219640" y="54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,5 лет – 24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8"/>
          <p:cNvSpPr/>
          <p:nvPr/>
        </p:nvSpPr>
        <p:spPr>
          <a:xfrm>
            <a:off x="5219640" y="3645000"/>
            <a:ext cx="3313080" cy="158436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9"/>
          <p:cNvSpPr/>
          <p:nvPr/>
        </p:nvSpPr>
        <p:spPr>
          <a:xfrm>
            <a:off x="5292720" y="393372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e5b6f"/>
                </a:solidFill>
                <a:latin typeface="Calibri"/>
              </a:rPr>
              <a:t>ПЛАН</a:t>
            </a:r>
            <a:endParaRPr b="0" lang="en-US" sz="6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ятие «человек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ятие «индивид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ятие «индивидуальность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ятие «личность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ва подхода в определении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акторы формирования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ремя рождения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руктура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95a74"/>
                </a:solidFill>
                <a:latin typeface="Calibri"/>
              </a:rPr>
              <a:t>СОЦИАЛИЗАЦИЯ ЛИЧ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600200"/>
          <a:ext cx="8229600" cy="472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циализация –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своение социального опыта, как специально обработанного для усвоения, так и необработан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спитание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мерный, целенаправленный процесс по формированию качеств личност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и возникновении противоречий между нормами, усваиваемыми в процессе воспитания и социализации, побеждают как правило последн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0"/>
            <a:ext cx="822960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95a74"/>
                </a:solidFill>
                <a:latin typeface="Calibri"/>
              </a:rPr>
              <a:t>СТАДИИ СОЦИАЛИЗАЦИИ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50920" y="692280"/>
          <a:ext cx="8713800" cy="5876640"/>
        </p:xfrm>
        <a:graphic>
          <a:graphicData uri="http://schemas.openxmlformats.org/drawingml/2006/table">
            <a:tbl>
              <a:tblPr/>
              <a:tblGrid>
                <a:gridCol w="1584360"/>
                <a:gridCol w="2592360"/>
                <a:gridCol w="453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и соци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та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64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т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дап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ритическое усвоение социального опыта, подражание окружающи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</a:tr>
              <a:tr h="106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дивиду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ние выделиться, критическое отношение и неприятие социального опыта окружающих, желание найти «свой пут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</a:tr>
              <a:tr h="92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тег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вание в общест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</a:tr>
              <a:tr h="13852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рел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рре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е к новым социальным рол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259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8d28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Хра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8d28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нение и передача социального опы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8d28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уществует триединство понятий определяющее сущность человека: индивид, индивидуальнсть, лич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ждое понятие характеризует определенный этап в развитии челов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амым сложным процессом является процесс формирования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ЧЕЛОВЕК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это социально-биологическое существо, воплощающее собой высшую ступень в эволюции жизн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является субъектом общественно-исторической деятельности и общен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нятие «человек» используется как предельно общее понятие для характеристики всеобщих, присущих всем людям качеств и способност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4e5b6f"/>
                </a:solidFill>
                <a:latin typeface="Calibri"/>
              </a:rPr>
              <a:t>Основные характеристики человека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собое строение организма (прямохождение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особность к трудовой деятельности (преобразование окружающей среды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аличие сознания (мышление и речь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ИНДИВИД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79280" y="1857240"/>
            <a:ext cx="87854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ивид (от латинского- неделимый) – это единичный конкретный человек, представитель в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ивид – это один из людей, наделенный типичными признаками: разумом, волей, потребностями, интерес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ивид – Н.В.Гоголь – русский писатель, Иван – крестьянин Саратовской губернии, Юрий Гагарин – летчик - космонавт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ИНДИВИДУАЛЬНОСТЬ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400" y="2071440"/>
            <a:ext cx="80326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дивидуальность-это особенность, неповторимое своеобразие отдельного челове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ермин дает возможность характеризовать отличия конкретного человека от других люд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дивидуальность человека – это  учет личных особенностей: внешний облик, манера поведения, характе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b6f"/>
                </a:solidFill>
                <a:latin typeface="Calibri"/>
              </a:rPr>
              <a:t>Индивид и индивидуальность – различия в понятиях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2642760"/>
            <a:ext cx="878544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нятие индивид рассматривает человека, как отдельную особь среди других людей, например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« 20 марта 1809 года в Сорочинцах в семье помещика Василия Гоголя -  Яновского родился сын , крещенный именем Николай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нятие индивидуальность рассматривает личные особенности человека, т.е. черты, свойства, которые отличали именно Гоголя, например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«… Он начал рано читать, с пяти лет писал стихи, прилежно учился в гимназии, впоследствии стал писателем, за творчеством которого следила читающая Россия…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аким образом, в человеке есть единство типичного и неповторимог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b6f"/>
                </a:solidFill>
                <a:latin typeface="Calibri"/>
              </a:rPr>
              <a:t>ОБРАЗ ЧЕЛОВЕКА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2627280" y="3573360"/>
            <a:ext cx="3672000" cy="295128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708360" y="47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826920" y="1197000"/>
            <a:ext cx="3816360" cy="287964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4643280" y="1268280"/>
            <a:ext cx="3745080" cy="2952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692360" y="2492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4932360" y="256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826920" y="1125360"/>
            <a:ext cx="0" cy="547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826920" y="1125360"/>
            <a:ext cx="76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755640" y="6524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8388000" y="1125360"/>
            <a:ext cx="73080" cy="547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7:39Z</dcterms:created>
  <dc:creator>Admin</dc:creator>
  <dc:description/>
  <dc:language>en-US</dc:language>
  <cp:lastModifiedBy>arsalanbalzhimaev@gmail.com</cp:lastModifiedBy>
  <dcterms:modified xsi:type="dcterms:W3CDTF">2022-01-16T15:58:10Z</dcterms:modified>
  <cp:revision>14</cp:revision>
  <dc:subject/>
  <dc:title>Индивид Индивидуальность Личность</dc:title>
</cp:coreProperties>
</file>