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wmf" ContentType="image/x-wmf"/>
  <Override PartName="/ppt/media/image9.png" ContentType="image/png"/>
  <Override PartName="/ppt/media/image10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2299-894C-44A5-8C55-79A157A7D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2FF9-DB31-4607-8A86-A86B084B5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2799-CB7F-4619-AFCD-FEC406DA6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D7A0-8786-4B99-8D9F-663914098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01811-01B4-43E4-8797-D1408EE84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73193-567D-48E1-8EAA-681E17F55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B7DFF-483A-4598-B25E-6CBFD858F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97A5B-9127-4067-AF10-3BACA2DED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2B43F-C3AA-46EB-B8BF-7E0F2425F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7A4F6-ADE9-499A-87A5-E41E1D5E4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E9EAB-87EC-4383-8FC7-F7C01DED3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2101-B969-4505-B3DD-5486CD044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F1D79-2A73-4B06-8D90-F63C79E1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645FB-9DF3-4029-9B3A-2B62E2C4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A8F5F-4509-4755-BC11-B3971563B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1756D-5FCF-4720-BF05-4A620C2E4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FC05F-C5C8-40ED-BED6-9D652C38C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6CD92-1967-4B0B-8CB3-CBC4920AC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2B931-F793-4D2F-817D-4C773C104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0F3CE-C6B8-41E7-BFAE-C0E26029E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A24AA-73B0-4735-9405-CB641F92D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DB7EB-BFD1-4E18-B92F-6F71D5439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F4A5-4892-46E1-A309-1471D60F5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0E0C7-FFA6-49EA-9E56-A78A769BA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BFE07-ECA0-4A6A-857C-8338F091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8B1DF-8854-4526-BCF8-D6AE57EA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82CB3-2B5A-40A7-9A86-6F9A7177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BF955-E934-436D-809F-D4E376297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CB422-27A4-4E02-9256-8B5CEFB09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E88FA-FF10-424C-B418-1BE23A914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CF534-410E-4742-A2F4-897F2461F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E98AC-42EF-4928-8F62-06671CB14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B20CC-563F-4B87-B9E2-EE87C6D1E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CC20-9B6A-4584-AD6A-E98F041EF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B7140-82E7-4B04-88D8-AD433F189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18AE3-C9D7-4ACB-BE2D-72F3C9DC1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B8B5D-CF90-4F66-9C92-753956C95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97D85-6F43-4A65-A4BE-7FF9D6193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A4514-0D19-43B1-82A6-D764B435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E3DC5-3008-48A8-BFB5-A444BD7F5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5701E-B92F-4583-A26D-DDF05CB1A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BCC51-51D3-406F-BD5B-375F9229A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6F860-2DE2-4A60-990D-ADFCD5356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2CAE-02AB-4821-8153-F1C98BAAD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E302-36DB-4EEF-9CC0-8F7A6BC4C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B73E-2333-4C53-9C0D-6CDA035C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3240-6FAE-46CD-81F2-9A11B8934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F36B-EFBD-46F2-8ECA-1A02BC7DC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a566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7A074-8EB0-4D22-9DED-D24F2F73836F}" type="slidenum">
              <a:rPr b="0" lang="ru-RU" sz="1200" spc="-1" strike="noStrike">
                <a:solidFill>
                  <a:srgbClr val="4a566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6ecf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ce1f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FDD46-427B-440C-95A5-B8BFF5A41C36}" type="slidenum">
              <a:rPr b="0" lang="ru-RU" sz="1200" spc="-1" strike="noStrike">
                <a:solidFill>
                  <a:srgbClr val="cce1f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6ecf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ce1f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9A255-68A1-419A-8618-1B4A85D05EC0}" type="slidenum">
              <a:rPr b="0" lang="ru-RU" sz="1200" spc="-1" strike="noStrike">
                <a:solidFill>
                  <a:srgbClr val="cce1f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a566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B15BA-6E70-483C-AA4D-EA980080E5B1}" type="slidenum">
              <a:rPr b="0" lang="ru-RU" sz="1200" spc="-1" strike="noStrike">
                <a:solidFill>
                  <a:srgbClr val="4a566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249120" y="573120"/>
            <a:ext cx="871884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e5b6f"/>
                </a:solidFill>
                <a:latin typeface="Calibri"/>
              </a:rPr>
              <a:t>ЛИЧНОСТЬ</a:t>
            </a:r>
            <a:endParaRPr b="0" lang="en-US" sz="5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94920" y="1714680"/>
            <a:ext cx="8497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37240" indent="-237240"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Личность(от латинского – персона, особа) – это человеческий индивид как субъект отношений и сознательной деятельност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Личность – это устойчивая система социально значимых черт, характеризующих индивида как члена того или иного обществ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онятие личность является социально – историческим, социальным, так как личностью не рождаются, а становятся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онятие характеризует человека как общественное существо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4"/>
          <p:cNvSpPr/>
          <p:nvPr/>
        </p:nvSpPr>
        <p:spPr>
          <a:xfrm>
            <a:off x="324000" y="1052640"/>
            <a:ext cx="8353440" cy="57600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ва подхода к  определению ли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468360" y="2133720"/>
            <a:ext cx="3672000" cy="395928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5076720" y="2133720"/>
            <a:ext cx="3672000" cy="395928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539640" y="2276640"/>
            <a:ext cx="3527640" cy="30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Через сущностные характерис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циально значимые черты характера индиви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у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еустремл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бр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ботоспособность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8"/>
          <p:cNvSpPr/>
          <p:nvPr/>
        </p:nvSpPr>
        <p:spPr>
          <a:xfrm>
            <a:off x="5292720" y="2349360"/>
            <a:ext cx="338292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Через набор функций(ролей) в обществ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бот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мьян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ортсм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е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д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9"/>
          <p:cNvSpPr/>
          <p:nvPr/>
        </p:nvSpPr>
        <p:spPr>
          <a:xfrm>
            <a:off x="2268360" y="1628640"/>
            <a:ext cx="0" cy="505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0"/>
          <p:cNvSpPr/>
          <p:nvPr/>
        </p:nvSpPr>
        <p:spPr>
          <a:xfrm>
            <a:off x="6877080" y="1628640"/>
            <a:ext cx="0" cy="505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Заголовок 3"/>
          <p:cNvSpPr/>
          <p:nvPr/>
        </p:nvSpPr>
        <p:spPr>
          <a:xfrm>
            <a:off x="285840" y="714240"/>
            <a:ext cx="864864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495a74"/>
                </a:solidFill>
                <a:latin typeface="Calibri"/>
              </a:rPr>
              <a:t>ОСНОВНЫЕ ПРИЗНАКИ ЛИЧНОСТИ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Содержимое 5" descr=""/>
          <p:cNvPicPr/>
          <p:nvPr/>
        </p:nvPicPr>
        <p:blipFill>
          <a:blip r:embed="rId1"/>
          <a:stretch/>
        </p:blipFill>
        <p:spPr>
          <a:xfrm>
            <a:off x="249120" y="1463760"/>
            <a:ext cx="8570880" cy="5089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1" name="Object 9"/>
          <p:cNvGraphicFramePr/>
          <p:nvPr/>
        </p:nvGraphicFramePr>
        <p:xfrm>
          <a:off x="4067280" y="2708280"/>
          <a:ext cx="1009440" cy="3171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2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67280" y="2708280"/>
                    <a:ext cx="1009440" cy="31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Заголовок 1"/>
          <p:cNvSpPr/>
          <p:nvPr/>
        </p:nvSpPr>
        <p:spPr>
          <a:xfrm>
            <a:off x="714240" y="785880"/>
            <a:ext cx="74995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495a74"/>
                </a:solidFill>
                <a:latin typeface="Calibri"/>
              </a:rPr>
              <a:t>УСТОЙЧИВОСТЬ И ИЗМЕНЧИВОСТЬ ЛИЧНОСТИ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Содержимое 2"/>
          <p:cNvSpPr/>
          <p:nvPr/>
        </p:nvSpPr>
        <p:spPr>
          <a:xfrm>
            <a:off x="500040" y="2500200"/>
            <a:ext cx="4038480" cy="3557880"/>
          </a:xfrm>
          <a:prstGeom prst="rect">
            <a:avLst/>
          </a:prstGeom>
          <a:solidFill>
            <a:srgbClr val="faa4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стойчивость личности проявляется в таких чертах, как направленность, жизненные установки и убежде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Содержимое 3"/>
          <p:cNvSpPr/>
          <p:nvPr/>
        </p:nvSpPr>
        <p:spPr>
          <a:xfrm>
            <a:off x="4691160" y="2500200"/>
            <a:ext cx="4038480" cy="3557880"/>
          </a:xfrm>
          <a:prstGeom prst="rect">
            <a:avLst/>
          </a:prstGeom>
          <a:solidFill>
            <a:srgbClr val="b7e7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зменчивость личности может проявляться как в изменчивости моделей поведения, так и в смене настроений, эмоций, жизненного опыт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Заголовок 6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495a74"/>
                </a:solidFill>
                <a:latin typeface="Calibri"/>
              </a:rPr>
              <a:t>МНОГОУРОВНЕВЫЕ МОДЕЛИ СТРУКТУРЫ ЛИЧНОСТИ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Содержимое 8" descr=""/>
          <p:cNvPicPr/>
          <p:nvPr/>
        </p:nvPicPr>
        <p:blipFill>
          <a:blip r:embed="rId1"/>
          <a:stretch/>
        </p:blipFill>
        <p:spPr>
          <a:xfrm>
            <a:off x="426960" y="1689120"/>
            <a:ext cx="8558280" cy="48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Рисунок 1" descr="3Ma-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Заголовок 6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95a74"/>
                </a:solidFill>
                <a:latin typeface="Calibri"/>
              </a:rPr>
              <a:t>Структура личности по З.Фрей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Содержимое 9" descr=""/>
          <p:cNvPicPr/>
          <p:nvPr/>
        </p:nvPicPr>
        <p:blipFill>
          <a:blip r:embed="rId1"/>
          <a:stretch/>
        </p:blipFill>
        <p:spPr>
          <a:xfrm>
            <a:off x="457200" y="1566720"/>
            <a:ext cx="6272280" cy="4999320"/>
          </a:xfrm>
          <a:prstGeom prst="rect">
            <a:avLst/>
          </a:prstGeom>
          <a:ln w="0">
            <a:noFill/>
          </a:ln>
        </p:spPr>
      </p:pic>
      <p:pic>
        <p:nvPicPr>
          <p:cNvPr id="241" name="Содержимое 10" descr="Freud.jpg"/>
          <p:cNvPicPr/>
          <p:nvPr/>
        </p:nvPicPr>
        <p:blipFill>
          <a:blip r:embed="rId2"/>
          <a:stretch/>
        </p:blipFill>
        <p:spPr>
          <a:xfrm>
            <a:off x="6443640" y="1628640"/>
            <a:ext cx="2232000" cy="225756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6300720" y="3933720"/>
            <a:ext cx="2519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игмунд Фрейд (1856—1939 г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оположник психоанализ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Рисунок 5" descr="freudsmind.gif"/>
          <p:cNvPicPr/>
          <p:nvPr/>
        </p:nvPicPr>
        <p:blipFill>
          <a:blip r:embed="rId3"/>
          <a:stretch/>
        </p:blipFill>
        <p:spPr>
          <a:xfrm>
            <a:off x="6372360" y="4508640"/>
            <a:ext cx="230328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5"/>
          <p:cNvSpPr/>
          <p:nvPr/>
        </p:nvSpPr>
        <p:spPr>
          <a:xfrm>
            <a:off x="395280" y="907920"/>
            <a:ext cx="8497800" cy="57636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2987640" y="98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уктура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95280" y="2133720"/>
            <a:ext cx="2590920" cy="403200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8"/>
          <p:cNvSpPr/>
          <p:nvPr/>
        </p:nvSpPr>
        <p:spPr>
          <a:xfrm>
            <a:off x="3276720" y="2133720"/>
            <a:ext cx="2590560" cy="403200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9"/>
          <p:cNvSpPr/>
          <p:nvPr/>
        </p:nvSpPr>
        <p:spPr>
          <a:xfrm>
            <a:off x="6227640" y="2133720"/>
            <a:ext cx="2590920" cy="403200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0"/>
          <p:cNvSpPr/>
          <p:nvPr/>
        </p:nvSpPr>
        <p:spPr>
          <a:xfrm>
            <a:off x="468360" y="2421000"/>
            <a:ext cx="2448000" cy="19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оциальный стату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сто человека  в системе общественных отнош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3348000" y="2421000"/>
            <a:ext cx="2448000" cy="42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оциальная р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з поведения, одобренный нормативно и соответствующий социальному статус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2"/>
          <p:cNvSpPr/>
          <p:nvPr/>
        </p:nvSpPr>
        <p:spPr>
          <a:xfrm>
            <a:off x="6300720" y="2349360"/>
            <a:ext cx="237492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Направл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требности, интересы, взгляды, идеалы, мотивы пове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3"/>
          <p:cNvSpPr/>
          <p:nvPr/>
        </p:nvSpPr>
        <p:spPr>
          <a:xfrm>
            <a:off x="1619280" y="1484280"/>
            <a:ext cx="0" cy="649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4"/>
          <p:cNvSpPr/>
          <p:nvPr/>
        </p:nvSpPr>
        <p:spPr>
          <a:xfrm>
            <a:off x="4500720" y="1484280"/>
            <a:ext cx="0" cy="649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5"/>
          <p:cNvSpPr/>
          <p:nvPr/>
        </p:nvSpPr>
        <p:spPr>
          <a:xfrm>
            <a:off x="7451640" y="1484280"/>
            <a:ext cx="0" cy="649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4"/>
          <p:cNvSpPr/>
          <p:nvPr/>
        </p:nvSpPr>
        <p:spPr>
          <a:xfrm>
            <a:off x="324000" y="1341360"/>
            <a:ext cx="8569080" cy="57492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684360" y="1413000"/>
            <a:ext cx="799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акторы формирования ли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250920" y="2565360"/>
            <a:ext cx="2592360" cy="396072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3276720" y="2565360"/>
            <a:ext cx="2592360" cy="396072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8"/>
          <p:cNvSpPr/>
          <p:nvPr/>
        </p:nvSpPr>
        <p:spPr>
          <a:xfrm>
            <a:off x="6300720" y="2565360"/>
            <a:ext cx="2592360" cy="396072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9"/>
          <p:cNvSpPr/>
          <p:nvPr/>
        </p:nvSpPr>
        <p:spPr>
          <a:xfrm>
            <a:off x="324000" y="2637000"/>
            <a:ext cx="2519280" cy="36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Наследственные факто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обенности физиологии высшей нервн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атомо- физиологические особ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т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0"/>
          <p:cNvSpPr/>
          <p:nvPr/>
        </p:nvSpPr>
        <p:spPr>
          <a:xfrm>
            <a:off x="3419640" y="2637000"/>
            <a:ext cx="230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1"/>
          <p:cNvSpPr/>
          <p:nvPr/>
        </p:nvSpPr>
        <p:spPr>
          <a:xfrm>
            <a:off x="3348000" y="2565360"/>
            <a:ext cx="237636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оциальные факто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кроср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кроср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удовая де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щ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спит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мовоспит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2"/>
          <p:cNvSpPr/>
          <p:nvPr/>
        </p:nvSpPr>
        <p:spPr>
          <a:xfrm>
            <a:off x="6372360" y="2781360"/>
            <a:ext cx="23763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иродно – географические факто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еда обит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3"/>
          <p:cNvSpPr/>
          <p:nvPr/>
        </p:nvSpPr>
        <p:spPr>
          <a:xfrm>
            <a:off x="1476360" y="1916280"/>
            <a:ext cx="0" cy="649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4"/>
          <p:cNvSpPr/>
          <p:nvPr/>
        </p:nvSpPr>
        <p:spPr>
          <a:xfrm>
            <a:off x="4427640" y="1916280"/>
            <a:ext cx="0" cy="649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5"/>
          <p:cNvSpPr/>
          <p:nvPr/>
        </p:nvSpPr>
        <p:spPr>
          <a:xfrm>
            <a:off x="7524720" y="1916280"/>
            <a:ext cx="0" cy="649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569440" cy="89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5b6f"/>
                </a:solidFill>
                <a:latin typeface="Calibri"/>
              </a:rPr>
              <a:t>Время рождения личности</a:t>
            </a:r>
            <a:br>
              <a:rPr sz="2900"/>
            </a:br>
            <a:endParaRPr b="0" lang="en-US" sz="32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68" name="Line 7"/>
          <p:cNvSpPr/>
          <p:nvPr/>
        </p:nvSpPr>
        <p:spPr>
          <a:xfrm>
            <a:off x="900000" y="5373720"/>
            <a:ext cx="7920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8"/>
          <p:cNvSpPr/>
          <p:nvPr/>
        </p:nvSpPr>
        <p:spPr>
          <a:xfrm flipV="1">
            <a:off x="900000" y="1268280"/>
            <a:ext cx="0" cy="4105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9"/>
          <p:cNvSpPr/>
          <p:nvPr/>
        </p:nvSpPr>
        <p:spPr>
          <a:xfrm>
            <a:off x="900000" y="1268280"/>
            <a:ext cx="770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0"/>
          <p:cNvSpPr/>
          <p:nvPr/>
        </p:nvSpPr>
        <p:spPr>
          <a:xfrm flipV="1">
            <a:off x="2268360" y="1989000"/>
            <a:ext cx="0" cy="338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1"/>
          <p:cNvSpPr/>
          <p:nvPr/>
        </p:nvSpPr>
        <p:spPr>
          <a:xfrm>
            <a:off x="2268360" y="1989000"/>
            <a:ext cx="633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7"/>
          <p:cNvSpPr/>
          <p:nvPr/>
        </p:nvSpPr>
        <p:spPr>
          <a:xfrm flipV="1">
            <a:off x="3708360" y="2781000"/>
            <a:ext cx="0" cy="259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18"/>
          <p:cNvSpPr/>
          <p:nvPr/>
        </p:nvSpPr>
        <p:spPr>
          <a:xfrm>
            <a:off x="3708360" y="2781360"/>
            <a:ext cx="482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1"/>
          <p:cNvSpPr/>
          <p:nvPr/>
        </p:nvSpPr>
        <p:spPr>
          <a:xfrm flipV="1">
            <a:off x="5076720" y="3573000"/>
            <a:ext cx="0" cy="180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2"/>
          <p:cNvSpPr/>
          <p:nvPr/>
        </p:nvSpPr>
        <p:spPr>
          <a:xfrm>
            <a:off x="5076720" y="3573360"/>
            <a:ext cx="345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23"/>
          <p:cNvSpPr/>
          <p:nvPr/>
        </p:nvSpPr>
        <p:spPr>
          <a:xfrm>
            <a:off x="3708360" y="5373720"/>
            <a:ext cx="1368360" cy="79200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4"/>
          <p:cNvSpPr/>
          <p:nvPr/>
        </p:nvSpPr>
        <p:spPr>
          <a:xfrm>
            <a:off x="3708360" y="53737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,5 года – 17,5 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5"/>
          <p:cNvSpPr/>
          <p:nvPr/>
        </p:nvSpPr>
        <p:spPr>
          <a:xfrm>
            <a:off x="900000" y="5373720"/>
            <a:ext cx="1368360" cy="79200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26"/>
          <p:cNvSpPr/>
          <p:nvPr/>
        </p:nvSpPr>
        <p:spPr>
          <a:xfrm>
            <a:off x="971640" y="537372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0 – 9 месяц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27"/>
          <p:cNvSpPr/>
          <p:nvPr/>
        </p:nvSpPr>
        <p:spPr>
          <a:xfrm>
            <a:off x="2268360" y="5373720"/>
            <a:ext cx="1440000" cy="79200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28"/>
          <p:cNvSpPr/>
          <p:nvPr/>
        </p:nvSpPr>
        <p:spPr>
          <a:xfrm>
            <a:off x="2340000" y="53737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9 месяцев – 2,5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9"/>
          <p:cNvSpPr/>
          <p:nvPr/>
        </p:nvSpPr>
        <p:spPr>
          <a:xfrm>
            <a:off x="2268360" y="1341360"/>
            <a:ext cx="1872000" cy="57492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0"/>
          <p:cNvSpPr/>
          <p:nvPr/>
        </p:nvSpPr>
        <p:spPr>
          <a:xfrm>
            <a:off x="2340000" y="1484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ело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31"/>
          <p:cNvSpPr/>
          <p:nvPr/>
        </p:nvSpPr>
        <p:spPr>
          <a:xfrm>
            <a:off x="3708360" y="2060640"/>
            <a:ext cx="4464000" cy="64764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33"/>
          <p:cNvSpPr/>
          <p:nvPr/>
        </p:nvSpPr>
        <p:spPr>
          <a:xfrm>
            <a:off x="3851280" y="220500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дивид, индивидуа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34"/>
          <p:cNvSpPr/>
          <p:nvPr/>
        </p:nvSpPr>
        <p:spPr>
          <a:xfrm>
            <a:off x="5076720" y="2852640"/>
            <a:ext cx="3095640" cy="64764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35"/>
          <p:cNvSpPr/>
          <p:nvPr/>
        </p:nvSpPr>
        <p:spPr>
          <a:xfrm>
            <a:off x="5076720" y="292428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вые черты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6"/>
          <p:cNvSpPr/>
          <p:nvPr/>
        </p:nvSpPr>
        <p:spPr>
          <a:xfrm>
            <a:off x="5076720" y="5373720"/>
            <a:ext cx="3167280" cy="79200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7"/>
          <p:cNvSpPr/>
          <p:nvPr/>
        </p:nvSpPr>
        <p:spPr>
          <a:xfrm>
            <a:off x="5219640" y="544500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7,5 лет – 24 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38"/>
          <p:cNvSpPr/>
          <p:nvPr/>
        </p:nvSpPr>
        <p:spPr>
          <a:xfrm>
            <a:off x="5219640" y="3645000"/>
            <a:ext cx="3313080" cy="1584360"/>
          </a:xfrm>
          <a:prstGeom prst="rect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39"/>
          <p:cNvSpPr/>
          <p:nvPr/>
        </p:nvSpPr>
        <p:spPr>
          <a:xfrm>
            <a:off x="5292720" y="3933720"/>
            <a:ext cx="316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ирование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4e5b6f"/>
                </a:solidFill>
                <a:latin typeface="Calibri"/>
              </a:rPr>
              <a:t>ПЛАН</a:t>
            </a:r>
            <a:endParaRPr b="0" lang="en-US" sz="66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Понятие «человек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Понятие «индивид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Понятие «индивидуальность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Понятие «личность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Два подхода в определении личност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Факторы формирования личност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ремя рождения личност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труктура личност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95a74"/>
                </a:solidFill>
                <a:latin typeface="Calibri"/>
              </a:rPr>
              <a:t>СОЦИАЛИЗАЦИЯ ЛИЧНОСТ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457200" y="1600200"/>
          <a:ext cx="8229600" cy="47228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74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оциализация –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усвоение социального опыта, как специально обработанного для усвоения, так и необработанного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оспитание 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номерный, целенаправленный процесс по формированию качеств личности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03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При возникновении противоречий между нормами, усваиваемыми в процессе воспитания и социализации, побеждают как правило последнии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4"/>
          <p:cNvSpPr/>
          <p:nvPr/>
        </p:nvSpPr>
        <p:spPr>
          <a:xfrm>
            <a:off x="457200" y="0"/>
            <a:ext cx="8229600" cy="54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95a74"/>
                </a:solidFill>
                <a:latin typeface="Calibri"/>
              </a:rPr>
              <a:t>СТАДИИ СОЦИАЛИЗАЦИИ ЛИЧ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250920" y="692280"/>
          <a:ext cx="8713800" cy="5876640"/>
        </p:xfrm>
        <a:graphic>
          <a:graphicData uri="http://schemas.openxmlformats.org/drawingml/2006/table">
            <a:tbl>
              <a:tblPr/>
              <a:tblGrid>
                <a:gridCol w="1584360"/>
                <a:gridCol w="2592360"/>
                <a:gridCol w="45370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апы жиз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дии социал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ние стад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6640">
                <a:tc rowSpan="3"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етство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ю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a4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Адапта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a4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критическое усвоение социального опыта, подражание окружающи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a4ee"/>
                    </a:solidFill>
                  </a:tcPr>
                </a:tc>
              </a:tr>
              <a:tr h="1069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Индивидуализ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a4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лание выделиться, критическое отношение и неприятие социального опыта окружающих, желание найти «свой путь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a4ee"/>
                    </a:solidFill>
                  </a:tcPr>
                </a:tc>
              </a:tr>
              <a:tr h="926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Интегра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a4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ливание в обществ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a4ee"/>
                    </a:solidFill>
                  </a:tcPr>
                </a:tc>
              </a:tr>
              <a:tr h="1385280"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Зрел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Коррек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способление к новым социальным роля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925920"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тар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78d28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Хран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78d28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ранение и передача социального опыт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78d28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5b6f"/>
                </a:solidFill>
                <a:latin typeface="Calibri"/>
              </a:rPr>
              <a:t>Выводы</a:t>
            </a:r>
            <a:endParaRPr b="0" lang="en-US" sz="36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уществует триединство понятий определяющее сущность человека: индивид, индивидуальнсть, личность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Каждое понятие характеризует определенный этап в развитии человек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амым сложным процессом является процесс формирования личност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e5b6f"/>
                </a:solidFill>
                <a:latin typeface="Calibri"/>
              </a:rPr>
              <a:t>ЧЕЛОВЕК</a:t>
            </a:r>
            <a:endParaRPr b="0" lang="en-US" sz="5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это социально-биологическое существо, воплощающее собой высшую ступень в эволюции жизни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является субъектом общественно-исторической деятельности и общения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онятие «человек» используется как предельно общее понятие для характеристики всеобщих, присущих всем людям качеств и способностей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92880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500" spc="-1" strike="noStrike">
                <a:solidFill>
                  <a:srgbClr val="4e5b6f"/>
                </a:solidFill>
                <a:latin typeface="Calibri"/>
              </a:rPr>
              <a:t>Основные характеристики человека</a:t>
            </a:r>
            <a:endParaRPr b="0" lang="en-US" sz="45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2357280"/>
            <a:ext cx="822960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9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особое строение организма (прямохождение);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способность к трудовой деятельности (преобразование окружающей среды);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наличие сознания (мышление и речь)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e5b6f"/>
                </a:solidFill>
                <a:latin typeface="Calibri"/>
              </a:rPr>
              <a:t>ИНДИВИД</a:t>
            </a:r>
            <a:endParaRPr b="0" lang="en-US" sz="5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79280" y="1857240"/>
            <a:ext cx="878544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Индивид (от латинского- неделимый) – это единичный конкретный человек, представитель вид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Индивид – это один из людей, наделенный типичными признаками: разумом, волей, потребностями, интересам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Индивид – Н.В.Гоголь – русский писатель, Иван – крестьянин Саратовской губернии, Юрий Гагарин – летчик - космонавт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e5b6f"/>
                </a:solidFill>
                <a:latin typeface="Calibri"/>
              </a:rPr>
              <a:t>ИНДИВИДУАЛЬНОСТЬ</a:t>
            </a:r>
            <a:endParaRPr b="0" lang="en-US" sz="5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28400" y="2071440"/>
            <a:ext cx="8032680" cy="42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Индивидуальность-это особенность, неповторимое своеобразие отдельного человек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Термин дает возможность характеризовать отличия конкретного человека от других людей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Индивидуальность человека – это  учет личных особенностей: внешний облик, манера поведения, характер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2214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e5b6f"/>
                </a:solidFill>
                <a:latin typeface="Calibri"/>
              </a:rPr>
              <a:t>Индивид и индивидуальность – различия в понятиях</a:t>
            </a: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79280" y="2642760"/>
            <a:ext cx="8785440" cy="39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Понятие индивид рассматривает человека, как отдельную особь среди других людей, например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« 20 марта 1809 года в Сорочинцах в семье помещика Василия Гоголя -  Яновского родился сын , крещенный именем Николай»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457200" y="1000080"/>
            <a:ext cx="8229600" cy="53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Понятие индивидуальность рассматривает личные особенности человека, т.е. черты, свойства, которые отличали именно Гоголя, например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«… Он начал рано читать, с пяти лет писал стихи, прилежно учился в гимназии, впоследствии стал писателем, за творчеством которого следила читающая Россия…»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Таким образом, в человеке есть единство типичного и неповторимого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e5b6f"/>
                </a:solidFill>
                <a:latin typeface="Calibri"/>
              </a:rPr>
              <a:t>ОБРАЗ ЧЕЛОВЕКА</a:t>
            </a: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10" name="Oval 4"/>
          <p:cNvSpPr/>
          <p:nvPr/>
        </p:nvSpPr>
        <p:spPr>
          <a:xfrm>
            <a:off x="2627280" y="3573360"/>
            <a:ext cx="3672000" cy="2951280"/>
          </a:xfrm>
          <a:prstGeom prst="ellipse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3708360" y="4797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ч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7"/>
          <p:cNvSpPr/>
          <p:nvPr/>
        </p:nvSpPr>
        <p:spPr>
          <a:xfrm>
            <a:off x="826920" y="1197000"/>
            <a:ext cx="3816360" cy="2879640"/>
          </a:xfrm>
          <a:prstGeom prst="ellipse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8"/>
          <p:cNvSpPr/>
          <p:nvPr/>
        </p:nvSpPr>
        <p:spPr>
          <a:xfrm>
            <a:off x="4643280" y="1268280"/>
            <a:ext cx="3745080" cy="2952720"/>
          </a:xfrm>
          <a:prstGeom prst="ellipse">
            <a:avLst/>
          </a:prstGeom>
          <a:solidFill>
            <a:srgbClr val="7fd1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1692360" y="249228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див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4932360" y="256536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дивидуа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1"/>
          <p:cNvSpPr/>
          <p:nvPr/>
        </p:nvSpPr>
        <p:spPr>
          <a:xfrm>
            <a:off x="826920" y="1125360"/>
            <a:ext cx="0" cy="547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2"/>
          <p:cNvSpPr/>
          <p:nvPr/>
        </p:nvSpPr>
        <p:spPr>
          <a:xfrm>
            <a:off x="826920" y="1125360"/>
            <a:ext cx="7634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3"/>
          <p:cNvSpPr/>
          <p:nvPr/>
        </p:nvSpPr>
        <p:spPr>
          <a:xfrm>
            <a:off x="755640" y="6524640"/>
            <a:ext cx="763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4"/>
          <p:cNvSpPr/>
          <p:nvPr/>
        </p:nvSpPr>
        <p:spPr>
          <a:xfrm flipH="1">
            <a:off x="8388000" y="1125360"/>
            <a:ext cx="73080" cy="547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7T16:07:39Z</dcterms:created>
  <dc:creator>Admin</dc:creator>
  <dc:description/>
  <dc:language>en-US</dc:language>
  <cp:lastModifiedBy>arsalanbalzhimaev@gmail.com</cp:lastModifiedBy>
  <dcterms:modified xsi:type="dcterms:W3CDTF">2022-01-16T15:58:10Z</dcterms:modified>
  <cp:revision>14</cp:revision>
  <dc:subject/>
  <dc:title>Индивид Индивидуальность Личность</dc:title>
</cp:coreProperties>
</file>