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5D6C-FCE7-4FB5-8CC9-84A3CC19FA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8C22-ED29-42C0-BED5-BDD95BFE47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75E3-F2EE-41C1-B0FB-EDB49A767B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9119-FCF5-4F9F-81C9-6A825433DD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F963-2847-4912-B7EF-8BAE04B827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E198-4C55-48AC-A8C0-0D9D178DFA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AED7-2B9B-4D7C-AFBF-F2B75A19FB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7070-09D8-4487-94CF-9D4D4D8963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95F6-6D47-4652-9733-E47F6B59E9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24E4-7EF4-42D6-A95F-EDA7836F36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1933-8AD0-4ED5-B2B8-972F9D00D1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46FA-6D1B-4F20-9F42-4B4261B47D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7919-E27F-4AEB-8DFA-886F5766DD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3F45-4DF5-46A6-AA7C-6D2C0EEFF3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605-823E-4547-8A45-80D223A6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FC4-FB52-4B87-816A-907864A1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F5D-49DF-4A76-BF48-9343EA5C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BCC-8F90-4D1F-96FE-2938C0A3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44D1C-12ED-4A5C-9890-949C4BCB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12023-29CE-4640-BDE9-BA7AA2A2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CCEC1-0D7A-4609-BC9B-C57FEB4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E058C-FA07-49A9-8361-B72FF64B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90E53-7E53-4EFB-BE82-9E2D1EA1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8210C-A712-43DC-BC27-BB797E01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F503E-2AA1-4CEB-B180-FD49357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A43-9777-42AC-B299-60B582AD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A972F-9943-4D78-895D-E9DE9ED0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F6F74-EDAA-40AE-A26E-80688D28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52942-8EEF-47EB-9270-71082847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BE908-61D0-4F29-8A8D-1465CEEC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398FC-D221-4012-8A5C-A54BEBD4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B0E1-BA50-4581-86F5-CE49AB96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7AED-181C-49B6-9978-FA20DD4C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78BA-296C-4771-B990-04AF8F52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D405-0D9D-446E-B5F5-487BF5D4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3704-C179-41C1-A419-B1A5E34E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F9F-9A10-4547-B0C8-D970E30C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4143-47E6-492A-A908-A5E2A463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C765-391B-44C4-8EC9-3AC0DF93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0608-B547-42DC-9E17-AA879E4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9098-ADDF-4F82-B87F-63C0814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29E5-3A4D-4584-8AB2-67A14D4B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3709-30A1-4E5C-9269-84F5FC88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6C12-5E4F-468D-98F5-09D62631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C97EF-62FC-493A-8A79-733512B0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3C3AB2-1DED-4066-AD4A-ABBB0198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E65A2-0EF0-47F3-A819-9601B360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DC9-405F-4319-858A-97865BE2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A91D5-4491-4393-A41F-8CC6AAA3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DDE76-2825-4877-AA41-EF12711E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CA7D4-B26C-4DF5-A561-715D82F9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30999-6417-43A4-AE8A-D6FB1750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A078C-C4D6-4B66-A47D-CC2B508F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1C6CBC-B7DB-4FCC-BFBA-F0FC0C2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77E60-2A98-4F76-B29B-82ABCE80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E302D-44AC-46CE-B599-72410A7A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E57AD-7AF1-468A-A04D-42FA09E7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99339-02CE-4086-9477-E6952661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FAD-6F82-448B-847B-3DFB42A1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22F12-7444-4AC4-BB89-87CF5C34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98641-EA33-4822-9306-37BAAB7C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29F65-4543-4FED-BB6F-C313F8D9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965BF-0FE2-4E36-937E-9EB27778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ED007-0B87-4563-9111-DFDD2FA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F1A31-2BB0-4C31-9924-422B9EF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56CA7-1F3F-4825-B2F2-0CAD2679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7FBF4-98B9-452B-BCFB-5598073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CB71A-4FA2-4525-9D3C-77BF017E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4B698-78C5-490F-A66E-74004BB1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E17-A093-4CEB-A2D1-AA30CE79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AF5A6-7AD7-4FF4-89C6-F259FDAC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BEF45-4367-4CCC-BB35-C6700E97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707BE-72D7-4430-A801-A9C786F0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BABE9-3C88-4E7C-A74E-F5A5E8CF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D57B7-8545-4CC7-969E-A5A6E01C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71298-6D5C-4109-A9CE-0FCA9F21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37614-AC00-4487-8BBF-DFBFDDD4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4D220-418B-4A85-95A0-F14B2479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B9114-9B53-461F-B60C-BD5F0DAA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80BF8-8FC0-409C-A88F-61B4C9C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BFC-426A-4C2B-BC67-A36E46DA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CF24F-5D2F-418E-93C8-C0C946B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5879F-05D5-43D1-99C2-D805C84C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DB17E-9129-451A-B56C-D8070725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1E2-A972-436B-9C1E-E9C84B5B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4CF-00EE-46D4-9852-C719A0D2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A493-53B4-4B7E-8AE9-0F10D03E83A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D71B-5C36-4D03-8522-A99C3F1BE3A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4C0-980D-4FA0-A8B2-FEB34723CD6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144E-FC0A-44D6-B844-2B5AAEB0CC4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6600-6D42-4F41-AEA6-18D6825FA61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7440-ED93-431F-9ECA-F0917A080BB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35164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841320" y="189000"/>
            <a:ext cx="7083360" cy="360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270080" y="692280"/>
            <a:ext cx="6602400" cy="744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250920" y="1739880"/>
            <a:ext cx="1547640" cy="1395360"/>
          </a:xfrm>
          <a:prstGeom prst="rect">
            <a:avLst/>
          </a:prstGeom>
          <a:ln w="0">
            <a:noFill/>
          </a:ln>
        </p:spPr>
      </p:pic>
      <p:sp>
        <p:nvSpPr>
          <p:cNvPr id="355" name="Багетная рамка 1"/>
          <p:cNvSpPr/>
          <p:nvPr/>
        </p:nvSpPr>
        <p:spPr>
          <a:xfrm>
            <a:off x="2050920" y="1643040"/>
            <a:ext cx="6050160" cy="84132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Обязанности  граждан перед государством в гражданском обществ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Блок-схема: процесс 4"/>
          <p:cNvSpPr/>
          <p:nvPr/>
        </p:nvSpPr>
        <p:spPr>
          <a:xfrm>
            <a:off x="1908000" y="2924280"/>
            <a:ext cx="2448000" cy="79848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Уплата налогов и сборов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Блок-схема: процесс 7"/>
          <p:cNvSpPr/>
          <p:nvPr/>
        </p:nvSpPr>
        <p:spPr>
          <a:xfrm>
            <a:off x="4932360" y="2924280"/>
            <a:ext cx="3743280" cy="79848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Соблюдение законных прав и интересов других лиц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Блок-схема: процесс 8"/>
          <p:cNvSpPr/>
          <p:nvPr/>
        </p:nvSpPr>
        <p:spPr>
          <a:xfrm>
            <a:off x="250920" y="3860640"/>
            <a:ext cx="4105080" cy="129708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Недопущение экономической деятельности, направленной на монополизацию или недобросовестную конкуренцию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Блок-схема: процесс 9"/>
          <p:cNvSpPr/>
          <p:nvPr/>
        </p:nvSpPr>
        <p:spPr>
          <a:xfrm>
            <a:off x="4932360" y="3860640"/>
            <a:ext cx="3743280" cy="86364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Забота о сохранении культурного наследия,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Блок-схема: процесс 10"/>
          <p:cNvSpPr/>
          <p:nvPr/>
        </p:nvSpPr>
        <p:spPr>
          <a:xfrm>
            <a:off x="4932360" y="4869000"/>
            <a:ext cx="3743280" cy="57600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Забота о природной сред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Блок-схема: процесс 11"/>
          <p:cNvSpPr/>
          <p:nvPr/>
        </p:nvSpPr>
        <p:spPr>
          <a:xfrm>
            <a:off x="250920" y="5300640"/>
            <a:ext cx="4105080" cy="108108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Забота о детях и нетрудоспособных родителях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Блок-схема: процесс 12"/>
          <p:cNvSpPr/>
          <p:nvPr/>
        </p:nvSpPr>
        <p:spPr>
          <a:xfrm>
            <a:off x="4932360" y="5589720"/>
            <a:ext cx="3743280" cy="79200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Защита Отечества 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14"/>
          <p:cNvSpPr/>
          <p:nvPr/>
        </p:nvSpPr>
        <p:spPr>
          <a:xfrm>
            <a:off x="4570560" y="2484360"/>
            <a:ext cx="0" cy="839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16"/>
          <p:cNvSpPr/>
          <p:nvPr/>
        </p:nvSpPr>
        <p:spPr>
          <a:xfrm flipH="1">
            <a:off x="4356000" y="3324240"/>
            <a:ext cx="214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18"/>
          <p:cNvSpPr/>
          <p:nvPr/>
        </p:nvSpPr>
        <p:spPr>
          <a:xfrm>
            <a:off x="4570560" y="3324240"/>
            <a:ext cx="361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20"/>
          <p:cNvSpPr/>
          <p:nvPr/>
        </p:nvSpPr>
        <p:spPr>
          <a:xfrm>
            <a:off x="4570560" y="3324240"/>
            <a:ext cx="0" cy="1041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23"/>
          <p:cNvSpPr/>
          <p:nvPr/>
        </p:nvSpPr>
        <p:spPr>
          <a:xfrm>
            <a:off x="4570560" y="4365720"/>
            <a:ext cx="361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ая соединительная линия 25"/>
          <p:cNvSpPr/>
          <p:nvPr/>
        </p:nvSpPr>
        <p:spPr>
          <a:xfrm>
            <a:off x="4570560" y="4365720"/>
            <a:ext cx="0" cy="35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27"/>
          <p:cNvSpPr/>
          <p:nvPr/>
        </p:nvSpPr>
        <p:spPr>
          <a:xfrm flipH="1">
            <a:off x="4356000" y="4724280"/>
            <a:ext cx="214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ая соединительная линия 29"/>
          <p:cNvSpPr/>
          <p:nvPr/>
        </p:nvSpPr>
        <p:spPr>
          <a:xfrm>
            <a:off x="4570560" y="4724280"/>
            <a:ext cx="0" cy="433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72703"/>
          <p:cNvSpPr/>
          <p:nvPr/>
        </p:nvSpPr>
        <p:spPr>
          <a:xfrm>
            <a:off x="4570560" y="5157720"/>
            <a:ext cx="361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72706"/>
          <p:cNvSpPr/>
          <p:nvPr/>
        </p:nvSpPr>
        <p:spPr>
          <a:xfrm>
            <a:off x="4570560" y="5157720"/>
            <a:ext cx="0" cy="6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72708"/>
          <p:cNvSpPr/>
          <p:nvPr/>
        </p:nvSpPr>
        <p:spPr>
          <a:xfrm flipH="1">
            <a:off x="4356000" y="5842080"/>
            <a:ext cx="214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ая соединительная линия 72710"/>
          <p:cNvSpPr/>
          <p:nvPr/>
        </p:nvSpPr>
        <p:spPr>
          <a:xfrm>
            <a:off x="4570560" y="5842080"/>
            <a:ext cx="0" cy="142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ая соединительная линия 72712"/>
          <p:cNvSpPr/>
          <p:nvPr/>
        </p:nvSpPr>
        <p:spPr>
          <a:xfrm>
            <a:off x="4570560" y="5985000"/>
            <a:ext cx="361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1987560" y="476280"/>
            <a:ext cx="7156440" cy="101772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14"/>
          <p:cNvSpPr/>
          <p:nvPr/>
        </p:nvSpPr>
        <p:spPr>
          <a:xfrm>
            <a:off x="5651640" y="2133720"/>
            <a:ext cx="144360" cy="15825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5"/>
          <p:cNvSpPr/>
          <p:nvPr/>
        </p:nvSpPr>
        <p:spPr>
          <a:xfrm>
            <a:off x="5724360" y="213372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0" y="4724280"/>
            <a:ext cx="91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0" y="1628640"/>
            <a:ext cx="1547640" cy="13957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6"/>
          <p:cNvSpPr/>
          <p:nvPr/>
        </p:nvSpPr>
        <p:spPr>
          <a:xfrm>
            <a:off x="1692360" y="1628640"/>
            <a:ext cx="727236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64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авовое государство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– государство, ограниченное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64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авом, действующее в интересах гражданского общества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64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 подчиненное ему, обеспечивает правовую автономию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64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ичности, возможность реализации ее прав и свобод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5"/>
          <p:cNvSpPr/>
          <p:nvPr/>
        </p:nvSpPr>
        <p:spPr>
          <a:xfrm>
            <a:off x="539640" y="3645000"/>
            <a:ext cx="792180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знаки правового государства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27"/>
          <p:cNvSpPr/>
          <p:nvPr/>
        </p:nvSpPr>
        <p:spPr>
          <a:xfrm>
            <a:off x="395280" y="4292640"/>
            <a:ext cx="2089080" cy="6490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ерховенство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ав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8"/>
          <p:cNvSpPr/>
          <p:nvPr/>
        </p:nvSpPr>
        <p:spPr>
          <a:xfrm>
            <a:off x="395280" y="5084640"/>
            <a:ext cx="2089080" cy="8654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вмешательство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частные дела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селения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9"/>
          <p:cNvSpPr/>
          <p:nvPr/>
        </p:nvSpPr>
        <p:spPr>
          <a:xfrm>
            <a:off x="395280" y="6093000"/>
            <a:ext cx="2089080" cy="647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азделение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ластей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30"/>
          <p:cNvSpPr/>
          <p:nvPr/>
        </p:nvSpPr>
        <p:spPr>
          <a:xfrm>
            <a:off x="3995640" y="4292640"/>
            <a:ext cx="4321440" cy="6490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иоритет интересов личности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1"/>
          <p:cNvSpPr/>
          <p:nvPr/>
        </p:nvSpPr>
        <p:spPr>
          <a:xfrm>
            <a:off x="3995640" y="5157720"/>
            <a:ext cx="4321440" cy="79236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арантирование прав и свобод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ичности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2"/>
          <p:cNvSpPr/>
          <p:nvPr/>
        </p:nvSpPr>
        <p:spPr>
          <a:xfrm>
            <a:off x="3995640" y="6093000"/>
            <a:ext cx="4392720" cy="576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заимная ответственность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ичности и государств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33"/>
          <p:cNvSpPr/>
          <p:nvPr/>
        </p:nvSpPr>
        <p:spPr>
          <a:xfrm>
            <a:off x="3132000" y="4076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34"/>
          <p:cNvSpPr/>
          <p:nvPr/>
        </p:nvSpPr>
        <p:spPr>
          <a:xfrm flipH="1">
            <a:off x="2484000" y="458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35"/>
          <p:cNvSpPr/>
          <p:nvPr/>
        </p:nvSpPr>
        <p:spPr>
          <a:xfrm>
            <a:off x="313200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36"/>
          <p:cNvSpPr/>
          <p:nvPr/>
        </p:nvSpPr>
        <p:spPr>
          <a:xfrm>
            <a:off x="3132000" y="4581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37"/>
          <p:cNvSpPr/>
          <p:nvPr/>
        </p:nvSpPr>
        <p:spPr>
          <a:xfrm flipH="1">
            <a:off x="2484000" y="5445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38"/>
          <p:cNvSpPr/>
          <p:nvPr/>
        </p:nvSpPr>
        <p:spPr>
          <a:xfrm>
            <a:off x="3132000" y="54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39"/>
          <p:cNvSpPr/>
          <p:nvPr/>
        </p:nvSpPr>
        <p:spPr>
          <a:xfrm>
            <a:off x="3132000" y="5445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0"/>
          <p:cNvSpPr/>
          <p:nvPr/>
        </p:nvSpPr>
        <p:spPr>
          <a:xfrm flipH="1">
            <a:off x="2484000" y="638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1"/>
          <p:cNvSpPr/>
          <p:nvPr/>
        </p:nvSpPr>
        <p:spPr>
          <a:xfrm>
            <a:off x="3132000" y="6381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399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1835280" y="1700280"/>
            <a:ext cx="65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ерховенство (господство) прав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5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9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15"/>
          <p:cNvSpPr/>
          <p:nvPr/>
        </p:nvSpPr>
        <p:spPr>
          <a:xfrm>
            <a:off x="4716360" y="206064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2050920" y="2421000"/>
            <a:ext cx="676908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2050920" y="2418480"/>
            <a:ext cx="67359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 формирование всех государственных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 строго на основе закона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250920" y="3429000"/>
            <a:ext cx="856908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ы должны быть справедливыми, основываться на естественных,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тъемлемых правах и свободах человека, не противоречить им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250920" y="4365720"/>
            <a:ext cx="856908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анность государства законами - определение правовых пределов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деятельности государства, его органов и должностных лиц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0"/>
          <p:cNvSpPr/>
          <p:nvPr/>
        </p:nvSpPr>
        <p:spPr>
          <a:xfrm>
            <a:off x="324000" y="5516640"/>
            <a:ext cx="8496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ховенство Конституции в системе нормативных правовых актов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онные нормы должны иметь прямое действие, т.е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посредственно  реализовываться без последующих актов.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412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1835280" y="1700280"/>
            <a:ext cx="65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арантированность реальных прав и свобод личност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5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9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15"/>
          <p:cNvSpPr/>
          <p:nvPr/>
        </p:nvSpPr>
        <p:spPr>
          <a:xfrm>
            <a:off x="4643280" y="2565360"/>
            <a:ext cx="648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250920" y="3141720"/>
            <a:ext cx="856908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 признает и гарантирует полный набор прав и свобод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чности, принадлежащих  человеку от рождения и потому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зыблемых, не отчуждаемых государственной властью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250920" y="4508640"/>
            <a:ext cx="856908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 призвано охранять и защищать эти права и свободы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произвола отдельных должностных лиц, государственных органов,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посягательств других субъектов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250920" y="5805360"/>
            <a:ext cx="849636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 закрепляет и реально обеспечивает равенство всех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дей перед законом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423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1835280" y="1700280"/>
            <a:ext cx="65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заимная ответственность государства и личност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5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9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5"/>
          <p:cNvSpPr/>
          <p:nvPr/>
        </p:nvSpPr>
        <p:spPr>
          <a:xfrm>
            <a:off x="4643280" y="2565360"/>
            <a:ext cx="648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250920" y="3141720"/>
            <a:ext cx="856908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чность и государство выступают равными партнерами и обладают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ными правами и обязанностями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250920" y="4076640"/>
            <a:ext cx="8569080" cy="13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 может требовать от государства обеспечения закрепленных в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и  прав и свобод, обеспечения своей безопасности со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ы государства, восстановления нарушенных прав и свобод,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ранения препятствий к их осуществлению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250920" y="5589720"/>
            <a:ext cx="849636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 может требовать от человека соблюдать Конституцию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ействующие законы, платить законно установленные налоги,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хранять природу и окружающую среду и др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434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1"/>
          <p:cNvSpPr/>
          <p:nvPr/>
        </p:nvSpPr>
        <p:spPr>
          <a:xfrm>
            <a:off x="1835280" y="1700280"/>
            <a:ext cx="65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Разделение властей (ветви власти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9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0" y="1484280"/>
            <a:ext cx="1547640" cy="139536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15"/>
          <p:cNvSpPr/>
          <p:nvPr/>
        </p:nvSpPr>
        <p:spPr>
          <a:xfrm>
            <a:off x="4643280" y="2349360"/>
            <a:ext cx="64800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250920" y="2924280"/>
            <a:ext cx="856908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ая из ветвей служит своеобразным противовесом другой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пределенным юридическим средством воздействия на другие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тви власти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250920" y="4149720"/>
            <a:ext cx="856908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енная власти функционирует на правовых основах, это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воляет регулировать действия каждой из ветвей и не допускать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центрации власти во всей полноте в одних руках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250920" y="5589720"/>
            <a:ext cx="849636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споры и конфликты между ветвями власти должны разрешаться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правовым путем с соблюдением установленной законом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овой процедуры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7128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Развитие идеи правового государ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Личность и гражданское обще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Признаки и понятие правого государ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901800" y="0"/>
            <a:ext cx="7156440" cy="141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93348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264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1835280" y="1700280"/>
            <a:ext cx="656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ервый этап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чатки теории правового государства в виде идеи господства права и закона в жизни общества и государства, построенного на правовых основах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8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250920" y="3259080"/>
            <a:ext cx="8655120" cy="360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а по мнению мыслителей этого времени может быть благодаря всеобщей человеческой деятельности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атон в своем сочинении «Политик» определял наилучшее государство исходя из формы государственного 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ристотель в своем сочинении «Политика» определял так называемые «правильные государственные устройства»;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руды школы софистов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ыводы трудов того времени: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мократия (правление большинства) – лучшая форма устройства государства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ятие «правовое государство» отсутствует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3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272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1835280" y="1700280"/>
            <a:ext cx="656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торой этап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я идеи о правовом государстве становятся фундаментальными (время позднего феодализма)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50920" y="2781360"/>
            <a:ext cx="8655120" cy="36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оформление внутреннего содержания данной идеи, определены ее внутренние элементы, конкретизированы основные принципы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. Макиавелли видел совершенное государство как «сильное», во главе которого стоит государь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Ж. Боден и Л. Сапега, основывались на господстве законов в обществе и справедливости.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ыводы трудов того времени: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тверждение идей демократии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государством осуществляет «верхушка»,народу при этом отводится не первостепенная роль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484280"/>
            <a:ext cx="1368360" cy="123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279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1835280" y="1700280"/>
            <a:ext cx="656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ретий этап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чественное развитие идеи правового государства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(времена буржуазных революций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50920" y="2781360"/>
            <a:ext cx="8655120" cy="38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ы новые элементы данной идеи, направления их дальнейшего развития и в определенной мере они были воплощены в практику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сновными представителями этого времени были Г. Гроций, Б. Спиноза, Т. Гобсс, Д. Локк, Ш.Л. Монтескье, Д. Дидро и другие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зднее над идеей правового государства работали немецкие ученые И. Кант, Г. Гегель, Ф. Моль, которым в определенной мере удалось достигнуть ограничения деятельности государственной власти через право.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ыводы трудов того времени: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власти государства посредством права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и охрана универсальных человеческих прав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484280"/>
            <a:ext cx="1368360" cy="123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286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835280" y="1700280"/>
            <a:ext cx="6568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0" y="4581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24000" y="3860640"/>
            <a:ext cx="8654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484280"/>
            <a:ext cx="1368360" cy="1233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1908000" y="1700280"/>
            <a:ext cx="1872000" cy="720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4067280" y="1700280"/>
            <a:ext cx="2017440" cy="720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6372360" y="1700280"/>
            <a:ext cx="2160360" cy="720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ражданин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12"/>
          <p:cNvSpPr/>
          <p:nvPr/>
        </p:nvSpPr>
        <p:spPr>
          <a:xfrm>
            <a:off x="3492360" y="4653000"/>
            <a:ext cx="2016360" cy="1871640"/>
          </a:xfrm>
          <a:prstGeom prst="ellipse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3"/>
          <p:cNvSpPr/>
          <p:nvPr/>
        </p:nvSpPr>
        <p:spPr>
          <a:xfrm>
            <a:off x="3780000" y="4941720"/>
            <a:ext cx="1511280" cy="1368720"/>
          </a:xfrm>
          <a:prstGeom prst="ellipse">
            <a:avLst/>
          </a:prstGeom>
          <a:solidFill>
            <a:srgbClr val="f3a447"/>
          </a:solidFill>
          <a:ln w="0">
            <a:noFill/>
          </a:ln>
          <a:effectLst>
            <a:outerShdw dist="17819" dir="2700000" blurRad="0" rotWithShape="0">
              <a:srgbClr val="92622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4211640" y="5229360"/>
            <a:ext cx="720720" cy="720720"/>
          </a:xfrm>
          <a:prstGeom prst="ellipse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4427640" y="486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2700360" y="4869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8"/>
          <p:cNvSpPr/>
          <p:nvPr/>
        </p:nvSpPr>
        <p:spPr>
          <a:xfrm flipV="1">
            <a:off x="2843280" y="5084280"/>
            <a:ext cx="1800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V="1">
            <a:off x="2700360" y="5589360"/>
            <a:ext cx="19429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2124000" y="4653000"/>
            <a:ext cx="576360" cy="504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2124000" y="5373720"/>
            <a:ext cx="647640" cy="576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2050920" y="6237360"/>
            <a:ext cx="649440" cy="431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23"/>
          <p:cNvSpPr/>
          <p:nvPr/>
        </p:nvSpPr>
        <p:spPr>
          <a:xfrm>
            <a:off x="179280" y="3141720"/>
            <a:ext cx="2664000" cy="1079280"/>
          </a:xfrm>
          <a:prstGeom prst="wedgeRectCallout">
            <a:avLst>
              <a:gd name="adj1" fmla="val 47199"/>
              <a:gd name="adj2" fmla="val -114560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Индивид, наделенный волей и сознанием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3059280" y="3068640"/>
            <a:ext cx="3313080" cy="1224000"/>
          </a:xfrm>
          <a:prstGeom prst="wedgeRectCallout">
            <a:avLst>
              <a:gd name="adj1" fmla="val -120"/>
              <a:gd name="adj2" fmla="val -106421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сихофизиологическое, биосоциальное существо, живущее в обществе себе подобных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5"/>
          <p:cNvSpPr/>
          <p:nvPr/>
        </p:nvSpPr>
        <p:spPr>
          <a:xfrm>
            <a:off x="6588000" y="3573360"/>
            <a:ext cx="2376720" cy="2664000"/>
          </a:xfrm>
          <a:prstGeom prst="wedgeRectCallout">
            <a:avLst>
              <a:gd name="adj1" fmla="val -16199"/>
              <a:gd name="adj2" fmla="val -9290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олитически свободная личность, состоящая в устойчивом правовом отношении с государством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156440" cy="99216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4"/>
          <p:cNvSpPr/>
          <p:nvPr/>
        </p:nvSpPr>
        <p:spPr>
          <a:xfrm>
            <a:off x="5651640" y="2133720"/>
            <a:ext cx="144360" cy="15825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5724360" y="213372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4724280"/>
            <a:ext cx="91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0" y="1628640"/>
            <a:ext cx="1547640" cy="13957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3"/>
          <p:cNvSpPr/>
          <p:nvPr/>
        </p:nvSpPr>
        <p:spPr>
          <a:xfrm>
            <a:off x="1619280" y="1773360"/>
            <a:ext cx="2016000" cy="647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Граждан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3851280" y="1773360"/>
            <a:ext cx="2160720" cy="647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Иностранцы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6227640" y="1773360"/>
            <a:ext cx="2592360" cy="647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Лица без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гражданств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1763640" y="2708280"/>
            <a:ext cx="7056360" cy="647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Физические лица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179280" y="4005360"/>
            <a:ext cx="2232000" cy="720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бщественные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бъединения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8"/>
          <p:cNvSpPr/>
          <p:nvPr/>
        </p:nvSpPr>
        <p:spPr>
          <a:xfrm flipH="1">
            <a:off x="1258560" y="3357720"/>
            <a:ext cx="3313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 rot="20985600">
            <a:off x="1258560" y="3212640"/>
            <a:ext cx="23050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образуют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5940360" y="4005360"/>
            <a:ext cx="2952720" cy="7189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рганы местного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самоуправления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5076720" y="3357720"/>
            <a:ext cx="2448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2"/>
          <p:cNvSpPr/>
          <p:nvPr/>
        </p:nvSpPr>
        <p:spPr>
          <a:xfrm rot="865200">
            <a:off x="5292720" y="3357360"/>
            <a:ext cx="259236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формируют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23"/>
          <p:cNvSpPr/>
          <p:nvPr/>
        </p:nvSpPr>
        <p:spPr>
          <a:xfrm>
            <a:off x="2754360" y="3498840"/>
            <a:ext cx="3095640" cy="2017800"/>
          </a:xfrm>
          <a:prstGeom prst="wedgeRectCallout">
            <a:avLst>
              <a:gd name="adj1" fmla="val -60615"/>
              <a:gd name="adj2" fmla="val -16560"/>
            </a:avLst>
          </a:prstGeom>
          <a:solidFill>
            <a:srgbClr val="000066"/>
          </a:solidFill>
          <a:ln w="9360">
            <a:solidFill>
              <a:srgbClr val="ffc000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000"/>
                </a:solidFill>
                <a:latin typeface="Arial"/>
              </a:rPr>
              <a:t>Добровольные, самоуправляемые инициативные общественные формирования, созданные для реализации общих целей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24"/>
          <p:cNvSpPr/>
          <p:nvPr/>
        </p:nvSpPr>
        <p:spPr>
          <a:xfrm>
            <a:off x="2782800" y="3619440"/>
            <a:ext cx="2737080" cy="1800360"/>
          </a:xfrm>
          <a:prstGeom prst="wedgeRectCallout">
            <a:avLst>
              <a:gd name="adj1" fmla="val 62800"/>
              <a:gd name="adj2" fmla="val -8305"/>
            </a:avLst>
          </a:prstGeom>
          <a:solidFill>
            <a:srgbClr val="000066"/>
          </a:solidFill>
          <a:ln w="9360">
            <a:solidFill>
              <a:srgbClr val="ffc000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000"/>
                </a:solidFill>
                <a:latin typeface="Arial"/>
              </a:rPr>
              <a:t>Негосударственные органы публичной власти, принимающие решения по вопросам местного значения в интересах населения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611280" y="5288040"/>
            <a:ext cx="792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Гражданское общество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625320" y="5719680"/>
            <a:ext cx="7920360" cy="10796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Совокупность физических лиц и общественных формирований,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снованных на общих интересах, реализуемых вн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государственной деятельности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27"/>
          <p:cNvSpPr/>
          <p:nvPr/>
        </p:nvSpPr>
        <p:spPr>
          <a:xfrm flipH="1">
            <a:off x="4746240" y="3357720"/>
            <a:ext cx="7164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255600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485928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30"/>
          <p:cNvSpPr/>
          <p:nvPr/>
        </p:nvSpPr>
        <p:spPr>
          <a:xfrm>
            <a:off x="752472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1" name="Прямая со стрелкой 4"/>
          <p:cNvCxnSpPr/>
          <p:nvPr/>
        </p:nvCxnSpPr>
        <p:spPr>
          <a:xfrm>
            <a:off x="1295280" y="4725720"/>
            <a:ext cx="1116720" cy="562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32" name="Прямая со стрелкой 6"/>
          <p:cNvCxnSpPr/>
          <p:nvPr/>
        </p:nvCxnSpPr>
        <p:spPr>
          <a:xfrm flipH="1">
            <a:off x="6300000" y="4725720"/>
            <a:ext cx="1296360" cy="562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334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1835280" y="1700280"/>
            <a:ext cx="65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изнаки гражданского обществ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5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88880" y="5229360"/>
            <a:ext cx="86551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9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10"/>
          <p:cNvSpPr/>
          <p:nvPr/>
        </p:nvSpPr>
        <p:spPr>
          <a:xfrm>
            <a:off x="250920" y="3429000"/>
            <a:ext cx="8640720" cy="64764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личие неотчуждаемых прав человека, их защит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11"/>
          <p:cNvSpPr/>
          <p:nvPr/>
        </p:nvSpPr>
        <p:spPr>
          <a:xfrm>
            <a:off x="250920" y="4221000"/>
            <a:ext cx="8642160" cy="64800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амоуправляемость, самоорганизованность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2"/>
          <p:cNvSpPr/>
          <p:nvPr/>
        </p:nvSpPr>
        <p:spPr>
          <a:xfrm>
            <a:off x="250920" y="5013360"/>
            <a:ext cx="8642160" cy="72072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ткрытость: гласность политических мероприятий; свобода доступа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 источникам информации; свобода слова, убеждений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3"/>
          <p:cNvSpPr/>
          <p:nvPr/>
        </p:nvSpPr>
        <p:spPr>
          <a:xfrm>
            <a:off x="250920" y="5877000"/>
            <a:ext cx="8642160" cy="76500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ерховенством правового закона и равенство перед законом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5"/>
          <p:cNvSpPr/>
          <p:nvPr/>
        </p:nvSpPr>
        <p:spPr>
          <a:xfrm>
            <a:off x="4716360" y="213372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16"/>
          <p:cNvSpPr/>
          <p:nvPr/>
        </p:nvSpPr>
        <p:spPr>
          <a:xfrm>
            <a:off x="1908000" y="2565360"/>
            <a:ext cx="6985080" cy="71928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кономическая и социальная свобода членов общества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270080" y="692280"/>
            <a:ext cx="6602400" cy="744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250920" y="1739880"/>
            <a:ext cx="154764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Багетная рамка 1"/>
          <p:cNvSpPr/>
          <p:nvPr/>
        </p:nvSpPr>
        <p:spPr>
          <a:xfrm>
            <a:off x="2411280" y="1628640"/>
            <a:ext cx="6048360" cy="84168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Constantia"/>
              </a:rPr>
              <a:t>Обязанности государства в гражданском обществ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ая выноска 3"/>
          <p:cNvSpPr/>
          <p:nvPr/>
        </p:nvSpPr>
        <p:spPr>
          <a:xfrm>
            <a:off x="135000" y="3357720"/>
            <a:ext cx="2276280" cy="1223640"/>
          </a:xfrm>
          <a:prstGeom prst="wedgeRectCallout">
            <a:avLst>
              <a:gd name="adj1" fmla="val 147564"/>
              <a:gd name="adj2" fmla="val -120162"/>
            </a:avLst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Constantia"/>
              </a:rPr>
              <a:t>Охрана порядк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ая выноска 5"/>
          <p:cNvSpPr/>
          <p:nvPr/>
        </p:nvSpPr>
        <p:spPr>
          <a:xfrm>
            <a:off x="6875640" y="3357720"/>
            <a:ext cx="2160360" cy="1223640"/>
          </a:xfrm>
          <a:prstGeom prst="wedgeRectCallout">
            <a:avLst>
              <a:gd name="adj1" fmla="val -134379"/>
              <a:gd name="adj2" fmla="val -120055"/>
            </a:avLst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Constantia"/>
              </a:rPr>
              <a:t>Борьба с преступностью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ая выноска 6"/>
          <p:cNvSpPr/>
          <p:nvPr/>
        </p:nvSpPr>
        <p:spPr>
          <a:xfrm>
            <a:off x="2484360" y="4694400"/>
            <a:ext cx="5688000" cy="1871640"/>
          </a:xfrm>
          <a:prstGeom prst="wedgeRectCallout">
            <a:avLst>
              <a:gd name="adj1" fmla="val -8106"/>
              <a:gd name="adj2" fmla="val -165666"/>
            </a:avLst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Создание условий для беспрепятственной деятельности индивидуальных и коллективных собственников, реализации ими своих прав и свобод, активности и предприимчивости 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8:11:58Z</dcterms:created>
  <dc:creator>Tosh</dc:creator>
  <dc:description/>
  <dc:language>en-US</dc:language>
  <cp:lastModifiedBy>lenovo</cp:lastModifiedBy>
  <dcterms:modified xsi:type="dcterms:W3CDTF">2022-05-02T05:42:43Z</dcterms:modified>
  <cp:revision>141</cp:revision>
  <dc:subject/>
  <dc:title>Система права</dc:title>
</cp:coreProperties>
</file>