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2559-F71D-4433-BB71-F18092721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CB0B-AE31-4C01-B500-DE48F1B14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9190-C515-4ECF-968C-B3595178FF7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AFA9-C47F-4A35-9113-DEDF3FA88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D960-DCA1-4361-B6BE-E813F3DB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91B1-2CD0-45B7-8532-B093B8043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D1F4-427E-44A0-A657-9CD174699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22EA-BB8B-4AC3-BCC1-5AAB1BC5C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CCD1-BF04-4DCF-B228-790DED6E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F266-BAEE-430D-B9D9-5F513E84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FD423-4A9A-4993-8914-F9A0CA71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DF82-64DD-42CF-ADE2-EC1E46FF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3647-A89E-46E9-BD03-8E85E537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19B8-EE8F-4570-B225-2B5391FB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0A94-45B0-446B-9864-5D45B258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5750-8FEC-4075-ABDB-5002693A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C8A7-ED39-4D39-BFE0-0602ED25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81F24-64B3-4381-8A90-59EA420D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243C-6F08-4E67-9886-74AD221C1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C991-BAF5-4E9A-BF06-000F8C78D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3EA076-3D88-4D84-B5B6-C62B175F1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9A638B-354D-44D4-AA74-97E71741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4E3213-0787-4D84-883F-1ABD55A5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931621-D45F-44DF-84AF-EF3E53F2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A29336-6CAE-4292-BBB6-F083FD90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D112-28C5-4F08-92FE-5F65B7C5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E45C4E-B971-4B69-A952-DC300F33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9D6C74-4B05-4FDC-B56F-684E0C70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9DD1CB-1A0D-4557-A53C-D906C165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D3A327-C0A3-40B6-B658-27636E8B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9CFF03-318A-48EF-8234-A2F6AB11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B05C8F-58DC-4993-893B-53B10F91A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DC7095-212D-455D-9AAE-278DDEC3C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547C2-42DD-455B-9978-133F13A88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C384C-9EE0-4A89-9FCC-27E40B3C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FB935-1F76-4438-AEB6-8B63DAE8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10D1-2D62-48CD-B62B-1281E5E6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C87EF-0396-44F3-AED2-00BEE28D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63114-9615-40E3-B555-4A4FD022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6706C-058F-4A5C-BCE4-7708FB61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4D7F5-B8D1-482A-A1CC-932E730E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34363-9623-4F1E-84C7-5411154D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209A7-FF11-44FC-A94F-5AFA70EB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5BD3A-27C6-4C38-A734-106B9435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ADFB5-AFF2-4DF7-A395-755B2320D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E9F8D-E854-4C7C-9367-9164A42F9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B001-B0A7-4F82-BD8D-D94408EB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69CF-D930-4B74-AFEA-67C5E8F0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37D6-8EDD-413D-BE13-D359F98A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6AD5-AA8B-43B6-9BEC-3F8FB772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1B7A-4FFA-409A-B37C-0EE8C311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5C59-A6F8-493A-AA74-372F4B44CB0D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B5EB-64C3-409B-A4DD-48D1184B833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6A0D-FBD9-4A68-A8C5-E813AB99C375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36A4-10A2-4FD7-9452-8DC31890DF3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8413-A2E2-46B8-9B40-5D6AE98B19F6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3C09-6C29-4731-A138-366D3EA7E5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2BFD-9A2D-474D-B229-90C1FE0AC943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8011-F958-48B0-A55D-2166499914D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s://commons.wikimedia.org/wiki/File:Thomas_Robert_Malthus.jpg?uselang=ru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Номер слайда 4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57BA-3338-4F42-B9AE-66558436251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000" y="2491920"/>
            <a:ext cx="7918200" cy="197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Georgia"/>
              </a:rPr>
              <a:t>Глобализация и глобальные проблемы современности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rebuchet MS"/>
              </a:rPr>
              <a:t>II </a:t>
            </a:r>
            <a:r>
              <a:rPr b="0" lang="ru-RU" sz="3600" spc="-1" strike="noStrike">
                <a:solidFill>
                  <a:srgbClr val="0000cc"/>
                </a:solidFill>
                <a:latin typeface="Trebuchet MS"/>
              </a:rPr>
              <a:t>Демографическая 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435280" y="836640"/>
            <a:ext cx="370836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России говорят об отрицательном естественном приросте, а в Африке о перенаселении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Но в целом перед всем миром стоит действительно проблема перенаселения, что будет способствовать дальнейшему росту сопутствующих проблем – голода, военных конфликтов, межнациональной розни и так далее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Дата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4969-D5F5-4FF2-9956-66E10861CA7F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Номер слайда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7158-9E0F-46B7-8D12-339D424A455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5" descr="Rost_shislennosti"/>
          <p:cNvPicPr/>
          <p:nvPr/>
        </p:nvPicPr>
        <p:blipFill>
          <a:blip r:embed="rId1"/>
          <a:stretch/>
        </p:blipFill>
        <p:spPr>
          <a:xfrm>
            <a:off x="0" y="907920"/>
            <a:ext cx="554364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rebuchet MS"/>
              </a:rPr>
              <a:t>Преодоление отсталости развивающихся стран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0" y="1196640"/>
            <a:ext cx="9144000" cy="5327640"/>
          </a:xfrm>
          <a:prstGeom prst="rect">
            <a:avLst/>
          </a:prstGeom>
          <a:solidFill>
            <a:srgbClr val="62b7be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24456"/>
                </a:solidFill>
                <a:latin typeface="Georgia"/>
              </a:rPr>
              <a:t>«Третий мир» – весьма условная общность стран Азии, Африки, Латинской Америки и Океании, составлявших в прошлом колониальную и полуколониальную периферию развитых капиталистических стран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Дата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A2B3-2EA1-498C-B6AE-463DF2462061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Номер слайда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70F9-39B0-44EF-8CE3-B61F3361187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C:\Users\Mari\Desktop\titel_ui0710_up.jpg"/>
          <p:cNvPicPr/>
          <p:nvPr/>
        </p:nvPicPr>
        <p:blipFill>
          <a:blip r:embed="rId1"/>
          <a:stretch/>
        </p:blipFill>
        <p:spPr>
          <a:xfrm>
            <a:off x="250920" y="2781360"/>
            <a:ext cx="513540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38086"/>
                </a:solidFill>
                <a:latin typeface="Trebuchet MS"/>
              </a:rPr>
              <a:t>Страны «третьего мира»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0" y="3715920"/>
            <a:ext cx="9144000" cy="31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 числу наименее развитых стран относятся ряд государств Тропической Африки (Экваториальная Гвинея, Эфиопия, Чад, Того, Танзания, Сомали, Западная Сахара), Азии (Кампучия, Лаос), Латинской Америк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(Таити, Гватемала, Гвиана, Гондурас и др.)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Для этих стран характерны низкие, или даже отрицательные темпы роста 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Дата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00CE-AD4C-4401-A28F-9F5F62846075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Номер слайда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98E8-EDBB-4D31-BB65-5527CB2BCAB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4" descr="третий мир"/>
          <p:cNvPicPr/>
          <p:nvPr/>
        </p:nvPicPr>
        <p:blipFill>
          <a:blip r:embed="rId1"/>
          <a:stretch/>
        </p:blipFill>
        <p:spPr>
          <a:xfrm>
            <a:off x="1187280" y="836640"/>
            <a:ext cx="67075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38086"/>
                </a:solidFill>
                <a:latin typeface="Trebuchet MS"/>
              </a:rPr>
              <a:t>Основные признаки стран «Третьего мира»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4920" y="1268280"/>
            <a:ext cx="828036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1) Преобладает аграрный сектор (до 80-90%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2) Низкая рентабельность основного сектора экономики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3) Слабое развитие рыночного механизма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4) Неразвитость производственной, вспомогательной инфраструктуры, транспортной сети, электроэнергетики, системы связи, банковского дела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В мировом хозяйстве наименее развитые страны занимают место периферии, выполняя функции поставщиков сырья и дешевой рабочей силы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Дата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3177-F52D-4C28-8EF3-CD4A0B484235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Номер слайда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9E30-3A58-46E9-B854-B4F8C3259F0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Дата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AD22-14A2-4C4D-8E93-51D253ADDA0C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Номер слайда 4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B86B-2CA2-4DBB-807E-C6A5BE23011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5964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Дата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8AFF-68B9-41F5-81CB-E27F42D506C6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Номер слайда 4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E5C3-1983-4DC8-9A41-5B28FC0F8D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3516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Дата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D4F1-C4C0-416E-AC79-31F203669D97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Номер слайда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60B4-C8CA-4BB2-A2A2-BE80FB6D8F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4" descr="0018-018-Syrevaja-problem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Дата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8BDD-E476-48F5-AE14-BB7A4BFA5C3D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Номер слайда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4247-EE28-4B8C-966F-5C977C2ADFE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4" descr="0017-017-Energeticheskaja-problem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Глобальные экологические проблемы 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Дата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4907-091D-47EF-A9D9-054BB32A206D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Номер слайда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6AA6-89E2-4D8D-A3F7-188760A8721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" descr="0013-013-Globalnye-problemy-v-mir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rebuchet MS"/>
              </a:rPr>
              <a:t>Основные направления разрешения глобальных проблем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0" y="1267920"/>
            <a:ext cx="8964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Формирование нового планетарного сознания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спитание человека на принципах гуманизм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Широкое информирование людей о глобальных проблемах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сеобъемлющее изучение причин и противоречий, условий, приводящих к возникновению и обострению проблем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Дата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BA57-8D31-446F-84D9-AEACECE9D89E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Номер слайда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4B73-B3F0-4065-BB6A-ED927A3D4D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4" descr="globalization"/>
          <p:cNvPicPr/>
          <p:nvPr/>
        </p:nvPicPr>
        <p:blipFill>
          <a:blip r:embed="rId1"/>
          <a:stretch/>
        </p:blipFill>
        <p:spPr>
          <a:xfrm>
            <a:off x="5364000" y="5281560"/>
            <a:ext cx="378000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424456"/>
                </a:solidFill>
                <a:latin typeface="Times New Roman"/>
              </a:rPr>
              <a:t>Современный мир во всем своем многообразии един, и его части тесно взаимосвязаны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50920" y="2649600"/>
            <a:ext cx="86868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Глобализация — процесс интеграции государств и народов в разных областях деятельност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Дата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ECC5-5898-4F45-A3D3-F52265E105E9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Номер слайда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C2C0-83F9-4A8F-A74A-0403B36591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179280" y="62064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решении глобальных проблем современности выделились два направления 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«неомальтузианцы»,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лагающие, что рост человечества необходимо строго контролировать и ограничить потребност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«корнукопианцы»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 полагающие, что технический прогресс и открытия способны сделать ресурсы, необходимые для жизни людей, безграничными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Дата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F0EB-909B-4876-A153-2FC02B75D0E3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Номер слайда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5718-D267-4D10-8A65-A9725E9E939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446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   </a:t>
            </a: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Томас  Мальтус</a:t>
            </a:r>
            <a:br>
              <a:rPr sz="3600"/>
            </a:b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     (1766-1834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1" name="Дата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F5D5-AD10-46C6-B6E9-EB365445F65C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Номер слайда 4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BDE1-E481-4FAF-AA80-D8CF9460F10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2" descr="Thomas Robert Malthu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989000"/>
            <a:ext cx="2879640" cy="3657600"/>
          </a:xfrm>
          <a:prstGeom prst="rect">
            <a:avLst/>
          </a:prstGeom>
          <a:ln w="0">
            <a:noFill/>
          </a:ln>
        </p:spPr>
      </p:pic>
      <p:sp>
        <p:nvSpPr>
          <p:cNvPr id="334" name="Заголовок 1"/>
          <p:cNvSpPr/>
          <p:nvPr/>
        </p:nvSpPr>
        <p:spPr>
          <a:xfrm>
            <a:off x="3995640" y="1125360"/>
            <a:ext cx="4810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лагал, как единственное средство для ограничения деторождения, половое воздержание, которое настоятельно рекомендовал с этой целью бедным слоям насел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Заголовок 1"/>
          <p:cNvSpPr/>
          <p:nvPr/>
        </p:nvSpPr>
        <p:spPr>
          <a:xfrm>
            <a:off x="3924360" y="4869000"/>
            <a:ext cx="5025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c00000"/>
                </a:solidFill>
                <a:uFillTx/>
                <a:latin typeface="Arial"/>
              </a:rPr>
              <a:t>Неомальтузианство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обновленное мальтузианство; представители считают, что рост населения Земли необходимо строго контролировать, ограничивать деторожд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Заголовок 1"/>
          <p:cNvSpPr/>
          <p:nvPr/>
        </p:nvSpPr>
        <p:spPr>
          <a:xfrm>
            <a:off x="3995640" y="3068640"/>
            <a:ext cx="4810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c00000"/>
                </a:solidFill>
                <a:uFillTx/>
                <a:latin typeface="Arial"/>
              </a:rPr>
              <a:t>Мальтузианство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научный подход к контролю численности населения, основанный на идеях Мальту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 Narrow"/>
              </a:rPr>
              <a:t>Cornucopia –</a:t>
            </a:r>
            <a:r>
              <a:rPr b="0" lang="ru-RU" sz="4000" spc="-1" strike="noStrike">
                <a:solidFill>
                  <a:srgbClr val="424456"/>
                </a:solidFill>
                <a:latin typeface="Arial Narrow"/>
              </a:rPr>
              <a:t> (с греч.)</a:t>
            </a:r>
            <a:r>
              <a:rPr b="0" lang="en-US" sz="4000" spc="-1" strike="noStrike">
                <a:solidFill>
                  <a:srgbClr val="424456"/>
                </a:solidFill>
                <a:latin typeface="Arial Narrow"/>
              </a:rPr>
              <a:t> </a:t>
            </a:r>
            <a:r>
              <a:rPr b="0" lang="ru-RU" sz="4000" spc="-1" strike="noStrike">
                <a:solidFill>
                  <a:srgbClr val="424456"/>
                </a:solidFill>
                <a:latin typeface="Arial Narrow"/>
              </a:rPr>
              <a:t>«рог изобилия»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859280" y="155736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«Корнукопианцы» – представители научного направления, которые считают, что дальнейший прогресс и обеспечение человечества могут быть удовлетворены благодаря достижениям в области науки и техники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Утверждают, что обилие материи и энергии на Земле может дать человечеству практически неограниченные возможности для рост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Термин происходит от  словосочетания "рог изобилия" из греческой мифологии, который волшебным образом давал его владельцам  бесконечное кол-во еды и  воды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9" name="Picture 2" descr="http://www.music-bazaar.com/album-images/vol10/518/518925/2351918-big/Full-Horn-cover.jpg"/>
          <p:cNvPicPr/>
          <p:nvPr/>
        </p:nvPicPr>
        <p:blipFill>
          <a:blip r:embed="rId1"/>
          <a:stretch/>
        </p:blipFill>
        <p:spPr>
          <a:xfrm>
            <a:off x="468360" y="1413000"/>
            <a:ext cx="4248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68360" y="15573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лобальные проблемы человечеств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 –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такие проблемы, которые затрагивают интересы не только отдельных людей, но могут повлиять на судьбу всего человечества и от решения которых зависит дальнейшее существование цивилизации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Дата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DF3D-3DA7-4782-9EEB-A8ED42D0D07F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Номер слайда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C875-2D0F-4741-838C-9FFBB358519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Дата 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F85D-B49E-43C4-8201-F6AF0868C823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1C6E-335A-4C96-9A1F-94116F8D81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1"/>
          <p:cNvSpPr/>
          <p:nvPr/>
        </p:nvSpPr>
        <p:spPr>
          <a:xfrm>
            <a:off x="357120" y="214200"/>
            <a:ext cx="8501040" cy="581400"/>
          </a:xfrm>
          <a:prstGeom prst="rect">
            <a:avLst/>
          </a:prstGeom>
          <a:solidFill>
            <a:srgbClr val="f2f2f2"/>
          </a:solidFill>
          <a:ln w="9360">
            <a:solidFill>
              <a:srgbClr val="52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70c0"/>
                </a:solidFill>
                <a:uFillTx/>
                <a:latin typeface="Times New Roman"/>
                <a:ea typeface="Calibri"/>
              </a:rPr>
              <a:t>Глобальные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 проблемы соврем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C:\Documents and Settings\Сафонова Наталья\Рабочий стол\картинки для презентаций\время картинки\rossclock1.jpg"/>
          <p:cNvPicPr/>
          <p:nvPr/>
        </p:nvPicPr>
        <p:blipFill>
          <a:blip r:embed="rId1"/>
          <a:stretch/>
        </p:blipFill>
        <p:spPr>
          <a:xfrm>
            <a:off x="7858080" y="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C:\Documents and Settings\Сафонова Наталья\Рабочий стол\картинки для презентаций\img_7582.jpg"/>
          <p:cNvPicPr/>
          <p:nvPr/>
        </p:nvPicPr>
        <p:blipFill>
          <a:blip r:embed="rId2"/>
          <a:stretch/>
        </p:blipFill>
        <p:spPr>
          <a:xfrm>
            <a:off x="3498840" y="2859120"/>
            <a:ext cx="2286000" cy="1712880"/>
          </a:xfrm>
          <a:prstGeom prst="rect">
            <a:avLst/>
          </a:prstGeom>
          <a:ln w="0">
            <a:noFill/>
          </a:ln>
        </p:spPr>
      </p:pic>
      <p:cxnSp>
        <p:nvCxnSpPr>
          <p:cNvPr id="235" name="Прямая со стрелкой 5"/>
          <p:cNvCxnSpPr/>
          <p:nvPr/>
        </p:nvCxnSpPr>
        <p:spPr>
          <a:xfrm flipH="1">
            <a:off x="1142280" y="714240"/>
            <a:ext cx="1080" cy="286560"/>
          </a:xfrm>
          <a:prstGeom prst="straightConnector1">
            <a:avLst/>
          </a:prstGeom>
          <a:ln w="19080">
            <a:solidFill>
              <a:srgbClr val="a04da3"/>
            </a:solidFill>
            <a:miter/>
            <a:tailEnd len="med" type="arrow" w="med"/>
          </a:ln>
        </p:spPr>
      </p:cxnSp>
      <p:sp>
        <p:nvSpPr>
          <p:cNvPr id="236" name="Прямоугольник 9"/>
          <p:cNvSpPr/>
          <p:nvPr/>
        </p:nvSpPr>
        <p:spPr>
          <a:xfrm>
            <a:off x="428760" y="857160"/>
            <a:ext cx="850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u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– лат. Земной шар –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ланетарные проблем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меющие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человеческую значимость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атрагивающие жизненные интересы огромных масс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Скругленный прямоугольник 14"/>
          <p:cNvGrpSpPr/>
          <p:nvPr/>
        </p:nvGrpSpPr>
        <p:grpSpPr>
          <a:xfrm>
            <a:off x="5437080" y="1725480"/>
            <a:ext cx="3438720" cy="1646280"/>
            <a:chOff x="5437080" y="1725480"/>
            <a:chExt cx="3438720" cy="1646280"/>
          </a:xfrm>
        </p:grpSpPr>
        <p:pic>
          <p:nvPicPr>
            <p:cNvPr id="238" name="Скругленный прямоугольник 14" descr=""/>
            <p:cNvPicPr/>
            <p:nvPr/>
          </p:nvPicPr>
          <p:blipFill>
            <a:blip r:embed="rId3"/>
            <a:stretch/>
          </p:blipFill>
          <p:spPr>
            <a:xfrm>
              <a:off x="5437080" y="1725480"/>
              <a:ext cx="343872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5564160" y="1920960"/>
              <a:ext cx="315900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блема ограниченности ресурсов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уменьшение запасов сырья 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довольств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Скругленный прямоугольник 15"/>
          <p:cNvGrpSpPr/>
          <p:nvPr/>
        </p:nvGrpSpPr>
        <p:grpSpPr>
          <a:xfrm>
            <a:off x="5583240" y="3713040"/>
            <a:ext cx="3389400" cy="1889280"/>
            <a:chOff x="5583240" y="3713040"/>
            <a:chExt cx="3389400" cy="1889280"/>
          </a:xfrm>
        </p:grpSpPr>
        <p:pic>
          <p:nvPicPr>
            <p:cNvPr id="241" name="Скругленный прямоугольник 15" descr=""/>
            <p:cNvPicPr/>
            <p:nvPr/>
          </p:nvPicPr>
          <p:blipFill>
            <a:blip r:embed="rId4"/>
            <a:stretch/>
          </p:blipFill>
          <p:spPr>
            <a:xfrm>
              <a:off x="5583240" y="3713040"/>
              <a:ext cx="3389400" cy="18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5710320" y="3995640"/>
              <a:ext cx="30812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блема бедности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«Север – Юг») – резкая разница экономического развития между богатыми странами и бедными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Скругленный прямоугольник 16"/>
          <p:cNvGrpSpPr/>
          <p:nvPr/>
        </p:nvGrpSpPr>
        <p:grpSpPr>
          <a:xfrm>
            <a:off x="2865600" y="5394240"/>
            <a:ext cx="3412800" cy="1427400"/>
            <a:chOff x="2865600" y="5394240"/>
            <a:chExt cx="3412800" cy="1427400"/>
          </a:xfrm>
        </p:grpSpPr>
        <p:pic>
          <p:nvPicPr>
            <p:cNvPr id="244" name="Скругленный прямоугольник 16" descr=""/>
            <p:cNvPicPr/>
            <p:nvPr/>
          </p:nvPicPr>
          <p:blipFill>
            <a:blip r:embed="rId5"/>
            <a:stretch/>
          </p:blipFill>
          <p:spPr>
            <a:xfrm>
              <a:off x="2865600" y="5394240"/>
              <a:ext cx="341280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2992320" y="5492880"/>
              <a:ext cx="315936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блема сохранения мира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распространение оружия массового поражения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Скругленный прямоугольник 17"/>
          <p:cNvGrpSpPr/>
          <p:nvPr/>
        </p:nvGrpSpPr>
        <p:grpSpPr>
          <a:xfrm>
            <a:off x="225360" y="3895560"/>
            <a:ext cx="3335400" cy="1474920"/>
            <a:chOff x="225360" y="3895560"/>
            <a:chExt cx="3335400" cy="1474920"/>
          </a:xfrm>
        </p:grpSpPr>
        <p:pic>
          <p:nvPicPr>
            <p:cNvPr id="247" name="Скругленный прямоугольник 17" descr=""/>
            <p:cNvPicPr/>
            <p:nvPr/>
          </p:nvPicPr>
          <p:blipFill>
            <a:blip r:embed="rId6"/>
            <a:stretch/>
          </p:blipFill>
          <p:spPr>
            <a:xfrm>
              <a:off x="225360" y="3895560"/>
              <a:ext cx="3335400" cy="14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352440" y="3995640"/>
              <a:ext cx="30812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емографическая проблема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резкий рост численности населения Земли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Скругленный прямоугольник 18"/>
          <p:cNvGrpSpPr/>
          <p:nvPr/>
        </p:nvGrpSpPr>
        <p:grpSpPr>
          <a:xfrm>
            <a:off x="298440" y="1798560"/>
            <a:ext cx="3462480" cy="1646280"/>
            <a:chOff x="298440" y="1798560"/>
            <a:chExt cx="3462480" cy="1646280"/>
          </a:xfrm>
        </p:grpSpPr>
        <p:pic>
          <p:nvPicPr>
            <p:cNvPr id="250" name="Скругленный прямоугольник 18" descr=""/>
            <p:cNvPicPr/>
            <p:nvPr/>
          </p:nvPicPr>
          <p:blipFill>
            <a:blip r:embed="rId7"/>
            <a:stretch/>
          </p:blipFill>
          <p:spPr>
            <a:xfrm>
              <a:off x="298440" y="1798560"/>
              <a:ext cx="346248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420840" y="1992240"/>
              <a:ext cx="315900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Экологическая проблема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сохранение окружающей среды и поддержания природного баланс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52" name="Прямая со стрелкой 23"/>
          <p:cNvCxnSpPr/>
          <p:nvPr/>
        </p:nvCxnSpPr>
        <p:spPr>
          <a:xfrm flipV="1">
            <a:off x="5643360" y="3214080"/>
            <a:ext cx="572040" cy="286200"/>
          </a:xfrm>
          <a:prstGeom prst="straightConnector1">
            <a:avLst/>
          </a:prstGeom>
          <a:ln w="19080">
            <a:solidFill>
              <a:srgbClr val="c991cb"/>
            </a:solidFill>
            <a:miter/>
            <a:tailEnd len="med" type="arrow" w="med"/>
          </a:ln>
        </p:spPr>
      </p:cxnSp>
      <p:cxnSp>
        <p:nvCxnSpPr>
          <p:cNvPr id="253" name="Прямая со стрелкой 27"/>
          <p:cNvCxnSpPr/>
          <p:nvPr/>
        </p:nvCxnSpPr>
        <p:spPr>
          <a:xfrm flipH="1">
            <a:off x="3499920" y="4428000"/>
            <a:ext cx="501120" cy="359640"/>
          </a:xfrm>
          <a:prstGeom prst="straightConnector1">
            <a:avLst/>
          </a:prstGeom>
          <a:ln w="19080">
            <a:solidFill>
              <a:srgbClr val="c991cb"/>
            </a:solidFill>
            <a:miter/>
            <a:tailEnd len="med" type="arrow" w="med"/>
          </a:ln>
        </p:spPr>
      </p:cxnSp>
      <p:cxnSp>
        <p:nvCxnSpPr>
          <p:cNvPr id="254" name="Прямая со стрелкой 28"/>
          <p:cNvCxnSpPr/>
          <p:nvPr/>
        </p:nvCxnSpPr>
        <p:spPr>
          <a:xfrm flipH="1" flipV="1">
            <a:off x="3000240" y="3285720"/>
            <a:ext cx="643320" cy="357840"/>
          </a:xfrm>
          <a:prstGeom prst="straightConnector1">
            <a:avLst/>
          </a:prstGeom>
          <a:ln w="19080">
            <a:solidFill>
              <a:srgbClr val="c991cb"/>
            </a:solidFill>
            <a:miter/>
            <a:tailEnd len="med" type="arrow" w="med"/>
          </a:ln>
        </p:spPr>
      </p:cxnSp>
      <p:cxnSp>
        <p:nvCxnSpPr>
          <p:cNvPr id="255" name="Прямая со стрелкой 29"/>
          <p:cNvCxnSpPr/>
          <p:nvPr/>
        </p:nvCxnSpPr>
        <p:spPr>
          <a:xfrm>
            <a:off x="5213880" y="4357800"/>
            <a:ext cx="429480" cy="429120"/>
          </a:xfrm>
          <a:prstGeom prst="straightConnector1">
            <a:avLst/>
          </a:prstGeom>
          <a:ln w="19080">
            <a:solidFill>
              <a:srgbClr val="c991cb"/>
            </a:solidFill>
            <a:miter/>
            <a:tailEnd len="med" type="arrow" w="med"/>
          </a:ln>
        </p:spPr>
      </p:cxnSp>
      <p:cxnSp>
        <p:nvCxnSpPr>
          <p:cNvPr id="256" name="Прямая со стрелкой 30"/>
          <p:cNvCxnSpPr/>
          <p:nvPr/>
        </p:nvCxnSpPr>
        <p:spPr>
          <a:xfrm>
            <a:off x="4642200" y="4571640"/>
            <a:ext cx="1080" cy="786600"/>
          </a:xfrm>
          <a:prstGeom prst="straightConnector1">
            <a:avLst/>
          </a:prstGeom>
          <a:ln w="19080">
            <a:solidFill>
              <a:srgbClr val="c991cb"/>
            </a:solidFill>
            <a:miter/>
            <a:tailEnd len="med" type="arrow" w="med"/>
          </a:ln>
        </p:spPr>
      </p:cxnSp>
      <p:sp>
        <p:nvSpPr>
          <p:cNvPr id="257" name="Прямоугольник 50"/>
          <p:cNvSpPr/>
          <p:nvPr/>
        </p:nvSpPr>
        <p:spPr>
          <a:xfrm>
            <a:off x="4320000" y="1785960"/>
            <a:ext cx="578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991cb"/>
                </a:solidFill>
                <a:latin typeface="Georgia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250920" y="731520"/>
            <a:ext cx="86868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Georgia"/>
              </a:rPr>
              <a:t>Глобальные проблемы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Georgia"/>
              </a:rPr>
              <a:t>1)Проблема мира и разоруже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Georgia"/>
              </a:rPr>
              <a:t>2)Предотвращение новой мировой войны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Georgia"/>
              </a:rPr>
              <a:t>3)Демографическая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Georgia"/>
              </a:rPr>
              <a:t>4)Преодоление отсталости развивающихся стран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Georgia"/>
              </a:rPr>
              <a:t>5)Продовольственная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Georgia"/>
              </a:rPr>
              <a:t>6)Сырьевая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Georgia"/>
              </a:rPr>
              <a:t>7)Энергетическая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Georgia"/>
              </a:rPr>
              <a:t>8)Экологическая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Georgia"/>
              </a:rPr>
              <a:t>9) Использования Мирового океана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Georgia"/>
              </a:rPr>
              <a:t>10)Мировое освоение космоса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Дата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4DA0-09B4-4BD3-8566-462EE9FB91AB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Номер слайда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E4E4-3715-4DDF-B844-04E12D4BC9E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869796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rebuchet MS"/>
              </a:rPr>
              <a:t>I </a:t>
            </a:r>
            <a:r>
              <a:rPr b="0" lang="ru-RU" sz="3600" spc="-1" strike="noStrike">
                <a:solidFill>
                  <a:srgbClr val="0000cc"/>
                </a:solidFill>
                <a:latin typeface="Trebuchet MS"/>
              </a:rPr>
              <a:t>Проблема мира и разоружения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50560" y="1424160"/>
            <a:ext cx="850716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блема мира и разоружения — проблема предотвращения третьей мировой войны остается важнейшей, самой приоритетной проблемой человечества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о второй половине XX в. появилось ядерное оружие и возникла реальная угроза уничтожения целых стран и даже континентов, т.е. практически всей современной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ути решения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становление жесткого контроля за ядерным и химическим оружием;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кращение обычных вооружений и торговли оружием;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щее сокращение военных расходов и численности вооруженных сил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Дата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6D37-177E-4C3B-8DA6-5AA71415939E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Номер слайда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D54D-97DB-4AA4-9FEB-DD4C9474F7C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" descr="220px-Castle_Romeo"/>
          <p:cNvPicPr/>
          <p:nvPr/>
        </p:nvPicPr>
        <p:blipFill>
          <a:blip r:embed="rId1"/>
          <a:stretch/>
        </p:blipFill>
        <p:spPr>
          <a:xfrm>
            <a:off x="7788240" y="5157720"/>
            <a:ext cx="1355760" cy="17002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230px-WMD_world_map"/>
          <p:cNvPicPr/>
          <p:nvPr/>
        </p:nvPicPr>
        <p:blipFill>
          <a:blip r:embed="rId2"/>
          <a:stretch/>
        </p:blipFill>
        <p:spPr>
          <a:xfrm>
            <a:off x="2987640" y="620640"/>
            <a:ext cx="219096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rebuchet MS"/>
              </a:rPr>
              <a:t>I </a:t>
            </a:r>
            <a:r>
              <a:rPr b="0" lang="ru-RU" sz="4000" spc="-1" strike="noStrike">
                <a:solidFill>
                  <a:srgbClr val="0000cc"/>
                </a:solidFill>
                <a:latin typeface="Trebuchet MS"/>
              </a:rPr>
              <a:t>Проблема мира и разоружен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Дата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B410-0F41-4450-8C81-4814731B8BA8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Номер слайда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FC16-FFFE-47FC-8B5F-2D0AFDC4176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5" descr="1319392392_da80f4"/>
          <p:cNvPicPr/>
          <p:nvPr/>
        </p:nvPicPr>
        <p:blipFill>
          <a:blip r:embed="rId1"/>
          <a:stretch/>
        </p:blipFill>
        <p:spPr>
          <a:xfrm>
            <a:off x="684360" y="981000"/>
            <a:ext cx="803592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rebuchet MS"/>
              </a:rPr>
              <a:t>II </a:t>
            </a:r>
            <a:r>
              <a:rPr b="1" lang="ru-RU" sz="4000" spc="-1" strike="noStrike">
                <a:solidFill>
                  <a:srgbClr val="0000cc"/>
                </a:solidFill>
                <a:latin typeface="Trebuchet MS"/>
              </a:rPr>
              <a:t>Демографическая проблем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0" y="1197000"/>
            <a:ext cx="8686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лобальная демографическая проблем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 состоит из двух частей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ыстрый и слабо контролируемый рост населения развивающихся стран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тарение населения развитых стран и многих государстве переходной экономико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Дата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D892-A13F-4D3D-96A4-A353C95901AC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Номер слайда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1291-5FED-4E86-A336-CFE2729614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4" descr="5531f33e47"/>
          <p:cNvPicPr/>
          <p:nvPr/>
        </p:nvPicPr>
        <p:blipFill>
          <a:blip r:embed="rId1"/>
          <a:stretch/>
        </p:blipFill>
        <p:spPr>
          <a:xfrm>
            <a:off x="5651640" y="4476600"/>
            <a:ext cx="29620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Дата 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0DA9-DEA2-4995-865F-47B8B5032487}" type="datetime">
              <a:rPr b="0" lang="en-US" sz="800" spc="-1" strike="noStrike">
                <a:solidFill>
                  <a:srgbClr val="438086"/>
                </a:solidFill>
                <a:latin typeface="Arial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Номер слайда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F8EC-E600-4A37-8706-D33419CB2BC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5" descr="demo_problems"/>
          <p:cNvPicPr/>
          <p:nvPr/>
        </p:nvPicPr>
        <p:blipFill>
          <a:blip r:embed="rId1"/>
          <a:stretch/>
        </p:blipFill>
        <p:spPr>
          <a:xfrm>
            <a:off x="826920" y="620640"/>
            <a:ext cx="75852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07:29:11Z</dcterms:created>
  <dc:creator>Катя</dc:creator>
  <dc:description/>
  <dc:language>en-US</dc:language>
  <cp:lastModifiedBy>arsalanbalzhimaev@gmail.com</cp:lastModifiedBy>
  <dcterms:modified xsi:type="dcterms:W3CDTF">2022-01-16T17:53:12Z</dcterms:modified>
  <cp:revision>48</cp:revision>
  <dc:subject/>
  <dc:title>Процессы глобализации и становление единого человечества</dc:title>
</cp:coreProperties>
</file>