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FF6D-8A12-423C-A5A7-38A1A8E2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A45-8886-4490-8E42-563B350F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3A7E-5159-447C-A866-6F428EDC9B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3B2-67FD-4E25-BE6C-5F260945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615-1502-4BF6-A923-1B01C582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184-D43A-4B05-B4FE-83392395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99E-C6AE-4784-A2A8-B11C5274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F47-8D40-4A06-B69A-B46A2A3A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04D-E15B-4310-91B3-48CE3926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9D5-6712-4F23-9FB3-86AAE41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9AD-ADBD-47B3-94BC-AD53E23D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29C2-5853-485A-9523-CDC918D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EB6B-757F-4796-B205-37C0BAF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C601-CC44-4A76-86B8-7286158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408-77E3-43C4-969A-A15316C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F7B-F698-4114-B66D-D3AC431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CC9-F93F-460A-9DEF-F9D1281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2130-5B94-4A86-B214-88E6C64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93D-8F40-4D13-800E-C83ED976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CD04-198F-4409-9396-B73A2908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02557-A4D1-44BE-A5D0-42E4C39F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6752B-CD74-4FFB-8819-5C724FFE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6AF8A-2C3E-4284-836F-9AF841A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9BE03-9018-478A-9ADC-B3A5987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1A3C5-B7C7-4165-96E4-A70E06D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028-6B90-418C-811B-3A46E7B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0D863-18A5-4F8F-999A-EF0C055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53B6E-59A5-474B-93B3-4C05F14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7073C-68F3-4459-B100-DDBA396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B971D-9BA4-4329-8F05-5840546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E75F6-114E-4A74-9A3C-7D41C613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8774E-5C49-4D39-9A0D-615DD8BC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78EAE-0F83-48A8-8271-2D34FF3C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52BA-F87F-485C-8CF7-3F566B62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FC0E-9EC4-4C7E-9580-37EBBC7F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5BDC-5916-491D-B818-22DE44F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0D2-4BE0-45BA-BEB4-DBCFF857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FAE0-1137-475D-A9C7-442BD41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DA72-1E97-419E-973F-D28B287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01F1-89D5-4C25-A492-E41EA53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788A-FD18-4FC3-883C-C79CF450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6A6B-CD4A-4386-A50A-BF99CAC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83DDC-BBEB-440F-B1B3-A725BD4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E442-1135-49D9-B4C7-4F797DB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8232-E468-4B21-99F4-481D088D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DD7C-2152-4964-AE3D-CBC34DC3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87B-10A0-4755-8304-93225E5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BA1-6D8E-4A77-AEA5-2B824A90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00D-307A-41FD-9633-94693C8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753-9C4C-4541-820C-00197D9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476-2238-424B-B9C7-56C8835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783-B878-4BFB-8687-F77570F77F8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D0C2-39A2-40E9-9495-5E07C85172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0EA-6251-48B4-B970-2100CD7B525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375-28F8-4771-A3EF-4575821E8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B79-50C8-4F93-88B2-6B14B1EF1440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FCB-482A-49D6-9DB5-C7501E66B7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632-A17F-458E-BA15-CB8764C6016D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A4A8-85F7-4A1D-A12F-4337A7B79B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Thomas_Robert_Malthus.jpg?uselang=ru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AF2-11E2-4E54-83AC-8770593260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791820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Глобализация и глобальные проблемы современност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rebuchet MS"/>
              </a:rPr>
              <a:t>II </a:t>
            </a:r>
            <a:r>
              <a:rPr b="0" lang="ru-RU" sz="3600" spc="-1" strike="noStrike">
                <a:solidFill>
                  <a:srgbClr val="0000cc"/>
                </a:solidFill>
                <a:latin typeface="Trebuchet MS"/>
              </a:rPr>
              <a:t>Демографическа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435280" y="836640"/>
            <a:ext cx="3708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оссии говорят об отрицательном естественном приросте, а в Африке о перенаселени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о в целом перед всем миром стоит действительно проблема перенаселения, что будет способствовать дальнейшему росту сопутствующих проблем – голода, военных конфликтов, межнациональной розни и так дале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BEC1-3188-4EC4-9778-2760ABFFAE69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3A2-3582-4E7C-B856-227E1EFE10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Rost_shislennosti"/>
          <p:cNvPicPr/>
          <p:nvPr/>
        </p:nvPicPr>
        <p:blipFill>
          <a:blip r:embed="rId1"/>
          <a:stretch/>
        </p:blipFill>
        <p:spPr>
          <a:xfrm>
            <a:off x="0" y="907920"/>
            <a:ext cx="55436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Преодоление отсталости развивающихся стран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solidFill>
            <a:srgbClr val="62b7b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«Третий мир» – весьма условная общность стран Азии, Африки, Латинской Америки и Океании, составлявших в прошлом колониальную и полуколониальную периферию развитых капиталистических стр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0B9-1DFF-4865-BBBF-EBB8FC6691D8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E9B-4D98-4282-B2F5-C21FCFCC4E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Mari\Desktop\titel_ui0710_up.jpg"/>
          <p:cNvPicPr/>
          <p:nvPr/>
        </p:nvPicPr>
        <p:blipFill>
          <a:blip r:embed="rId1"/>
          <a:stretch/>
        </p:blipFill>
        <p:spPr>
          <a:xfrm>
            <a:off x="250920" y="2781360"/>
            <a:ext cx="51354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8086"/>
                </a:solidFill>
                <a:latin typeface="Trebuchet MS"/>
              </a:rPr>
              <a:t>Страны «третьего мира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3715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числу наименее развитых стран относятся ряд государств Тропической Африки (Экваториальная Гвинея, Эфиопия, Чад, Того, Танзания, Сомали, Западная Сахара), Азии (Кампучия, Лаос), Латинской Амер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Таити, Гватемала, Гвиана, Гондурас и др.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этих стран характерны низкие, или даже отрицательные темпы роста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C0E-889B-470D-B71A-6019DCF06CA4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9346-76ED-4273-9604-9E08C6770C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третий мир"/>
          <p:cNvPicPr/>
          <p:nvPr/>
        </p:nvPicPr>
        <p:blipFill>
          <a:blip r:embed="rId1"/>
          <a:stretch/>
        </p:blipFill>
        <p:spPr>
          <a:xfrm>
            <a:off x="1187280" y="836640"/>
            <a:ext cx="6707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8086"/>
                </a:solidFill>
                <a:latin typeface="Trebuchet MS"/>
              </a:rPr>
              <a:t>Основные признаки стран «Третьего мира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4920" y="1268280"/>
            <a:ext cx="8280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) Преобладает аграрный сектор (до 80-90%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) Низкая рентабельность основного сектора экономи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) Слабое развитие рыночного механизм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) Неразвитость производственной, вспомогательной инфраструктуры, транспортной сети, электроэнергетики, системы связи, банковского дел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мировом хозяйстве наименее развитые страны занимают место периферии, выполняя функции поставщиков сырья и дешевой рабочей сил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BEC-75F1-406E-9B1C-950CDDC9811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8F33-4CF2-44C5-B1FC-1BB8EA40C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B4DA-0E76-443C-9926-0A60BDD8993A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2A12-14C2-48EA-8BEA-19C24CB5DA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089-1343-43C3-8B07-3A20BEAE353A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D6B8-075A-4327-9797-15BB281473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124-6827-429C-B430-531BA0935263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748E-BA6C-4525-8967-4DD3E112B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0018-018-Syrevaja-probl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E4E-AA14-4B74-996C-DEFCE9C72F02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82E-1585-4289-AA56-4F4F899437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0017-017-Energeticheskaja-probl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Глобальные экологические проблемы 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E89-00B0-450D-A3E4-AA8194D6BDF9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86DA-7778-4B14-ACA3-2385386CF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0013-013-Globalnye-problemy-v-m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Основные направления разрешения глобальных пробле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нового планетарного созн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человека на принципах гуман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ирокое информирование людей о глобальных проблем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еобъемлющее изучение причин и противоречий, условий, приводящих к возникновению и обострению пробле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AEE-D14D-4840-B8D4-300699517BB8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016-A11E-44C6-A21A-51BF637685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globalization"/>
          <p:cNvPicPr/>
          <p:nvPr/>
        </p:nvPicPr>
        <p:blipFill>
          <a:blip r:embed="rId1"/>
          <a:stretch/>
        </p:blipFill>
        <p:spPr>
          <a:xfrm>
            <a:off x="5364000" y="5281560"/>
            <a:ext cx="3780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Современный мир во всем своем многообразии един, и его части тесно взаимосвязаны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2649600"/>
            <a:ext cx="8686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лобализация — процесс интеграции государств и народов в разных областях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834-6611-42FB-9BE3-4EC23E9A5745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24FA-A0DB-40BE-9588-6D34EF8BD5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9280" y="62064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ешении глобальных проблем современности выделились два направления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неомальтузианцы»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гающие, что рост человечества необходимо строго контролировать и ограничить потреб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корнукопианцы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полагающие, что технический прогресс и открытия способны сделать ресурсы, необходимые для жизни людей, безграничны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087-D7A9-48E2-A288-892345507AE7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E9D6-D12C-4792-82D0-4FCED078E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омас  Мальтус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(1766-1834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8E6-F6FD-4953-B19D-649961F31030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5F9-5CCA-45C5-86B0-08B3260068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Thomas Robert Malth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89000"/>
            <a:ext cx="2879640" cy="3657600"/>
          </a:xfrm>
          <a:prstGeom prst="rect">
            <a:avLst/>
          </a:prstGeom>
          <a:ln w="0">
            <a:noFill/>
          </a:ln>
        </p:spPr>
      </p:pic>
      <p:sp>
        <p:nvSpPr>
          <p:cNvPr id="334" name="Заголовок 1"/>
          <p:cNvSpPr/>
          <p:nvPr/>
        </p:nvSpPr>
        <p:spPr>
          <a:xfrm>
            <a:off x="3995640" y="1125360"/>
            <a:ext cx="481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лагал, как единственное средство для ограничения деторождения, половое воздержание, которое настоятельно рекомендовал с этой целью бедным слоям насе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Заголовок 1"/>
          <p:cNvSpPr/>
          <p:nvPr/>
        </p:nvSpPr>
        <p:spPr>
          <a:xfrm>
            <a:off x="3924360" y="4869000"/>
            <a:ext cx="502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Arial"/>
              </a:rPr>
              <a:t>Неомальтузианств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обновленное мальтузианство; представители считают, что рост населения Земли необходимо строго контролировать, ограничивать деторо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3995640" y="3068640"/>
            <a:ext cx="481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Arial"/>
              </a:rPr>
              <a:t>Мальтузиан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учный подход к контролю численности населения, основанный на идеях Мальту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 Narrow"/>
              </a:rPr>
              <a:t>Cornucopia –</a:t>
            </a:r>
            <a:r>
              <a:rPr b="0" lang="ru-RU" sz="4000" spc="-1" strike="noStrike">
                <a:solidFill>
                  <a:srgbClr val="424456"/>
                </a:solidFill>
                <a:latin typeface="Arial Narrow"/>
              </a:rPr>
              <a:t> (с греч.)</a:t>
            </a:r>
            <a:r>
              <a:rPr b="0" lang="en-US" sz="4000" spc="-1" strike="noStrike">
                <a:solidFill>
                  <a:srgbClr val="424456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Arial Narrow"/>
              </a:rPr>
              <a:t>«рог изобил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859280" y="155736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Корнукопианцы» – представители научного направления, которые считают, что дальнейший прогресс и обеспечение человечества могут быть удовлетворены благодаря достижениям в области науки и техник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тверждают, что обилие материи и энергии на Земле может дать человечеству практически неограниченные возможности для рос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рмин происходит от  словосочетания "рог изобилия" из греческой мифологии, который волшебным образом давал его владельцам  бесконечное кол-во еды и  вод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2" descr="http://www.music-bazaar.com/album-images/vol10/518/518925/2351918-big/Full-Horn-cover.jpg"/>
          <p:cNvPicPr/>
          <p:nvPr/>
        </p:nvPicPr>
        <p:blipFill>
          <a:blip r:embed="rId1"/>
          <a:stretch/>
        </p:blipFill>
        <p:spPr>
          <a:xfrm>
            <a:off x="468360" y="141300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обальные проблемы человечест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такие проблемы, которые затрагивают интересы не только отдельных людей, но могут повлиять на судьбу всего человечества и от решения которых зависит дальнейшее существование цивилиза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185-1E8D-4AF9-99CA-C81DD1DE2F7A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26A0-C03A-426F-B39C-149506CEE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3D8-0A51-4807-8F90-170FC97AF7E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440-BCD2-42CC-9F70-D4783A9EB2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357120" y="214200"/>
            <a:ext cx="85010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52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Глобальные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проблемы сов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Сафонова Наталья\Рабочий стол\картинки для презентаций\время картинки\rossclock1.jpg"/>
          <p:cNvPicPr/>
          <p:nvPr/>
        </p:nvPicPr>
        <p:blipFill>
          <a:blip r:embed="rId1"/>
          <a:stretch/>
        </p:blipFill>
        <p:spPr>
          <a:xfrm>
            <a:off x="785808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Сафонова Наталья\Рабочий стол\картинки для презентаций\img_7582.jpg"/>
          <p:cNvPicPr/>
          <p:nvPr/>
        </p:nvPicPr>
        <p:blipFill>
          <a:blip r:embed="rId2"/>
          <a:stretch/>
        </p:blipFill>
        <p:spPr>
          <a:xfrm>
            <a:off x="3498840" y="2859120"/>
            <a:ext cx="2286000" cy="1712880"/>
          </a:xfrm>
          <a:prstGeom prst="rect">
            <a:avLst/>
          </a:prstGeom>
          <a:ln w="0">
            <a:noFill/>
          </a:ln>
        </p:spPr>
      </p:pic>
      <p:cxnSp>
        <p:nvCxnSpPr>
          <p:cNvPr id="235" name="Прямая со стрелкой 5"/>
          <p:cNvCxnSpPr/>
          <p:nvPr/>
        </p:nvCxnSpPr>
        <p:spPr>
          <a:xfrm flipH="1">
            <a:off x="1142280" y="714240"/>
            <a:ext cx="1080" cy="286560"/>
          </a:xfrm>
          <a:prstGeom prst="straightConnector1">
            <a:avLst/>
          </a:prstGeom>
          <a:ln w="19080">
            <a:solidFill>
              <a:srgbClr val="a04da3"/>
            </a:solidFill>
            <a:miter/>
            <a:tailEnd len="med" type="arrow" w="med"/>
          </a:ln>
        </p:spPr>
      </p:cxnSp>
      <p:sp>
        <p:nvSpPr>
          <p:cNvPr id="236" name="Прямоугольник 9"/>
          <p:cNvSpPr/>
          <p:nvPr/>
        </p:nvSpPr>
        <p:spPr>
          <a:xfrm>
            <a:off x="428760" y="8571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лат. Земной шар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ланетарные пробл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человеческую значи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трагивающие жизненные интересы огромных масс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Скругленный прямоугольник 14"/>
          <p:cNvGrpSpPr/>
          <p:nvPr/>
        </p:nvGrpSpPr>
        <p:grpSpPr>
          <a:xfrm>
            <a:off x="5437080" y="1725480"/>
            <a:ext cx="3438720" cy="1646280"/>
            <a:chOff x="5437080" y="1725480"/>
            <a:chExt cx="3438720" cy="1646280"/>
          </a:xfrm>
        </p:grpSpPr>
        <p:pic>
          <p:nvPicPr>
            <p:cNvPr id="238" name="Скругленный 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5437080" y="1725480"/>
              <a:ext cx="34387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564160" y="1920960"/>
              <a:ext cx="31590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ограниченности ресурсов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уменьшение запасов сырья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доволь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15"/>
          <p:cNvGrpSpPr/>
          <p:nvPr/>
        </p:nvGrpSpPr>
        <p:grpSpPr>
          <a:xfrm>
            <a:off x="5583240" y="3713040"/>
            <a:ext cx="3389400" cy="1889280"/>
            <a:chOff x="5583240" y="3713040"/>
            <a:chExt cx="3389400" cy="1889280"/>
          </a:xfrm>
        </p:grpSpPr>
        <p:pic>
          <p:nvPicPr>
            <p:cNvPr id="241" name="Скругленный 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5583240" y="3713040"/>
              <a:ext cx="338940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710320" y="3995640"/>
              <a:ext cx="3081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бедности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«Север – Юг») – резкая разница экономического развития между богатыми странами и бедны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16"/>
          <p:cNvGrpSpPr/>
          <p:nvPr/>
        </p:nvGrpSpPr>
        <p:grpSpPr>
          <a:xfrm>
            <a:off x="2865600" y="5394240"/>
            <a:ext cx="3412800" cy="1427400"/>
            <a:chOff x="2865600" y="5394240"/>
            <a:chExt cx="3412800" cy="1427400"/>
          </a:xfrm>
        </p:grpSpPr>
        <p:pic>
          <p:nvPicPr>
            <p:cNvPr id="244" name="Скругленный 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865600" y="5394240"/>
              <a:ext cx="34128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992320" y="5492880"/>
              <a:ext cx="3159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сохранения мир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спространение оружия массового пораже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17"/>
          <p:cNvGrpSpPr/>
          <p:nvPr/>
        </p:nvGrpSpPr>
        <p:grpSpPr>
          <a:xfrm>
            <a:off x="225360" y="3895560"/>
            <a:ext cx="3335400" cy="1474920"/>
            <a:chOff x="225360" y="3895560"/>
            <a:chExt cx="3335400" cy="1474920"/>
          </a:xfrm>
        </p:grpSpPr>
        <p:pic>
          <p:nvPicPr>
            <p:cNvPr id="247" name="Скругленный 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25360" y="3895560"/>
              <a:ext cx="333540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2440" y="3995640"/>
              <a:ext cx="3081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мографическая проблем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езкий рост численности населения Зем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18"/>
          <p:cNvGrpSpPr/>
          <p:nvPr/>
        </p:nvGrpSpPr>
        <p:grpSpPr>
          <a:xfrm>
            <a:off x="298440" y="1798560"/>
            <a:ext cx="3462480" cy="1646280"/>
            <a:chOff x="298440" y="1798560"/>
            <a:chExt cx="3462480" cy="1646280"/>
          </a:xfrm>
        </p:grpSpPr>
        <p:pic>
          <p:nvPicPr>
            <p:cNvPr id="250" name="Скругленный 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298440" y="1798560"/>
              <a:ext cx="3462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20840" y="1992240"/>
              <a:ext cx="31590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логическая проблем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охранение окружающей среды и поддержания природного балан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Прямая со стрелкой 23"/>
          <p:cNvCxnSpPr/>
          <p:nvPr/>
        </p:nvCxnSpPr>
        <p:spPr>
          <a:xfrm flipV="1">
            <a:off x="5643360" y="3214080"/>
            <a:ext cx="572040" cy="28620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3" name="Прямая со стрелкой 27"/>
          <p:cNvCxnSpPr/>
          <p:nvPr/>
        </p:nvCxnSpPr>
        <p:spPr>
          <a:xfrm flipH="1">
            <a:off x="3499920" y="4428000"/>
            <a:ext cx="501120" cy="35964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4" name="Прямая со стрелкой 28"/>
          <p:cNvCxnSpPr/>
          <p:nvPr/>
        </p:nvCxnSpPr>
        <p:spPr>
          <a:xfrm flipH="1" flipV="1">
            <a:off x="3000240" y="3285720"/>
            <a:ext cx="643320" cy="35784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5" name="Прямая со стрелкой 29"/>
          <p:cNvCxnSpPr/>
          <p:nvPr/>
        </p:nvCxnSpPr>
        <p:spPr>
          <a:xfrm>
            <a:off x="5213880" y="4357800"/>
            <a:ext cx="429480" cy="42912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6" name="Прямая со стрелкой 30"/>
          <p:cNvCxnSpPr/>
          <p:nvPr/>
        </p:nvCxnSpPr>
        <p:spPr>
          <a:xfrm>
            <a:off x="4642200" y="4571640"/>
            <a:ext cx="1080" cy="78660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sp>
        <p:nvSpPr>
          <p:cNvPr id="257" name="Прямоугольник 50"/>
          <p:cNvSpPr/>
          <p:nvPr/>
        </p:nvSpPr>
        <p:spPr>
          <a:xfrm>
            <a:off x="4320000" y="1785960"/>
            <a:ext cx="57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991cb"/>
                </a:solidFill>
                <a:latin typeface="Georgi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509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Глобальные проблем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1)Проблема мира и разору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2)Предотвращение новой мировой войн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3)Демограф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4)Преодоление отсталости развивающихся стран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5)Продовольственн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6)Сырьев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7)Энергет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8)Эколог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9) Использования Мирового океан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10)Мировое освоение космос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303-983B-42EC-BCD9-35068077271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82E-500F-4E5B-A51B-677AAC2247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rebuchet MS"/>
              </a:rPr>
              <a:t>I </a:t>
            </a:r>
            <a:r>
              <a:rPr b="0" lang="ru-RU" sz="3600" spc="-1" strike="noStrike">
                <a:solidFill>
                  <a:srgbClr val="0000cc"/>
                </a:solidFill>
                <a:latin typeface="Trebuchet MS"/>
              </a:rPr>
              <a:t>Проблема мира и разоружени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24160"/>
            <a:ext cx="850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а мира и разоружения — проблема предотвращения третьей мировой войны остается важнейшей, самой приоритетной проблемой человечест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торой половине XX в. появилось ядерное оружие и возникла реальная угроза уничтожения целых стран и даже континентов, т.е. практически всей современ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тановление жесткого контроля за ядерным и химическим оружием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кращение обычных вооружений и торговли оружием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ее сокращение военных расходов и численности вооруженных си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ECA7-2BA9-4F8D-928E-14D2EAA5E4D4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D1B-43D3-4349-9A02-658F76F576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220px-Castle_Romeo"/>
          <p:cNvPicPr/>
          <p:nvPr/>
        </p:nvPicPr>
        <p:blipFill>
          <a:blip r:embed="rId1"/>
          <a:stretch/>
        </p:blipFill>
        <p:spPr>
          <a:xfrm>
            <a:off x="7788240" y="5157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30px-WMD_world_map"/>
          <p:cNvPicPr/>
          <p:nvPr/>
        </p:nvPicPr>
        <p:blipFill>
          <a:blip r:embed="rId2"/>
          <a:stretch/>
        </p:blipFill>
        <p:spPr>
          <a:xfrm>
            <a:off x="2987640" y="620640"/>
            <a:ext cx="2190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rebuchet MS"/>
              </a:rPr>
              <a:t>I </a:t>
            </a:r>
            <a:r>
              <a:rPr b="0" lang="ru-RU" sz="4000" spc="-1" strike="noStrike">
                <a:solidFill>
                  <a:srgbClr val="0000cc"/>
                </a:solidFill>
                <a:latin typeface="Trebuchet MS"/>
              </a:rPr>
              <a:t>Проблема мира и разоруж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CA7-ED9A-4825-92CA-3DAF0C7CB5BF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E223-6208-48BD-A1C5-35A3983E99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1319392392_da80f4"/>
          <p:cNvPicPr/>
          <p:nvPr/>
        </p:nvPicPr>
        <p:blipFill>
          <a:blip r:embed="rId1"/>
          <a:stretch/>
        </p:blipFill>
        <p:spPr>
          <a:xfrm>
            <a:off x="684360" y="981000"/>
            <a:ext cx="80359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rebuchet MS"/>
              </a:rPr>
              <a:t>II </a:t>
            </a:r>
            <a:r>
              <a:rPr b="1" lang="ru-RU" sz="4000" spc="-1" strike="noStrike">
                <a:solidFill>
                  <a:srgbClr val="0000cc"/>
                </a:solidFill>
                <a:latin typeface="Trebuchet MS"/>
              </a:rPr>
              <a:t>Демографическая пробл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обальная демографическая проблем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состоит из двух част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ыстрый и слабо контролируемый рост населения развивающихся стр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рение населения развитых стран и многих государстве переходной экономик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AA2F-583B-4DD7-8425-B043FA63749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7C77-9B9E-4B70-9888-48D3FD7050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5531f33e47"/>
          <p:cNvPicPr/>
          <p:nvPr/>
        </p:nvPicPr>
        <p:blipFill>
          <a:blip r:embed="rId1"/>
          <a:stretch/>
        </p:blipFill>
        <p:spPr>
          <a:xfrm>
            <a:off x="5651640" y="4476600"/>
            <a:ext cx="2962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253-FE08-4677-860B-35053BFA570F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885-F3FE-44A1-B095-C61EC9889A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demo_problems"/>
          <p:cNvPicPr/>
          <p:nvPr/>
        </p:nvPicPr>
        <p:blipFill>
          <a:blip r:embed="rId1"/>
          <a:stretch/>
        </p:blipFill>
        <p:spPr>
          <a:xfrm>
            <a:off x="826920" y="62064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7:29:11Z</dcterms:created>
  <dc:creator>Катя</dc:creator>
  <dc:description/>
  <dc:language>en-US</dc:language>
  <cp:lastModifiedBy>arsalanbalzhimaev@gmail.com</cp:lastModifiedBy>
  <dcterms:modified xsi:type="dcterms:W3CDTF">2022-01-16T17:53:12Z</dcterms:modified>
  <cp:revision>48</cp:revision>
  <dc:subject/>
  <dc:title>Процессы глобализации и становление единого человечества</dc:title>
</cp:coreProperties>
</file>