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EE8-CE50-47FD-8163-F74E17D2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C57-701D-4CC1-8AD0-D7050201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C20F-377F-4C1F-9B5C-34978E9C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1611-303D-4272-8E01-ED0E733D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CFEF-B307-451A-A94C-E1BE2F80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5DB1-0F22-4EF0-87FA-87089A10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F605-4B1C-429B-8027-330DBD58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52C4-D77C-4657-811C-960A2F64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B01B-1565-4EA6-BEC8-1232F788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6511-885B-409D-9B93-7ED03588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1764-2435-44F4-A10F-CA362F2F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404-7DB1-487D-8E13-82F5CBAC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4426-4FC3-4E77-A7AB-FE02D5A2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CD2E-5CC8-4BF8-B637-C8F8D3B3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E10B-D2DE-4560-A651-9BEBEBB6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DAEF-4AB2-4D3D-A8AA-7DD5B3DD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59D2-7F6F-4814-A30F-F68DA013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7DD3B-B9DF-4D08-A2CA-CB67ED12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11104-5EF6-48C2-A03D-DEC8BEA5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65F4C-B1F6-464C-BA26-F202091A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C4ED4-E2A6-43BB-89CD-245D739E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BBFCE-3568-4369-80E4-B0CAF44E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968F-F20C-48E7-B0A6-E570388E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69000-1EDF-489A-8070-7CC95457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E4514-E486-4BE0-B323-305B61D4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C004A-0BC5-40A4-A749-729F89FC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72505-0E2B-4180-A75A-5F64327A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631A2-8695-4C10-9F4B-23EA146F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435B0-399F-4D1A-BA31-B89650D0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6E977-B05B-4BDE-B5BF-21A3A9F9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B04EB-74A9-49C0-BB80-D1D18EA0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A33A4-0385-437D-8A0B-C8467FDD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015E7-C6ED-42AF-AAB0-5E2E4DE7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6B1C-E605-4C4D-81ED-C7EABDDC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13457-40CC-4BBB-9D40-20FB0A16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9B4FA-3CD5-4D90-B0D2-A6075DC3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6EE59-B7FD-4B38-986F-F70F123D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C9BD9-F505-4F8C-A2E7-356EE915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AD21B-9936-4507-9C80-A2FC9AA8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CCF00-3813-4B57-929A-E797BEDA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FF09E-AC80-4948-8F73-78C22D25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53CB2-D59B-4453-9C06-6FDBCA16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1EF5E-25CD-4858-9EB6-16F0886D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7AEB7-FED0-412A-87F0-A987CF2D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080-0887-45AA-8071-F0789FC3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1C669-4BEB-4B35-9961-222AD8DD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2DF39-7F5E-43F5-B7C0-E0FCD7F5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83DBA-5701-43F1-B600-225C23C3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4EC4B-CAB7-4202-86CD-C1D02473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29CF0-BF5B-4496-8AED-AEAE5D53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EDD2C-18CC-45E9-9C51-E56C348F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91515-7263-4554-A2BE-96449240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6E4B6-1B42-45D5-A536-478F6550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C8E2E-0824-4783-9F14-5582537C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03EB4-4F6C-4094-A976-7F887D7A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4B8-BB57-4C98-9C8E-8504A59B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8C491-65B2-4D64-A090-9B72604C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45C0A-4416-42FE-8774-B782CBB6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7A62C-E324-484A-AF37-C2992127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4B527-2266-4C22-A80C-FA71C6BC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FFB8E-86D4-4BDD-B24F-0BD90200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3D6E8-5834-4E50-BD53-C439D0F0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BB583-3760-41C8-93E0-60149B88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E589B-18C3-436A-8E74-CAB39555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55080-A2CE-4F0C-B423-ABCBEA71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29065-AB21-42B6-902C-585251CC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941-724C-449B-8B9D-78690650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667C0-827B-402A-89E9-3A2939FC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66A2B-AA2D-4F94-B433-5E6B72A5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2ED03-D8AB-4C53-9E17-62AB5BA8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A7FFC-3CCE-4DF9-8F5A-44779A71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19EFB-3717-4B90-9943-873564C9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232BC-EED0-43C8-98AE-11D7A313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AE8C8-3875-4DD7-84A0-AE36D800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9FA69-BB6F-41CD-B425-788FC5D7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0FF57-E0DF-4EC4-AF0C-CA26435D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2685F-6FF8-47E8-94DF-4262FC60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1EB6-1253-4A73-ABFE-3CD8D610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245E0-3420-4718-B654-94895587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0E94D-B764-42F6-B50A-BD802B5E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EF245-AAC5-41AA-85AE-0297E785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43EF5-492D-4BC4-8D85-4726D75E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50929-0825-40D6-99F9-1AC60A20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045D9-2E09-4D81-93BC-DC51C58F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B1BD6-7C13-4247-B047-DFDFF144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05D9F-9E75-4338-8116-9A74534C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EDBC0-DE3E-44B2-8331-61DEBFD7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0D6D6-DC98-43CF-AAD6-7D60F431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D4E-E1AE-418A-BA57-87273DCA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5B29D-F245-4ADB-91BB-5322AB69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1A526-EF15-4F3E-9DAE-92E1EF29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254C0-E8D2-425A-886C-4DB4FEC0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51162-218F-4F5F-94CF-AEE556C0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A9025-1999-4F75-8E06-92EC21C1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D1EF5-1CC4-4687-BF07-58F6A9F1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C8B76-D9D4-41CD-B13B-CAE4B4BF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199A-2CC2-4F9B-9435-879548DE67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01EF-2288-44C2-8781-6F36B217EEFF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E11A-469C-42C7-9554-C679A1BD4E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7086-5526-421C-9F77-62CF06700CB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0700-82CD-4C75-9D44-3A55522AAC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86CD-86BC-45A5-A65E-5A8C085F6F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28FE-4ACE-4B6B-8C2B-B80F627F5FBC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7F37-936E-457F-8C39-EAB23B4D0F0E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74224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Заголовок 1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879156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913752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1" descr=""/>
          <p:cNvPicPr/>
          <p:nvPr/>
        </p:nvPicPr>
        <p:blipFill>
          <a:blip r:embed="rId1"/>
          <a:stretch/>
        </p:blipFill>
        <p:spPr>
          <a:xfrm>
            <a:off x="212760" y="139680"/>
            <a:ext cx="914400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886464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212760" y="212760"/>
            <a:ext cx="879156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212760" y="212760"/>
            <a:ext cx="900432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886464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212760" y="139680"/>
            <a:ext cx="898668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888840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http://uslide.ru/images/15/21936/960/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1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886464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891216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139680" y="212760"/>
            <a:ext cx="900432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Заголовок 1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916956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1T15:47:45Z</dcterms:created>
  <dc:creator>Ярослав</dc:creator>
  <dc:description/>
  <dc:language>en-US</dc:language>
  <cp:lastModifiedBy>lenovo</cp:lastModifiedBy>
  <dcterms:modified xsi:type="dcterms:W3CDTF">2022-05-02T04:25:10Z</dcterms:modified>
  <cp:revision>11</cp:revision>
  <dc:subject/>
  <dc:title>Сфера духовной жизни</dc:title>
</cp:coreProperties>
</file>