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26A-0A48-4C73-8974-8E4BE5AB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8AC-D7CA-41E3-ABD1-411D2DA1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971-20DB-4682-8832-60678E59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FDC-A28D-4BEB-BBD4-B2BD49FC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D09D-2B9B-4E97-B7FB-3F6BB241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293D-0F5C-450C-AAD1-4D80B3AC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EAC7-507F-40E0-9BB9-BC2BCA85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D1DF-C281-4265-99B8-B3690A31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DC4F-F8C5-44B3-A6CF-2ED9A58B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3F15-8665-4EA4-89BE-77884BFE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10F0-C597-40C0-93EE-2DD0CB05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DEA-8C5F-4541-A8FD-D1F7A895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432F-5E32-4F94-B6DD-6AE63A8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B4F6-0815-421B-B6DF-CCC967C4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EBE9-FC04-49C3-97E0-14B6F3D9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D7D6-6489-466D-8197-C89EEEA1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0992-F151-40B5-90E0-9C06C36D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A9B1-9DAB-40D2-BC92-B83D0899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6AC7-60D0-4862-95EA-681F0EB7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5A3A-A2EE-41CC-9DEE-6AA50745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BB8A-C360-4804-BB18-F5EE3E08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A9F8-9ED8-417E-8962-B6314484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DF0-C81F-47C0-9484-48F64D14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BD72E-B681-4F6C-8BEF-29CB5B43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4D27-40D8-4D43-B240-B3FB8600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9C4F-E551-44A6-A9FA-4AB4AE93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869A0-A096-4855-B76E-6FDB4000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1DAC6-05A3-40BA-B6AD-5CE5E712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98DB3-2ABA-40DE-ACF9-89770959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E39A-E1CC-42AC-8C56-069B01F7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61AE3-A489-411B-B815-87C68F44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7D4F2-3CB1-4D31-9A04-529DF3B7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72986-7556-4CB2-9383-1F51DDE3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0AB-E72A-4DF7-B4DB-4AFFFC41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979D0-0B9B-4310-AF6B-6FE1E3F3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A9283-F875-463D-B659-9C71CC8C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12DA-03C4-40C9-905C-163317D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09D12-16D5-433B-8D32-1B62499F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5B49F-561F-4A8E-B6A0-6BF8020D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9AD35-7CD7-4F80-902C-B3577309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994CD-0F50-48BD-826A-8DAEC3B8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25E8-1037-4DD3-B2A0-CC655C3C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9293A-61A2-41A0-866D-AD7F122D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19D0-CF0B-4FE0-8FF8-23C34D11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D10-D4C8-46AB-B834-5D2AD2B4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FD057-F62D-41AE-8095-147B7EFD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DEF2-4773-4989-AF98-59BC57C6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44DA-EFA4-4D02-8F42-DC52958F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31CCB-E7A6-40BF-8301-4E1B278A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9B998-B4C9-40C8-AFDD-A996671F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E41A-041B-4B54-A2DC-7355E4A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C904-B3DB-4927-B04E-A14D4101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A4FF6-F8FE-40A8-A685-6279CB8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20E38-A76E-439C-842A-D5C0CADA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6E6EA-9FE9-4446-B560-10541F41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60C-920B-4D43-A629-2D8F9C8F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904B3-E0FC-44B0-B5A1-95F1009A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EF530-FE3F-4E0C-91B4-088FABA6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3C984-A468-4A3C-AAE7-EECC25CA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62F0A-9A14-4E08-A28B-A615C4EC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D4053-2C2E-4858-9C44-64405D34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F0D86-4596-4947-8BF4-A8FFBE4F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64EFB-C787-424F-A7B6-4FB688BF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F44F8-39DD-4E95-8CF0-08C340E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33C15-88BA-4260-BA39-F5213BD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0C889-03E6-45CD-B58C-4633C26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0A2-F78E-4349-B3C2-1C8A25F5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8BCF-27F4-4F5C-BAFD-D99565BA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CE04D-B22E-451A-9EB5-085B3C6E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2F722-B381-4384-93B2-2D68E641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55C5A-4260-4F57-970E-2BA73263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3F8D-4F66-400D-8934-50FE3A0F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8CBE-92F0-469D-BB40-1FDC4630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601C0-D300-4F0D-B5E6-0C9045D0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313DF-5C8E-48A7-88B1-335B7BD5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3C709-0D1E-4B51-9156-5182C626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E2D82-6322-46D0-A626-DC4B7D13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400-640F-4628-9D2A-AF653144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1A23C-732D-404E-BA74-36B03DCB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8DF12-95E3-4855-9C66-CB63724E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52F46-A352-4CFB-BB9A-9E8ABBD5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0D983-D7BC-4F1C-B464-0910E857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5BAF6-91C1-4AD5-B592-A8B769EB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1E5F1-C9BE-4D49-808A-6654045B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2840E-3CEE-4613-A882-848A6E5F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52FEC-10EC-4A8F-A217-C79BE184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8C56D-A3AC-4678-82CA-41368A2C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150C0-2344-4E90-832C-5F2E7405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B19-8A4A-40EA-9D0E-AFDD4A73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EA8DB-12C7-487D-84FA-684E50A4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F26C-6392-4329-A8E4-D8035C57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63F87-E99C-48B7-8590-A937A8FA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300A6-CF9B-4584-835C-FF76D50F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5A607-850B-4DC4-9829-E7EEA412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3BBFD-8A23-497E-9413-F725EFC6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15A86-0ED7-4B9C-90AF-DAC1E861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24E0-03F8-4C9D-8CC4-B5BFD6A88B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954A-2309-4BCF-BE34-9A4696AAB85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9520-A3E4-4C17-BD26-DB04EAAAE1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DAF6-9F7E-42D8-BC38-7B60B0557A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7A97-F3CB-4F78-890E-4A5D681B60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B8A0-AAF9-4314-A5EC-FDA4633C49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2363-8293-48C6-814A-0514C8D8997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9D15-4EBC-40D9-B11F-5652268134B7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7422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79156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91375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91440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8646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79156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900432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864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898668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88840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ttp://uslide.ru/images/15/21936/960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86464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91216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900432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916956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15:47:45Z</dcterms:created>
  <dc:creator>Ярослав</dc:creator>
  <dc:description/>
  <dc:language>en-US</dc:language>
  <cp:lastModifiedBy>lenovo</cp:lastModifiedBy>
  <dcterms:modified xsi:type="dcterms:W3CDTF">2022-05-02T04:25:10Z</dcterms:modified>
  <cp:revision>11</cp:revision>
  <dc:subject/>
  <dc:title>Сфера духовной жизни</dc:title>
</cp:coreProperties>
</file>