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768-145E-4AB7-93EE-E4D54E15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1D1-3829-4A0F-9896-17A86DF7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DB2-0EC4-4BA5-A94E-FA662F80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B95-6437-46C3-8F23-3EA25B8D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119E-D75D-4DB7-9531-1A3CC2B7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1E6E-415D-4CC9-8D39-9B00E970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CDD6-D111-487F-956B-00046831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CBF8-2FE3-4E1D-8ABA-20966420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550D-B672-4E07-8890-256E9943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B23E-1F0D-411F-85CA-ADD9B225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869A-9F32-4AE4-8ED6-8523E9C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2F5-EE43-4733-803A-3B622529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7E1C-9F94-401E-A024-A86A8F58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FA62-5FFA-427B-BAB7-610DB33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D290-986E-4435-8965-DEDEF5AF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CC6D-2573-42A8-96A8-D4F7EB1C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2172-BF99-4A62-B619-1AE68ED0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FA01-9D0B-427F-A750-4C1841C2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888F-609B-4408-8F35-7EF04070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EEEF-CDB4-4F4B-B2CB-DBD3D31D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E4EF-0A66-4364-A7C9-EEFDDC59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2F94-A51F-478D-AC1D-5BE19E0D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24C-B4A1-4503-ADF4-A4535D82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6807-AD54-4C3E-B080-0471697E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C0BA-CAF6-4E1D-8674-54B9DF32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9E87-978F-420D-B398-ED5A8E7F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6344-9640-4CD8-9C4C-BD59959B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5A75-81D5-4932-923B-ACC2E133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CA71-F9FA-43CD-9EC8-418800CA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2E5E-11B4-43FC-A54E-AF310589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12A8-479B-41CF-B6CD-FC49CD3A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B765-D844-4A7A-ADC7-C7F82A43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FBCB-7944-4789-91F4-2F437576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096-77D6-479F-B62A-4DF1B6EA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7EE58-24B2-4956-8B2B-5244388D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BA0C-71A9-4136-ACA8-DE27D3AF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89EC-E705-4C53-961A-156931B8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7ED9-3607-48BE-AADE-35D72F8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6ADF0-BEE6-4286-A805-9E3A513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A495-DFB2-4CF1-A085-70DADB77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8393-6480-4AF6-9DBF-880F75D5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A007-76DB-44A8-8185-88ABF97A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2761-E25B-4812-A5B7-DCCB2A1F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BF6-DCFF-43E6-B570-10344D3F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29D-70B1-4FF2-AC2E-8255BB5C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4E7-5545-4F12-95E8-BD5FC2A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A3B-2524-4E9A-9F19-55C6A825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854-72A8-471C-8325-7E79F49B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55619-503B-4406-B93D-7CCF5290684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9EFF8-DA90-4C48-B8F7-51B524B782E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47708-E6D4-4B2E-8E6F-14B0A81103F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B640C-4753-4B50-838F-0F255595A43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Наука и образование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98760" y="3968280"/>
            <a:ext cx="77659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Trebuchet MS"/>
              </a:rPr>
              <a:t>Функции науки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Познавательно-объяснительная.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существляет познание и объяснение устройства мира и законов его развит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Прогностическая.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существляет прогнозирование последствий изменения окружающего мира, раскрывает возможные опасные тенденции развития общества, формулирует рекомендации по их преодолен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90c226"/>
                </a:solidFill>
                <a:uFillTx/>
                <a:latin typeface="Trebuchet MS"/>
              </a:rPr>
              <a:t>Классификация наук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1.По предмету и методу познания: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rebuchet MS"/>
              </a:rPr>
              <a:t>- Естествознание: </a:t>
            </a: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учение о природе, естественные наук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rebuchet MS"/>
              </a:rPr>
              <a:t>- Технознание: </a:t>
            </a: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учение</a:t>
            </a:r>
            <a:r>
              <a:rPr b="1" i="1" lang="ru-RU" sz="33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о технике, технические наук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rebuchet MS"/>
              </a:rPr>
              <a:t>- Человековедение:</a:t>
            </a: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 учение о человеке, гуманитарные науки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90c226"/>
                </a:solidFill>
                <a:uFillTx/>
                <a:latin typeface="Trebuchet MS"/>
              </a:rPr>
              <a:t>Классификация наук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2.По связи с практико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3600" spc="-1" strike="noStrike">
                <a:solidFill>
                  <a:srgbClr val="404040"/>
                </a:solidFill>
                <a:latin typeface="Trebuchet MS"/>
              </a:rPr>
              <a:t>- фундаментальные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 (отсутствует прямая ориентация на практику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1" i="1" lang="ru-RU" sz="3600" spc="-1" strike="noStrike">
                <a:solidFill>
                  <a:srgbClr val="404040"/>
                </a:solidFill>
                <a:latin typeface="Trebuchet MS"/>
              </a:rPr>
              <a:t>прикладные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 (результаты научного познания применяются для решения производственных и социальных проблем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 u="sng">
                <a:solidFill>
                  <a:srgbClr val="90c226"/>
                </a:solidFill>
                <a:uFillTx/>
                <a:latin typeface="Trebuchet MS"/>
              </a:rPr>
              <a:t>Этика науки: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Не навреди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. Ученый должен соблюдать общечеловеческие нормы нравственности, и спрос с него в этом отношении должен быть выше, чем с обычных люд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Стремление к истине.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Нацеленность на поиск нового знания и его честного, полного обоснования без подлогов, погони за дешевой сенсацией, плаги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.Добросовестность научных исследований.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Высокая социальная ответственность и за результаты своих исследований, и в еще большей степени за их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90c226"/>
                </a:solidFill>
                <a:latin typeface="Trebuchet MS"/>
              </a:rPr>
              <a:t>Образование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бразование - получение людьми знаний, приобретение умений, навыков развития умственно-познавательных и творческих способностей через систему социальных институтов- семья, школа, СМ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ли, образование – целенаправленный процесс воспитания и обучения в интересах человека, общества, государства («Закон об образовании»)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Ориентиры образова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1.Первый ориентир – </a:t>
            </a: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личностный.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чностный ориентир исходит из признания человека высшей ценностью. А права на образование – одним их фундаментальных прав лич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Факторы личностной значимости образовани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– процесс социал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обеспечивает знания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вводит человека в культурную жиз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определяет гражданскую позици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определяет интеллектуальный человеческий капитал. (От уровня образования прямо зависит продвижение по службе, заработок, социальный статус. Однако, в нашей стране образованность не является гарантией благополуч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Ориентиры образова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2.Второй ориентир –социальный (образование в интересах общества и государства)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 образование как величайшая ценность народ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 образование положительно влияет на социальные процесс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 образование влияет на демократические процесс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 образование влияет на национальную безопасность: укреп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90c226"/>
                </a:solidFill>
                <a:uFillTx/>
                <a:latin typeface="Trebuchet MS"/>
              </a:rPr>
              <a:t>Функции образования: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ередача знаний от поколения к поколению и распространение культуры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свое­ние социальных и культурных норм общества, обеспечение про­фессиональной ориентации и профессионального образования молодежи и д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5600" y="426600"/>
            <a:ext cx="8597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90c226"/>
                </a:solidFill>
                <a:uFillTx/>
                <a:latin typeface="Trebuchet MS"/>
              </a:rPr>
              <a:t>Основные элементы системы образования в РФ</a:t>
            </a: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 (согласно Закона «Об образовании»)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- Общеобразовательная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1) дошкольное образование (до 6 лет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2) начальное образование (1-4 кл.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3) общее основное образование (9 кл.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4) среднее общее образование (11 кл.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90c226"/>
                </a:solidFill>
                <a:uFillTx/>
                <a:latin typeface="Trebuchet MS"/>
              </a:rPr>
              <a:t>Основные элементы системы образования в РФ</a:t>
            </a: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 (согласно Закона «Об образовании»)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Профессиональная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1) начальное профобразование (училища, лице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2) среднее профобразование (техникумы, колледж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3) высшее профобразование (институты, университеты, академи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4) послевузовское профобразование (аспирантура, академии и т.д.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Что такое наука?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Наука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 - форма духовной деятельности людей, направленная на производство знаний о природе, обществе и о самом познании, имеющая непосредственную цель-постижение истины и открытие объективных законов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Институты образова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сновным институтом современного образования является 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школ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Тенденции развития образования в современном мир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Направление, развит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.Образование должно соответствовать мировому уровню культу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.Появляются ростки тенденции «работать на опережение», т.е. готовить людей к производственным и общественным инновация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Тенденция непрерывного образования. Связано с учениями о духовном совершенствовании личности. Развитие непрерывного образования стало общемировой тенденцией со второй половины 20 в. и связана с НТП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5.Развитие непрерывного образования способствует распространению тенденции совершенствования общего образовани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Тенденции развития образования в современном мир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бщему образованию содействуют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общеобразовательные проблемы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информационные технологии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дистанционные технологии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самообразование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функции НП (научного прогресса)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Тенденции развития образования в современном мир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а)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компенсирующая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(восполнение в базовом образовани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б)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адаптивная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(оперативная подготовка и переподготовка в условиях меняющейся социальной и производственной ситуации)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)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развивающая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(удовлетворение духовных запросов личности, потребностей творческого рост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90c226"/>
                </a:solidFill>
                <a:uFillTx/>
                <a:latin typeface="Trebuchet MS"/>
              </a:rPr>
              <a:t>Российское образование на путях модернизации: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1.Принципиальные изменения в мире требуют подготовки людей к жизни в быстро меняющихся условиях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2.Изменения в системе образования связаны с социально-экономическим и политическими трансформациями в стран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3.Практическая реализация принципа приоритета образовани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 u="sng">
                <a:solidFill>
                  <a:srgbClr val="90c226"/>
                </a:solidFill>
                <a:uFillTx/>
                <a:latin typeface="Trebuchet MS"/>
              </a:rPr>
              <a:t>Этапы становления науки:</a:t>
            </a:r>
            <a:br>
              <a:rPr sz="48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1.Родина науки – Древняя Греци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2.Наука в современном понимании возникает в 17-18 вв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3. Современная наука 20 век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90c226"/>
                </a:solidFill>
                <a:uFillTx/>
                <a:latin typeface="Trebuchet MS"/>
              </a:rPr>
              <a:t>Этапы становления науки: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Начались реализовываться две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сновные функции науки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- познавательная (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теоретическое проникновение в сущность реальных явлений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- практически действенная 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участие в преобразующей деятельности человека, общества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тсюда и разделение науки на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фундаментальные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и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прикладные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В 17 в. появляются академии наук. Научная работа превращается в профессию, а наука в социальный институ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 u="sng">
                <a:solidFill>
                  <a:srgbClr val="90c226"/>
                </a:solidFill>
                <a:uFillTx/>
                <a:latin typeface="Trebuchet MS"/>
              </a:rPr>
              <a:t>Этапы становления науки:</a:t>
            </a:r>
            <a:br>
              <a:rPr sz="48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В 20 в. бурное развитие науки связано с НТП (научно-техническим прогрессом. В начале 20 в. – 100 тыс. учёных, в конце 20 в. – свыше 5 миллионов. Мировая научная информация удваивается в 20 в. каждые 10-15 лет. 90% всех предметов создано в 20 в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 u="sng">
                <a:solidFill>
                  <a:srgbClr val="90c226"/>
                </a:solidFill>
                <a:uFillTx/>
                <a:latin typeface="Trebuchet MS"/>
              </a:rPr>
              <a:t>Этапы становления науки:</a:t>
            </a:r>
            <a:br>
              <a:rPr sz="48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В 20 в. бурное развитие науки связано с НТП (научно-техническим прогрессом. В начале 20 в. – 100 тыс. учёных, в конце 20 в. – свыше 5 миллионов. Мировая научная информация удваивается в 20 в. каждые 10-15 лет. 90% всех предметов создано в 20 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90c226"/>
                </a:solidFill>
                <a:uFillTx/>
                <a:latin typeface="Trebuchet MS"/>
              </a:rPr>
              <a:t>Черты современной науки:</a:t>
            </a:r>
            <a:br>
              <a:rPr sz="4400"/>
            </a:br>
            <a:r>
              <a:rPr b="1" lang="ru-RU" sz="4400" spc="-1" strike="noStrike">
                <a:solidFill>
                  <a:srgbClr val="90c226"/>
                </a:solidFill>
                <a:latin typeface="Trebuchet MS"/>
              </a:rPr>
              <a:t> 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Универсальность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– наука исследует все стороны человеческой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деятельности во всех сферах общественной жизн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1" i="1" lang="ru-RU" sz="2600" spc="-1" strike="noStrike">
                <a:solidFill>
                  <a:srgbClr val="404040"/>
                </a:solidFill>
                <a:latin typeface="Trebuchet MS"/>
              </a:rPr>
              <a:t>Безграничность –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появление самых различных научных школ, сочетание индивидуального и коллективного научного поиск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1" i="1" lang="ru-RU" sz="2600" spc="-1" strike="noStrike">
                <a:solidFill>
                  <a:srgbClr val="404040"/>
                </a:solidFill>
                <a:latin typeface="Trebuchet MS"/>
              </a:rPr>
              <a:t>Дифференциация и интеграция исследований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4. </a:t>
            </a:r>
            <a:r>
              <a:rPr b="1" i="1" lang="ru-RU" sz="2600" spc="-1" strike="noStrike">
                <a:solidFill>
                  <a:srgbClr val="404040"/>
                </a:solidFill>
                <a:latin typeface="Trebuchet MS"/>
              </a:rPr>
              <a:t>Сближение науки с потребностями обществ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9560" y="5569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90c226"/>
                </a:solidFill>
                <a:uFillTx/>
                <a:latin typeface="Trebuchet MS"/>
              </a:rPr>
              <a:t>Черты современной науки:</a:t>
            </a:r>
            <a:br>
              <a:rPr sz="4400"/>
            </a:br>
            <a:r>
              <a:rPr b="1" lang="ru-RU" sz="4400" spc="-1" strike="noStrike">
                <a:solidFill>
                  <a:srgbClr val="90c226"/>
                </a:solidFill>
                <a:latin typeface="Trebuchet MS"/>
              </a:rPr>
              <a:t> 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Термин «дифференциация» означает выделение определенной части чего-либо из общего числа (объектов или значений) по некоторым признака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ли,  дифференциация - это разделение системы, которая первоначально состоит из одинаковых элементов, на равные по качеству ча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нтеграция наук  - связывание одной науки с другими науками, возникновение пограничных дисципли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 u="sng">
                <a:solidFill>
                  <a:srgbClr val="90c226"/>
                </a:solidFill>
                <a:uFillTx/>
                <a:latin typeface="Trebuchet MS"/>
              </a:rPr>
              <a:t>Функции науки:</a:t>
            </a:r>
            <a:br>
              <a:rPr sz="6600"/>
            </a:b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Культурно-мировоззренческа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Помогает человеку не только объяснить известные ему знания о мире, но и выстрои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х в целостную систему, рассмотреть явления окружающего мира в их единстве 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многообразии, выработать свое мировоззрение, научные представления – часть общего образования , культур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9T10:35:07Z</dcterms:created>
  <dc:creator>Марина</dc:creator>
  <dc:description/>
  <dc:language>en-US</dc:language>
  <cp:lastModifiedBy>arsalanbalzhimaev@gmail.com</cp:lastModifiedBy>
  <dcterms:modified xsi:type="dcterms:W3CDTF">2022-01-17T02:01:37Z</dcterms:modified>
  <cp:revision>8</cp:revision>
  <dc:subject/>
  <dc:title>Наука и образование</dc:title>
</cp:coreProperties>
</file>