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5CEB-C6D5-44A9-9323-AEAD18C9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2DC6-7532-48D9-9023-F8A2FB15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F78C-E8EF-4F05-A9A1-14FE2172A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5E1D-60CE-4CA2-AF72-DB257794F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3A0B-7AFE-437D-8948-DD667FF1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F5C4-21AC-4E5F-9D1F-E00A913F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DFE9-AACB-4CDA-B2F2-A8032D44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A761-C1CE-4BE2-9A0C-106F294F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3A09-B584-447C-A310-0C7A1525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2A1A-016C-485D-AD54-D8F418D5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9058-6375-4321-9FA1-A96A6679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CDE1-1D64-442B-B2FB-46EDC49F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32EB-254A-4FB9-B08F-5F20EF8B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5088-705C-4F8C-A960-BCFDDCB3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4F51-A0C4-4B5A-9629-11FB0458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8FB3-96D9-45BB-B2A4-A41E3B54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0468-42B5-4918-A24B-7F625840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E48D1-EBBD-4F2E-BA1D-0F99FEF3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B62D6-2FC8-437D-A075-FFC7CDF9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105DA-7CDC-4CAB-8CD6-5A84BF73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474C0-411A-4239-8FCE-48F7885B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EBA2B-DF3B-47DF-8350-805D1E66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ECC9-959E-4E9D-8CF0-B1D4625D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16D12-A774-4F2C-8CAF-0633A3A3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0569A-CDC7-49CE-8F8E-A1BCCCEB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125EC-43A6-42FF-A65D-0ACD4B21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50069-5961-4D85-ADD5-9EDAA771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7D824-7C93-4E3F-BC5F-A8F37203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8F7D4-4F68-4127-9484-DD46E114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104FE-C173-4446-AB27-07EC9F196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99062-7AE3-46AC-AB48-6EBD9D29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33FF3-8349-4A45-B19E-481D109A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0D518-3BAC-4DC6-BA93-1B288153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445B-C544-4B83-87BC-1AC0DC9E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9D89C-6369-4601-8C95-43B114ED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9861A-FD7B-4075-856E-20C885CC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30817-83E3-49FD-9667-0C65C9D2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B2D20-0C9B-4B73-A50A-BE0DF33C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1D912-E9FD-485C-A74B-424B677C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C0365-CA6A-4805-89E2-D9DF8F42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FA42E-A35E-4B69-ADB3-70F2F18E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C7E5E-53C5-4F99-A69E-59DC48A3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971FF-38FF-4EE9-AEB8-93EA4D9F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02AD-F4D9-47AE-AA96-393A99BD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1EEE-9B54-4B57-A312-815BBE82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91F4-F9AB-4078-8012-D5DD316B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F26A-B8A0-499B-96F1-D68CE39B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6436-0CD0-45D9-8E46-7DA52F8E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E69196-7807-4170-B6C3-2FD3F63414E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2ADC67-8FB9-41CC-8BE2-EEF46CE8C84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8B1E91-6122-4F8C-9867-296EE43E94A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B3E1A9-9235-4380-ABEF-84181F8FE9F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0c226"/>
                </a:solidFill>
                <a:latin typeface="Trebuchet MS"/>
              </a:rPr>
              <a:t>Наука и образование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98760" y="3968280"/>
            <a:ext cx="77659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90c226"/>
                </a:solidFill>
                <a:latin typeface="Trebuchet MS"/>
              </a:rPr>
              <a:t>Функции науки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2.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Познавательно-объяснительная.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Осуществляет познание и объяснение устройства мира и законов его развит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3.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Прогностическая.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Осуществляет прогнозирование последствий изменения окружающего мира, раскрывает возможные опасные тенденции развития общества, формулирует рекомендации по их преодолени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 u="sng">
                <a:solidFill>
                  <a:srgbClr val="90c226"/>
                </a:solidFill>
                <a:uFillTx/>
                <a:latin typeface="Trebuchet MS"/>
              </a:rPr>
              <a:t>Классификация наук: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404040"/>
                </a:solidFill>
                <a:latin typeface="Trebuchet MS"/>
              </a:rPr>
              <a:t>1.По предмету и методу познания: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300" spc="-1" strike="noStrike">
                <a:solidFill>
                  <a:srgbClr val="404040"/>
                </a:solidFill>
                <a:latin typeface="Trebuchet MS"/>
              </a:rPr>
              <a:t>- Естествознание: </a:t>
            </a:r>
            <a:r>
              <a:rPr b="1" lang="ru-RU" sz="3300" spc="-1" strike="noStrike">
                <a:solidFill>
                  <a:srgbClr val="404040"/>
                </a:solidFill>
                <a:latin typeface="Trebuchet MS"/>
              </a:rPr>
              <a:t>учение о природе, естественные науки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300" spc="-1" strike="noStrike">
                <a:solidFill>
                  <a:srgbClr val="404040"/>
                </a:solidFill>
                <a:latin typeface="Trebuchet MS"/>
              </a:rPr>
              <a:t>- Технознание: </a:t>
            </a:r>
            <a:r>
              <a:rPr b="1" lang="ru-RU" sz="3300" spc="-1" strike="noStrike">
                <a:solidFill>
                  <a:srgbClr val="404040"/>
                </a:solidFill>
                <a:latin typeface="Trebuchet MS"/>
              </a:rPr>
              <a:t>учение</a:t>
            </a:r>
            <a:r>
              <a:rPr b="1" i="1" lang="ru-RU" sz="33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3300" spc="-1" strike="noStrike">
                <a:solidFill>
                  <a:srgbClr val="404040"/>
                </a:solidFill>
                <a:latin typeface="Trebuchet MS"/>
              </a:rPr>
              <a:t>о технике, технические науки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300" spc="-1" strike="noStrike">
                <a:solidFill>
                  <a:srgbClr val="404040"/>
                </a:solidFill>
                <a:latin typeface="Trebuchet MS"/>
              </a:rPr>
              <a:t>- Человековедение:</a:t>
            </a:r>
            <a:r>
              <a:rPr b="1" lang="ru-RU" sz="3300" spc="-1" strike="noStrike">
                <a:solidFill>
                  <a:srgbClr val="404040"/>
                </a:solidFill>
                <a:latin typeface="Trebuchet MS"/>
              </a:rPr>
              <a:t> учение о человеке, гуманитарные науки.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 u="sng">
                <a:solidFill>
                  <a:srgbClr val="90c226"/>
                </a:solidFill>
                <a:uFillTx/>
                <a:latin typeface="Trebuchet MS"/>
              </a:rPr>
              <a:t>Классификация наук: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2.По связи с практикой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i="1" lang="ru-RU" sz="3600" spc="-1" strike="noStrike">
                <a:solidFill>
                  <a:srgbClr val="404040"/>
                </a:solidFill>
                <a:latin typeface="Trebuchet MS"/>
              </a:rPr>
              <a:t>- фундаментальные</a:t>
            </a: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 (отсутствует прямая ориентация на практику)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- </a:t>
            </a:r>
            <a:r>
              <a:rPr b="1" i="1" lang="ru-RU" sz="3600" spc="-1" strike="noStrike">
                <a:solidFill>
                  <a:srgbClr val="404040"/>
                </a:solidFill>
                <a:latin typeface="Trebuchet MS"/>
              </a:rPr>
              <a:t>прикладные</a:t>
            </a: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 (результаты научного познания применяются для решения производственных и социальных проблем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 u="sng">
                <a:solidFill>
                  <a:srgbClr val="90c226"/>
                </a:solidFill>
                <a:uFillTx/>
                <a:latin typeface="Trebuchet MS"/>
              </a:rPr>
              <a:t>Этика науки:</a:t>
            </a:r>
            <a:endParaRPr b="0" lang="en-US" sz="7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1.</a:t>
            </a:r>
            <a:r>
              <a:rPr b="1" i="1" lang="ru-RU" sz="2000" spc="-1" strike="noStrike">
                <a:solidFill>
                  <a:srgbClr val="404040"/>
                </a:solidFill>
                <a:latin typeface="Trebuchet MS"/>
              </a:rPr>
              <a:t>Не навреди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. Ученый должен соблюдать общечеловеческие нормы нравственности, и спрос с него в этом отношении должен быть выше, чем с обычных люде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2.</a:t>
            </a:r>
            <a:r>
              <a:rPr b="1" i="1" lang="ru-RU" sz="2000" spc="-1" strike="noStrike">
                <a:solidFill>
                  <a:srgbClr val="404040"/>
                </a:solidFill>
                <a:latin typeface="Trebuchet MS"/>
              </a:rPr>
              <a:t>Стремление к истине.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 Нацеленность на поиск нового знания и его честного, полного обоснования без подлогов, погони за дешевой сенсацией, плагиат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3</a:t>
            </a:r>
            <a:r>
              <a:rPr b="1" i="1" lang="ru-RU" sz="2000" spc="-1" strike="noStrike">
                <a:solidFill>
                  <a:srgbClr val="404040"/>
                </a:solidFill>
                <a:latin typeface="Trebuchet MS"/>
              </a:rPr>
              <a:t>.Добросовестность научных исследований. 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Высокая социальная ответственность и за результаты своих исследований, и в еще большей степени за их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8000" spc="-1" strike="noStrike">
                <a:solidFill>
                  <a:srgbClr val="90c226"/>
                </a:solidFill>
                <a:latin typeface="Trebuchet MS"/>
              </a:rPr>
              <a:t>Образование</a:t>
            </a:r>
            <a:endParaRPr b="0" lang="en-US" sz="8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Образование - получение людьми знаний, приобретение умений, навыков развития умственно-познавательных и творческих способностей через систему социальных институтов- семья, школа, СМИ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Или, образование – целенаправленный процесс воспитания и обучения в интересах человека, общества, государства («Закон об образовании»)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Ориентиры образования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1.Первый ориентир – </a:t>
            </a: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личностный. 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Личностный ориентир исходит из признания человека высшей ценностью. А права на образование – одним их фундаментальных прав личнос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Факторы личностной значимости образования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- образование – процесс социализа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- образование обеспечивает знаниям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- образование вводит человека в культурную жизн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- образование определяет гражданскую позицию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- образование определяет интеллектуальный человеческий капитал. (От уровня образования прямо зависит продвижение по службе, заработок, социальный статус. Однако, в нашей стране образованность не является гарантией благополуч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Ориентиры образования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2.Второй ориентир –социальный (образование в интересах общества и государства)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- образование как величайшая ценность народ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- образование положительно влияет на социальные процессы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- образование влияет на демократические процессы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- образование влияет на национальную безопасность: укреп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 u="sng">
                <a:solidFill>
                  <a:srgbClr val="90c226"/>
                </a:solidFill>
                <a:uFillTx/>
                <a:latin typeface="Trebuchet MS"/>
              </a:rPr>
              <a:t>Функции образования:</a:t>
            </a:r>
            <a:br>
              <a:rPr sz="5400"/>
            </a:b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Передача знаний от поколения к поколению и распространение культуры;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Освое­ние социальных и культурных норм общества, обеспечение про­фессиональной ориентации и профессионального образования молодежи и др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5600" y="426600"/>
            <a:ext cx="8597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90c226"/>
                </a:solidFill>
                <a:uFillTx/>
                <a:latin typeface="Trebuchet MS"/>
              </a:rPr>
              <a:t>Основные элементы системы образования в РФ</a:t>
            </a:r>
            <a:r>
              <a:rPr b="1" lang="ru-RU" sz="3200" spc="-1" strike="noStrike">
                <a:solidFill>
                  <a:srgbClr val="90c226"/>
                </a:solidFill>
                <a:latin typeface="Trebuchet MS"/>
              </a:rPr>
              <a:t> (согласно Закона «Об образовании»)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- Общеобразовательная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1) дошкольное образование (до 6 лет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2) начальное образование (1-4 кл.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3) общее основное образование (9 кл.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4) среднее общее образование (11 кл.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90c226"/>
                </a:solidFill>
                <a:uFillTx/>
                <a:latin typeface="Trebuchet MS"/>
              </a:rPr>
              <a:t>Основные элементы системы образования в РФ</a:t>
            </a:r>
            <a:r>
              <a:rPr b="1" lang="ru-RU" sz="3200" spc="-1" strike="noStrike">
                <a:solidFill>
                  <a:srgbClr val="90c226"/>
                </a:solidFill>
                <a:latin typeface="Trebuchet MS"/>
              </a:rPr>
              <a:t> (согласно Закона «Об образовании»)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-Профессиональная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1) начальное профобразование (училища, лицеи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2) среднее профобразование (техникумы, колледжи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3) высшее профобразование (институты, университеты, академии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4) послевузовское профобразование (аспирантура, академии и т.д.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0c226"/>
                </a:solidFill>
                <a:latin typeface="Trebuchet MS"/>
              </a:rPr>
              <a:t>Что такое наука?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Наука</a:t>
            </a: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 - форма духовной деятельности людей, направленная на производство знаний о природе, обществе и о самом познании, имеющая непосредственную цель-постижение истины и открытие объективных законов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0c226"/>
                </a:solidFill>
                <a:latin typeface="Trebuchet MS"/>
              </a:rPr>
              <a:t>Институты образования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Основным институтом современного образования является 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школа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 u="sng">
                <a:solidFill>
                  <a:srgbClr val="90c226"/>
                </a:solidFill>
                <a:uFillTx/>
                <a:latin typeface="Trebuchet MS"/>
              </a:rPr>
              <a:t>Тенденции развития образования в современном мире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1.Направление, развити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60640" indent="-260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2.Образование должно соответствовать мировому уровню культур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60640" indent="-260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3.Появляются ростки тенденции «работать на опережение», т.е. готовить людей к производственным и общественным инновациям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60640" indent="-260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4.Тенденция непрерывного образования. Связано с учениями о духовном совершенствовании личности. Развитие непрерывного образования стало общемировой тенденцией со второй половины 20 в. и связана с НТП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60640" indent="-260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5.Развитие непрерывного образования способствует распространению тенденции совершенствования общего образования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60640" indent="-260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 u="sng">
                <a:solidFill>
                  <a:srgbClr val="90c226"/>
                </a:solidFill>
                <a:uFillTx/>
                <a:latin typeface="Trebuchet MS"/>
              </a:rPr>
              <a:t>Тенденции развития образования в современном мире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Общему образованию содействуют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- общеобразовательные проблемы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- информационные технологии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- дистанционные технологии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- самообразование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- функции НП (научного прогресса)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 u="sng">
                <a:solidFill>
                  <a:srgbClr val="90c226"/>
                </a:solidFill>
                <a:uFillTx/>
                <a:latin typeface="Trebuchet MS"/>
              </a:rPr>
              <a:t>Тенденции развития образования в современном мире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а)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компенсирующая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(восполнение в базовом образовании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б)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адаптивная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(оперативная подготовка и переподготовка в условиях меняющейся социальной и производственной ситуации)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) </a:t>
            </a: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развивающая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(удовлетворение духовных запросов личности, потребностей творческого рост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 u="sng">
                <a:solidFill>
                  <a:srgbClr val="90c226"/>
                </a:solidFill>
                <a:uFillTx/>
                <a:latin typeface="Trebuchet MS"/>
              </a:rPr>
              <a:t>Российское образование на путях модернизации:</a:t>
            </a:r>
            <a:br>
              <a:rPr sz="4400"/>
            </a:b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1.Принципиальные изменения в мире требуют подготовки людей к жизни в быстро меняющихся условиях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2.Изменения в системе образования связаны с социально-экономическим и политическими трансформациями в стране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3.Практическая реализация принципа приоритета образовани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 u="sng">
                <a:solidFill>
                  <a:srgbClr val="90c226"/>
                </a:solidFill>
                <a:uFillTx/>
                <a:latin typeface="Trebuchet MS"/>
              </a:rPr>
              <a:t>Этапы становления науки:</a:t>
            </a:r>
            <a:br>
              <a:rPr sz="4800"/>
            </a:b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1.Родина науки – Древняя Греция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2.Наука в современном понимании возникает в 17-18 вв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3. Современная наука 20 век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 u="sng">
                <a:solidFill>
                  <a:srgbClr val="90c226"/>
                </a:solidFill>
                <a:uFillTx/>
                <a:latin typeface="Trebuchet MS"/>
              </a:rPr>
              <a:t>Этапы становления науки:</a:t>
            </a:r>
            <a:br>
              <a:rPr sz="4400"/>
            </a:b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Начались реализовываться две </a:t>
            </a:r>
            <a:r>
              <a:rPr b="1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основные функции науки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91600" indent="-291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- познавательная (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теоретическое проникновение в сущность реальных явлений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91600" indent="-291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- практически действенная 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участие в преобразующей деятельности человека, общества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91600" indent="-291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Отсюда и разделение науки на 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фундаментальные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и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 прикладные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91600" indent="-291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В 17 в. появляются академии наук. Научная работа превращается в профессию, а наука в социальный институт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 u="sng">
                <a:solidFill>
                  <a:srgbClr val="90c226"/>
                </a:solidFill>
                <a:uFillTx/>
                <a:latin typeface="Trebuchet MS"/>
              </a:rPr>
              <a:t>Этапы становления науки:</a:t>
            </a:r>
            <a:br>
              <a:rPr sz="4800"/>
            </a:b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В 20 в. бурное развитие науки связано с НТП (научно-техническим прогрессом. В начале 20 в. – 100 тыс. учёных, в конце 20 в. – свыше 5 миллионов. Мировая научная информация удваивается в 20 в. каждые 10-15 лет. 90% всех предметов создано в 20 в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 u="sng">
                <a:solidFill>
                  <a:srgbClr val="90c226"/>
                </a:solidFill>
                <a:uFillTx/>
                <a:latin typeface="Trebuchet MS"/>
              </a:rPr>
              <a:t>Этапы становления науки:</a:t>
            </a:r>
            <a:br>
              <a:rPr sz="4800"/>
            </a:b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В 20 в. бурное развитие науки связано с НТП (научно-техническим прогрессом. В начале 20 в. – 100 тыс. учёных, в конце 20 в. – свыше 5 миллионов. Мировая научная информация удваивается в 20 в. каждые 10-15 лет. 90% всех предметов создано в 20 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 u="sng">
                <a:solidFill>
                  <a:srgbClr val="90c226"/>
                </a:solidFill>
                <a:uFillTx/>
                <a:latin typeface="Trebuchet MS"/>
              </a:rPr>
              <a:t>Черты современной науки:</a:t>
            </a:r>
            <a:br>
              <a:rPr sz="4400"/>
            </a:br>
            <a:r>
              <a:rPr b="1" lang="ru-RU" sz="4400" spc="-1" strike="noStrike">
                <a:solidFill>
                  <a:srgbClr val="90c226"/>
                </a:solidFill>
                <a:latin typeface="Trebuchet MS"/>
              </a:rPr>
              <a:t> 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Универсальность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– наука исследует все стороны человеческой </a:t>
            </a: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деятельности во всех сферах общественной жизни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2.</a:t>
            </a:r>
            <a:r>
              <a:rPr b="1" i="1" lang="ru-RU" sz="2600" spc="-1" strike="noStrike">
                <a:solidFill>
                  <a:srgbClr val="404040"/>
                </a:solidFill>
                <a:latin typeface="Trebuchet MS"/>
              </a:rPr>
              <a:t>Безграничность – </a:t>
            </a: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появление самых различных научных школ, сочетание индивидуального и коллективного научного поиска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3.</a:t>
            </a:r>
            <a:r>
              <a:rPr b="1" i="1" lang="ru-RU" sz="2600" spc="-1" strike="noStrike">
                <a:solidFill>
                  <a:srgbClr val="404040"/>
                </a:solidFill>
                <a:latin typeface="Trebuchet MS"/>
              </a:rPr>
              <a:t>Дифференциация и интеграция исследований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Trebuchet MS"/>
              </a:rPr>
              <a:t>4. </a:t>
            </a:r>
            <a:r>
              <a:rPr b="1" i="1" lang="ru-RU" sz="2600" spc="-1" strike="noStrike">
                <a:solidFill>
                  <a:srgbClr val="404040"/>
                </a:solidFill>
                <a:latin typeface="Trebuchet MS"/>
              </a:rPr>
              <a:t>Сближение науки с потребностями общества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9560" y="5569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 u="sng">
                <a:solidFill>
                  <a:srgbClr val="90c226"/>
                </a:solidFill>
                <a:uFillTx/>
                <a:latin typeface="Trebuchet MS"/>
              </a:rPr>
              <a:t>Черты современной науки:</a:t>
            </a:r>
            <a:br>
              <a:rPr sz="4400"/>
            </a:br>
            <a:r>
              <a:rPr b="1" lang="ru-RU" sz="4400" spc="-1" strike="noStrike">
                <a:solidFill>
                  <a:srgbClr val="90c226"/>
                </a:solidFill>
                <a:latin typeface="Trebuchet MS"/>
              </a:rPr>
              <a:t> 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Термин «дифференциация» означает выделение определенной части чего-либо из общего числа (объектов или значений) по некоторым признакам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Или,  дифференциация - это разделение системы, которая первоначально состоит из одинаковых элементов, на равные по качеству част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77560" indent="-277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Интеграция наук  - связывание одной науки с другими науками, возникновение пограничных дисциплин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600" spc="-1" strike="noStrike" u="sng">
                <a:solidFill>
                  <a:srgbClr val="90c226"/>
                </a:solidFill>
                <a:uFillTx/>
                <a:latin typeface="Trebuchet MS"/>
              </a:rPr>
              <a:t>Функции науки:</a:t>
            </a:r>
            <a:br>
              <a:rPr sz="6600"/>
            </a:br>
            <a:endParaRPr b="0" lang="en-US" sz="6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Культурно-мировоззренческа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Помогает человеку не только объяснить известные ему знания о мире, но и выстроит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их в целостную систему, рассмотреть явления окружающего мира в их единстве 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многообразии, выработать свое мировоззрение, научные представления – часть общего образования , культуры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9T10:35:07Z</dcterms:created>
  <dc:creator>Марина</dc:creator>
  <dc:description/>
  <dc:language>en-US</dc:language>
  <cp:lastModifiedBy>arsalanbalzhimaev@gmail.com</cp:lastModifiedBy>
  <dcterms:modified xsi:type="dcterms:W3CDTF">2022-01-17T02:01:37Z</dcterms:modified>
  <cp:revision>8</cp:revision>
  <dc:subject/>
  <dc:title>Наука и образование</dc:title>
</cp:coreProperties>
</file>