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F45-BC13-47F6-9398-FD8B516B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DE3-3C74-43F5-B438-288FFDC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8DE-E96E-4BDB-B54D-9C65B7CC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FFB-0B3C-4EE7-B977-EB28BC1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AFE-0058-48C9-82B0-EF84BC70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CE42-AD70-4481-86E1-18A4243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A663-0903-4AB5-A9C4-0C42138D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FBB-823B-4CBA-A011-FC3AA68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FF6-62AC-4BDF-AB28-8DE7A3EC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1E5B-8A53-40DC-B68F-A6D653E8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1D7A-D0F0-4D36-B06A-EDB823C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530-C8F2-47D8-B6ED-B622A01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9DF-38EF-4F01-8E4E-272E479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9A1-C5EE-4AC3-9B0B-5328124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8E76-5357-4729-AB15-33C72D6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7FE9-77A1-4F9F-BEC3-0F5F255C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F62E-FE90-4667-AD83-4282A1A1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6652-74BC-4EF0-B425-826E52A6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E98B-FEE9-479A-8AAA-14153AF7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54C0-623C-4C9C-B023-9BCD94B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0565-7202-4B21-9C93-CC5EED1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A487-93F4-4905-99B4-E8BB47B6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9AF-A775-4413-86EC-B15F3042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0209-264D-45F7-B1D8-99D259D1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69F3-EC94-4DE4-B2EB-63DB995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2A9E-393B-407D-B778-E051790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BAB8-DD42-400A-BC52-B697ED7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F362-25AA-4836-A843-9076317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FAEC-60FA-4ADE-BA83-3B70799B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7AB0-CA96-4AF2-98C4-5483F64C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B102-1879-4590-98F1-DD1D40B7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DC1D-CEF8-46FF-9232-4A9A778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341E-0FE4-4F26-B2B3-F4278CEB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C55-5085-49FD-89FE-1B34218D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2893-178E-4E9B-B301-BAF5EFA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CEAA-415B-4498-AAD5-E350DEF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8DBD-2D1E-477F-9612-38C94781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5146-47C7-4DAA-BDEE-0FC6D51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C032-7843-4DF4-8ABD-EEF8ABC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53D5-6A27-4913-8C01-70A66B8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8944-5FC9-410A-803D-791AB2E3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DCC3-1A40-4F8D-8479-28B38E04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3DEB-3A51-4174-AEA1-295027DF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9766-4968-4A53-AAB9-8BAB342F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E94-7C8D-4C58-B5CA-500C22B2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F365-0E5D-4039-8594-CC4EE320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3583-3FBE-4FC5-8905-C46A492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BBF0-EC8D-4DAC-B2C5-6572243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BE26-3F8B-4CDD-8926-FA7BC96E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E5E6-F5A5-4E76-AE5F-FE7372D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8831-1FC2-4248-B991-A38359C0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F140-AD20-4048-BE6D-2E5F1D1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695C-AE7C-4B7A-AEC8-47903F9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79CD-B868-42B7-8A37-0AEC037A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55E0-8CD4-49E2-8799-87CE2E5B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32B-9250-4A75-9170-36C005B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ADE4-5F27-45D7-B81B-5FBB6E0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3AF2-2FDB-4CFB-9AAD-33598B0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5696-6F71-49A2-B22D-80CDBE84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91DE6-F0AF-4A20-BED7-573F52E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E818-8A46-483C-B657-78941198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6BAA8-90CD-4A4F-A6CC-D5B38E2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5B07F-D5C3-4A90-A88B-EA23B826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AD0D0-A399-4485-8B50-DA76865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A6A3-089B-4716-B7F1-943E67D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722EC-DAD7-4455-9398-BC47CDA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7DB-26B5-460D-AAAE-EE3A684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1731-3E06-40E5-BA1E-950E163E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0C4B-7A20-4AB3-9838-D56A3B93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3FB5-A9A7-43A5-98F9-F45EA5A8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3F4F-C8A9-40AF-A0CC-956829C7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E639-8DC7-4BF1-9EB7-0D3A21A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340F6-A9A5-4852-9243-44C6A22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774A-BA41-43D4-98CF-D3F7B28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8BCD-7B07-4751-8151-CB8FB6F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977B-E6AB-42BA-BCC7-E5D8E19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8818-C556-401F-9D9B-0A9A0DB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208-6C60-4213-8A53-3DF0D09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0D05-3C0C-4F2D-B42A-F62FF69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8451-4BBD-4B0F-A0DC-7D95A60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1A8A-67F7-4544-8340-809A5DF7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9B741-7936-47EC-B38E-6FB83862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166C-14F3-47AE-BE6F-3A55D912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E31-EEAD-4753-8737-CC8A199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09DE-6EA3-4B92-B9DE-1912809304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77F7-C183-4BD3-B5D5-F49C73E213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46E-9D6E-44B1-A2F6-1F0CE4FB92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EA3B-3BD4-483B-A41F-A3C01B1A23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F4F0-77C5-449C-96CD-00FF5745D5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8FE-1D4A-4896-99D7-B59BD3784B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E9F-BAD7-4D58-BDF5-20CD353644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andara"/>
              </a:rPr>
              <a:t>Рыночная экономика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62aa"/>
                </a:solidFill>
                <a:latin typeface="Candara"/>
              </a:rPr>
              <a:t>Экономика, в которой решения самих производителей и потребителей определяют структуру распределения ресур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То количество товара, которое продавец готов предложить покупателю по определенной цене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Цена предложения –предельный минимум по которому производитель готов продать продук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Предложение 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Виды рынков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Потребительских товаров и услу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Средств производств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Рабочей сил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Инвестици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Валютны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Информаци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Ценных бума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Научно-технических разработок и инноваци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Мест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Региональ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Националь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Мирово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База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Особая форма хозяй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фера независимых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ынок –система экономических отношений , проявляющихся в сфере обме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Неограниченное число субъек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ный доступ для производител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Наличие информации о ситуации на рын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Мобильность материальных, финансовых, трудовых и др. ресурс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а в принятии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(идеальная модель рынк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Признаки свободного рынк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ndara"/>
              </a:rPr>
              <a:t>Рынок </a:t>
            </a: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ный обмен между продавцом и покупател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Частная собственность на экономические ресурс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Материальная ответственность за принятие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Обеспечивает взаимодействие производства и потребления через обмен, куплю – продажу товаров и услу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Рынок -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условия существования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5280" y="1989000"/>
            <a:ext cx="8291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Свободное ценообразовани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Конкуренц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Свобода предпринимательской деятельност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ndara"/>
              </a:rPr>
              <a:t>Рынок -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920" y="1989000"/>
            <a:ext cx="74246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Сфер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независимых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Сфера, обеспечивающая различные потреб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Механизм, базирующийся на товарно-денежных отношения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оперничество, борьба за достижение лучших результа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За привлечение покупателя для получения максимальной прибыли(снижение цен, рост качества товара, реклам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ndara"/>
              </a:rPr>
              <a:t>Конкуренция: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Заставляет производителя совершенствовать процесс производ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Рационально использовать ресурс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Дает возможность производителю самому принимать экономические решения(на свой страх и риск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Конкуренция -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прос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6560" y="1341000"/>
            <a:ext cx="7928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Желание и способность потребителей купить какое-либо количество продукта по определенной цен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Цена – денежное выражение стоим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Цена спроса – это максимум который готов платить покупател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18:26:21Z</dcterms:created>
  <dc:creator>Пользователь</dc:creator>
  <dc:description/>
  <dc:language>en-US</dc:language>
  <cp:lastModifiedBy>lenovo</cp:lastModifiedBy>
  <dcterms:modified xsi:type="dcterms:W3CDTF">2022-05-02T04:51:11Z</dcterms:modified>
  <cp:revision>30</cp:revision>
  <dc:subject/>
  <dc:title>Рыночная экономика</dc:title>
</cp:coreProperties>
</file>