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FF4-EE3C-49AE-BF18-A09DE1FB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BFF3-51FF-40DB-9FCB-547EC683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C4F-9861-42BF-B2FD-486A1A0F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FB2A-8E3D-4D54-8DB5-59FDB47E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B8A1-8866-4957-82DB-F2970834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A284-0FA9-4908-8676-148EC245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0127-9BEB-4A40-936C-9527A750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36E8-C90A-45D1-BE69-E7563181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B600-ECA3-4907-8ED3-880BC0AA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967B-F3E6-459F-8CC4-D245CB78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7BD4-9D73-45DD-9D53-88F55435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EEC-30F5-4E5B-AC72-8E74A6BB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837F-661B-4A09-B05C-7CFB88ED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78FB-6523-4EAC-B6D2-5F20C3D0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9D21-C0C9-4737-8E6A-492EF85A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7987-5D7B-48D3-ABAC-70CA7BEC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926B-5DC7-4FA3-B52E-8DEC2FC2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5F782-9F21-4259-B92E-728EE875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93CB4-5939-45F4-B108-7DFA58E5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6ED89-F75A-4E42-B919-CA0B6150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C3107-0672-4960-80A0-63299AF2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35D16-CF8D-4E48-8ECB-15AD2B20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5692-BD4C-440E-B765-C9A2B952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BE30B-6CAE-4A88-8A8F-F41D245E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D697B-CEB3-404E-AC5A-B54EDC33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A7AEA-743F-443F-A411-72F64D19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4A9CA-3D9D-4E2C-8200-A9C63B2F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50238-CB99-48EA-A8D2-E1A78D04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F9233-84A9-4EA7-A9EA-99AF438A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5068A-199F-4496-B3D2-3D78A487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90E82-7B78-4EAD-B162-3D57CBE8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50699-6FD0-4519-966F-AEA6A607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049DA-3EEB-46E3-BB43-180BA2D6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481-25D2-4367-8E96-93CC83BD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9D2A6-1FD4-4F7C-B996-FB1C4A16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1F12B-AB50-4775-A02F-683536CA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CEDF1-DD3A-4491-B259-2E422DAE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13C51-44F5-46E2-BEB5-86C92BC4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C98F8-E5C2-48E4-BA90-39C52D39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8BEF4-1FF0-413F-AB89-86C12111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B4FDD-BE18-4237-8C76-882F6189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1B0C8-79B5-4D19-B30C-C80DD93C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13DE3-A8FC-4CC5-BFD2-3392CF08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25513-B073-47E5-883A-BED3448C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CCC-F81B-46DE-939E-5D3ADE3C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0BA6A-CCF4-4608-8CB8-88E536A0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C91B1-6563-47F6-80F8-FC42268C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D367A-B806-4F9A-B2C4-D1A73782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84270-61CE-4ADD-8F03-BE02BE4C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E11D2-9599-4E44-9BD9-1C27E8CC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2F641-6178-4322-B7C8-0934210F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3B782-3DD0-4527-8530-309743C5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E6769-6ED1-4E32-91AE-4C48AE28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154BA-B24F-415B-ABA3-BA68D8C7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222F6-C189-406C-8CE8-F387DA6C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2C5-B381-493B-9E79-D3EAF166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B6C0A-DED2-461E-B5FC-98EE68DB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A560A-CAE9-4721-9C0A-5DF59EB4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1A001-C983-4C7F-9583-F2B94098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A8667-3BA8-4192-A7F6-E919D94D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FF311-9CDF-4229-9394-22E7B0DF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CED97-24E8-4290-B344-B0B898CC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EFD06-E3D8-423F-BF91-A03482F2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9B7AF-8C12-4D46-817B-5EC87DFD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021D8-CD2A-4BCA-AF8C-BDEE726A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CDBB4-959D-453E-AC18-D40CED18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76DE-CD7D-4147-8930-EEBDB364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BFD54-5606-4F77-A25D-E21A9814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07EA8-48DB-42C0-83E2-8DB19882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F8354-B549-4322-87EE-F6290037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2115D-8BB1-4D73-8443-36376510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4CCED-FACA-4AF1-BE25-4CEC7ED0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706CE-FF3C-4590-984A-8D30F2F0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8484C-49D0-4F89-936C-15ACCDA6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FC40E-D1B9-44BE-9A48-540F2883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B5109-DF95-4A57-ADEF-8E31235F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E496C-245C-41E7-9249-EF7B03D1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C5E3-9873-4A02-B05C-BCF41453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413A9-7274-4D64-B73B-B4BD3C8E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BF2C8-2694-4795-A3E0-D62F39A3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98E3B-6A95-4762-B669-80C450D6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EA475-61DC-4C92-A4AA-D3FAC0DD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1EB20-7EAC-49B4-AD34-00DAD843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2F5B-86A9-4B8D-BB72-8FC3A14B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ECFF-9FF2-4743-8DD3-7FCE0CCFFAD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ABF4-96A9-459C-BEBC-9831213F8BC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753C-66D5-4709-83DC-81CB6C6330D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131B-7194-4741-B0B4-079F78A8DF4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270B-526F-4579-A502-59ADDFBDB02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84E8-B10A-4F4B-8EFF-FD1214F2D17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D4DD-A64F-4208-9C60-93C50DB98E8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0000"/>
                </a:solidFill>
                <a:latin typeface="Candara"/>
              </a:rPr>
              <a:t>Рыночная экономика</a:t>
            </a:r>
            <a:endParaRPr b="0" lang="en-US" sz="5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862aa"/>
                </a:solidFill>
                <a:latin typeface="Candara"/>
              </a:rPr>
              <a:t>Экономика, в которой решения самих производителей и потребителей определяют структуру распределения ресурсов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То количество товара, которое продавец готов предложить покупателю по определенной цене 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Цена предложения –предельный минимум по которому производитель готов продать продук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Предложение -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Виды рынков-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b4171"/>
                </a:solidFill>
                <a:latin typeface="Candara"/>
              </a:rPr>
              <a:t>Потребительских товаров и услуг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b4171"/>
                </a:solidFill>
                <a:latin typeface="Candara"/>
              </a:rPr>
              <a:t>Средств производства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b4171"/>
                </a:solidFill>
                <a:latin typeface="Candara"/>
              </a:rPr>
              <a:t>Рабочей силы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b4171"/>
                </a:solidFill>
                <a:latin typeface="Candara"/>
              </a:rPr>
              <a:t>Инвестиций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b4171"/>
                </a:solidFill>
                <a:latin typeface="Candara"/>
              </a:rPr>
              <a:t>Валютный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b4171"/>
                </a:solidFill>
                <a:latin typeface="Candara"/>
              </a:rPr>
              <a:t>Информации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b4171"/>
                </a:solidFill>
                <a:latin typeface="Candara"/>
              </a:rPr>
              <a:t>Ценных бумаг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b4171"/>
                </a:solidFill>
                <a:latin typeface="Candara"/>
              </a:rPr>
              <a:t>Научно-технических разработок и инноваций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b4171"/>
                </a:solidFill>
                <a:latin typeface="Candara"/>
              </a:rPr>
              <a:t>Местн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b4171"/>
                </a:solidFill>
                <a:latin typeface="Candara"/>
              </a:rPr>
              <a:t>Региональн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b4171"/>
                </a:solidFill>
                <a:latin typeface="Candara"/>
              </a:rPr>
              <a:t>Национальны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b4171"/>
                </a:solidFill>
                <a:latin typeface="Candara"/>
              </a:rPr>
              <a:t>Мировой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256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Базар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Особая форма хозяйств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Сфера независимых решен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Рынок –система экономических отношений , проявляющихся в сфере обмен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Неограниченное число субъект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Свободный доступ для производител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Наличие информации о ситуации на рынк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Мобильность материальных, финансовых, трудовых и др. ресурс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Свобода в принятии решен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(идеальная модель рынка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Признаки свободного рынка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ndara"/>
              </a:rPr>
              <a:t>Рынок </a:t>
            </a:r>
            <a:r>
              <a:rPr b="0" lang="ru-RU" sz="4400" spc="-1" strike="noStrike">
                <a:solidFill>
                  <a:srgbClr val="ff0000"/>
                </a:solidFill>
                <a:latin typeface="Candara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00200"/>
            <a:ext cx="7859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Свободный обмен между продавцом и покупателе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Частная собственность на экономические ресурс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Материальная ответственность за принятие решен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Обеспечивает взаимодействие производства и потребления через обмен, куплю – продажу товаров и услуг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ndara"/>
              </a:rPr>
              <a:t>Рынок -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ndara"/>
              </a:rPr>
              <a:t>условия существования: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95280" y="1989000"/>
            <a:ext cx="82915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4171"/>
                </a:solidFill>
                <a:latin typeface="Candara"/>
              </a:rPr>
              <a:t>Свободное ценообразование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4171"/>
                </a:solidFill>
                <a:latin typeface="Candara"/>
              </a:rPr>
              <a:t>Конкуренци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b4171"/>
                </a:solidFill>
                <a:latin typeface="Candara"/>
              </a:rPr>
              <a:t>Свобода предпринимательской деятельности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ndara"/>
              </a:rPr>
              <a:t>Рынок -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920" y="1989000"/>
            <a:ext cx="742464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4171"/>
                </a:solidFill>
                <a:latin typeface="Candara"/>
              </a:rPr>
              <a:t>Сфера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1b4171"/>
                </a:solidFill>
                <a:latin typeface="Candara"/>
              </a:rPr>
              <a:t>независимых решен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4171"/>
                </a:solidFill>
                <a:latin typeface="Candara"/>
              </a:rPr>
              <a:t>Сфера, обеспечивающая различные потребност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b4171"/>
                </a:solidFill>
                <a:latin typeface="Candara"/>
              </a:rPr>
              <a:t>Механизм, базирующийся на товарно-денежных отношениях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Соперничество, борьба за достижение лучших результат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За привлечение покупателя для получения максимальной прибыли(снижение цен, рост качества товара, реклама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ndara"/>
              </a:rPr>
              <a:t>Конкуренция: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Заставляет производителя совершенствовать процесс производств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Рационально использовать ресурс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4171"/>
                </a:solidFill>
                <a:latin typeface="Candara"/>
              </a:rPr>
              <a:t>Дает возможность производителю самому принимать экономические решения(на свой страх и риск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ndara"/>
              </a:rPr>
              <a:t>Конкуренция -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Спрос-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26560" y="1341000"/>
            <a:ext cx="79282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b4171"/>
                </a:solidFill>
                <a:latin typeface="Candara"/>
              </a:rPr>
              <a:t>Желание и способность потребителей купить какое-либо количество продукта по определенной цен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b4171"/>
                </a:solidFill>
                <a:latin typeface="Candara"/>
              </a:rPr>
              <a:t>Цена – денежное выражение стоимост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b4171"/>
                </a:solidFill>
                <a:latin typeface="Candara"/>
              </a:rPr>
              <a:t>Цена спроса – это максимум который готов платить покупател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5T18:26:21Z</dcterms:created>
  <dc:creator>Пользователь</dc:creator>
  <dc:description/>
  <dc:language>en-US</dc:language>
  <cp:lastModifiedBy>lenovo</cp:lastModifiedBy>
  <dcterms:modified xsi:type="dcterms:W3CDTF">2022-05-02T04:51:11Z</dcterms:modified>
  <cp:revision>30</cp:revision>
  <dc:subject/>
  <dc:title>Рыночная экономика</dc:title>
</cp:coreProperties>
</file>