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3D097-9A87-4E24-BA4A-5744062B0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84760" y="8685360"/>
            <a:ext cx="296856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C910E-1A00-4539-B3C1-1C55942A3AA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fld id="{C90DF6C6-D423-46E8-8730-A7DF289B23E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4760" y="8685360"/>
            <a:ext cx="296856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7DDB5-D9D7-4E2D-9630-9A3CEA49E6B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fld id="{D8110197-A2BE-4696-9B1B-F7FFFD7A767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fld id="{94DD8FCA-B3E0-496B-82CC-7DBEF056095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685800"/>
            <a:ext cx="4572000" cy="3429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84760" y="8685360"/>
            <a:ext cx="296856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63584-3E64-48F3-A8A3-2A79E087647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fld id="{AD433D10-EF27-4A81-81E3-79F700CE20F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84760" y="8685360"/>
            <a:ext cx="296856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58A5F-6034-41D6-99EA-3E1F1387884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4760" y="8685360"/>
            <a:ext cx="296856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3C56E-2499-4ECF-8F34-D86A31C97B3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4760" y="8685360"/>
            <a:ext cx="296856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B10D0-BA1B-4109-8E14-F02182EDF7A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4760" y="8685360"/>
            <a:ext cx="296856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B773C-B3CB-433B-B525-087430872A6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84760" y="8685360"/>
            <a:ext cx="2970000" cy="45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fld id="{AC07C8BB-040F-454B-B657-091C3ABAFEB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fld id="{C56AE808-AC12-49BE-A65A-F2B592A8B93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4760" y="8685360"/>
            <a:ext cx="296856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A09B8-3F42-4ABE-9A62-DD8D79B92EF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84760" y="8685360"/>
            <a:ext cx="296856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8AA20-41B1-4811-9F5F-9A00BDA04A7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84760" y="8685360"/>
            <a:ext cx="296856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5F89B-6352-42B0-8074-6DDD190930A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84760" y="8685360"/>
            <a:ext cx="296856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BC7EA-5700-4347-A36F-EB1754E5A2D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356520"/>
            <a:ext cx="2131920" cy="36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308640"/>
            <a:ext cx="2895840" cy="46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124080" y="6308640"/>
            <a:ext cx="2895840" cy="46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324440" y="571680"/>
            <a:ext cx="6377400" cy="545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ff66cc"/>
                </a:solidFill>
                <a:latin typeface="Arial"/>
                <a:ea typeface="DejaVu Sans"/>
              </a:rPr>
              <a:t>Дидактическое пособ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  <a:ea typeface="DejaVu Sans"/>
              </a:rPr>
              <a:t>Бизиб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  <a:ea typeface="Aharoni"/>
              </a:rPr>
              <a:t>Морозова Наталь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  <a:ea typeface="Aharoni"/>
              </a:rPr>
              <a:t>Александр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바탕"/>
                <a:ea typeface="바탕"/>
              </a:rPr>
              <a:t>Воспитате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바탕"/>
                <a:ea typeface="바탕"/>
              </a:rPr>
              <a:t>МБДОУ №1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30520" y="1268280"/>
            <a:ext cx="43524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DejaVu Sans"/>
              </a:rPr>
              <a:t>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7960" y="1268280"/>
            <a:ext cx="43524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DejaVu Sans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16000" y="115920"/>
            <a:ext cx="6985080" cy="6494400"/>
          </a:xfrm>
          <a:custGeom>
            <a:avLst/>
            <a:gdLst/>
            <a:ahLst/>
            <a:rect l="l" t="t" r="r" b="b"/>
            <a:pathLst>
              <a:path w="9702" h="9020">
                <a:moveTo>
                  <a:pt x="0" y="9020"/>
                </a:moveTo>
                <a:lnTo>
                  <a:pt x="9702" y="9020"/>
                </a:lnTo>
                <a:lnTo>
                  <a:pt x="180" y="90"/>
                </a:lnTo>
                <a:lnTo>
                  <a:pt x="9702" y="9020"/>
                </a:lnTo>
                <a:lnTo>
                  <a:pt x="270" y="90"/>
                </a:lnTo>
                <a:close/>
              </a:path>
            </a:pathLst>
          </a:custGeom>
          <a:solidFill>
            <a:srgbClr val="a917a9"/>
          </a:solidFill>
          <a:ln w="0">
            <a:noFill/>
          </a:ln>
          <a:effectLst>
            <a:outerShdw dist="206639" dir="255173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115920"/>
            <a:ext cx="6985080" cy="6524640"/>
          </a:xfrm>
          <a:custGeom>
            <a:avLst/>
            <a:gdLst/>
            <a:ahLst/>
            <a:rect l="l" t="t" r="r" b="b"/>
            <a:pathLst>
              <a:path w="16823" h="10801">
                <a:moveTo>
                  <a:pt x="16823" y="1836"/>
                </a:moveTo>
                <a:cubicBezTo>
                  <a:pt x="15042" y="639"/>
                  <a:pt x="12945" y="0"/>
                  <a:pt x="10800" y="0"/>
                </a:cubicBezTo>
                <a:cubicBezTo>
                  <a:pt x="8433" y="-1"/>
                  <a:pt x="6132" y="777"/>
                  <a:pt x="4250" y="2212"/>
                </a:cubicBezTo>
                <a:lnTo>
                  <a:pt x="10800" y="10800"/>
                </a:lnTo>
                <a:lnTo>
                  <a:pt x="16823" y="1836"/>
                </a:lnTo>
                <a:close/>
              </a:path>
            </a:pathLst>
          </a:custGeom>
          <a:solidFill>
            <a:srgbClr val="d99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115920"/>
            <a:ext cx="6985080" cy="6524640"/>
          </a:xfrm>
          <a:custGeom>
            <a:avLst/>
            <a:gdLst/>
            <a:ahLst/>
            <a:rect l="l" t="t" r="r" b="b"/>
            <a:pathLst>
              <a:path w="21600" h="10843">
                <a:moveTo>
                  <a:pt x="21599" y="10843"/>
                </a:moveTo>
                <a:cubicBezTo>
                  <a:pt x="21599" y="10828"/>
                  <a:pt x="21600" y="10814"/>
                  <a:pt x="21600" y="10800"/>
                </a:cubicBezTo>
                <a:cubicBezTo>
                  <a:pt x="21600" y="7150"/>
                  <a:pt x="19756" y="3747"/>
                  <a:pt x="16699" y="1754"/>
                </a:cubicBezTo>
                <a:lnTo>
                  <a:pt x="10800" y="10800"/>
                </a:lnTo>
                <a:lnTo>
                  <a:pt x="21599" y="10843"/>
                </a:lnTo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115920"/>
            <a:ext cx="6985080" cy="6524640"/>
          </a:xfrm>
          <a:custGeom>
            <a:avLst/>
            <a:gdLst/>
            <a:ahLst/>
            <a:rect l="l" t="t" r="r" b="b"/>
            <a:pathLst>
              <a:path w="21599" h="19749">
                <a:moveTo>
                  <a:pt x="16845" y="19749"/>
                </a:moveTo>
                <a:cubicBezTo>
                  <a:pt x="19816" y="17742"/>
                  <a:pt x="21598" y="14390"/>
                  <a:pt x="21599" y="10805"/>
                </a:cubicBezTo>
                <a:lnTo>
                  <a:pt x="10800" y="10800"/>
                </a:lnTo>
                <a:lnTo>
                  <a:pt x="16845" y="19749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115920"/>
            <a:ext cx="6985080" cy="6524640"/>
          </a:xfrm>
          <a:custGeom>
            <a:avLst/>
            <a:gdLst/>
            <a:ahLst/>
            <a:rect l="l" t="t" r="r" b="b"/>
            <a:pathLst>
              <a:path w="16852" h="21600">
                <a:moveTo>
                  <a:pt x="4423" y="19517"/>
                </a:moveTo>
                <a:cubicBezTo>
                  <a:pt x="6274" y="20870"/>
                  <a:pt x="8507" y="21600"/>
                  <a:pt x="10800" y="21600"/>
                </a:cubicBezTo>
                <a:cubicBezTo>
                  <a:pt x="12957" y="21599"/>
                  <a:pt x="15065" y="20953"/>
                  <a:pt x="16852" y="19744"/>
                </a:cubicBezTo>
                <a:lnTo>
                  <a:pt x="10800" y="10800"/>
                </a:lnTo>
                <a:lnTo>
                  <a:pt x="4423" y="1951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115920"/>
            <a:ext cx="6985080" cy="6494400"/>
          </a:xfrm>
          <a:custGeom>
            <a:avLst/>
            <a:gdLst/>
            <a:ahLst/>
            <a:rect l="l" t="t" r="r" b="b"/>
            <a:pathLst>
              <a:path w="10800" h="19605">
                <a:moveTo>
                  <a:pt x="0" y="10880"/>
                </a:moveTo>
                <a:cubicBezTo>
                  <a:pt x="26" y="14350"/>
                  <a:pt x="1717" y="17596"/>
                  <a:pt x="4547" y="19605"/>
                </a:cubicBezTo>
                <a:lnTo>
                  <a:pt x="10800" y="10800"/>
                </a:lnTo>
                <a:lnTo>
                  <a:pt x="0" y="10880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86080" y="2143080"/>
            <a:ext cx="2587680" cy="2376360"/>
            <a:chOff x="3286080" y="2143080"/>
            <a:chExt cx="2587680" cy="2376360"/>
          </a:xfrm>
        </p:grpSpPr>
        <p:sp>
          <p:nvSpPr>
            <p:cNvPr id="162" name=""/>
            <p:cNvSpPr/>
            <p:nvPr/>
          </p:nvSpPr>
          <p:spPr>
            <a:xfrm>
              <a:off x="3286080" y="2143080"/>
              <a:ext cx="2587680" cy="2376360"/>
            </a:xfrm>
            <a:custGeom>
              <a:avLst/>
              <a:gdLst/>
              <a:ahLst/>
              <a:rect l="l" t="t" r="r" b="b"/>
              <a:pathLst>
                <a:path w="3596" h="3303">
                  <a:moveTo>
                    <a:pt x="0" y="3303"/>
                  </a:moveTo>
                  <a:lnTo>
                    <a:pt x="3596" y="3303"/>
                  </a:lnTo>
                  <a:lnTo>
                    <a:pt x="180" y="90"/>
                  </a:lnTo>
                  <a:lnTo>
                    <a:pt x="3596" y="3303"/>
                  </a:lnTo>
                  <a:lnTo>
                    <a:pt x="270" y="90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0c3232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83080" y="2182680"/>
              <a:ext cx="1995480" cy="8953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917800" y="1773360"/>
            <a:ext cx="3435480" cy="3155760"/>
          </a:xfrm>
          <a:custGeom>
            <a:avLst/>
            <a:gdLst/>
            <a:ahLst/>
            <a:rect l="l" t="t" r="r" b="b"/>
            <a:pathLst>
              <a:path w="23686" h="21600">
                <a:moveTo>
                  <a:pt x="18528" y="13213"/>
                </a:moveTo>
                <a:cubicBezTo>
                  <a:pt x="18772" y="12432"/>
                  <a:pt x="18897" y="11618"/>
                  <a:pt x="18897" y="10800"/>
                </a:cubicBezTo>
                <a:cubicBezTo>
                  <a:pt x="18897" y="6328"/>
                  <a:pt x="15271" y="2703"/>
                  <a:pt x="10800" y="2703"/>
                </a:cubicBezTo>
                <a:cubicBezTo>
                  <a:pt x="6328" y="2703"/>
                  <a:pt x="2703" y="6328"/>
                  <a:pt x="2703" y="10800"/>
                </a:cubicBezTo>
                <a:cubicBezTo>
                  <a:pt x="2703" y="15271"/>
                  <a:pt x="6328" y="18897"/>
                  <a:pt x="10800" y="18897"/>
                </a:cubicBezTo>
                <a:cubicBezTo>
                  <a:pt x="11012" y="18897"/>
                  <a:pt x="11224" y="18888"/>
                  <a:pt x="11435" y="18872"/>
                </a:cubicBezTo>
                <a:lnTo>
                  <a:pt x="11647" y="21566"/>
                </a:lnTo>
                <a:cubicBezTo>
                  <a:pt x="11365" y="21588"/>
                  <a:pt x="11082" y="21599"/>
                  <a:pt x="10800" y="21600"/>
                </a:cubicBezTo>
                <a:cubicBezTo>
                  <a:pt x="4835" y="21600"/>
                  <a:pt x="0" y="1676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891"/>
                  <a:pt x="21434" y="12977"/>
                  <a:pt x="21108" y="14019"/>
                </a:cubicBezTo>
                <a:lnTo>
                  <a:pt x="23686" y="14824"/>
                </a:lnTo>
                <a:lnTo>
                  <a:pt x="18610" y="17485"/>
                </a:lnTo>
                <a:lnTo>
                  <a:pt x="15951" y="12408"/>
                </a:lnTo>
                <a:lnTo>
                  <a:pt x="18528" y="13213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0080" y="3095640"/>
            <a:ext cx="2590920" cy="70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  <a:ea typeface="Arial"/>
              </a:rPr>
              <a:t>ФОРМЫ РАБОТЫ с бизибор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01400" y="1897200"/>
            <a:ext cx="211932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Театрализованные иг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12680" y="4348080"/>
            <a:ext cx="186336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Утренние гимнас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06960" y="3916440"/>
            <a:ext cx="1572120" cy="52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Самостоятель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908000"/>
            <a:ext cx="2038320" cy="733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Коммуникативные игр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Игры-импров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87680" y="5473800"/>
            <a:ext cx="2225880" cy="52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Совместная деятель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взрослых и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99360" y="789120"/>
            <a:ext cx="1802160" cy="30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DejaVu Sans"/>
              </a:rPr>
              <a:t>Дидактические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413400" y="60480"/>
            <a:ext cx="2200320" cy="2749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139160" y="2365200"/>
            <a:ext cx="2170080" cy="27496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487520" y="55440"/>
            <a:ext cx="1878120" cy="27482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2840" y="2730600"/>
            <a:ext cx="1889280" cy="2725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1428840" y="5072040"/>
            <a:ext cx="2200320" cy="2571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6473880" y="4803840"/>
            <a:ext cx="21765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dur="indefinite" nodeType="clickEffect" fill="hold">
                      <p:stCondLst>
                        <p:cond delay="0"/>
                      </p:stCondLst>
                      <p:childTnLst>
                        <p:par>
                          <p:cTn id="19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dur="indefinite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dur="indefinite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dur="indefinite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dur="indefinite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dur="indefinite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dur="indefinite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28760" y="547560"/>
            <a:ext cx="5175000" cy="397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43000" y="1863720"/>
            <a:ext cx="3105360" cy="2836800"/>
          </a:xfrm>
          <a:custGeom>
            <a:avLst/>
            <a:gdLst/>
            <a:ahLst/>
            <a:rect l="l" t="t" r="r" b="b"/>
            <a:pathLst>
              <a:path w="4313" h="3940">
                <a:moveTo>
                  <a:pt x="0" y="3940"/>
                </a:moveTo>
                <a:lnTo>
                  <a:pt x="4313" y="3940"/>
                </a:lnTo>
                <a:lnTo>
                  <a:pt x="180" y="90"/>
                </a:lnTo>
                <a:lnTo>
                  <a:pt x="4313" y="3940"/>
                </a:lnTo>
                <a:lnTo>
                  <a:pt x="270" y="9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46120" y="5157720"/>
            <a:ext cx="2643120" cy="1000080"/>
          </a:xfrm>
          <a:custGeom>
            <a:avLst/>
            <a:gdLst/>
            <a:ahLst/>
            <a:rect l="l" t="t" r="r" b="b"/>
            <a:pathLst>
              <a:path w="7343" h="2779">
                <a:moveTo>
                  <a:pt x="463" y="0"/>
                </a:moveTo>
                <a:lnTo>
                  <a:pt x="463" y="0"/>
                </a:lnTo>
                <a:cubicBezTo>
                  <a:pt x="382" y="0"/>
                  <a:pt x="302" y="21"/>
                  <a:pt x="232" y="62"/>
                </a:cubicBezTo>
                <a:cubicBezTo>
                  <a:pt x="161" y="103"/>
                  <a:pt x="103" y="161"/>
                  <a:pt x="62" y="232"/>
                </a:cubicBezTo>
                <a:cubicBezTo>
                  <a:pt x="21" y="302"/>
                  <a:pt x="0" y="382"/>
                  <a:pt x="0" y="463"/>
                </a:cubicBezTo>
                <a:lnTo>
                  <a:pt x="0" y="2315"/>
                </a:lnTo>
                <a:lnTo>
                  <a:pt x="0" y="2316"/>
                </a:lnTo>
                <a:cubicBezTo>
                  <a:pt x="0" y="2397"/>
                  <a:pt x="21" y="2477"/>
                  <a:pt x="62" y="2547"/>
                </a:cubicBezTo>
                <a:cubicBezTo>
                  <a:pt x="103" y="2618"/>
                  <a:pt x="161" y="2676"/>
                  <a:pt x="232" y="2717"/>
                </a:cubicBezTo>
                <a:cubicBezTo>
                  <a:pt x="302" y="2758"/>
                  <a:pt x="382" y="2779"/>
                  <a:pt x="463" y="2779"/>
                </a:cubicBezTo>
                <a:lnTo>
                  <a:pt x="6879" y="2779"/>
                </a:lnTo>
                <a:lnTo>
                  <a:pt x="6880" y="2779"/>
                </a:lnTo>
                <a:cubicBezTo>
                  <a:pt x="6961" y="2779"/>
                  <a:pt x="7041" y="2758"/>
                  <a:pt x="7111" y="2717"/>
                </a:cubicBezTo>
                <a:cubicBezTo>
                  <a:pt x="7182" y="2676"/>
                  <a:pt x="7240" y="2618"/>
                  <a:pt x="7281" y="2547"/>
                </a:cubicBezTo>
                <a:cubicBezTo>
                  <a:pt x="7322" y="2477"/>
                  <a:pt x="7343" y="2397"/>
                  <a:pt x="7343" y="2316"/>
                </a:cubicBezTo>
                <a:lnTo>
                  <a:pt x="7343" y="463"/>
                </a:lnTo>
                <a:lnTo>
                  <a:pt x="7343" y="463"/>
                </a:lnTo>
                <a:lnTo>
                  <a:pt x="7343" y="463"/>
                </a:lnTo>
                <a:cubicBezTo>
                  <a:pt x="7343" y="382"/>
                  <a:pt x="7322" y="302"/>
                  <a:pt x="7281" y="232"/>
                </a:cubicBezTo>
                <a:cubicBezTo>
                  <a:pt x="7240" y="161"/>
                  <a:pt x="7182" y="103"/>
                  <a:pt x="7111" y="62"/>
                </a:cubicBezTo>
                <a:cubicBezTo>
                  <a:pt x="7041" y="21"/>
                  <a:pt x="6961" y="0"/>
                  <a:pt x="6880" y="0"/>
                </a:cubicBezTo>
                <a:lnTo>
                  <a:pt x="463" y="0"/>
                </a:lnTo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Calibri"/>
                <a:ea typeface="DejaVu Sans"/>
              </a:rPr>
              <a:t>РАЗВИТИЕ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2000" y="1916280"/>
            <a:ext cx="2643120" cy="914400"/>
          </a:xfrm>
          <a:custGeom>
            <a:avLst/>
            <a:gdLst/>
            <a:ahLst/>
            <a:rect l="l" t="t" r="r" b="b"/>
            <a:pathLst>
              <a:path w="7343" h="2541">
                <a:moveTo>
                  <a:pt x="423" y="0"/>
                </a:moveTo>
                <a:lnTo>
                  <a:pt x="424" y="0"/>
                </a:lnTo>
                <a:cubicBezTo>
                  <a:pt x="349" y="0"/>
                  <a:pt x="276" y="20"/>
                  <a:pt x="212" y="57"/>
                </a:cubicBezTo>
                <a:cubicBezTo>
                  <a:pt x="147" y="94"/>
                  <a:pt x="94" y="147"/>
                  <a:pt x="57" y="212"/>
                </a:cubicBezTo>
                <a:cubicBezTo>
                  <a:pt x="20" y="276"/>
                  <a:pt x="0" y="349"/>
                  <a:pt x="0" y="424"/>
                </a:cubicBezTo>
                <a:lnTo>
                  <a:pt x="0" y="2117"/>
                </a:lnTo>
                <a:lnTo>
                  <a:pt x="0" y="2118"/>
                </a:lnTo>
                <a:cubicBezTo>
                  <a:pt x="0" y="2192"/>
                  <a:pt x="20" y="2265"/>
                  <a:pt x="57" y="2329"/>
                </a:cubicBezTo>
                <a:cubicBezTo>
                  <a:pt x="94" y="2394"/>
                  <a:pt x="147" y="2447"/>
                  <a:pt x="212" y="2484"/>
                </a:cubicBezTo>
                <a:cubicBezTo>
                  <a:pt x="276" y="2521"/>
                  <a:pt x="349" y="2541"/>
                  <a:pt x="424" y="2541"/>
                </a:cubicBezTo>
                <a:lnTo>
                  <a:pt x="6919" y="2541"/>
                </a:lnTo>
                <a:lnTo>
                  <a:pt x="6920" y="2541"/>
                </a:lnTo>
                <a:cubicBezTo>
                  <a:pt x="6994" y="2541"/>
                  <a:pt x="7067" y="2521"/>
                  <a:pt x="7131" y="2484"/>
                </a:cubicBezTo>
                <a:cubicBezTo>
                  <a:pt x="7196" y="2447"/>
                  <a:pt x="7249" y="2394"/>
                  <a:pt x="7286" y="2329"/>
                </a:cubicBezTo>
                <a:cubicBezTo>
                  <a:pt x="7323" y="2265"/>
                  <a:pt x="7343" y="2192"/>
                  <a:pt x="7343" y="2118"/>
                </a:cubicBezTo>
                <a:lnTo>
                  <a:pt x="7343" y="423"/>
                </a:lnTo>
                <a:lnTo>
                  <a:pt x="7343" y="424"/>
                </a:lnTo>
                <a:lnTo>
                  <a:pt x="7343" y="424"/>
                </a:lnTo>
                <a:cubicBezTo>
                  <a:pt x="7343" y="349"/>
                  <a:pt x="7323" y="276"/>
                  <a:pt x="7286" y="212"/>
                </a:cubicBezTo>
                <a:cubicBezTo>
                  <a:pt x="7249" y="147"/>
                  <a:pt x="7196" y="94"/>
                  <a:pt x="7131" y="57"/>
                </a:cubicBezTo>
                <a:cubicBezTo>
                  <a:pt x="7067" y="20"/>
                  <a:pt x="6994" y="0"/>
                  <a:pt x="6920" y="0"/>
                </a:cubicBezTo>
                <a:lnTo>
                  <a:pt x="423" y="0"/>
                </a:lnTo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Calibri"/>
                <a:ea typeface="DejaVu Sans"/>
              </a:rPr>
              <a:t>РАЗВИТИЕ ЧУВСТВ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00720" y="3141720"/>
            <a:ext cx="2629080" cy="914400"/>
          </a:xfrm>
          <a:custGeom>
            <a:avLst/>
            <a:gdLst/>
            <a:ahLst/>
            <a:rect l="l" t="t" r="r" b="b"/>
            <a:pathLst>
              <a:path w="7304" h="2541">
                <a:moveTo>
                  <a:pt x="423" y="0"/>
                </a:moveTo>
                <a:lnTo>
                  <a:pt x="424" y="0"/>
                </a:lnTo>
                <a:cubicBezTo>
                  <a:pt x="349" y="0"/>
                  <a:pt x="276" y="20"/>
                  <a:pt x="212" y="57"/>
                </a:cubicBezTo>
                <a:cubicBezTo>
                  <a:pt x="147" y="94"/>
                  <a:pt x="94" y="147"/>
                  <a:pt x="57" y="212"/>
                </a:cubicBezTo>
                <a:cubicBezTo>
                  <a:pt x="20" y="276"/>
                  <a:pt x="0" y="349"/>
                  <a:pt x="0" y="424"/>
                </a:cubicBezTo>
                <a:lnTo>
                  <a:pt x="0" y="2117"/>
                </a:lnTo>
                <a:lnTo>
                  <a:pt x="0" y="2118"/>
                </a:lnTo>
                <a:cubicBezTo>
                  <a:pt x="0" y="2192"/>
                  <a:pt x="20" y="2265"/>
                  <a:pt x="57" y="2329"/>
                </a:cubicBezTo>
                <a:cubicBezTo>
                  <a:pt x="94" y="2394"/>
                  <a:pt x="147" y="2447"/>
                  <a:pt x="212" y="2484"/>
                </a:cubicBezTo>
                <a:cubicBezTo>
                  <a:pt x="276" y="2521"/>
                  <a:pt x="349" y="2541"/>
                  <a:pt x="424" y="2541"/>
                </a:cubicBezTo>
                <a:lnTo>
                  <a:pt x="6880" y="2541"/>
                </a:lnTo>
                <a:lnTo>
                  <a:pt x="6881" y="2541"/>
                </a:lnTo>
                <a:cubicBezTo>
                  <a:pt x="6955" y="2541"/>
                  <a:pt x="7028" y="2521"/>
                  <a:pt x="7092" y="2484"/>
                </a:cubicBezTo>
                <a:cubicBezTo>
                  <a:pt x="7157" y="2447"/>
                  <a:pt x="7210" y="2394"/>
                  <a:pt x="7247" y="2329"/>
                </a:cubicBezTo>
                <a:cubicBezTo>
                  <a:pt x="7284" y="2265"/>
                  <a:pt x="7304" y="2192"/>
                  <a:pt x="7304" y="2118"/>
                </a:cubicBezTo>
                <a:lnTo>
                  <a:pt x="7304" y="423"/>
                </a:lnTo>
                <a:lnTo>
                  <a:pt x="7304" y="424"/>
                </a:lnTo>
                <a:lnTo>
                  <a:pt x="7304" y="424"/>
                </a:lnTo>
                <a:cubicBezTo>
                  <a:pt x="7304" y="349"/>
                  <a:pt x="7284" y="276"/>
                  <a:pt x="7247" y="212"/>
                </a:cubicBezTo>
                <a:cubicBezTo>
                  <a:pt x="7210" y="147"/>
                  <a:pt x="7157" y="94"/>
                  <a:pt x="7092" y="57"/>
                </a:cubicBezTo>
                <a:cubicBezTo>
                  <a:pt x="7028" y="20"/>
                  <a:pt x="6955" y="0"/>
                  <a:pt x="6881" y="0"/>
                </a:cubicBezTo>
                <a:lnTo>
                  <a:pt x="423" y="0"/>
                </a:lnTo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Calibri"/>
                <a:ea typeface="DejaVu Sans"/>
              </a:rPr>
              <a:t>ФОРМИРОВАНИЕ СОЦИАЛЬНОГО ОПЫ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6000" y="4365720"/>
            <a:ext cx="2771640" cy="914400"/>
          </a:xfrm>
          <a:custGeom>
            <a:avLst/>
            <a:gdLst/>
            <a:ahLst/>
            <a:rect l="l" t="t" r="r" b="b"/>
            <a:pathLst>
              <a:path w="7700" h="2541">
                <a:moveTo>
                  <a:pt x="423" y="0"/>
                </a:moveTo>
                <a:lnTo>
                  <a:pt x="424" y="0"/>
                </a:lnTo>
                <a:cubicBezTo>
                  <a:pt x="349" y="0"/>
                  <a:pt x="276" y="20"/>
                  <a:pt x="212" y="57"/>
                </a:cubicBezTo>
                <a:cubicBezTo>
                  <a:pt x="147" y="94"/>
                  <a:pt x="94" y="147"/>
                  <a:pt x="57" y="212"/>
                </a:cubicBezTo>
                <a:cubicBezTo>
                  <a:pt x="20" y="276"/>
                  <a:pt x="0" y="349"/>
                  <a:pt x="0" y="424"/>
                </a:cubicBezTo>
                <a:lnTo>
                  <a:pt x="0" y="2117"/>
                </a:lnTo>
                <a:lnTo>
                  <a:pt x="0" y="2118"/>
                </a:lnTo>
                <a:cubicBezTo>
                  <a:pt x="0" y="2192"/>
                  <a:pt x="20" y="2265"/>
                  <a:pt x="57" y="2329"/>
                </a:cubicBezTo>
                <a:cubicBezTo>
                  <a:pt x="94" y="2394"/>
                  <a:pt x="147" y="2447"/>
                  <a:pt x="212" y="2484"/>
                </a:cubicBezTo>
                <a:cubicBezTo>
                  <a:pt x="276" y="2521"/>
                  <a:pt x="349" y="2541"/>
                  <a:pt x="424" y="2541"/>
                </a:cubicBezTo>
                <a:lnTo>
                  <a:pt x="7276" y="2541"/>
                </a:lnTo>
                <a:lnTo>
                  <a:pt x="7277" y="2541"/>
                </a:lnTo>
                <a:cubicBezTo>
                  <a:pt x="7351" y="2541"/>
                  <a:pt x="7424" y="2521"/>
                  <a:pt x="7488" y="2484"/>
                </a:cubicBezTo>
                <a:cubicBezTo>
                  <a:pt x="7553" y="2447"/>
                  <a:pt x="7606" y="2394"/>
                  <a:pt x="7643" y="2329"/>
                </a:cubicBezTo>
                <a:cubicBezTo>
                  <a:pt x="7680" y="2265"/>
                  <a:pt x="7700" y="2192"/>
                  <a:pt x="7700" y="2118"/>
                </a:cubicBezTo>
                <a:lnTo>
                  <a:pt x="7699" y="423"/>
                </a:lnTo>
                <a:lnTo>
                  <a:pt x="7700" y="424"/>
                </a:lnTo>
                <a:lnTo>
                  <a:pt x="7700" y="424"/>
                </a:lnTo>
                <a:cubicBezTo>
                  <a:pt x="7700" y="349"/>
                  <a:pt x="7680" y="276"/>
                  <a:pt x="7643" y="212"/>
                </a:cubicBezTo>
                <a:cubicBezTo>
                  <a:pt x="7606" y="147"/>
                  <a:pt x="7553" y="94"/>
                  <a:pt x="7488" y="57"/>
                </a:cubicBezTo>
                <a:cubicBezTo>
                  <a:pt x="7424" y="20"/>
                  <a:pt x="7351" y="0"/>
                  <a:pt x="7277" y="0"/>
                </a:cubicBezTo>
                <a:lnTo>
                  <a:pt x="423" y="0"/>
                </a:lnTo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Calibri"/>
                <a:ea typeface="DejaVu Sans"/>
              </a:rPr>
              <a:t>РАЗВИТИЕ ВО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76600" y="5543640"/>
            <a:ext cx="2857680" cy="914400"/>
          </a:xfrm>
          <a:custGeom>
            <a:avLst/>
            <a:gdLst/>
            <a:ahLst/>
            <a:rect l="l" t="t" r="r" b="b"/>
            <a:pathLst>
              <a:path w="7939" h="2541">
                <a:moveTo>
                  <a:pt x="423" y="0"/>
                </a:moveTo>
                <a:lnTo>
                  <a:pt x="424" y="0"/>
                </a:lnTo>
                <a:cubicBezTo>
                  <a:pt x="349" y="0"/>
                  <a:pt x="276" y="20"/>
                  <a:pt x="212" y="57"/>
                </a:cubicBezTo>
                <a:cubicBezTo>
                  <a:pt x="147" y="94"/>
                  <a:pt x="94" y="147"/>
                  <a:pt x="57" y="212"/>
                </a:cubicBezTo>
                <a:cubicBezTo>
                  <a:pt x="20" y="276"/>
                  <a:pt x="0" y="349"/>
                  <a:pt x="0" y="424"/>
                </a:cubicBezTo>
                <a:lnTo>
                  <a:pt x="0" y="2117"/>
                </a:lnTo>
                <a:lnTo>
                  <a:pt x="0" y="2118"/>
                </a:lnTo>
                <a:cubicBezTo>
                  <a:pt x="0" y="2192"/>
                  <a:pt x="20" y="2265"/>
                  <a:pt x="57" y="2329"/>
                </a:cubicBezTo>
                <a:cubicBezTo>
                  <a:pt x="94" y="2394"/>
                  <a:pt x="147" y="2447"/>
                  <a:pt x="212" y="2484"/>
                </a:cubicBezTo>
                <a:cubicBezTo>
                  <a:pt x="276" y="2521"/>
                  <a:pt x="349" y="2541"/>
                  <a:pt x="424" y="2541"/>
                </a:cubicBezTo>
                <a:lnTo>
                  <a:pt x="7515" y="2541"/>
                </a:lnTo>
                <a:lnTo>
                  <a:pt x="7516" y="2541"/>
                </a:lnTo>
                <a:cubicBezTo>
                  <a:pt x="7590" y="2541"/>
                  <a:pt x="7663" y="2521"/>
                  <a:pt x="7727" y="2484"/>
                </a:cubicBezTo>
                <a:cubicBezTo>
                  <a:pt x="7792" y="2447"/>
                  <a:pt x="7845" y="2394"/>
                  <a:pt x="7882" y="2329"/>
                </a:cubicBezTo>
                <a:cubicBezTo>
                  <a:pt x="7919" y="2265"/>
                  <a:pt x="7939" y="2192"/>
                  <a:pt x="7939" y="2118"/>
                </a:cubicBezTo>
                <a:lnTo>
                  <a:pt x="7939" y="423"/>
                </a:lnTo>
                <a:lnTo>
                  <a:pt x="7939" y="424"/>
                </a:lnTo>
                <a:lnTo>
                  <a:pt x="7939" y="424"/>
                </a:lnTo>
                <a:cubicBezTo>
                  <a:pt x="7939" y="349"/>
                  <a:pt x="7919" y="276"/>
                  <a:pt x="7882" y="212"/>
                </a:cubicBezTo>
                <a:cubicBezTo>
                  <a:pt x="7845" y="147"/>
                  <a:pt x="7792" y="94"/>
                  <a:pt x="7727" y="57"/>
                </a:cubicBezTo>
                <a:cubicBezTo>
                  <a:pt x="7663" y="20"/>
                  <a:pt x="7590" y="0"/>
                  <a:pt x="7516" y="0"/>
                </a:cubicBezTo>
                <a:lnTo>
                  <a:pt x="423" y="0"/>
                </a:lnTo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Calibri"/>
                <a:ea typeface="DejaVu Sans"/>
              </a:rPr>
              <a:t>РАЗВИТИЕ ПАМЯТИ, МЫШ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754200"/>
            <a:ext cx="2714400" cy="914400"/>
          </a:xfrm>
          <a:custGeom>
            <a:avLst/>
            <a:gdLst/>
            <a:ahLst/>
            <a:rect l="l" t="t" r="r" b="b"/>
            <a:pathLst>
              <a:path w="7541" h="2541">
                <a:moveTo>
                  <a:pt x="423" y="0"/>
                </a:moveTo>
                <a:lnTo>
                  <a:pt x="424" y="0"/>
                </a:lnTo>
                <a:cubicBezTo>
                  <a:pt x="349" y="0"/>
                  <a:pt x="276" y="20"/>
                  <a:pt x="212" y="57"/>
                </a:cubicBezTo>
                <a:cubicBezTo>
                  <a:pt x="147" y="94"/>
                  <a:pt x="94" y="147"/>
                  <a:pt x="57" y="212"/>
                </a:cubicBezTo>
                <a:cubicBezTo>
                  <a:pt x="20" y="276"/>
                  <a:pt x="0" y="349"/>
                  <a:pt x="0" y="424"/>
                </a:cubicBezTo>
                <a:lnTo>
                  <a:pt x="0" y="2117"/>
                </a:lnTo>
                <a:lnTo>
                  <a:pt x="0" y="2118"/>
                </a:lnTo>
                <a:cubicBezTo>
                  <a:pt x="0" y="2192"/>
                  <a:pt x="20" y="2265"/>
                  <a:pt x="57" y="2329"/>
                </a:cubicBezTo>
                <a:cubicBezTo>
                  <a:pt x="94" y="2394"/>
                  <a:pt x="147" y="2447"/>
                  <a:pt x="212" y="2484"/>
                </a:cubicBezTo>
                <a:cubicBezTo>
                  <a:pt x="276" y="2521"/>
                  <a:pt x="349" y="2541"/>
                  <a:pt x="424" y="2541"/>
                </a:cubicBezTo>
                <a:lnTo>
                  <a:pt x="7117" y="2541"/>
                </a:lnTo>
                <a:lnTo>
                  <a:pt x="7118" y="2541"/>
                </a:lnTo>
                <a:cubicBezTo>
                  <a:pt x="7192" y="2541"/>
                  <a:pt x="7265" y="2521"/>
                  <a:pt x="7329" y="2484"/>
                </a:cubicBezTo>
                <a:cubicBezTo>
                  <a:pt x="7394" y="2447"/>
                  <a:pt x="7447" y="2394"/>
                  <a:pt x="7484" y="2329"/>
                </a:cubicBezTo>
                <a:cubicBezTo>
                  <a:pt x="7521" y="2265"/>
                  <a:pt x="7541" y="2192"/>
                  <a:pt x="7541" y="2118"/>
                </a:cubicBezTo>
                <a:lnTo>
                  <a:pt x="7541" y="423"/>
                </a:lnTo>
                <a:lnTo>
                  <a:pt x="7541" y="424"/>
                </a:lnTo>
                <a:lnTo>
                  <a:pt x="7541" y="424"/>
                </a:lnTo>
                <a:cubicBezTo>
                  <a:pt x="7541" y="349"/>
                  <a:pt x="7521" y="276"/>
                  <a:pt x="7484" y="212"/>
                </a:cubicBezTo>
                <a:cubicBezTo>
                  <a:pt x="7447" y="147"/>
                  <a:pt x="7394" y="94"/>
                  <a:pt x="7329" y="57"/>
                </a:cubicBezTo>
                <a:cubicBezTo>
                  <a:pt x="7265" y="20"/>
                  <a:pt x="7192" y="0"/>
                  <a:pt x="7118" y="0"/>
                </a:cubicBezTo>
                <a:lnTo>
                  <a:pt x="423" y="0"/>
                </a:lnTo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Calibri"/>
                <a:ea typeface="DejaVu Sans"/>
              </a:rPr>
              <a:t>Развитие мелкой моторики р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200320" y="1944720"/>
            <a:ext cx="2732040" cy="2730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28560" y="139680"/>
            <a:ext cx="3870360" cy="288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dur="indefinite" nodeType="clickEffect" fill="hold">
                      <p:stCondLst>
                        <p:cond delay="0"/>
                      </p:stCondLst>
                      <p:childTnLst>
                        <p:par>
                          <p:cTn id="25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dur="indefinite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dur="indefinite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dur="indefinite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dur="indefinite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dur="indefinite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359000" y="847800"/>
            <a:ext cx="6737400" cy="6132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91840" y="141120"/>
            <a:ext cx="6520680" cy="82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Arial"/>
                <a:ea typeface="DejaVu Sans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81000"/>
            <a:ext cx="8228160" cy="1527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85840" y="208080"/>
            <a:ext cx="8451720" cy="6235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85840" y="2643120"/>
            <a:ext cx="2357280" cy="1214640"/>
          </a:xfrm>
          <a:custGeom>
            <a:avLst/>
            <a:gdLst/>
            <a:ahLst/>
            <a:rect l="l" t="t" r="r" b="b"/>
            <a:pathLst>
              <a:path w="3274" h="1687">
                <a:moveTo>
                  <a:pt x="0" y="1687"/>
                </a:moveTo>
                <a:lnTo>
                  <a:pt x="3274" y="1687"/>
                </a:lnTo>
                <a:lnTo>
                  <a:pt x="180" y="90"/>
                </a:lnTo>
                <a:lnTo>
                  <a:pt x="3274" y="1687"/>
                </a:lnTo>
                <a:lnTo>
                  <a:pt x="270" y="90"/>
                </a:lnTo>
                <a:close/>
              </a:path>
            </a:pathLst>
          </a:cu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800" spc="-1" strike="noStrike">
                <a:solidFill>
                  <a:srgbClr val="2d2db9"/>
                </a:solidFill>
                <a:latin typeface="Arial"/>
                <a:ea typeface="Arial"/>
              </a:rPr>
              <a:t>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340000" y="250920"/>
            <a:ext cx="5013360" cy="107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  <a:ea typeface="DejaVu Sans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1680" y="4786200"/>
            <a:ext cx="2643120" cy="1428840"/>
          </a:xfrm>
          <a:custGeom>
            <a:avLst/>
            <a:gdLst/>
            <a:ahLst/>
            <a:rect l="l" t="t" r="r" b="b"/>
            <a:pathLst>
              <a:path w="3671" h="1985">
                <a:moveTo>
                  <a:pt x="0" y="1985"/>
                </a:moveTo>
                <a:lnTo>
                  <a:pt x="3671" y="1985"/>
                </a:lnTo>
                <a:lnTo>
                  <a:pt x="180" y="90"/>
                </a:lnTo>
                <a:lnTo>
                  <a:pt x="3671" y="1985"/>
                </a:lnTo>
                <a:lnTo>
                  <a:pt x="270" y="90"/>
                </a:lnTo>
                <a:close/>
              </a:path>
            </a:pathLst>
          </a:custGeom>
          <a:solidFill>
            <a:srgbClr val="00b8ff"/>
          </a:solidFill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звитие новых тактильных ощу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57960" y="785880"/>
            <a:ext cx="2571840" cy="1643040"/>
          </a:xfrm>
          <a:custGeom>
            <a:avLst/>
            <a:gdLst/>
            <a:ahLst/>
            <a:rect l="l" t="t" r="r" b="b"/>
            <a:pathLst>
              <a:path w="3572" h="2282">
                <a:moveTo>
                  <a:pt x="0" y="2282"/>
                </a:moveTo>
                <a:lnTo>
                  <a:pt x="3572" y="2282"/>
                </a:lnTo>
                <a:lnTo>
                  <a:pt x="180" y="90"/>
                </a:lnTo>
                <a:lnTo>
                  <a:pt x="3572" y="2282"/>
                </a:lnTo>
                <a:lnTo>
                  <a:pt x="270" y="90"/>
                </a:lnTo>
                <a:close/>
              </a:path>
            </a:pathLst>
          </a:custGeom>
          <a:solidFill>
            <a:srgbClr val="00b8ff"/>
          </a:solidFill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ыслительных проце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91080" y="2730600"/>
            <a:ext cx="4205160" cy="5249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6160" y="853920"/>
            <a:ext cx="4097160" cy="50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128520"/>
            <a:ext cx="8228160" cy="143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6720" y="176040"/>
            <a:ext cx="406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  <a:ea typeface="Times New Roman"/>
              </a:rPr>
              <a:t>«Что я слышу — забываю. Что я вижу — я помню. Что я делаю — я понимаю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онфу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-6480" y="1206360"/>
            <a:ext cx="4370400" cy="4529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65520" y="2103480"/>
            <a:ext cx="4200480" cy="41576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85880" y="142920"/>
            <a:ext cx="4481280" cy="871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 rot="7560000">
            <a:off x="5127480" y="1499760"/>
            <a:ext cx="1182960" cy="858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 rot="13200000">
            <a:off x="5381280" y="4943160"/>
            <a:ext cx="1050840" cy="927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 rot="1860000">
            <a:off x="1782360" y="1987560"/>
            <a:ext cx="1008000" cy="9064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 rot="18540000">
            <a:off x="2451600" y="4520160"/>
            <a:ext cx="1051200" cy="9320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 rot="10320000">
            <a:off x="6027480" y="3263760"/>
            <a:ext cx="1006200" cy="8604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12" name=""/>
          <p:cNvSpPr/>
          <p:nvPr/>
        </p:nvSpPr>
        <p:spPr>
          <a:xfrm>
            <a:off x="3841920" y="3429000"/>
            <a:ext cx="579240" cy="52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14520" y="1835280"/>
            <a:ext cx="358560" cy="349200"/>
          </a:xfrm>
          <a:custGeom>
            <a:avLst/>
            <a:gdLst/>
            <a:ahLst/>
            <a:rect l="l" t="t" r="r" b="b"/>
            <a:pathLst>
              <a:path w="498" h="485">
                <a:moveTo>
                  <a:pt x="0" y="485"/>
                </a:moveTo>
                <a:lnTo>
                  <a:pt x="498" y="485"/>
                </a:lnTo>
                <a:lnTo>
                  <a:pt x="180" y="90"/>
                </a:lnTo>
                <a:lnTo>
                  <a:pt x="498" y="485"/>
                </a:lnTo>
                <a:lnTo>
                  <a:pt x="270" y="90"/>
                </a:lnTo>
                <a:close/>
              </a:path>
            </a:pathLst>
          </a:cu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path path="rect">
              <a:fillToRect l="50000" t="50000" r="50000" b="50000"/>
            </a:path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48360" y="1093680"/>
            <a:ext cx="360360" cy="349200"/>
          </a:xfrm>
          <a:custGeom>
            <a:avLst/>
            <a:gdLst/>
            <a:ahLst/>
            <a:rect l="l" t="t" r="r" b="b"/>
            <a:pathLst>
              <a:path w="501" h="485">
                <a:moveTo>
                  <a:pt x="0" y="485"/>
                </a:moveTo>
                <a:lnTo>
                  <a:pt x="501" y="485"/>
                </a:lnTo>
                <a:lnTo>
                  <a:pt x="180" y="90"/>
                </a:lnTo>
                <a:lnTo>
                  <a:pt x="501" y="485"/>
                </a:lnTo>
                <a:lnTo>
                  <a:pt x="270" y="90"/>
                </a:lnTo>
                <a:close/>
              </a:path>
            </a:pathLst>
          </a:custGeom>
          <a:gradFill rotWithShape="0">
            <a:gsLst>
              <a:gs pos="0">
                <a:srgbClr val="82b820"/>
              </a:gs>
              <a:gs pos="100000">
                <a:srgbClr val="3c550f"/>
              </a:gs>
            </a:gsLst>
            <a:path path="rect">
              <a:fillToRect l="50000" t="50000" r="50000" b="50000"/>
            </a:path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3394080"/>
            <a:ext cx="360360" cy="349200"/>
          </a:xfrm>
          <a:custGeom>
            <a:avLst/>
            <a:gdLst/>
            <a:ahLst/>
            <a:rect l="l" t="t" r="r" b="b"/>
            <a:pathLst>
              <a:path w="501" h="485">
                <a:moveTo>
                  <a:pt x="0" y="485"/>
                </a:moveTo>
                <a:lnTo>
                  <a:pt x="501" y="485"/>
                </a:lnTo>
                <a:lnTo>
                  <a:pt x="180" y="90"/>
                </a:lnTo>
                <a:lnTo>
                  <a:pt x="501" y="485"/>
                </a:lnTo>
                <a:lnTo>
                  <a:pt x="270" y="90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path path="rect">
              <a:fillToRect l="50000" t="50000" r="50000" b="50000"/>
            </a:path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50040" y="5667480"/>
            <a:ext cx="360360" cy="349200"/>
          </a:xfrm>
          <a:custGeom>
            <a:avLst/>
            <a:gdLst/>
            <a:ahLst/>
            <a:rect l="l" t="t" r="r" b="b"/>
            <a:pathLst>
              <a:path w="501" h="485">
                <a:moveTo>
                  <a:pt x="0" y="485"/>
                </a:moveTo>
                <a:lnTo>
                  <a:pt x="501" y="485"/>
                </a:lnTo>
                <a:lnTo>
                  <a:pt x="180" y="90"/>
                </a:lnTo>
                <a:lnTo>
                  <a:pt x="501" y="485"/>
                </a:lnTo>
                <a:lnTo>
                  <a:pt x="270" y="90"/>
                </a:lnTo>
                <a:close/>
              </a:path>
            </a:pathLst>
          </a:custGeom>
          <a:gradFill rotWithShape="0">
            <a:gsLst>
              <a:gs pos="0">
                <a:srgbClr val="aa62ec"/>
              </a:gs>
              <a:gs pos="100000">
                <a:srgbClr val="4f2d6d"/>
              </a:gs>
            </a:gsLst>
            <a:path path="rect">
              <a:fillToRect l="50000" t="50000" r="50000" b="50000"/>
            </a:path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5357880"/>
            <a:ext cx="358920" cy="349200"/>
          </a:xfrm>
          <a:custGeom>
            <a:avLst/>
            <a:gdLst/>
            <a:ahLst/>
            <a:rect l="l" t="t" r="r" b="b"/>
            <a:pathLst>
              <a:path w="499" h="485">
                <a:moveTo>
                  <a:pt x="0" y="485"/>
                </a:moveTo>
                <a:lnTo>
                  <a:pt x="499" y="485"/>
                </a:lnTo>
                <a:lnTo>
                  <a:pt x="180" y="90"/>
                </a:lnTo>
                <a:lnTo>
                  <a:pt x="499" y="485"/>
                </a:lnTo>
                <a:lnTo>
                  <a:pt x="270" y="9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path path="rect">
              <a:fillToRect l="50000" t="50000" r="50000" b="50000"/>
            </a:path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5595840" y="304920"/>
            <a:ext cx="3286080" cy="682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128520" y="938160"/>
            <a:ext cx="2529000" cy="592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9"/>
          <a:stretch/>
        </p:blipFill>
        <p:spPr>
          <a:xfrm>
            <a:off x="6870600" y="2664000"/>
            <a:ext cx="2279880" cy="591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0"/>
          <a:stretch/>
        </p:blipFill>
        <p:spPr>
          <a:xfrm>
            <a:off x="6029280" y="5900760"/>
            <a:ext cx="2779920" cy="59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85680" y="5791320"/>
            <a:ext cx="2816280" cy="59688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2714760" y="2357280"/>
            <a:ext cx="4478040" cy="2283120"/>
            <a:chOff x="2714760" y="2357280"/>
            <a:chExt cx="4478040" cy="2283120"/>
          </a:xfrm>
        </p:grpSpPr>
        <p:pic>
          <p:nvPicPr>
            <p:cNvPr id="124" name="" descr=""/>
            <p:cNvPicPr/>
            <p:nvPr/>
          </p:nvPicPr>
          <p:blipFill>
            <a:blip r:embed="rId12"/>
            <a:stretch/>
          </p:blipFill>
          <p:spPr>
            <a:xfrm>
              <a:off x="2714760" y="2357280"/>
              <a:ext cx="2571480" cy="228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445000" y="2540160"/>
              <a:ext cx="1747800" cy="1550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429000" y="3214800"/>
            <a:ext cx="1214280" cy="52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1" lang="ru-RU" sz="2800" spc="-1" strike="noStrike">
                <a:solidFill>
                  <a:srgbClr val="2d2db9"/>
                </a:solidFill>
                <a:latin typeface="Arial"/>
                <a:ea typeface="DejaVu Sans"/>
              </a:rPr>
              <a:t>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dur="indefinite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dur="indefinite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dur="indefinite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8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81000"/>
            <a:ext cx="8228160" cy="1527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67200" y="493560"/>
            <a:ext cx="2552400" cy="4535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711760" y="3425760"/>
            <a:ext cx="3299040" cy="3299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08080" y="3565440"/>
            <a:ext cx="2846160" cy="3127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6351480" y="133200"/>
            <a:ext cx="2554560" cy="2560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208080" y="133200"/>
            <a:ext cx="2558880" cy="2560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864560" y="2070000"/>
            <a:ext cx="1279440" cy="914400"/>
          </a:xfrm>
          <a:custGeom>
            <a:avLst/>
            <a:gdLst/>
            <a:ahLst/>
            <a:rect l="l" t="t" r="r" b="b"/>
            <a:pathLst>
              <a:path w="1777" h="1270">
                <a:moveTo>
                  <a:pt x="0" y="1270"/>
                </a:moveTo>
                <a:lnTo>
                  <a:pt x="1777" y="1270"/>
                </a:lnTo>
                <a:lnTo>
                  <a:pt x="180" y="90"/>
                </a:lnTo>
                <a:lnTo>
                  <a:pt x="1777" y="1270"/>
                </a:lnTo>
                <a:lnTo>
                  <a:pt x="270" y="9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  <a:ea typeface="DejaVu Sans"/>
              </a:rPr>
              <a:t>Пора сп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303640"/>
            <a:ext cx="2033280" cy="1122120"/>
          </a:xfrm>
          <a:custGeom>
            <a:avLst/>
            <a:gdLst/>
            <a:ahLst/>
            <a:rect l="l" t="t" r="r" b="b"/>
            <a:pathLst>
              <a:path w="2824" h="1559">
                <a:moveTo>
                  <a:pt x="0" y="1559"/>
                </a:moveTo>
                <a:lnTo>
                  <a:pt x="2824" y="1559"/>
                </a:lnTo>
                <a:lnTo>
                  <a:pt x="180" y="90"/>
                </a:lnTo>
                <a:lnTo>
                  <a:pt x="2824" y="1559"/>
                </a:lnTo>
                <a:lnTo>
                  <a:pt x="270" y="9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  <a:ea typeface="DejaVu Sans"/>
              </a:rPr>
              <a:t>Моем, моем трубоч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651640" y="81000"/>
            <a:ext cx="3384360" cy="1527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cc3399"/>
                </a:solidFill>
                <a:latin typeface="Arial"/>
                <a:ea typeface="DejaVu Sans"/>
              </a:rPr>
              <a:t>Время утрен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cc3399"/>
                </a:solidFill>
                <a:latin typeface="Arial"/>
                <a:ea typeface="DejaVu Sans"/>
              </a:rPr>
              <a:t> </a:t>
            </a:r>
            <a:r>
              <a:rPr b="0" lang="ru-RU" sz="3200" spc="-1" strike="noStrike">
                <a:solidFill>
                  <a:srgbClr val="cc3399"/>
                </a:solidFill>
                <a:latin typeface="Arial"/>
                <a:ea typeface="DejaVu Sans"/>
              </a:rPr>
              <a:t>гимна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353880" y="1865160"/>
            <a:ext cx="3255840" cy="5230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254640" y="1865160"/>
            <a:ext cx="3249720" cy="5230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2865600" y="2152800"/>
            <a:ext cx="3352680" cy="4778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492360" y="1214280"/>
            <a:ext cx="169704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  <a:ea typeface="DejaVu Sans"/>
              </a:rPr>
              <a:t>Позвоним 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800" y="1065240"/>
            <a:ext cx="2999880" cy="642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  <a:ea typeface="DejaVu Sans"/>
              </a:rPr>
              <a:t>Что-то спрятано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DejaVu Sans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57200" y="81000"/>
            <a:ext cx="8228160" cy="1527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49600" y="-225360"/>
            <a:ext cx="4956120" cy="426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486400" y="1974960"/>
            <a:ext cx="3949560" cy="4979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-152280" y="3419640"/>
            <a:ext cx="4863960" cy="3700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928960" y="3213000"/>
            <a:ext cx="2143080" cy="1079640"/>
          </a:xfrm>
          <a:custGeom>
            <a:avLst/>
            <a:gdLst/>
            <a:ahLst/>
            <a:rect l="l" t="t" r="r" b="b"/>
            <a:pathLst>
              <a:path w="3785" h="7222">
                <a:moveTo>
                  <a:pt x="-808" y="7220"/>
                </a:moveTo>
                <a:lnTo>
                  <a:pt x="2109" y="2934"/>
                </a:lnTo>
                <a:lnTo>
                  <a:pt x="2977" y="15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DejaVu Sans"/>
              </a:rPr>
              <a:t>Я открыл!УР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94600" y="2637000"/>
            <a:ext cx="914400" cy="863280"/>
          </a:xfrm>
          <a:custGeom>
            <a:avLst/>
            <a:gdLst/>
            <a:ahLst/>
            <a:rect l="l" t="t" r="r" b="b"/>
            <a:pathLst>
              <a:path w="1615" h="5774">
                <a:moveTo>
                  <a:pt x="-345" y="5773"/>
                </a:moveTo>
                <a:lnTo>
                  <a:pt x="900" y="2346"/>
                </a:lnTo>
                <a:lnTo>
                  <a:pt x="1270" y="119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DejaVu Sans"/>
              </a:rPr>
              <a:t>Тук- ту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49600" y="-25560"/>
            <a:ext cx="2477880" cy="613080"/>
          </a:xfrm>
          <a:custGeom>
            <a:avLst/>
            <a:gdLst/>
            <a:ahLst/>
            <a:rect l="l" t="t" r="r" b="b"/>
            <a:pathLst>
              <a:path w="41798" h="39090">
                <a:moveTo>
                  <a:pt x="3900" y="14370"/>
                </a:moveTo>
                <a:lnTo>
                  <a:pt x="6753" y="9190"/>
                </a:lnTo>
                <a:lnTo>
                  <a:pt x="0" y="0"/>
                </a:lnTo>
                <a:lnTo>
                  <a:pt x="5333" y="7267"/>
                </a:lnTo>
                <a:lnTo>
                  <a:pt x="0" y="0"/>
                </a:lnTo>
                <a:lnTo>
                  <a:pt x="4365" y="5945"/>
                </a:lnTo>
                <a:lnTo>
                  <a:pt x="0" y="0"/>
                </a:lnTo>
                <a:lnTo>
                  <a:pt x="4857" y="6595"/>
                </a:lnTo>
                <a:lnTo>
                  <a:pt x="0" y="0"/>
                </a:lnTo>
                <a:lnTo>
                  <a:pt x="5333" y="7273"/>
                </a:lnTo>
                <a:lnTo>
                  <a:pt x="0" y="0"/>
                </a:lnTo>
                <a:lnTo>
                  <a:pt x="6775" y="9220"/>
                </a:lnTo>
                <a:close/>
              </a:path>
              <a:path w="41798" h="39090">
                <a:moveTo>
                  <a:pt x="0" y="0"/>
                </a:moveTo>
                <a:lnTo>
                  <a:pt x="5785" y="7867"/>
                </a:lnTo>
                <a:close/>
              </a:path>
              <a:path w="41798" h="39090">
                <a:moveTo>
                  <a:pt x="0" y="0"/>
                </a:moveTo>
                <a:lnTo>
                  <a:pt x="6752" y="9215"/>
                </a:lnTo>
                <a:close/>
              </a:path>
              <a:path w="41798" h="39090">
                <a:moveTo>
                  <a:pt x="0" y="0"/>
                </a:moveTo>
                <a:lnTo>
                  <a:pt x="7720" y="10543"/>
                </a:lnTo>
                <a:close/>
              </a:path>
              <a:path fill="none" w="41798" h="39090">
                <a:moveTo>
                  <a:pt x="0" y="0"/>
                </a:moveTo>
                <a:lnTo>
                  <a:pt x="4360" y="5918"/>
                </a:lnTo>
                <a:moveTo>
                  <a:pt x="0" y="0"/>
                </a:moveTo>
                <a:lnTo>
                  <a:pt x="4345" y="5945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0" y="0"/>
                </a:moveTo>
                <a:lnTo>
                  <a:pt x="0" y="0"/>
                </a:lnTo>
                <a:moveTo>
                  <a:pt x="4693" y="26177"/>
                </a:moveTo>
                <a:lnTo>
                  <a:pt x="4345" y="5945"/>
                </a:lnTo>
                <a:moveTo>
                  <a:pt x="0" y="0"/>
                </a:moveTo>
                <a:lnTo>
                  <a:pt x="6928" y="34899"/>
                </a:lnTo>
                <a:moveTo>
                  <a:pt x="4360" y="5918"/>
                </a:moveTo>
                <a:lnTo>
                  <a:pt x="0" y="0"/>
                </a:lnTo>
                <a:moveTo>
                  <a:pt x="16478" y="39090"/>
                </a:moveTo>
                <a:lnTo>
                  <a:pt x="6752" y="9215"/>
                </a:lnTo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DejaVu Sans"/>
              </a:rPr>
              <a:t>Получило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33440" y="255600"/>
            <a:ext cx="8259840" cy="731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03320" y="963720"/>
            <a:ext cx="9047160" cy="5784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nodeType="clickEffect" fill="hold">
                      <p:stCondLst>
                        <p:cond delay="0"/>
                      </p:stCondLst>
                      <p:childTnLst>
                        <p:par>
                          <p:cTn id="17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dur="indefinite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181" dur="indefinite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0:14:36Z</dcterms:created>
  <dc:creator>Пользователь</dc:creator>
  <dc:description/>
  <dc:language>en-US</dc:language>
  <cp:lastModifiedBy>asd</cp:lastModifiedBy>
  <dcterms:modified xsi:type="dcterms:W3CDTF">2022-05-02T11:46:18Z</dcterms:modified>
  <cp:revision>188</cp:revision>
  <dc:subject/>
  <dc:title>те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6a0000000000010291410207f7000400038000</vt:lpwstr>
  </property>
</Properties>
</file>