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61BE-964E-4132-97B8-F53A531346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C58D-7B4F-4850-819F-D455B729AE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3E82-4AB7-4F2D-8108-07DE839D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313-B14E-4EA4-99F5-711EB412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70C-086B-411C-848F-E5639E7F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E3CE-298F-4AFF-BFF7-B988269A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01A-7E6C-433A-9E0A-16C1E8A2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895-EF7D-4CC9-AF42-9815D87E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A58-A74B-420B-88C9-0F9CDA1E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9561-CBBC-42B7-AFF1-547ADC06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63A-B2DF-4729-BC8F-0C086C77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751-1880-41C3-975A-725ED668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191-5D8F-4B79-B514-522F9EB5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C60-4B12-466C-B17D-AE1961AD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3F5D-7287-451D-9C25-9576D50749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900000" y="2060640"/>
            <a:ext cx="705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  <a:ea typeface="Calibri"/>
              </a:rPr>
              <a:t>  </a:t>
            </a:r>
            <a:r>
              <a:rPr b="1" lang="ru-RU" sz="4400" spc="-1" strike="noStrike">
                <a:solidFill>
                  <a:srgbClr val="3c8c93"/>
                </a:solidFill>
                <a:latin typeface="Calibri"/>
                <a:ea typeface="Calibri"/>
              </a:rPr>
              <a:t>ПервоЛого</a:t>
            </a:r>
            <a:r>
              <a:rPr b="1" lang="ru-RU" sz="4400" spc="-1" strike="noStrike">
                <a:solidFill>
                  <a:srgbClr val="3c8c93"/>
                </a:solidFill>
                <a:latin typeface="Times New Roman"/>
                <a:ea typeface="Arial"/>
              </a:rPr>
              <a:t>, как средство обучения детей  в начальной школ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3419640" y="83664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Times New Roman"/>
                <a:ea typeface="Arial"/>
              </a:rPr>
              <a:t>Мастер -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859280" y="4340160"/>
            <a:ext cx="453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Учитель начальных классов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Раднаева Л.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c8c93"/>
                </a:solidFill>
                <a:latin typeface="Times New Roman"/>
              </a:rPr>
              <a:t>Черепашка меняет фор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Изображение 4" descr="Снимок экрана 2018-01-09 в 21.42.00.png"/>
          <p:cNvPicPr/>
          <p:nvPr/>
        </p:nvPicPr>
        <p:blipFill>
          <a:blip r:embed="rId1"/>
          <a:stretch/>
        </p:blipFill>
        <p:spPr>
          <a:xfrm>
            <a:off x="6259680" y="4653000"/>
            <a:ext cx="2884320" cy="2328840"/>
          </a:xfrm>
          <a:prstGeom prst="rect">
            <a:avLst/>
          </a:prstGeom>
          <a:ln w="0">
            <a:noFill/>
          </a:ln>
        </p:spPr>
      </p:pic>
      <p:pic>
        <p:nvPicPr>
          <p:cNvPr id="65" name="Изображение 1" descr="Снимок экрана 2018-01-18 в 12.10.40.png"/>
          <p:cNvPicPr/>
          <p:nvPr/>
        </p:nvPicPr>
        <p:blipFill>
          <a:blip r:embed="rId2"/>
          <a:stretch/>
        </p:blipFill>
        <p:spPr>
          <a:xfrm>
            <a:off x="539640" y="1557360"/>
            <a:ext cx="76359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332000" y="1125360"/>
            <a:ext cx="468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900000" y="981000"/>
            <a:ext cx="77774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опыт освоения и применения  среды ПервоЛого на уроках в начальной шк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3c8c9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Создание условий для профессионального общения, самореализации и стимулирования роста творческого потенциала педагог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3c8c9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Распространение педагогического опыта и привлечение интереса к новым   технологи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Изображение 1" descr="Снимок экрана 2013-12-05 в 7.08.54.png"/>
          <p:cNvPicPr/>
          <p:nvPr/>
        </p:nvPicPr>
        <p:blipFill>
          <a:blip r:embed="rId1"/>
          <a:stretch/>
        </p:blipFill>
        <p:spPr>
          <a:xfrm>
            <a:off x="684360" y="1125360"/>
            <a:ext cx="69055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2" descr="Снимок экрана 2018-01-18 в 14.18.11.png"/>
          <p:cNvPicPr/>
          <p:nvPr/>
        </p:nvPicPr>
        <p:blipFill>
          <a:blip r:embed="rId1"/>
          <a:srcRect l="0" t="9553" r="0" b="9553"/>
          <a:stretch/>
        </p:blipFill>
        <p:spPr>
          <a:xfrm>
            <a:off x="324000" y="260280"/>
            <a:ext cx="83595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Изображение 3" descr="Снимок экрана 2018-01-05 в 18.08.08.png"/>
          <p:cNvPicPr/>
          <p:nvPr/>
        </p:nvPicPr>
        <p:blipFill>
          <a:blip r:embed="rId1"/>
          <a:stretch/>
        </p:blipFill>
        <p:spPr>
          <a:xfrm>
            <a:off x="826920" y="696960"/>
            <a:ext cx="7345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3" descr="Снимок экрана 2018-01-05 в 18.18.29.png"/>
          <p:cNvPicPr/>
          <p:nvPr/>
        </p:nvPicPr>
        <p:blipFill>
          <a:blip r:embed="rId1"/>
          <a:srcRect l="0" t="13285" r="0" b="13285"/>
          <a:stretch/>
        </p:blipFill>
        <p:spPr>
          <a:xfrm>
            <a:off x="324000" y="681120"/>
            <a:ext cx="82087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Изображение 3" descr="Снимок экрана 2018-01-14 в 19.33.04.png"/>
          <p:cNvPicPr/>
          <p:nvPr/>
        </p:nvPicPr>
        <p:blipFill>
          <a:blip r:embed="rId1"/>
          <a:stretch/>
        </p:blipFill>
        <p:spPr>
          <a:xfrm>
            <a:off x="395280" y="907920"/>
            <a:ext cx="8569440" cy="5027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2124000" y="47628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8c93"/>
                </a:solidFill>
                <a:latin typeface="Times New Roman"/>
                <a:ea typeface="Arial"/>
              </a:rPr>
              <a:t>Создание сказки «Теремо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Изображение 2" descr="Снимок экрана 2013-12-05 в 8.10.04.png"/>
          <p:cNvPicPr/>
          <p:nvPr/>
        </p:nvPicPr>
        <p:blipFill>
          <a:blip r:embed="rId1"/>
          <a:stretch/>
        </p:blipFill>
        <p:spPr>
          <a:xfrm>
            <a:off x="395280" y="404640"/>
            <a:ext cx="818352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</a:rPr>
              <a:t>Создание тек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Изображение 4" descr="Снимок экрана 2018-01-09 в 21.42.00.png"/>
          <p:cNvPicPr/>
          <p:nvPr/>
        </p:nvPicPr>
        <p:blipFill>
          <a:blip r:embed="rId1"/>
          <a:stretch/>
        </p:blipFill>
        <p:spPr>
          <a:xfrm>
            <a:off x="6431040" y="4670280"/>
            <a:ext cx="2711520" cy="2189160"/>
          </a:xfrm>
          <a:prstGeom prst="rect">
            <a:avLst/>
          </a:prstGeom>
          <a:ln w="0">
            <a:noFill/>
          </a:ln>
        </p:spPr>
      </p:pic>
      <p:pic>
        <p:nvPicPr>
          <p:cNvPr id="62" name="Изображение 1" descr="Снимок экрана 2018-01-18 в 12.06.05.png"/>
          <p:cNvPicPr/>
          <p:nvPr/>
        </p:nvPicPr>
        <p:blipFill>
          <a:blip r:embed="rId2"/>
          <a:stretch/>
        </p:blipFill>
        <p:spPr>
          <a:xfrm>
            <a:off x="468360" y="1197000"/>
            <a:ext cx="8064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02T07:55:16Z</dcterms:created>
  <dc:creator>Пользователь Microsoft Office</dc:creator>
  <dc:description/>
  <dc:language>en-US</dc:language>
  <cp:lastModifiedBy>Пользователь Microsoft Office</cp:lastModifiedBy>
  <dcterms:modified xsi:type="dcterms:W3CDTF">2022-05-02T08:03:50Z</dcterms:modified>
  <cp:revision>2</cp:revision>
  <dc:subject/>
  <dc:title>Презентация PowerPoint</dc:title>
</cp:coreProperties>
</file>