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91B8-F162-4263-A205-DB86F7FC2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8182-40E8-401E-8BB9-5E0096802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C7E9-458D-4CED-B00F-D3D7D243B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816F-4089-4C5C-8C73-6FABA9588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3D01-E6F2-475A-B93B-11413218E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DC30-CA14-438B-9878-DCE2F54B73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A7F7-C8F8-492D-A028-1BD8B7A1B7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2676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07600" y="193824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4628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2676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07600" y="4192920"/>
            <a:ext cx="24573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2EBA-7DF6-4D80-AC23-87B104902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9F7B-E319-43C8-8D72-7CE21CAE3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BF19-104F-4B66-84D6-AA8BBFC90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320" y="419292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0654-E404-4224-82DF-925D2302E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320" y="1938240"/>
            <a:ext cx="372456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2920"/>
            <a:ext cx="76327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93DE-4D8D-4A8F-BE14-93E07C61D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4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11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E7833-A5D1-47BC-B133-6004FB9A874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1"/>
          <p:cNvSpPr/>
          <p:nvPr/>
        </p:nvSpPr>
        <p:spPr>
          <a:xfrm>
            <a:off x="557280" y="6378480"/>
            <a:ext cx="8083440" cy="180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557280" y="1154160"/>
            <a:ext cx="808344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57280" y="6485040"/>
            <a:ext cx="2336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7723080" y="6454800"/>
            <a:ext cx="99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28682-CB45-4287-9FAA-B8BFC35F3FA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617400" y="422280"/>
            <a:ext cx="55908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82640" y="258840"/>
            <a:ext cx="558720" cy="55872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977760" y="520560"/>
            <a:ext cx="559080" cy="559080"/>
          </a:xfrm>
          <a:prstGeom prst="roundRect">
            <a:avLst>
              <a:gd name="adj" fmla="val 282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648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1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63468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45920" y="1937880"/>
            <a:ext cx="762948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46280" y="1938240"/>
            <a:ext cx="7632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250920" y="836640"/>
            <a:ext cx="8686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msmincho"/>
              </a:rPr>
              <a:t>Социальное направл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  <a:ea typeface="msmincho"/>
              </a:rPr>
              <a:t>воспит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5543640" y="4292640"/>
            <a:ext cx="320508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МБДОУ д/с №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г.Белгород 2022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mincho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755640" y="1052640"/>
            <a:ext cx="663588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олько объединив наши усилия, мы сможем возродить утраченные духовно- нравственные ценности, что позволит решить социально-экономические проблемы развития страны, подготовить детей к будущей семейной жизн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 algn="ctr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539640" y="539640"/>
            <a:ext cx="809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оциализация — это процесс становления человека в обществе,  усвоение  культурных норм, нравственных ценностей и правил поведения, принятых в обще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25800" y="2421000"/>
            <a:ext cx="492732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539640" y="179280"/>
            <a:ext cx="774072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t">
            <a:normAutofit/>
          </a:bodyPr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msmincho"/>
              </a:rPr>
              <a:t>Основная ц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 основе социального направления воспитания лежит ценнос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емьи, дружба, человек и сотрудничеств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. В дошкольном детстве ребенок открывает Личность другого человека и его значение в собственной жизни и жизни людей. Он начинает осваивать все многообразие социальных отношений и социальных ролей. Он учится действовать сообща, подчиняться правилам, нести ответственность за свои поступки, действовать в интересах семьи, групп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Формирование правильного ценностно-смыслового отношения ребенка к социальному окружению невозможно без грамотно выстроенного воспитательного процесса, в котором обязательно должна быть личная социальная инициатива ребенка в детско-взрослых и детских общност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msmincho"/>
              </a:rPr>
              <a:t>Основные задач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социального направления воспитания. Формирование у ребенка представлений о добре и зле, позитивного образа семьи с детьми, ознакомление с распределением ролей в семье, образами дружбы в фольклоре и детской литературе, примерами сотрудничества и взаимопомощи людей в различных видах деятельности (на материале истории России, ее героев), милосердия и заботы. Анализ поступков самих детей в группе в различных ситуациях.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 algn="just">
              <a:lnSpc>
                <a:spcPct val="98000"/>
              </a:lnSpc>
              <a:spcAft>
                <a:spcPts val="116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6028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ание духовной личности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43000" y="1260360"/>
            <a:ext cx="678168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это социальная потребность жить и действовать «для других». С категорией духовности соотносится потребность познания мира, себя, смысла и назначения своей жизн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2757600" cy="23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2880"/>
            <a:ext cx="82281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Базовые национальные цен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68360" y="1268280"/>
            <a:ext cx="822780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480" bIns="0" anchor="t">
            <a:normAutofit/>
          </a:bodyPr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Патриотизм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Социальная солидар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Семь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Труд и творчество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Нау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Религ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Искусство и литератур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itstream Vera Serif"/>
                <a:ea typeface="msmincho"/>
              </a:rPr>
              <a:t>Прир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r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78000"/>
              </a:lnSpc>
              <a:spcAft>
                <a:spcPts val="1162"/>
              </a:spcAft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38088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оспитание нравственной личности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720720" y="1440000"/>
            <a:ext cx="4267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1080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smincho"/>
              </a:rPr>
              <a:t>это формирование долга, ответственности, гуманности, патриотизма, справедливости, чести, благородства в отношении человека к обществу, Родине, окружающим людям и самому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0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040360" y="1566720"/>
            <a:ext cx="3419280" cy="401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360360" y="539640"/>
            <a:ext cx="809928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накомство детей с жизнью и бытом русского народа, с предметами обихода, домашней утварью, орудиями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кружающие предметы старины воспитывают в ребёнке чувства красоты, любознательности, патриотизма. Это помогает детям с самого раннего возраста понять, что они – часть великого русского нар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600360" cy="37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539640" y="360360"/>
            <a:ext cx="85550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накомство детей с народной игрушкой, декоративной росписью, тоже очень важно, оно пленит душу, гармонией и ритмом, а также увлекает детей национальным искус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3600360" cy="414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539640" y="539640"/>
            <a:ext cx="77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9000"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акое же воспитательное значение имеет знакомство детей с русским народным костюмом, его характерными особенностями, необычайным колоритом, который зачастую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авнивается к произведениям искус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619280" y="2700360"/>
            <a:ext cx="558000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user</cp:lastModifiedBy>
  <cp:lastPrinted>2012-02-07T05:10:56Z</cp:lastPrinted>
  <dcterms:modified xsi:type="dcterms:W3CDTF">2022-04-28T19:25:26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