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D274-C51D-4406-A013-DE7196274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B186-3E46-43CC-B16A-A04285856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A5A9-1F28-4AE5-9323-68B624A13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6CCE-CC2E-4294-83EF-687A10980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AC6B-941F-45A6-B8E6-8514B5F1A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0D92-E179-4CA3-8BC8-5896498257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5E1A-5D88-4A11-AD22-03836785EE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D62E-476C-4F92-9F7D-D9A1D2FAD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1227-7BB5-45FC-BFD9-9B013FBFE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FA5A-30D4-461B-A78E-BB92CCE6B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EF4B-B2CF-4DD7-869D-0C09C0D70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72D9-4C9F-4909-8EB4-B7767AFE5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4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DD483-77B7-4C9E-984F-9E97B4BC1E8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557280" y="6378480"/>
            <a:ext cx="8083440" cy="180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557280" y="1154160"/>
            <a:ext cx="808344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57280" y="6485040"/>
            <a:ext cx="233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mincho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7723080" y="6454800"/>
            <a:ext cx="99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478B9-729B-4857-9625-44FEA5F32B5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smincho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617400" y="422280"/>
            <a:ext cx="559080" cy="558720"/>
          </a:xfrm>
          <a:prstGeom prst="roundRect">
            <a:avLst>
              <a:gd name="adj" fmla="val 282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82640" y="258840"/>
            <a:ext cx="558720" cy="558720"/>
          </a:xfrm>
          <a:prstGeom prst="roundRect">
            <a:avLst>
              <a:gd name="adj" fmla="val 282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977760" y="520560"/>
            <a:ext cx="559080" cy="559080"/>
          </a:xfrm>
          <a:prstGeom prst="roundRect">
            <a:avLst>
              <a:gd name="adj" fmla="val 282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45920" y="1937880"/>
            <a:ext cx="76294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250920" y="836640"/>
            <a:ext cx="86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msmincho"/>
              </a:rPr>
              <a:t>Социальное направл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msmincho"/>
              </a:rPr>
              <a:t>воспит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5543640" y="4292640"/>
            <a:ext cx="320508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МБДОУ д/с № 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г.Белгород 2022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755640" y="1052640"/>
            <a:ext cx="663588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080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олько объединив наши усилия, мы сможем возродить утраченные духовно- нравственные ценности, что позволит решить социально-экономические проблемы развития страны, подготовить детей к будущей семейной жизн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1080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539640" y="539640"/>
            <a:ext cx="809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Социализация — это процесс становления человека в обществе,  усвоение  культурных норм, нравственных ценностей и правил поведения, принятых в обще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25800" y="2421000"/>
            <a:ext cx="492732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539640" y="179280"/>
            <a:ext cx="774072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t">
            <a:normAutofit/>
          </a:bodyPr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msmincho"/>
              </a:rPr>
              <a:t>Основная ц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 основе социального направления воспитания лежит ценнос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семьи, дружба, человек и сотрудниче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. В дошкольном детстве ребенок открывает Личность другого человека и его значение в собственной жизни и жизни людей. Он начинает осваивать все многообразие социальных отношений и социальных ролей. Он учится действовать сообща, подчиняться правилам, нести ответственность за свои поступки, действовать в интересах семьи, групп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Формирование правильного ценностно-смыслового отношения ребенка к социальному окружению невозможно без грамотно выстроенного воспитательного процесса, в котором обязательно должна быть личная социальная инициатива ребенка в детско-взрослых и детских общност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msmincho"/>
              </a:rPr>
              <a:t>Основные задач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социального направления воспитания. Формирование у ребенка представлений о добре и зле, позитивного образа семьи с детьми, ознакомление с распределением ролей в семье, образами дружбы в фольклоре и детской литературе, примерами сотрудничества и взаимопомощи людей в различных видах деятельности (на материале истории России, ее героев), милосердия и заботы. Анализ поступков самих детей в группе в различных ситуациях.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98000"/>
              </a:lnSpc>
              <a:spcAft>
                <a:spcPts val="116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260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спитание духовной личности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43000" y="1260360"/>
            <a:ext cx="678168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080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это социальная потребность жить и действовать «для других». С категорией духовности соотносится потребность познания мира, себя, смысла и назначения своей жиз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2757600" cy="23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2880"/>
            <a:ext cx="8228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Базовые национальные цен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68360" y="1268280"/>
            <a:ext cx="822780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t">
            <a:normAutofit/>
          </a:bodyPr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Патриотиз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Социальная солидарно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Семь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Труд и творчество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Наук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Религ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Искусство и литератур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Природ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r">
              <a:lnSpc>
                <a:spcPct val="78000"/>
              </a:lnSpc>
              <a:spcAft>
                <a:spcPts val="1162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38088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спитание нравственной личности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720720" y="1440000"/>
            <a:ext cx="4267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080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это формирование долга, ответственности, гуманности, патриотизма, справедливости, чести, благородства в отношении человека к обществу, Родине, окружающим людям и самому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040360" y="1566720"/>
            <a:ext cx="3419280" cy="401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360360" y="539640"/>
            <a:ext cx="809928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накомство детей с жизнью и бытом русского народа, с предметами обихода, домашней утварью, орудиями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кружающие предметы старины воспитывают в ребёнке чувства красоты, любознательности, патриотизма. Это помогает детям с самого раннего возраста понять, что они – часть великого русского нар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600360" cy="37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539640" y="360360"/>
            <a:ext cx="8555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накомство детей с народной игрушкой, декоративной росписью, тоже очень важно, оно пленит душу, гармонией и ритмом, а также увлекает детей национальным искусст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3600360" cy="41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539640" y="539640"/>
            <a:ext cx="77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9000"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акое же воспитательное значение имеет знакомство детей с русским народным костюмом, его характерными особенностями, необычайным колоритом, который зачасту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авнивается к произведениям искус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619280" y="2700360"/>
            <a:ext cx="558000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user</cp:lastModifiedBy>
  <cp:lastPrinted>2012-02-07T05:10:56Z</cp:lastPrinted>
  <dcterms:modified xsi:type="dcterms:W3CDTF">2022-04-28T19:25:26Z</dcterms:modified>
  <cp:revision>2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