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1.jpeg" ContentType="image/jpeg"/>
  <Override PartName="/ppt/media/image22.jpeg" ContentType="image/jpeg"/>
  <Override PartName="/ppt/media/image51.jpeg" ContentType="image/jpeg"/>
  <Override PartName="/ppt/media/image23.wmf" ContentType="image/x-wmf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6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8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2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3.jpeg" ContentType="image/jpeg"/>
  <Override PartName="/ppt/media/image41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png" ContentType="image/png"/>
  <Override PartName="/ppt/media/image52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E2D-F783-4EC9-86A8-BA68D89F6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AFD7-FA07-4181-9760-FBEB37226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7823-91C4-48AB-B125-81F0C930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ED7-1DF1-4C5C-A5E0-22D4107F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B79-F18D-4FFB-BAF1-A0890E92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84F-7A69-4A22-8236-ADA7545E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1E9A-64A5-4FCF-A84C-E5DFDFA7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DF66-39C5-47E5-817A-D807A7F6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8687-358A-4982-B745-DCDB3028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7976-0188-4EBF-9341-E612F641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237C-B70A-457D-BC2E-085A806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B0B-8723-4F52-B650-0BB23D0E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02A-50E4-4C34-B600-6C62D81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A19-4AB0-4F7F-91C2-E037B443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D157-655F-4C6D-AEEA-7C44FB8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2B5B-C19B-4CF5-B744-B5732B11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193-08EF-4A46-A2B0-AF88DF3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8F1-B781-4709-82A2-F1A16204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A1DE-28AB-4E40-A6D3-234E4328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E6797-63DD-4830-BEEC-9A06FEE9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0FE86-68BE-446D-8320-1DC33D9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DF4C4-52EF-481A-BBE6-DA4E4747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C684B-B4F7-4781-9A04-ACD12CEF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4208F-AFA9-4214-924F-C45395DA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1FE-4806-4568-84BA-879FB01B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1D68-854E-4C60-A228-B18B25B2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BE69D-46F5-460D-8158-4359290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B6182-7193-4B5A-84F0-88CE22E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2DB8E-239C-4E75-8F94-67DE239B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32AA0-1884-40E1-8508-3780AFBA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A47E8-5F54-41CB-8824-3EF20903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F7472-DC59-4EBB-A312-1BB48EF2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1DBA-59CE-49AA-9647-0B650016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3FD7-4D7C-49E1-938B-6A15C92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85A5-E585-402A-872D-DF0C22DE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82F7-8370-47A9-A87D-D64DC661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3126-C2C6-4153-963D-3E72A9AC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A82B3-4CB6-4EE7-9942-9BCF7ED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CDCE-3BCE-47AA-83D9-3EF2E56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9B7D-0593-4118-A539-FB03CB1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D3A0-5346-4B80-89BE-64684144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1C53-3C83-4E55-9182-8BC1AB9B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11DE-D4DD-4B36-9B91-1A77BD15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373F1-56EA-4DCE-A8E2-4C4D1B1F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BCD85-437D-410C-882A-FE2D8937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3ABD-3A19-47DB-B507-FF902DEB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06D-4D10-4B70-B163-3062C150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B7E-7691-4615-83DE-927C1C3C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3B9-81C0-47DF-8AED-3A8DE633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E20-5629-41FA-A62B-2DA056C5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BB70-D926-416A-B184-82C2900007E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2328-2D3D-4B5A-9908-53A1C49D421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EBF7-B327-4C47-8A2C-88EFEC43CF4B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F42A-76B9-43F3-87B9-97921FFBFA3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3.wmf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785920" y="4581360"/>
            <a:ext cx="307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Л.Я.Кашап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24456"/>
                </a:solidFill>
                <a:latin typeface="Georgia"/>
              </a:rPr>
              <a:t>МБДОУ ДС №56 «Северяночка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714240" y="642960"/>
            <a:ext cx="8072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астер-клас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для воспит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«ОРГАНИЗАЦИЯ И ПРОВЕДЕНИЕ АРТИКУЛЯЦИОННОЙ ГИМНАСТ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ЫЕ УПРАЖНЕНИЯ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13840" y="128556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ИЕ УПРАЖНЕНИЯ НАПРАВЛЕНЫ НА ФОРМИРОВАНИЕ  СПОСОБНОСТИ УДЕРЖИВАТЬ АРТИКУЛЯЦИОННУЮ ПОЗИЦИЮ 5-7 СЕКУН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н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4" descr="http://forum.plesetzk.ru/download/file.php?id=5938&amp;sid=c102834f97022d07ba8feadecc8a3962"/>
          <p:cNvPicPr/>
          <p:nvPr/>
        </p:nvPicPr>
        <p:blipFill>
          <a:blip r:embed="rId1"/>
          <a:stretch/>
        </p:blipFill>
        <p:spPr>
          <a:xfrm>
            <a:off x="1785960" y="3000240"/>
            <a:ext cx="946080" cy="839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1785960" y="3786120"/>
            <a:ext cx="573120" cy="48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1714680" y="4500720"/>
            <a:ext cx="637920" cy="371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4"/>
          <a:stretch/>
        </p:blipFill>
        <p:spPr>
          <a:xfrm>
            <a:off x="1857240" y="5143680"/>
            <a:ext cx="47808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ЫЕ УПРАЖНЕНИЯ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680" y="1428840"/>
            <a:ext cx="7286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ИНАМИЧЕСКИЕ УПРАЖНЕНИЯ ВЫРАБАТЫВАЮТ ПОДВИЖНОСТЬ ЯЗЫКА, ГУБ, ИХ КООРДИНАЦИЮ И ПЕРЕКЛЮЧАЕМ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ное варень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2571840" y="4857840"/>
            <a:ext cx="865080" cy="1135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s://ds02.infourok.ru/uploads/ex/062a/0001a051-f7723375/img16.jpg"/>
          <p:cNvPicPr/>
          <p:nvPr/>
        </p:nvPicPr>
        <p:blipFill>
          <a:blip r:embed="rId2"/>
          <a:stretch/>
        </p:blipFill>
        <p:spPr>
          <a:xfrm>
            <a:off x="3786120" y="4071960"/>
            <a:ext cx="1335240" cy="1035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https://ds05.infourok.ru/uploads/ex/0639/000d4ca8-6feeb274/img10.jpg"/>
          <p:cNvPicPr/>
          <p:nvPr/>
        </p:nvPicPr>
        <p:blipFill>
          <a:blip r:embed="rId3"/>
          <a:srcRect l="0" t="0" r="-80" b="-110"/>
          <a:stretch/>
        </p:blipFill>
        <p:spPr>
          <a:xfrm>
            <a:off x="3071880" y="3143160"/>
            <a:ext cx="8492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imes New Roman"/>
              <a:ea typeface="Times New Roman"/>
            </a:endParaRPr>
          </a:p>
        </p:txBody>
      </p:sp>
      <p:pic>
        <p:nvPicPr>
          <p:cNvPr id="262" name="Picture 5" descr="http://xn--c1akdc2aebcihc6b.xn--p1ai/upload/iblock/1f5/lPaz6_qNa6g.jpg"/>
          <p:cNvPicPr/>
          <p:nvPr/>
        </p:nvPicPr>
        <p:blipFill>
          <a:blip r:embed="rId1"/>
          <a:stretch/>
        </p:blipFill>
        <p:spPr>
          <a:xfrm>
            <a:off x="285840" y="584280"/>
            <a:ext cx="8501040" cy="6043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9680" y="1213920"/>
            <a:ext cx="828684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ласные звуки определяют разборчивость речи, темп, мелодико-интонационную окраску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5" name="Группа 65"/>
          <p:cNvGrpSpPr/>
          <p:nvPr/>
        </p:nvGrpSpPr>
        <p:grpSpPr>
          <a:xfrm>
            <a:off x="714240" y="2214720"/>
            <a:ext cx="1857600" cy="1857240"/>
            <a:chOff x="714240" y="2214720"/>
            <a:chExt cx="1857600" cy="1857240"/>
          </a:xfrm>
        </p:grpSpPr>
        <p:grpSp>
          <p:nvGrpSpPr>
            <p:cNvPr id="266" name="Группа 66"/>
            <p:cNvGrpSpPr/>
            <p:nvPr/>
          </p:nvGrpSpPr>
          <p:grpSpPr>
            <a:xfrm>
              <a:off x="1073880" y="2456640"/>
              <a:ext cx="1497960" cy="1615320"/>
              <a:chOff x="1073880" y="2456640"/>
              <a:chExt cx="1497960" cy="1615320"/>
            </a:xfrm>
          </p:grpSpPr>
          <p:pic>
            <p:nvPicPr>
              <p:cNvPr id="267" name="Рисунок 68" descr="https://dytpsyholog.files.wordpress.com/2015/07/d196d181d182d0b5d180d0b8d0bad0b0.jpg"/>
              <p:cNvPicPr/>
              <p:nvPr/>
            </p:nvPicPr>
            <p:blipFill>
              <a:blip r:embed="rId1"/>
              <a:srcRect l="0" t="0" r="-94" b="69"/>
              <a:stretch/>
            </p:blipFill>
            <p:spPr>
              <a:xfrm>
                <a:off x="1073880" y="2456640"/>
                <a:ext cx="1438920" cy="14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Блок-схема: узел 69"/>
              <p:cNvSpPr/>
              <p:nvPr/>
            </p:nvSpPr>
            <p:spPr>
              <a:xfrm>
                <a:off x="2257200" y="3718440"/>
                <a:ext cx="314640" cy="353520"/>
              </a:xfrm>
              <a:prstGeom prst="flowChartConnector">
                <a:avLst/>
              </a:prstGeom>
              <a:solidFill>
                <a:srgbClr val="ff0000"/>
              </a:solidFill>
              <a:ln w="1260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Надпись 70"/>
            <p:cNvSpPr/>
            <p:nvPr/>
          </p:nvSpPr>
          <p:spPr>
            <a:xfrm>
              <a:off x="714240" y="2214720"/>
              <a:ext cx="535320" cy="61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0000"/>
                  </a:solidFill>
                  <a:latin typeface="Calibri"/>
                </a:rPr>
                <a:t>  </a:t>
              </a: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А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Группа 160"/>
          <p:cNvGrpSpPr/>
          <p:nvPr/>
        </p:nvGrpSpPr>
        <p:grpSpPr>
          <a:xfrm>
            <a:off x="6500880" y="2214720"/>
            <a:ext cx="1857240" cy="2071440"/>
            <a:chOff x="6500880" y="2214720"/>
            <a:chExt cx="1857240" cy="2071440"/>
          </a:xfrm>
        </p:grpSpPr>
        <p:sp>
          <p:nvSpPr>
            <p:cNvPr id="271" name="Прямоугольник 161"/>
            <p:cNvSpPr/>
            <p:nvPr/>
          </p:nvSpPr>
          <p:spPr>
            <a:xfrm>
              <a:off x="6500880" y="2214720"/>
              <a:ext cx="1840320" cy="194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Рисунок 162" descr="http://best-gif.narod.ru/images/zajac-ulybka68.gif"/>
            <p:cNvPicPr/>
            <p:nvPr/>
          </p:nvPicPr>
          <p:blipFill>
            <a:blip r:embed="rId2"/>
            <a:stretch/>
          </p:blipFill>
          <p:spPr>
            <a:xfrm>
              <a:off x="6629040" y="2275920"/>
              <a:ext cx="1551960" cy="16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Надпись 163"/>
            <p:cNvSpPr/>
            <p:nvPr/>
          </p:nvSpPr>
          <p:spPr>
            <a:xfrm>
              <a:off x="6543360" y="2255760"/>
              <a:ext cx="33372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И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Минус 164"/>
            <p:cNvSpPr/>
            <p:nvPr/>
          </p:nvSpPr>
          <p:spPr>
            <a:xfrm>
              <a:off x="7972920" y="3745440"/>
              <a:ext cx="385200" cy="54072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Группа 195"/>
          <p:cNvGrpSpPr/>
          <p:nvPr/>
        </p:nvGrpSpPr>
        <p:grpSpPr>
          <a:xfrm>
            <a:off x="785880" y="4500720"/>
            <a:ext cx="1928880" cy="1571400"/>
            <a:chOff x="785880" y="4500720"/>
            <a:chExt cx="1928880" cy="1571400"/>
          </a:xfrm>
        </p:grpSpPr>
        <p:sp>
          <p:nvSpPr>
            <p:cNvPr id="276" name="Прямоугольник 196"/>
            <p:cNvSpPr/>
            <p:nvPr/>
          </p:nvSpPr>
          <p:spPr>
            <a:xfrm>
              <a:off x="785880" y="4500720"/>
              <a:ext cx="1928880" cy="157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Рисунок 197" descr="http://2.bp.blogspot.com/-jcH7ONY7438/VBsdDTCp5VI/AAAAAAAAC2w/c-hH4vkMHWA/s1600/dental.jpg"/>
            <p:cNvPicPr/>
            <p:nvPr/>
          </p:nvPicPr>
          <p:blipFill>
            <a:blip r:embed="rId3"/>
            <a:stretch/>
          </p:blipFill>
          <p:spPr>
            <a:xfrm>
              <a:off x="848520" y="4550040"/>
              <a:ext cx="1785600" cy="14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Блок-схема: узел 198"/>
            <p:cNvSpPr/>
            <p:nvPr/>
          </p:nvSpPr>
          <p:spPr>
            <a:xfrm>
              <a:off x="2409840" y="5669280"/>
              <a:ext cx="197280" cy="2631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Надпись 199"/>
            <p:cNvSpPr/>
            <p:nvPr/>
          </p:nvSpPr>
          <p:spPr>
            <a:xfrm>
              <a:off x="839520" y="4533120"/>
              <a:ext cx="44352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250"/>
          <p:cNvGrpSpPr/>
          <p:nvPr/>
        </p:nvGrpSpPr>
        <p:grpSpPr>
          <a:xfrm>
            <a:off x="3571920" y="3071880"/>
            <a:ext cx="2071800" cy="1928880"/>
            <a:chOff x="3571920" y="3071880"/>
            <a:chExt cx="2071800" cy="1928880"/>
          </a:xfrm>
        </p:grpSpPr>
        <p:sp>
          <p:nvSpPr>
            <p:cNvPr id="281" name="Надпись 251"/>
            <p:cNvSpPr/>
            <p:nvPr/>
          </p:nvSpPr>
          <p:spPr>
            <a:xfrm>
              <a:off x="3660840" y="3071880"/>
              <a:ext cx="40536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Э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Рисунок 252" descr=""/>
            <p:cNvPicPr/>
            <p:nvPr/>
          </p:nvPicPr>
          <p:blipFill>
            <a:blip r:embed="rId4"/>
            <a:stretch/>
          </p:blipFill>
          <p:spPr>
            <a:xfrm>
              <a:off x="5251320" y="4707000"/>
              <a:ext cx="392400" cy="23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Рисунок 253" descr="http://thumbs.dreamstime.com/z/child-cartoon-screaming-megaphone-illustration-45746954.jpg"/>
            <p:cNvPicPr/>
            <p:nvPr/>
          </p:nvPicPr>
          <p:blipFill>
            <a:blip r:embed="rId5"/>
            <a:srcRect l="0" t="-486" r="-79" b="-148"/>
            <a:stretch/>
          </p:blipFill>
          <p:spPr>
            <a:xfrm>
              <a:off x="3571920" y="3390480"/>
              <a:ext cx="1721520" cy="161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Группа 186"/>
          <p:cNvGrpSpPr/>
          <p:nvPr/>
        </p:nvGrpSpPr>
        <p:grpSpPr>
          <a:xfrm>
            <a:off x="6429240" y="4500720"/>
            <a:ext cx="2071800" cy="1643040"/>
            <a:chOff x="6429240" y="4500720"/>
            <a:chExt cx="2071800" cy="1643040"/>
          </a:xfrm>
        </p:grpSpPr>
        <p:sp>
          <p:nvSpPr>
            <p:cNvPr id="285" name="Прямоугольник 187"/>
            <p:cNvSpPr/>
            <p:nvPr/>
          </p:nvSpPr>
          <p:spPr>
            <a:xfrm>
              <a:off x="6429240" y="4500720"/>
              <a:ext cx="2071800" cy="164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Рисунок 188" descr="http://prg.stihi.ru/pics/2013/03/19/11429.jpg"/>
            <p:cNvPicPr/>
            <p:nvPr/>
          </p:nvPicPr>
          <p:blipFill>
            <a:blip r:embed="rId6"/>
            <a:stretch/>
          </p:blipFill>
          <p:spPr>
            <a:xfrm>
              <a:off x="6688800" y="4561200"/>
              <a:ext cx="1640160" cy="155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Надпись 189"/>
            <p:cNvSpPr/>
            <p:nvPr/>
          </p:nvSpPr>
          <p:spPr>
            <a:xfrm>
              <a:off x="6532200" y="4561200"/>
              <a:ext cx="34668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Calibri"/>
                </a:rPr>
                <a:t>ы</a:t>
              </a:r>
              <a:r>
                <a:rPr b="1" lang="ru-RU" sz="2000" spc="-1" strike="noStrike">
                  <a:solidFill>
                    <a:srgbClr val="44546a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Блок-схема: узел 190"/>
            <p:cNvSpPr/>
            <p:nvPr/>
          </p:nvSpPr>
          <p:spPr>
            <a:xfrm>
              <a:off x="8106480" y="5910480"/>
              <a:ext cx="356400" cy="164160"/>
            </a:xfrm>
            <a:prstGeom prst="flowChartConnector">
              <a:avLst/>
            </a:prstGeom>
            <a:solidFill>
              <a:srgbClr val="ff0000"/>
            </a:solidFill>
            <a:ln w="1260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643280" y="3286080"/>
            <a:ext cx="2214720" cy="2079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2071800" cy="19465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3"/>
          <a:stretch/>
        </p:blipFill>
        <p:spPr>
          <a:xfrm>
            <a:off x="2428920" y="2786040"/>
            <a:ext cx="2128680" cy="20001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4" name="Рисунок 3" descr="http://www.tanasha.com.ua/wp-content/uploads/2016/02/%D0%B0%D1%831-5.png"/>
          <p:cNvPicPr/>
          <p:nvPr/>
        </p:nvPicPr>
        <p:blipFill>
          <a:blip r:embed="rId4"/>
          <a:srcRect l="0" t="0" r="157" b="59"/>
          <a:stretch/>
        </p:blipFill>
        <p:spPr>
          <a:xfrm>
            <a:off x="785880" y="2714760"/>
            <a:ext cx="1071360" cy="11491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8" descr="https://im1-tub-ru.yandex.net/i?id=3b88e4845fadb4e3b8ef198606e9333a-l&amp;n=13"/>
          <p:cNvPicPr/>
          <p:nvPr/>
        </p:nvPicPr>
        <p:blipFill>
          <a:blip r:embed="rId5"/>
          <a:srcRect l="0" t="0" r="276" b="229"/>
          <a:stretch/>
        </p:blipFill>
        <p:spPr>
          <a:xfrm>
            <a:off x="5214960" y="3786120"/>
            <a:ext cx="857160" cy="887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6"/>
          <a:stretch/>
        </p:blipFill>
        <p:spPr>
          <a:xfrm>
            <a:off x="6786720" y="4071960"/>
            <a:ext cx="1928520" cy="20127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2" descr="http://1onecall.ru/image/cache/data/Bruder/02-771-550x475-0-500x500.jpg"/>
          <p:cNvPicPr/>
          <p:nvPr/>
        </p:nvPicPr>
        <p:blipFill>
          <a:blip r:embed="rId7"/>
          <a:srcRect l="0" t="0" r="0" b="115"/>
          <a:stretch/>
        </p:blipFill>
        <p:spPr>
          <a:xfrm>
            <a:off x="7286760" y="4643280"/>
            <a:ext cx="1071360" cy="88740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13" descr="http://s017.radikal.ru/i410/1608/6c/8318a4933a45.jpg"/>
          <p:cNvPicPr/>
          <p:nvPr/>
        </p:nvPicPr>
        <p:blipFill>
          <a:blip r:embed="rId8"/>
          <a:srcRect l="0" t="0" r="0" b="210"/>
          <a:stretch/>
        </p:blipFill>
        <p:spPr>
          <a:xfrm>
            <a:off x="3143160" y="3357720"/>
            <a:ext cx="723960" cy="6476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14" descr=""/>
          <p:cNvPicPr/>
          <p:nvPr/>
        </p:nvPicPr>
        <p:blipFill>
          <a:blip r:embed="rId9"/>
          <a:stretch/>
        </p:blipFill>
        <p:spPr>
          <a:xfrm>
            <a:off x="96840" y="3828960"/>
            <a:ext cx="1738440" cy="181620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15" descr=""/>
          <p:cNvPicPr/>
          <p:nvPr/>
        </p:nvPicPr>
        <p:blipFill>
          <a:blip r:embed="rId10"/>
          <a:stretch/>
        </p:blipFill>
        <p:spPr>
          <a:xfrm>
            <a:off x="2060640" y="4389480"/>
            <a:ext cx="1730160" cy="18352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16" descr=""/>
          <p:cNvPicPr/>
          <p:nvPr/>
        </p:nvPicPr>
        <p:blipFill>
          <a:blip r:embed="rId11"/>
          <a:stretch/>
        </p:blipFill>
        <p:spPr>
          <a:xfrm>
            <a:off x="4334040" y="4968720"/>
            <a:ext cx="1828800" cy="182268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17" descr=""/>
          <p:cNvPicPr/>
          <p:nvPr/>
        </p:nvPicPr>
        <p:blipFill>
          <a:blip r:embed="rId12"/>
          <a:stretch/>
        </p:blipFill>
        <p:spPr>
          <a:xfrm>
            <a:off x="6248520" y="5681520"/>
            <a:ext cx="17859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опой гласные звуки И,У,И,О,А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7" name="Содержимое 3" descr="https://ds05.infourok.ru/uploads/ex/07be/000faba5-3b673690/img12.jpg"/>
          <p:cNvPicPr/>
          <p:nvPr/>
        </p:nvPicPr>
        <p:blipFill>
          <a:blip r:embed="rId1"/>
          <a:srcRect l="0" t="0" r="-46" b="91"/>
          <a:stretch/>
        </p:blipFill>
        <p:spPr>
          <a:xfrm>
            <a:off x="500040" y="2786040"/>
            <a:ext cx="8001000" cy="3214800"/>
          </a:xfrm>
          <a:prstGeom prst="rect">
            <a:avLst/>
          </a:prstGeom>
          <a:ln w="0">
            <a:noFill/>
          </a:ln>
        </p:spPr>
      </p:pic>
      <p:sp>
        <p:nvSpPr>
          <p:cNvPr id="308" name="Овал 3"/>
          <p:cNvSpPr/>
          <p:nvPr/>
        </p:nvSpPr>
        <p:spPr>
          <a:xfrm>
            <a:off x="7929720" y="1285920"/>
            <a:ext cx="785520" cy="785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4"/>
          <p:cNvSpPr/>
          <p:nvPr/>
        </p:nvSpPr>
        <p:spPr>
          <a:xfrm>
            <a:off x="5715000" y="1500120"/>
            <a:ext cx="428760" cy="4287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5"/>
          <p:cNvSpPr/>
          <p:nvPr/>
        </p:nvSpPr>
        <p:spPr>
          <a:xfrm>
            <a:off x="7286760" y="1285920"/>
            <a:ext cx="428400" cy="785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6"/>
          <p:cNvSpPr/>
          <p:nvPr/>
        </p:nvSpPr>
        <p:spPr>
          <a:xfrm>
            <a:off x="4857840" y="1643040"/>
            <a:ext cx="714240" cy="214200"/>
          </a:xfrm>
          <a:prstGeom prst="rect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"/>
          <p:cNvSpPr/>
          <p:nvPr/>
        </p:nvSpPr>
        <p:spPr>
          <a:xfrm>
            <a:off x="6357960" y="1643040"/>
            <a:ext cx="714240" cy="214200"/>
          </a:xfrm>
          <a:prstGeom prst="rect">
            <a:avLst/>
          </a:prstGeom>
          <a:solidFill>
            <a:srgbClr val="ff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4" name="Picture 2" descr="https://i.ytimg.com/vi/tJRv9sWC9xk/maxresdefault.jpg"/>
          <p:cNvPicPr/>
          <p:nvPr/>
        </p:nvPicPr>
        <p:blipFill>
          <a:blip r:embed="rId1"/>
          <a:srcRect l="0" t="0" r="-16" b="-1526"/>
          <a:stretch/>
        </p:blipFill>
        <p:spPr>
          <a:xfrm>
            <a:off x="571680" y="928800"/>
            <a:ext cx="4101840" cy="287964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https://ds05.infourok.ru/uploads/ex/0f6d/0007c414-364b22e9/img11.jpg"/>
          <p:cNvPicPr/>
          <p:nvPr/>
        </p:nvPicPr>
        <p:blipFill>
          <a:blip r:embed="rId2"/>
          <a:srcRect l="0" t="0" r="9" b="-112"/>
          <a:stretch/>
        </p:blipFill>
        <p:spPr>
          <a:xfrm>
            <a:off x="4786200" y="3000240"/>
            <a:ext cx="39387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5214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Лягушка (улыбка)»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7" name="Picture 2" descr="b8d0c45ed284bd39589567815d3180efa0"/>
          <p:cNvPicPr/>
          <p:nvPr/>
        </p:nvPicPr>
        <p:blipFill>
          <a:blip r:embed="rId1"/>
          <a:stretch/>
        </p:blipFill>
        <p:spPr>
          <a:xfrm>
            <a:off x="2378160" y="3718080"/>
            <a:ext cx="1260360" cy="1330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000080" y="4929120"/>
            <a:ext cx="61437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ем мы лягушкам: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ем губы прямо к ушк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4143240" y="1357200"/>
            <a:ext cx="3857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гивание губ в улыбке и удерживание несколько секунд в этом поло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6" descr="https://ds04.infourok.ru/uploads/ex/0c5b/000e77c2-70af9409/img7.jpg"/>
          <p:cNvPicPr/>
          <p:nvPr/>
        </p:nvPicPr>
        <p:blipFill>
          <a:blip r:embed="rId2"/>
          <a:srcRect l="0" t="0" r="-159" b="-14"/>
          <a:stretch/>
        </p:blipFill>
        <p:spPr>
          <a:xfrm>
            <a:off x="1214280" y="1143000"/>
            <a:ext cx="21434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14240" y="4428720"/>
            <a:ext cx="52149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подражать слону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ы «хоботком» тяну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2" name="Picture 2" descr="https://semyaivera.ru/wp-content/uploads/2020/11/uprazhnenie-hobotok.jpg"/>
          <p:cNvPicPr/>
          <p:nvPr/>
        </p:nvPicPr>
        <p:blipFill>
          <a:blip r:embed="rId1"/>
          <a:stretch/>
        </p:blipFill>
        <p:spPr>
          <a:xfrm>
            <a:off x="428760" y="1500120"/>
            <a:ext cx="3290760" cy="28576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540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Слоник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4143240" y="1285920"/>
            <a:ext cx="32148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гивание губ вперед и удерживание несколько секунд в этом полож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14240" y="4786200"/>
            <a:ext cx="578664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5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дул воздушный шари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ил его комарик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нул шарик. Не беда!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шар надую я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6760" y="1142640"/>
            <a:ext cx="66438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дуть щеки и «лопнуть»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, нажав пальчиками.</a:t>
            </a:r>
            <a:br>
              <a:rPr sz="3000"/>
            </a:br>
            <a:endParaRPr b="0" lang="en-US" sz="3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Прямоугольник 7"/>
          <p:cNvSpPr/>
          <p:nvPr/>
        </p:nvSpPr>
        <p:spPr>
          <a:xfrm>
            <a:off x="1785960" y="28584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р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" descr="img7"/>
          <p:cNvPicPr/>
          <p:nvPr/>
        </p:nvPicPr>
        <p:blipFill>
          <a:blip r:embed="rId1"/>
          <a:srcRect l="0" t="0" r="48" b="-13"/>
          <a:stretch/>
        </p:blipFill>
        <p:spPr>
          <a:xfrm>
            <a:off x="2000160" y="2000160"/>
            <a:ext cx="278604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Ц ЕЛЬ АРТИКУЛЯЦИОННОЙ ГИМНАСТИК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2071440"/>
            <a:ext cx="87152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полноценных движений и определенных положений органов артикуляционного аппарата, необходимых для правильного произношения зву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6" descr="https://avatars.mds.yandex.net/get-zen_doc/1875160/pub_5ff8a15abb14d54ffb821e37_5ff8a998bb14d54ffb909cff/scale_1200"/>
          <p:cNvPicPr/>
          <p:nvPr/>
        </p:nvPicPr>
        <p:blipFill>
          <a:blip r:embed="rId1"/>
          <a:stretch/>
        </p:blipFill>
        <p:spPr>
          <a:xfrm>
            <a:off x="2286000" y="4000680"/>
            <a:ext cx="4797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6114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Бегемотик»  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40" y="1214280"/>
            <a:ext cx="55720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крывание  и     закрывание рт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Рот пошире открываем,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гемотиков играем: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раскроем ротик,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голодный бегемотик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1" name="Picture 5" descr="6"/>
          <p:cNvPicPr/>
          <p:nvPr/>
        </p:nvPicPr>
        <p:blipFill>
          <a:blip r:embed="rId1"/>
          <a:srcRect l="0" t="0" r="-533" b="14"/>
          <a:stretch/>
        </p:blipFill>
        <p:spPr>
          <a:xfrm>
            <a:off x="1071720" y="2214720"/>
            <a:ext cx="4714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61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«Орешки»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 щелкает орешки.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 дубе без всякой спеш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%25D0%25B1%25D0%25B5%25D0%25BB%25D0%25BA%25D0%25B0%2B%25D0%25BE%25D1%2580%25D0%25B5%25D1%2588%25D0%25B5%25D0%25BA"/>
          <p:cNvPicPr/>
          <p:nvPr/>
        </p:nvPicPr>
        <p:blipFill>
          <a:blip r:embed="rId1"/>
          <a:srcRect l="0" t="0" r="-3611" b="61"/>
          <a:stretch/>
        </p:blipFill>
        <p:spPr>
          <a:xfrm>
            <a:off x="1285920" y="2357280"/>
            <a:ext cx="4786200" cy="278640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4"/>
          <p:cNvSpPr/>
          <p:nvPr/>
        </p:nvSpPr>
        <p:spPr>
          <a:xfrm>
            <a:off x="428760" y="1000080"/>
            <a:ext cx="6715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переменное упираться кончиком языка в то правую, то в левую щеку при закрытом р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(С, З, Ц)</a:t>
            </a:r>
            <a:r>
              <a:rPr b="1" i="1" lang="ru-RU" sz="20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8608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5429160" y="357192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214280" y="2857680"/>
            <a:ext cx="30258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6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Мост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з положения «Забор» выполнить упражнение «Окно». Расположить язык за нижними резцами. Удержать под счет до 5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4572000" y="3143160"/>
            <a:ext cx="3463920" cy="2017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2430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1680" y="785880"/>
            <a:ext cx="82864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ВИСТЯЩИХ ЗВУКОВ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Холодный ветер» 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Мост» вернуться к упражнению «Забор» и подуть на язык. Рука должна ощущать холодную струю воздуха. 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7" name="Рисунок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57160" y="3071880"/>
            <a:ext cx="3714840" cy="26287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https://cf2.ppt-online.org/files2/slide/x/XUd9HmLxAtznZIJFyK3P4BbuNjg2MiSCEosOTpwQl/slide-10.jpg"/>
          <p:cNvPicPr/>
          <p:nvPr/>
        </p:nvPicPr>
        <p:blipFill>
          <a:blip r:embed="rId2"/>
          <a:srcRect l="0" t="0" r="-53" b="-53"/>
          <a:stretch/>
        </p:blipFill>
        <p:spPr>
          <a:xfrm>
            <a:off x="5072040" y="3214800"/>
            <a:ext cx="3206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 ШИПЯЩИХ ЗВУКОВ  (Ш,Ж,Щ,Ч)</a:t>
            </a:r>
            <a:br>
              <a:rPr sz="20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</a:t>
            </a:r>
            <a:r>
              <a:rPr b="0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1480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5429160" y="371484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1285920" y="3000240"/>
            <a:ext cx="30258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Мост» </a:t>
            </a:r>
            <a:br>
              <a:rPr sz="20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выполнить упражнение «Окно». Расположить язык за нижними резцами. Удержать под счет до 5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572000" y="3143160"/>
            <a:ext cx="3463920" cy="2017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1214280" y="2571840"/>
            <a:ext cx="2430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я «Лопата», «Лопата копает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языка «Мост» выдвинуть язык на нижнюю губу. Язык должен быть спокойным и широким. Нижняя губа не должна подворачиваться, верхняя должна обнажать зубы. Удержать под счет до 5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Лопата» поднять широкий кончик языка вверх. Выполнить упражнение в медленном темпе 3—4 раза. Кончик языка загибается вверх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214280" y="3786120"/>
            <a:ext cx="1893960" cy="226224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4" descr="https://nukadeti.ru/content/images/essence/color/2006/3183.jpg"/>
          <p:cNvPicPr/>
          <p:nvPr/>
        </p:nvPicPr>
        <p:blipFill>
          <a:blip r:embed="rId2"/>
          <a:stretch/>
        </p:blipFill>
        <p:spPr>
          <a:xfrm>
            <a:off x="5500800" y="4286160"/>
            <a:ext cx="20541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85723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РТИКУЛЯЦИОННАЯ ГИМНАСТИКА НЕОБХОДИМА ДЛ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готовки речевых органов к постановке звук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нировки мышц щек, губ, язык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ния речевых наруш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s://ds02.infourok.ru/uploads/ex/062a/0001a051-f7723375/img16.jpg"/>
          <p:cNvPicPr/>
          <p:nvPr/>
        </p:nvPicPr>
        <p:blipFill>
          <a:blip r:embed="rId1"/>
          <a:stretch/>
        </p:blipFill>
        <p:spPr>
          <a:xfrm>
            <a:off x="5143680" y="2928960"/>
            <a:ext cx="3500280" cy="27147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44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Вкусное варенье»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из положения «Лопата копает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й язык поднять к верхней губе и выполнить облизывающие движения сверху вниз 2—3 раза в медленном темпе. Движения языка сверху вниз по верхней губе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1116000" y="2768760"/>
            <a:ext cx="2664000" cy="3157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56840" y="2928960"/>
            <a:ext cx="3467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ШИПЯЩИХ ЗВУКОВ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Теплый ветер» 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Вкусное варенье» убрать язык за верхние зубы и образовать щель с альвеолами. Попросить ребенка подуть на широкий язык. Растянуть губы в улыбке. Рука должна ощутить теплую воздушную струю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Рисунок 6" descr="https://ds02.infourok.ru/uploads/ex/0781/00069730-a892283d/img8.jpg"/>
          <p:cNvPicPr/>
          <p:nvPr/>
        </p:nvPicPr>
        <p:blipFill>
          <a:blip r:embed="rId1"/>
          <a:srcRect l="0" t="0" r="32" b="-38"/>
          <a:stretch/>
        </p:blipFill>
        <p:spPr>
          <a:xfrm>
            <a:off x="3143160" y="3071880"/>
            <a:ext cx="3286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32968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Забор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просим ребенка максимально растянуть губы (улыбнуться), показать верхние и нижние зубы. Верхние зубы должны находиться напротив нижних. Следить, чтобы ребенок не морщил нос. Удержать под счет до 5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3285720"/>
            <a:ext cx="82296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143000" y="3000240"/>
            <a:ext cx="2925720" cy="2830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http://forum.plesetzk.ru/download/file.php?id=5938&amp;sid=c102834f97022d07ba8feadecc8a3962"/>
          <p:cNvPicPr/>
          <p:nvPr/>
        </p:nvPicPr>
        <p:blipFill>
          <a:blip r:embed="rId2"/>
          <a:stretch/>
        </p:blipFill>
        <p:spPr>
          <a:xfrm>
            <a:off x="5000760" y="3214800"/>
            <a:ext cx="334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Окно»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Забор» медленно открывать рот. Верхние и нижние зубы должны быть видны. Удержать под счет до 5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5429160" y="3929040"/>
            <a:ext cx="2190960" cy="1839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1285920" y="3000240"/>
            <a:ext cx="30258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5840" y="907920"/>
            <a:ext cx="8572320" cy="20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Парус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Мост» широкий язык поднимается к верхним резцам и упирается в альвеолы. Следить, чтобы язык не провисал, а был напряженным и широким, определялась подъязычная связка. Удержать под счет до 5. Язык поднят кверху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2523960" cy="3286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5572080" y="3214800"/>
            <a:ext cx="2003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Лошадка»</a:t>
            </a:r>
            <a:br>
              <a:rPr sz="2000"/>
            </a:br>
            <a:br>
              <a:rPr sz="2000"/>
            </a:br>
            <a:r>
              <a:rPr b="0" i="1" lang="ru-RU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ожения «Парус» при широко открытом рте цокать языком. Челюсть неподвижна. Язык за верхними зубами. Рука держит подбородок, чтобы он не двигался во время щелканья.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826920" y="2928960"/>
            <a:ext cx="2616480" cy="3419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https://ds05.infourok.ru/uploads/ex/0639/000d4ca8-6feeb274/img10.jpg"/>
          <p:cNvPicPr/>
          <p:nvPr/>
        </p:nvPicPr>
        <p:blipFill>
          <a:blip r:embed="rId2"/>
          <a:srcRect l="0" t="0" r="103" b="81"/>
          <a:stretch/>
        </p:blipFill>
        <p:spPr>
          <a:xfrm>
            <a:off x="5292720" y="3141720"/>
            <a:ext cx="228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Содержимое 3" descr="https://thepresentation.ru/img/tmb/4/346984/dd8d05b0ac10e84eb2b039ac63509c73-800x.jpg"/>
          <p:cNvPicPr/>
          <p:nvPr/>
        </p:nvPicPr>
        <p:blipFill>
          <a:blip r:embed="rId1"/>
          <a:srcRect l="0" t="0" r="-22" b="-139"/>
          <a:stretch/>
        </p:blipFill>
        <p:spPr>
          <a:xfrm>
            <a:off x="1000080" y="2571840"/>
            <a:ext cx="3259080" cy="31096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6760" y="392040"/>
            <a:ext cx="8048520" cy="24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ОМПЛЕКС УПРАЖНЕНИЙ ДЛЯ ВЫРАБОТКИ ПРАВИЛЬНОГО ПРОИЗНОШЕНИЯ СОНОРНЫХ ЗВУКОВ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пражнение «Грибок» 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ческие рекомендации: улыбнуться, широко открыть рот, присосать язык к небу, чтобы подъязычная связка была натянута. Удерживать в таком положении 5-7 секунд.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4" name="Picture 6" descr="https://ds02.infourok.ru/uploads/ex/1074/0002f6a3-a8b581ba/hello_html_m76a2db4b.jpg"/>
          <p:cNvPicPr/>
          <p:nvPr/>
        </p:nvPicPr>
        <p:blipFill>
          <a:blip r:embed="rId2"/>
          <a:srcRect l="0" t="0" r="0" b="-105"/>
          <a:stretch/>
        </p:blipFill>
        <p:spPr>
          <a:xfrm>
            <a:off x="5572080" y="3143160"/>
            <a:ext cx="187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Умное Зеркало АЛМ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86" name="Рисунок 4" descr="изображение товара умное зеркало алма зазеркалье Умное Зеркало АЛМА Зазеркалье"/>
          <p:cNvPicPr/>
          <p:nvPr/>
        </p:nvPicPr>
        <p:blipFill>
          <a:blip r:embed="rId1"/>
          <a:stretch/>
        </p:blipFill>
        <p:spPr>
          <a:xfrm>
            <a:off x="4857840" y="3500280"/>
            <a:ext cx="3213000" cy="24321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изображение товара умное зеркало алма зазеркалье Умное Зеркало АЛМА Зазеркалье"/>
          <p:cNvPicPr/>
          <p:nvPr/>
        </p:nvPicPr>
        <p:blipFill>
          <a:blip r:embed="rId2"/>
          <a:stretch/>
        </p:blipFill>
        <p:spPr>
          <a:xfrm>
            <a:off x="714240" y="2286000"/>
            <a:ext cx="357516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0012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аким образом, систематическое выполнение несложных упражнений из комплекса артикуляционной гимнастики помогает подготовить детский артикуляционный аппарат к правильному произнесению звуков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1.Буйко В.«Чудо-обучайка: речевая моторика, речевое дыхание, дикция» Для детей 3-6 лет.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. Буденная Т.В. Логопедическая гимнастика: Методическое пособие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3. Пожиленко Е. А. Артикуляционная гимнастика: методические рекомендации по развитию моторики, дыхания и голоса у детей дошкольного возраста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4.Крупенчук О.И. Гимнастика для язычка  и пальчиков девочек и мальчиков.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5.Анищенкова Е. С. Артикуляционная гимнастика для развития речи дошкольников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6.Куликовская Т. А. Артикуляционная гимнастика в стихах и картинках. Пособие для логопедов, воспитателей и родителей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7. Костыгина В. Н. Тру-ля-ля Артикуляционная гимнастика. </a:t>
            </a:r>
            <a:br>
              <a:rPr sz="2000"/>
            </a:br>
            <a:r>
              <a:rPr b="0" lang="ru-RU" sz="2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8.  Батяева С.В. Логопедическая сказка. «Приключения зайчонка Кузи».</a:t>
            </a:r>
            <a:br>
              <a:rPr sz="20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1" name="Рисунок 2" descr=""/>
          <p:cNvPicPr/>
          <p:nvPr/>
        </p:nvPicPr>
        <p:blipFill>
          <a:blip r:embed="rId1"/>
          <a:srcRect l="0" t="0" r="74" b="52"/>
          <a:stretch/>
        </p:blipFill>
        <p:spPr>
          <a:xfrm>
            <a:off x="3143160" y="5286240"/>
            <a:ext cx="22860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68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СТАВЛЯЮЩИЕ «ПРАВИЛЬНОГО» ВЫПОЛНЕНИЯ АРТИКУЛЯЦИОННОГО ДВИЖ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500200"/>
            <a:ext cx="82296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оч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лавно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стойчивый переход от одного движения к другом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новной принцип: от простого к сложном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714240" y="278604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https://cf2.ppt-online.org/files2/slide/7/7lubWPzgJBU58S2rGc0Hij39kwaXVLyDtNvTnhRZ6/slide-8.jpg"/>
          <p:cNvPicPr/>
          <p:nvPr/>
        </p:nvPicPr>
        <p:blipFill>
          <a:blip r:embed="rId2"/>
          <a:stretch/>
        </p:blipFill>
        <p:spPr>
          <a:xfrm>
            <a:off x="1143000" y="571680"/>
            <a:ext cx="6643800" cy="45720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714240" y="5214960"/>
            <a:ext cx="75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знакомить детей с органами артикуляции и их названиями. Предлагается рассмотреть рисунки органов артикуляции, отображения в зеркале, муля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О Веселом Язычке» Н.В.Новоторце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а «О Веселом Язычке» М.Г.Генинг и Н.А.Герман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весёлом язычке» М.А.Поваляева, Справочник логопе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о Веселом Язычке»(+ развитие голоса), А.С.Герасимова и др. «Программа развития и обучения дошкольника»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https://myslide.ru/documents_3/ac7a7eb48473d3238027ce25d2502094/img2.jpg"/>
          <p:cNvPicPr/>
          <p:nvPr/>
        </p:nvPicPr>
        <p:blipFill>
          <a:blip r:embed="rId1"/>
          <a:srcRect l="0" t="0" r="33" b="-71"/>
          <a:stretch/>
        </p:blipFill>
        <p:spPr>
          <a:xfrm>
            <a:off x="357120" y="714240"/>
            <a:ext cx="50468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ЭТАПЫ ВЫПОЛНЕНИЯ АРТИКУЛЯЦИОННОЙ ГИМНАСТИКИ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142720"/>
            <a:ext cx="88581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– перед зеркал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– без зеркала по образцу, по подражанию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– по инструкции, без зеркала и образц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– синхронно с движением рук – биоэнергопластик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Рисунок 4" descr="https://superlogoped.com/assets/zhurnal/%D0%9B%D0%BE%D0%B3%D0%BE%D0%BF%D0%B5%D0%B4%20%D1%80%D0%B5%D0%B1%D1%91%D0%BD%D0%BE%D0%BA/238A4215_1200x0_105.jpg"/>
          <p:cNvPicPr/>
          <p:nvPr/>
        </p:nvPicPr>
        <p:blipFill>
          <a:blip r:embed="rId1"/>
          <a:stretch/>
        </p:blipFill>
        <p:spPr>
          <a:xfrm>
            <a:off x="571680" y="4572000"/>
            <a:ext cx="192852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https://www.hosthealthcare.com/wp-content/uploads/2020/12/shutterstock_627156932.jpg"/>
          <p:cNvPicPr/>
          <p:nvPr/>
        </p:nvPicPr>
        <p:blipFill>
          <a:blip r:embed="rId2"/>
          <a:stretch/>
        </p:blipFill>
        <p:spPr>
          <a:xfrm>
            <a:off x="3143160" y="5000760"/>
            <a:ext cx="1785960" cy="1287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https://st2.depositphotos.com/1200816/9697/i/950/depositphotos_96977682-stock-photo-woman-looking-out-of-the.jpg"/>
          <p:cNvPicPr/>
          <p:nvPr/>
        </p:nvPicPr>
        <p:blipFill>
          <a:blip r:embed="rId3"/>
          <a:stretch/>
        </p:blipFill>
        <p:spPr>
          <a:xfrm>
            <a:off x="5194440" y="4340160"/>
            <a:ext cx="1395360" cy="12254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7" descr="https://ds05.infourok.ru/uploads/ex/0326/000d360d-8c86e0ef/img6.jpg"/>
          <p:cNvPicPr/>
          <p:nvPr/>
        </p:nvPicPr>
        <p:blipFill>
          <a:blip r:embed="rId4"/>
          <a:srcRect l="0" t="0" r="-25" b="0"/>
          <a:stretch/>
        </p:blipFill>
        <p:spPr>
          <a:xfrm>
            <a:off x="7000920" y="485784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ЕКОМЕНДАЦИИ ПО ПРОВЕДЕНИЮ АРТИКУЛЯЦИОННОЙ ГИМНАСТИКИ 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99800"/>
            <a:ext cx="797256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ежедневно (2-3 раза), чтобы вырабатываемые навыки закреплялис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упражнение имеет своё название, свой образ, повторяется по 5-7 раз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ледует предлагать более 5 упражнений за  один  раз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сидя перед зеркалом, ребенок должен хорошо видеть лицо взрослого, а также свое лицо, чтобы самостоятельно контролировать правильность выполнения упражнен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ая гимнастика организовывается под музыку, сч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ОРГАНИЗАЦИЯ ПРОВЕДЕНИЯ АРТИКУЛЯЦИОННОЙ ГИМНАСТИКИ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42856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рассказывает о предстоящем упражнении, используя игровые приемы, затем показывает выполнение упражн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ыполняет упражнение, а взрослый контролирует, дает инструкцию. Например: улыбнись, покажи зубы, приоткрой ро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8T14:57:10Z</dcterms:created>
  <dc:creator>Лилия</dc:creator>
  <dc:description/>
  <dc:language>en-US</dc:language>
  <cp:lastModifiedBy>Лиля</cp:lastModifiedBy>
  <dcterms:modified xsi:type="dcterms:W3CDTF">2022-03-27T07:26:59Z</dcterms:modified>
  <cp:revision>1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80000000000010291410207f7000400038000</vt:lpwstr>
  </property>
</Properties>
</file>