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BB2-40EE-404C-83FD-52F7EF9A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4D3-48F0-4EEB-B8C1-B2F3F9A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148-A436-48BE-9822-1A491BBC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273-91F7-47B3-A8F2-49A2CF7D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72A-4078-47FB-A0B4-E0B4ACAC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26E1-2AE5-4C45-850F-324E338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58EB-15B8-4FA2-A188-C890E57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72A4-A942-4C1C-A9EA-4D91BC01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278-0D4C-44E1-A321-D4C271F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795E-8B61-4A1B-9B3A-134F628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625-DE67-4DEC-AC82-5A06ADE8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434-15FC-4E50-B192-DDBB150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5B0-888E-406D-8493-719F9BE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87E-68DB-4D4C-8E6F-DDE0317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F910-3C28-4736-85DA-1B3304D9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72F-1997-42CB-9D88-1930315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3B4-68E1-4420-ABD5-D1E0E13F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D87A-8E7B-4CFE-B11B-B534E14A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0AF5-E427-4329-861E-EC5EFE4B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EC8B-7310-493C-A2D9-1BC4E410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4AAB-3B69-4664-9810-5223C00E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964B-9907-4BD6-A50A-8BC4A0A7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171-62DB-4342-BE32-92184609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6869-E240-440A-84CB-B129653E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3094-49F2-4647-93D6-37D87DB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9A5E-709D-4C99-A914-5B9124AA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0AA7-3F30-46A0-8526-4307CE1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6F050-5059-4921-9F09-3B83033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7DCB-DCEE-46AC-B0F7-1EFD6651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CC1C-CC42-4998-BAA0-0FBA7123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2C0E-FE41-4685-9CBA-1E7DD7BE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D2DE-1CFC-426E-AE1C-838EEC68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62EB-53F5-4122-8DD3-E0E308F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3EC-DE19-46BC-BC4D-3671CDD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15F9-D6B5-43D2-B86E-04C8E39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352F-E131-4C74-B13C-FEAB886F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4553-C2CD-4088-9CFD-23EBD055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A709-E66F-403C-8A88-DE0B3EB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B39C-6E41-4EE3-A33F-3915EFF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6706-E993-4C1C-8029-45805ED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7EF5-C1A9-4A01-AEA0-E57E6FB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E7FA-3419-4300-B276-B6EE0B42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E111-DE4B-4DBA-B170-A85EF753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DE7C-FFCB-41E9-A4D6-D892B18C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388-5CFC-40D8-8B87-FD0F7CB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1AFC-CB9F-419B-818A-52C4F98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B1C0-0B03-4F94-A1BE-23C1EE53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6A83-E44E-457F-95B3-84AFF80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F044-FED4-47EA-A906-74F0E52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DF34-6A3F-4B96-A646-7CE2DA03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5C02-CE23-42FF-9B37-F34EB8EF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9BA6-E8DD-455D-9399-32072CC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8ECB-152D-4736-9E32-E2D04EF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E6C20-218D-40F9-82B4-20F3ADA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3244-509E-4311-8535-0FB4BD75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513-0866-4C43-9776-F83DBCC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139E-C25A-4784-8208-4AFC5D10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BF13-4627-4572-B302-35291A32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194B-BC61-4E84-B3DA-518155DB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FDC2-8CB5-408F-8B31-DF8C55D8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797F-AE49-4F9F-A02E-F271541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F7383-B8F8-454C-8A52-DCD0A0EA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E8C3-9D53-4415-91F3-BFB6F92C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5C78-A3F0-404F-B564-E345C64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D368-09C6-48AB-ADAE-DB0F44E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9E2C-6A5D-479A-932F-486E3EFD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CB2-2AF3-41FA-8296-F36099E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C3A3-7D3B-4942-9AE3-87CB021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3736-F574-4538-9AD0-A6097D59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52B5-ACE9-4045-8BE9-25208A72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F08BF-1091-487D-9557-40DE16CE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EF35-CA7F-4E1F-8184-53A765A6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06FDF-DD7F-4EF8-82F3-42CE42F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269D-37C9-484D-B184-00152C9B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A201-6745-446B-84D9-DA9D194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A396-73A1-4364-AF80-19CD7605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A340-FD7C-4174-A355-9C61B49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3B4-CF53-45C6-B352-9628F58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1B7D1-35A2-4CDA-9B20-EA2F336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6F5E-37C0-4827-82B3-7E72806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6F41-814A-498C-9525-AD3DF5D2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A5C2-12C7-430F-BDA2-BF370C97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C9512-1D36-48E4-9919-3F76CBC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340-402F-41D7-A495-4DAFADB5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296E-C459-4F0A-832D-1ED34F28B9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1892-32B2-4BD3-A6FC-9D90F15825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5AA2-75D7-43CB-AEC2-C5C8BA75E2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D8E4-B70C-41B0-8FBE-0584711A4D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9DB-8659-4678-8AB0-0ADE32DE7F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F36-2611-4C46-9603-E5B63C9557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2C0E-A3FD-4BAB-8978-CBAC05E5FC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9200" y="12600"/>
            <a:ext cx="77742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РАЗВИТИЕ ОБЩЕСТВ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2050920" y="1730520"/>
            <a:ext cx="483264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хема 1" descr=""/>
          <p:cNvPicPr/>
          <p:nvPr/>
        </p:nvPicPr>
        <p:blipFill>
          <a:blip r:embed="rId1"/>
          <a:stretch/>
        </p:blipFill>
        <p:spPr>
          <a:xfrm>
            <a:off x="1103400" y="133200"/>
            <a:ext cx="6937200" cy="4518000"/>
          </a:xfrm>
          <a:prstGeom prst="rect">
            <a:avLst/>
          </a:prstGeom>
          <a:ln w="0">
            <a:noFill/>
          </a:ln>
        </p:spPr>
      </p:pic>
      <p:pic>
        <p:nvPicPr>
          <p:cNvPr id="362" name="Схема 2" descr=""/>
          <p:cNvPicPr/>
          <p:nvPr/>
        </p:nvPicPr>
        <p:blipFill>
          <a:blip r:embed="rId2"/>
          <a:stretch/>
        </p:blipFill>
        <p:spPr>
          <a:xfrm>
            <a:off x="609480" y="4565520"/>
            <a:ext cx="79250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Содержимое 2"/>
          <p:cNvSpPr/>
          <p:nvPr/>
        </p:nvSpPr>
        <p:spPr>
          <a:xfrm>
            <a:off x="250920" y="333360"/>
            <a:ext cx="8642160" cy="187164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изация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стадия планетарного развития, характеризующаяся возрастанием взаимовлияния стран и народ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250920" y="5084640"/>
            <a:ext cx="8642160" cy="15843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ьные проблемы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комплекс проблем человечества, от решения которых зависит его дальнейшая судьб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носка со стрелкой вверх 5"/>
          <p:cNvSpPr/>
          <p:nvPr/>
        </p:nvSpPr>
        <p:spPr>
          <a:xfrm>
            <a:off x="611280" y="2349360"/>
            <a:ext cx="8281800" cy="2159280"/>
          </a:xfrm>
          <a:prstGeom prst="upArrowCallout">
            <a:avLst>
              <a:gd name="adj1" fmla="val -23494"/>
              <a:gd name="adj2" fmla="val 25019"/>
              <a:gd name="adj3" fmla="val 17569"/>
              <a:gd name="adj4" fmla="val 50287"/>
            </a:avLst>
          </a:prstGeom>
          <a:solidFill>
            <a:srgbClr val="d7dde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ыделить плюсы и минусы глоб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одержимое 2"/>
          <p:cNvSpPr/>
          <p:nvPr/>
        </p:nvSpPr>
        <p:spPr>
          <a:xfrm>
            <a:off x="250920" y="115920"/>
            <a:ext cx="8642160" cy="15843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изация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стадия планетарного развития, характеризующаяся возрастанием взаимовлияния стран и народ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одержимое 2"/>
          <p:cNvSpPr/>
          <p:nvPr/>
        </p:nvSpPr>
        <p:spPr>
          <a:xfrm>
            <a:off x="250920" y="1844640"/>
            <a:ext cx="8642160" cy="15843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ьные проблемы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комплекс проблем человечества, от решения которых зависит его дальнейшая судьб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Схема 1" descr=""/>
          <p:cNvPicPr/>
          <p:nvPr/>
        </p:nvPicPr>
        <p:blipFill>
          <a:blip r:embed="rId1"/>
          <a:stretch/>
        </p:blipFill>
        <p:spPr>
          <a:xfrm>
            <a:off x="3273480" y="3359160"/>
            <a:ext cx="5711760" cy="359568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низ 2"/>
          <p:cNvSpPr/>
          <p:nvPr/>
        </p:nvSpPr>
        <p:spPr>
          <a:xfrm>
            <a:off x="5867280" y="2928960"/>
            <a:ext cx="100836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хема 1" descr=""/>
          <p:cNvPicPr/>
          <p:nvPr/>
        </p:nvPicPr>
        <p:blipFill>
          <a:blip r:embed="rId1"/>
          <a:stretch/>
        </p:blipFill>
        <p:spPr>
          <a:xfrm>
            <a:off x="2266920" y="0"/>
            <a:ext cx="6718320" cy="69548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173160" y="1413000"/>
            <a:ext cx="27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Arial"/>
              </a:rPr>
              <a:t>Глобальны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611280" y="1159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еждународные организации, участвующие в решении глобальных пробл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19572" t="2416" r="15027" b="2944"/>
          <a:stretch/>
        </p:blipFill>
        <p:spPr>
          <a:xfrm>
            <a:off x="395280" y="1887480"/>
            <a:ext cx="2592360" cy="2579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298680" y="1908000"/>
            <a:ext cx="2617920" cy="2617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6012000" y="1874880"/>
            <a:ext cx="2711160" cy="2711520"/>
          </a:xfrm>
          <a:prstGeom prst="rect">
            <a:avLst/>
          </a:prstGeom>
          <a:ln w="0">
            <a:noFill/>
          </a:ln>
        </p:spPr>
      </p:pic>
      <p:sp>
        <p:nvSpPr>
          <p:cNvPr id="376" name="Выноска со стрелкой вверх 2"/>
          <p:cNvSpPr/>
          <p:nvPr/>
        </p:nvSpPr>
        <p:spPr>
          <a:xfrm>
            <a:off x="108000" y="4365720"/>
            <a:ext cx="2895480" cy="2376360"/>
          </a:xfrm>
          <a:prstGeom prst="upArrowCallout">
            <a:avLst>
              <a:gd name="adj1" fmla="val 27079"/>
              <a:gd name="adj2" fmla="val 25001"/>
              <a:gd name="adj3" fmla="val 17569"/>
              <a:gd name="adj4" fmla="val 50287"/>
            </a:avLst>
          </a:prstGeom>
          <a:solidFill>
            <a:srgbClr val="d4ebf1"/>
          </a:solidFill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риродоохранная организация «Зеленый мир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носка со стрелкой вверх 8"/>
          <p:cNvSpPr/>
          <p:nvPr/>
        </p:nvSpPr>
        <p:spPr>
          <a:xfrm>
            <a:off x="3112920" y="4365720"/>
            <a:ext cx="2989440" cy="2376360"/>
          </a:xfrm>
          <a:prstGeom prst="upArrowCallout">
            <a:avLst>
              <a:gd name="adj1" fmla="val 27073"/>
              <a:gd name="adj2" fmla="val 25002"/>
              <a:gd name="adj3" fmla="val 17569"/>
              <a:gd name="adj4" fmla="val 50287"/>
            </a:avLst>
          </a:prstGeom>
          <a:solidFill>
            <a:srgbClr val="d4ebf1"/>
          </a:solidFill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риродоохранная организация «Всемирный фонд дикой природы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носка со стрелкой вверх 9"/>
          <p:cNvSpPr/>
          <p:nvPr/>
        </p:nvSpPr>
        <p:spPr>
          <a:xfrm>
            <a:off x="6213600" y="4365720"/>
            <a:ext cx="2808000" cy="2376360"/>
          </a:xfrm>
          <a:prstGeom prst="upArrowCallout">
            <a:avLst>
              <a:gd name="adj1" fmla="val 27071"/>
              <a:gd name="adj2" fmla="val 25000"/>
              <a:gd name="adj3" fmla="val 17569"/>
              <a:gd name="adj4" fmla="val 50287"/>
            </a:avLst>
          </a:prstGeom>
          <a:solidFill>
            <a:srgbClr val="d4ebf1"/>
          </a:solidFill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Международная организация «Врачи без границ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184464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кон ускорения исторического развития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а каждую последующую стадию развития у человечества уходит меньше времени чем на предыдущую (примерно в 34 раза по времени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321" name="Прямая со стрелкой 5"/>
          <p:cNvCxnSpPr/>
          <p:nvPr/>
        </p:nvCxnSpPr>
        <p:spPr>
          <a:xfrm flipV="1">
            <a:off x="684360" y="5660640"/>
            <a:ext cx="799200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Прямая со стрелкой 8"/>
          <p:cNvCxnSpPr/>
          <p:nvPr/>
        </p:nvCxnSpPr>
        <p:spPr>
          <a:xfrm flipH="1" flipV="1">
            <a:off x="684000" y="1412640"/>
            <a:ext cx="8640" cy="440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Прямая соединительная линия 23"/>
          <p:cNvSpPr/>
          <p:nvPr/>
        </p:nvSpPr>
        <p:spPr>
          <a:xfrm flipV="1">
            <a:off x="1187280" y="4527720"/>
            <a:ext cx="5883480" cy="41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Дуга 25"/>
          <p:cNvSpPr/>
          <p:nvPr/>
        </p:nvSpPr>
        <p:spPr>
          <a:xfrm rot="3732000">
            <a:off x="5228280" y="805680"/>
            <a:ext cx="2512800" cy="5222880"/>
          </a:xfrm>
          <a:custGeom>
            <a:avLst/>
            <a:gdLst/>
            <a:ahLst/>
            <a:rect l="l" t="t" r="r" b="b"/>
            <a:pathLst>
              <a:path stroke="0" w="2513012" h="5222875">
                <a:moveTo>
                  <a:pt x="1572442" y="83898"/>
                </a:moveTo>
                <a:cubicBezTo>
                  <a:pt x="2126325" y="382952"/>
                  <a:pt x="2513012" y="1422073"/>
                  <a:pt x="2513012" y="2611438"/>
                </a:cubicBezTo>
                <a:lnTo>
                  <a:pt x="1256506" y="2611438"/>
                </a:lnTo>
                <a:lnTo>
                  <a:pt x="1572442" y="83898"/>
                </a:lnTo>
                <a:close/>
              </a:path>
              <a:path fill="none" w="2513012" h="5222875">
                <a:moveTo>
                  <a:pt x="1572442" y="83898"/>
                </a:moveTo>
                <a:cubicBezTo>
                  <a:pt x="2126325" y="382952"/>
                  <a:pt x="2513012" y="1422073"/>
                  <a:pt x="2513012" y="261143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27"/>
          <p:cNvSpPr/>
          <p:nvPr/>
        </p:nvSpPr>
        <p:spPr>
          <a:xfrm>
            <a:off x="1187280" y="486900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8"/>
          <p:cNvSpPr/>
          <p:nvPr/>
        </p:nvSpPr>
        <p:spPr>
          <a:xfrm>
            <a:off x="2411280" y="47973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29"/>
          <p:cNvSpPr/>
          <p:nvPr/>
        </p:nvSpPr>
        <p:spPr>
          <a:xfrm>
            <a:off x="3517920" y="46990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30"/>
          <p:cNvSpPr/>
          <p:nvPr/>
        </p:nvSpPr>
        <p:spPr>
          <a:xfrm>
            <a:off x="4788000" y="462744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31"/>
          <p:cNvSpPr/>
          <p:nvPr/>
        </p:nvSpPr>
        <p:spPr>
          <a:xfrm>
            <a:off x="5886360" y="45543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32"/>
          <p:cNvSpPr/>
          <p:nvPr/>
        </p:nvSpPr>
        <p:spPr>
          <a:xfrm>
            <a:off x="6721560" y="449892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33"/>
          <p:cNvSpPr/>
          <p:nvPr/>
        </p:nvSpPr>
        <p:spPr>
          <a:xfrm>
            <a:off x="8067600" y="3699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34"/>
          <p:cNvSpPr/>
          <p:nvPr/>
        </p:nvSpPr>
        <p:spPr>
          <a:xfrm>
            <a:off x="8637480" y="2978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5"/>
          <p:cNvSpPr/>
          <p:nvPr/>
        </p:nvSpPr>
        <p:spPr>
          <a:xfrm>
            <a:off x="97164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л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6"/>
          <p:cNvSpPr/>
          <p:nvPr/>
        </p:nvSpPr>
        <p:spPr>
          <a:xfrm>
            <a:off x="2343240" y="5013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з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7"/>
          <p:cNvSpPr/>
          <p:nvPr/>
        </p:nvSpPr>
        <p:spPr>
          <a:xfrm>
            <a:off x="3495240" y="4869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8"/>
          <p:cNvSpPr/>
          <p:nvPr/>
        </p:nvSpPr>
        <p:spPr>
          <a:xfrm rot="19141200">
            <a:off x="4419360" y="45511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ронзов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9"/>
          <p:cNvSpPr/>
          <p:nvPr/>
        </p:nvSpPr>
        <p:spPr>
          <a:xfrm>
            <a:off x="5367960" y="49417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ез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0"/>
          <p:cNvSpPr/>
          <p:nvPr/>
        </p:nvSpPr>
        <p:spPr>
          <a:xfrm>
            <a:off x="4797720" y="360504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1"/>
          <p:cNvSpPr/>
          <p:nvPr/>
        </p:nvSpPr>
        <p:spPr>
          <a:xfrm>
            <a:off x="5460480" y="304812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510880" y="24084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т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4"/>
          <p:cNvSpPr/>
          <p:nvPr/>
        </p:nvSpPr>
        <p:spPr>
          <a:xfrm>
            <a:off x="4356000" y="5805360"/>
            <a:ext cx="2519640" cy="368280"/>
          </a:xfrm>
          <a:prstGeom prst="rect">
            <a:avLst/>
          </a:prstGeom>
          <a:solidFill>
            <a:srgbClr val="c6b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Век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5"/>
          <p:cNvSpPr/>
          <p:nvPr/>
        </p:nvSpPr>
        <p:spPr>
          <a:xfrm>
            <a:off x="1187280" y="5805360"/>
            <a:ext cx="3313440" cy="368280"/>
          </a:xfrm>
          <a:prstGeom prst="rect">
            <a:avLst/>
          </a:prstGeom>
          <a:solidFill>
            <a:srgbClr val="c6b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Камен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47"/>
          <p:cNvSpPr/>
          <p:nvPr/>
        </p:nvSpPr>
        <p:spPr>
          <a:xfrm>
            <a:off x="4870440" y="521352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8"/>
          <p:cNvSpPr/>
          <p:nvPr/>
        </p:nvSpPr>
        <p:spPr>
          <a:xfrm>
            <a:off x="722160" y="205416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ровень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49"/>
          <p:cNvSpPr/>
          <p:nvPr/>
        </p:nvSpPr>
        <p:spPr>
          <a:xfrm>
            <a:off x="6804000" y="522936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6048360" cy="114300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Разные народы развиваются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 разной скоростью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C:\Users\User\Desktop\a35064aed652.jpg"/>
          <p:cNvPicPr/>
          <p:nvPr/>
        </p:nvPicPr>
        <p:blipFill>
          <a:blip r:embed="rId1"/>
          <a:stretch/>
        </p:blipFill>
        <p:spPr>
          <a:xfrm>
            <a:off x="250920" y="1998720"/>
            <a:ext cx="428148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8" name="Picture 3" descr="C:\Users\User\Desktop\12.jpg"/>
          <p:cNvPicPr/>
          <p:nvPr/>
        </p:nvPicPr>
        <p:blipFill>
          <a:blip r:embed="rId2"/>
          <a:stretch/>
        </p:blipFill>
        <p:spPr>
          <a:xfrm>
            <a:off x="4643280" y="1989000"/>
            <a:ext cx="4267440" cy="316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287280" y="0"/>
            <a:ext cx="8528040" cy="4425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163240"/>
            <a:ext cx="3983040" cy="443412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Направление развития по нисходящей линии, для которого характерен переход от высшего к низшему, от лучшего к худшему, к деграда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4849920" y="2154240"/>
            <a:ext cx="3981240" cy="443232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Направление развития по восходящей линии, для которого характерен переход от низшего к высшему, от простого к более слож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58920" y="333000"/>
            <a:ext cx="8424720" cy="410364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Социальный прогресс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– глобальный всемирно-исторический процесс восхождения человеческих обществ от примитивных состояний (дикости) к вершинам цивилизованного состояния, основанного на высших научно-технических, политико-правовых, нравственно-этических достижениях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1403280" y="44280"/>
            <a:ext cx="61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ИСТОЧНИКИ ПРОГРЕ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хема 2" descr=""/>
          <p:cNvPicPr/>
          <p:nvPr/>
        </p:nvPicPr>
        <p:blipFill>
          <a:blip r:embed="rId1"/>
          <a:stretch/>
        </p:blipFill>
        <p:spPr>
          <a:xfrm>
            <a:off x="244440" y="1139760"/>
            <a:ext cx="866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Схема 1" descr=""/>
          <p:cNvPicPr/>
          <p:nvPr/>
        </p:nvPicPr>
        <p:blipFill>
          <a:blip r:embed="rId1"/>
          <a:stretch/>
        </p:blipFill>
        <p:spPr>
          <a:xfrm>
            <a:off x="755640" y="1127160"/>
            <a:ext cx="8785080" cy="5614920"/>
          </a:xfrm>
          <a:prstGeom prst="rect">
            <a:avLst/>
          </a:prstGeom>
          <a:ln w="0">
            <a:noFill/>
          </a:ln>
        </p:spPr>
      </p:pic>
      <p:sp>
        <p:nvSpPr>
          <p:cNvPr id="356" name="Заголовок 1"/>
          <p:cNvSpPr/>
          <p:nvPr/>
        </p:nvSpPr>
        <p:spPr>
          <a:xfrm>
            <a:off x="179280" y="189000"/>
            <a:ext cx="590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КРИТЕРИИ ПРОГРЕ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Заголовок 1"/>
          <p:cNvSpPr/>
          <p:nvPr/>
        </p:nvSpPr>
        <p:spPr>
          <a:xfrm>
            <a:off x="196920" y="68400"/>
            <a:ext cx="878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Corbel"/>
                <a:ea typeface="Arial"/>
              </a:rPr>
              <a:t>ФОРМЫ СОЦИАЛЬНЫХ ИЗМЕНЕ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Схема 3" descr=""/>
          <p:cNvPicPr/>
          <p:nvPr/>
        </p:nvPicPr>
        <p:blipFill>
          <a:blip r:embed="rId1"/>
          <a:stretch/>
        </p:blipFill>
        <p:spPr>
          <a:xfrm>
            <a:off x="396720" y="1347840"/>
            <a:ext cx="83505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одержимое 2"/>
          <p:cNvSpPr/>
          <p:nvPr/>
        </p:nvSpPr>
        <p:spPr>
          <a:xfrm>
            <a:off x="287280" y="333360"/>
            <a:ext cx="8569440" cy="205092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Реформ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"/>
              </a:rPr>
              <a:t> – усовершенствование в какой-либо сфере общественной жизни, не затрагивающее фундаментальные основы существующего социального стр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одержимое 2"/>
          <p:cNvSpPr/>
          <p:nvPr/>
        </p:nvSpPr>
        <p:spPr>
          <a:xfrm>
            <a:off x="287280" y="2540160"/>
            <a:ext cx="8569440" cy="38415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Революци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"/>
              </a:rPr>
              <a:t> – коренное, качественное изменение всех или большинства сторон общественной жизни, затрагивающее основы существующего социального стр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5:00Z</dcterms:created>
  <dc:creator>User</dc:creator>
  <dc:description/>
  <dc:language>en-US</dc:language>
  <cp:lastModifiedBy>lenovo</cp:lastModifiedBy>
  <dcterms:modified xsi:type="dcterms:W3CDTF">2022-05-02T04:22:33Z</dcterms:modified>
  <cp:revision>42</cp:revision>
  <dc:subject/>
  <dc:title>Обществознание. 8 класс. Учитель Гришакина О.П. Электронные материалы  урокам. 5-й урок.   Тема урока: «СОЦИАЛЬНЫЙ ПРОГРЕСС И РАЗВИТИЕ ОБЩЕСТВА»</dc:title>
</cp:coreProperties>
</file>