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AFC-625C-444E-830F-E7AD4A97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CB6-5E77-4E5E-B371-2944BB19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CE51-3BC6-4368-8781-59FCCFE2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C55-76EE-45E5-9E2C-30FDFF86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BCDE-0EF0-49E4-9E6F-5F6BACEB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0DC8-4177-4F4D-90A8-66C5528E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66FD-8B9F-4CC5-AF15-780D3887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2D56-FC05-4AFB-858D-3396B8E2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10EA-2E8A-4F15-A6E2-0B5C7BC5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F95B-5659-497B-8511-DC9A4C48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56A3-F0E5-4C78-AAC6-229D7C8C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76E-2BBC-4620-8ECA-0495A668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6E6E-4D90-4F83-9AAC-3AB28EB0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2790-9D76-47CB-8AAE-6157230D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5135-5B11-4695-9986-B10C892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88CE-5589-4DE2-A856-9DA185C8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3AC3-E18E-4C22-A705-EDBDC939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38ADC-7C74-454A-96B8-AB719673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04E0-A35A-4956-A27C-B67714E6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98380-0159-428A-82E4-A8CA72E4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C6170-BB95-4B91-AD2D-22CA678D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85B98-9C31-46BF-B831-6D840CE7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57BD-C157-4520-B5F4-918DAFA3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07FF-B914-45D1-A690-BDD6A49E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BF87F-8461-4C8C-89B1-41230F74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10897-1CB4-499E-8EF7-C17F1CB5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E5A0-CDCC-4470-BF8D-EC6023D9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B2981-D90A-4ED2-8025-860D5411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CD239-6771-42D0-9640-11B28F45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F7CE-5944-4D9C-A031-5986F489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A7E02-55CE-44EA-81CE-223AD931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5BB3E-1976-4888-846A-705E6D71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78221-DDD8-4A2E-92E4-1214CFE5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5679-BB90-4E68-8679-41F19837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D1BB-6FF8-48D1-BA35-5BF232F2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308A-5195-42B2-8F43-C8A28C4A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C2731-B4CB-4282-AF1A-3194B958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7275B-AB03-4FC4-BB9C-94DC75A8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4CEF-BD2D-492A-A993-607F14BA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541EB-1F52-491F-B642-17BE7233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0DC9A-08DC-4403-B164-4CA7B373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F5047-585A-4BE3-9565-B3C08AE0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FAD81-3D32-4419-99A3-C9742F5F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4BE90-3BE1-445C-A6C3-153CA229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A3E-E38B-4CAD-9D7D-99ED4C2A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08789-A02D-49A2-9869-441A1F25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23FA6-0BB2-436A-AD8D-AFE90A89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8A005-200B-4E22-A5D8-DC34E6EE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442B7-8C0C-4A66-AF80-F2E43EFB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B139E-4542-46FF-B16D-31515E5C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B826B-6ADA-48DD-B3D3-CEE4EF90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27895-FFB9-42EC-BE96-8ACBB661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820E7-1CC6-40BC-8138-FF0CC62C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66EDA-7AEA-4C45-AF2C-66E3BA32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C557D-461C-4C84-AD18-FF234C29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739-90E0-4656-94F5-34423BC0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B113C-C350-4ED8-B269-E2084324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D12F2-9AE4-4BBF-818E-26BD5B6F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130AD-5F9E-40FC-98C7-8D584578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99134-E948-4A46-B4B0-20CAB5EB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F24C7-A988-4444-8A1D-A58E2C49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10567-BCA3-423B-B3F3-338DC2CB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46345-A8A3-4DA4-B4D6-15AE9DF5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DDFBC-F6CE-4B80-8976-D441E377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924B2-9216-4D82-AA67-7125CDF1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B75F1-AB8B-43C1-8C16-FC5136CE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CE4-AB7C-41F1-B891-DD722E88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56DC0-9305-4165-B205-EC8D6852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5E6D3-5555-4DE6-A321-2D7EED34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BF2FD-5AAC-4953-9CBB-CEE2BA60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31FD5-5BE8-49DC-B014-D126C505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2EA8C-F250-4EA9-9F10-6F4378BB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F5D12-BD36-4A71-94CE-69031C8A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931BC-8BEC-45E7-9822-FAFA3C1F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C5899-6BDE-4607-B25A-A6FC7164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2C737-2A5F-4BB4-9F2C-D1D71750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4F641-30AF-4C5A-9817-1A3EE058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CEA-DEE9-4E20-BC73-91BDCA74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68C54-496F-44E9-BAD0-AC67EDAE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AC187-73FD-43D2-8047-584BA960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DA732-2776-4A1F-9060-2247F3EE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5B067-E1C1-4363-A089-8C0A3E59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C2CBB-22F6-4B81-9A9E-91686A7B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365-1440-4B1E-B2B7-19AEF695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95F7-1957-4940-9926-82397308B3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894D-57A5-45EA-B9F5-70FE5629BB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F15A-C5B8-4918-9D8C-64E0633BA6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3122-B819-440F-BEFD-1D2C06D27E0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C8F5-AB68-48BD-8304-9FB7367B65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D775-5E67-42BC-8F74-F30B907833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0D57-61C4-4D1B-AEAA-0F018CA3033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9200" y="12600"/>
            <a:ext cx="77742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rbel"/>
              </a:rPr>
              <a:t>РАЗВИТИЕ ОБЩЕСТВ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2050920" y="1730520"/>
            <a:ext cx="483264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Схема 1" descr=""/>
          <p:cNvPicPr/>
          <p:nvPr/>
        </p:nvPicPr>
        <p:blipFill>
          <a:blip r:embed="rId1"/>
          <a:stretch/>
        </p:blipFill>
        <p:spPr>
          <a:xfrm>
            <a:off x="1103400" y="133200"/>
            <a:ext cx="6937200" cy="4518000"/>
          </a:xfrm>
          <a:prstGeom prst="rect">
            <a:avLst/>
          </a:prstGeom>
          <a:ln w="0">
            <a:noFill/>
          </a:ln>
        </p:spPr>
      </p:pic>
      <p:pic>
        <p:nvPicPr>
          <p:cNvPr id="362" name="Схема 2" descr=""/>
          <p:cNvPicPr/>
          <p:nvPr/>
        </p:nvPicPr>
        <p:blipFill>
          <a:blip r:embed="rId2"/>
          <a:stretch/>
        </p:blipFill>
        <p:spPr>
          <a:xfrm>
            <a:off x="609480" y="4565520"/>
            <a:ext cx="79250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Содержимое 2"/>
          <p:cNvSpPr/>
          <p:nvPr/>
        </p:nvSpPr>
        <p:spPr>
          <a:xfrm>
            <a:off x="250920" y="333360"/>
            <a:ext cx="8642160" cy="187164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Corbel"/>
                <a:ea typeface="Arial"/>
              </a:rPr>
              <a:t>Глобализация</a:t>
            </a: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Arial"/>
              </a:rPr>
              <a:t> – стадия планетарного развития, характеризующаяся возрастанием взаимовлияния стран и народ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одержимое 2"/>
          <p:cNvSpPr/>
          <p:nvPr/>
        </p:nvSpPr>
        <p:spPr>
          <a:xfrm>
            <a:off x="250920" y="5084640"/>
            <a:ext cx="8642160" cy="158436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Corbel"/>
                <a:ea typeface="Arial"/>
              </a:rPr>
              <a:t>Глобальные проблемы</a:t>
            </a: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Arial"/>
              </a:rPr>
              <a:t> – комплекс проблем человечества, от решения которых зависит его дальнейшая судьб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ыноска со стрелкой вверх 5"/>
          <p:cNvSpPr/>
          <p:nvPr/>
        </p:nvSpPr>
        <p:spPr>
          <a:xfrm>
            <a:off x="611280" y="2349360"/>
            <a:ext cx="8281800" cy="2159280"/>
          </a:xfrm>
          <a:prstGeom prst="upArrowCallout">
            <a:avLst>
              <a:gd name="adj1" fmla="val -23494"/>
              <a:gd name="adj2" fmla="val 25019"/>
              <a:gd name="adj3" fmla="val 17569"/>
              <a:gd name="adj4" fmla="val 50287"/>
            </a:avLst>
          </a:prstGeom>
          <a:solidFill>
            <a:srgbClr val="d7ddeb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ыделить плюсы и минусы глоба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Содержимое 2"/>
          <p:cNvSpPr/>
          <p:nvPr/>
        </p:nvSpPr>
        <p:spPr>
          <a:xfrm>
            <a:off x="250920" y="115920"/>
            <a:ext cx="8642160" cy="158436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Corbel"/>
                <a:ea typeface="Arial"/>
              </a:rPr>
              <a:t>Глобализация</a:t>
            </a: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Arial"/>
              </a:rPr>
              <a:t> – стадия планетарного развития, характеризующаяся возрастанием взаимовлияния стран и народов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одержимое 2"/>
          <p:cNvSpPr/>
          <p:nvPr/>
        </p:nvSpPr>
        <p:spPr>
          <a:xfrm>
            <a:off x="250920" y="1844640"/>
            <a:ext cx="8642160" cy="158436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Corbel"/>
                <a:ea typeface="Arial"/>
              </a:rPr>
              <a:t>Глобальные проблемы</a:t>
            </a:r>
            <a:r>
              <a:rPr b="1" lang="ru-RU" sz="3400" spc="-1" strike="noStrike">
                <a:solidFill>
                  <a:srgbClr val="000000"/>
                </a:solidFill>
                <a:latin typeface="Corbel"/>
                <a:ea typeface="Arial"/>
              </a:rPr>
              <a:t> – комплекс проблем человечества, от решения которых зависит его дальнейшая судьб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Схема 1" descr=""/>
          <p:cNvPicPr/>
          <p:nvPr/>
        </p:nvPicPr>
        <p:blipFill>
          <a:blip r:embed="rId1"/>
          <a:stretch/>
        </p:blipFill>
        <p:spPr>
          <a:xfrm>
            <a:off x="3273480" y="3359160"/>
            <a:ext cx="5711760" cy="3595680"/>
          </a:xfrm>
          <a:prstGeom prst="rect">
            <a:avLst/>
          </a:prstGeom>
          <a:ln w="0">
            <a:noFill/>
          </a:ln>
        </p:spPr>
      </p:pic>
      <p:sp>
        <p:nvSpPr>
          <p:cNvPr id="369" name="Стрелка вниз 2"/>
          <p:cNvSpPr/>
          <p:nvPr/>
        </p:nvSpPr>
        <p:spPr>
          <a:xfrm>
            <a:off x="5867280" y="2928960"/>
            <a:ext cx="100836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Схема 1" descr=""/>
          <p:cNvPicPr/>
          <p:nvPr/>
        </p:nvPicPr>
        <p:blipFill>
          <a:blip r:embed="rId1"/>
          <a:stretch/>
        </p:blipFill>
        <p:spPr>
          <a:xfrm>
            <a:off x="2266920" y="0"/>
            <a:ext cx="6718320" cy="695484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"/>
          <p:cNvSpPr/>
          <p:nvPr/>
        </p:nvSpPr>
        <p:spPr>
          <a:xfrm>
            <a:off x="173160" y="1413000"/>
            <a:ext cx="270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13204"/>
                </a:solidFill>
                <a:latin typeface="Arial"/>
              </a:rPr>
              <a:t>Глобальные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5"/>
          <p:cNvSpPr/>
          <p:nvPr/>
        </p:nvSpPr>
        <p:spPr>
          <a:xfrm>
            <a:off x="611280" y="11592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Международные организации, участвующие в решении глобальных пробл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rcRect l="19572" t="2416" r="15027" b="2944"/>
          <a:stretch/>
        </p:blipFill>
        <p:spPr>
          <a:xfrm>
            <a:off x="395280" y="1887480"/>
            <a:ext cx="2592360" cy="25797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298680" y="1908000"/>
            <a:ext cx="2617920" cy="2617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6012000" y="1874880"/>
            <a:ext cx="2711160" cy="2711520"/>
          </a:xfrm>
          <a:prstGeom prst="rect">
            <a:avLst/>
          </a:prstGeom>
          <a:ln w="0">
            <a:noFill/>
          </a:ln>
        </p:spPr>
      </p:pic>
      <p:sp>
        <p:nvSpPr>
          <p:cNvPr id="376" name="Выноска со стрелкой вверх 2"/>
          <p:cNvSpPr/>
          <p:nvPr/>
        </p:nvSpPr>
        <p:spPr>
          <a:xfrm>
            <a:off x="108000" y="4365720"/>
            <a:ext cx="2895480" cy="2376360"/>
          </a:xfrm>
          <a:prstGeom prst="upArrowCallout">
            <a:avLst>
              <a:gd name="adj1" fmla="val 27079"/>
              <a:gd name="adj2" fmla="val 25001"/>
              <a:gd name="adj3" fmla="val 17569"/>
              <a:gd name="adj4" fmla="val 50287"/>
            </a:avLst>
          </a:prstGeom>
          <a:solidFill>
            <a:srgbClr val="d4ebf1"/>
          </a:solidFill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Природоохранная организация «Зеленый мир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Выноска со стрелкой вверх 8"/>
          <p:cNvSpPr/>
          <p:nvPr/>
        </p:nvSpPr>
        <p:spPr>
          <a:xfrm>
            <a:off x="3112920" y="4365720"/>
            <a:ext cx="2989440" cy="2376360"/>
          </a:xfrm>
          <a:prstGeom prst="upArrowCallout">
            <a:avLst>
              <a:gd name="adj1" fmla="val 27073"/>
              <a:gd name="adj2" fmla="val 25002"/>
              <a:gd name="adj3" fmla="val 17569"/>
              <a:gd name="adj4" fmla="val 50287"/>
            </a:avLst>
          </a:prstGeom>
          <a:solidFill>
            <a:srgbClr val="d4ebf1"/>
          </a:solidFill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Природоохранная организация «Всемирный фонд дикой природы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Выноска со стрелкой вверх 9"/>
          <p:cNvSpPr/>
          <p:nvPr/>
        </p:nvSpPr>
        <p:spPr>
          <a:xfrm>
            <a:off x="6213600" y="4365720"/>
            <a:ext cx="2808000" cy="2376360"/>
          </a:xfrm>
          <a:prstGeom prst="upArrowCallout">
            <a:avLst>
              <a:gd name="adj1" fmla="val 27071"/>
              <a:gd name="adj2" fmla="val 25000"/>
              <a:gd name="adj3" fmla="val 17569"/>
              <a:gd name="adj4" fmla="val 50287"/>
            </a:avLst>
          </a:prstGeom>
          <a:solidFill>
            <a:srgbClr val="d4ebf1"/>
          </a:solidFill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Международная организация «Врачи без границ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956720" cy="184464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Закон ускорения исторического развития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а каждую последующую стадию развития у человечества уходит меньше времени чем на предыдущую (примерно в 34 раза по времени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cxnSp>
        <p:nvCxnSpPr>
          <p:cNvPr id="321" name="Прямая со стрелкой 5"/>
          <p:cNvCxnSpPr/>
          <p:nvPr/>
        </p:nvCxnSpPr>
        <p:spPr>
          <a:xfrm flipV="1">
            <a:off x="684360" y="5660640"/>
            <a:ext cx="799200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2" name="Прямая со стрелкой 8"/>
          <p:cNvCxnSpPr/>
          <p:nvPr/>
        </p:nvCxnSpPr>
        <p:spPr>
          <a:xfrm flipH="1" flipV="1">
            <a:off x="684000" y="1412640"/>
            <a:ext cx="8640" cy="4402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3" name="Прямая соединительная линия 23"/>
          <p:cNvSpPr/>
          <p:nvPr/>
        </p:nvSpPr>
        <p:spPr>
          <a:xfrm flipV="1">
            <a:off x="1187280" y="4527720"/>
            <a:ext cx="5883480" cy="414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Дуга 25"/>
          <p:cNvSpPr/>
          <p:nvPr/>
        </p:nvSpPr>
        <p:spPr>
          <a:xfrm rot="3732000">
            <a:off x="5228280" y="805680"/>
            <a:ext cx="2512800" cy="5222880"/>
          </a:xfrm>
          <a:custGeom>
            <a:avLst/>
            <a:gdLst/>
            <a:ahLst/>
            <a:rect l="l" t="t" r="r" b="b"/>
            <a:pathLst>
              <a:path stroke="0" w="2513012" h="5222875">
                <a:moveTo>
                  <a:pt x="1572442" y="83898"/>
                </a:moveTo>
                <a:cubicBezTo>
                  <a:pt x="2126325" y="382952"/>
                  <a:pt x="2513012" y="1422073"/>
                  <a:pt x="2513012" y="2611438"/>
                </a:cubicBezTo>
                <a:lnTo>
                  <a:pt x="1256506" y="2611438"/>
                </a:lnTo>
                <a:lnTo>
                  <a:pt x="1572442" y="83898"/>
                </a:lnTo>
                <a:close/>
              </a:path>
              <a:path fill="none" w="2513012" h="5222875">
                <a:moveTo>
                  <a:pt x="1572442" y="83898"/>
                </a:moveTo>
                <a:cubicBezTo>
                  <a:pt x="2126325" y="382952"/>
                  <a:pt x="2513012" y="1422073"/>
                  <a:pt x="2513012" y="261143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27"/>
          <p:cNvSpPr/>
          <p:nvPr/>
        </p:nvSpPr>
        <p:spPr>
          <a:xfrm>
            <a:off x="1187280" y="486900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28"/>
          <p:cNvSpPr/>
          <p:nvPr/>
        </p:nvSpPr>
        <p:spPr>
          <a:xfrm>
            <a:off x="2411280" y="479736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Овал 29"/>
          <p:cNvSpPr/>
          <p:nvPr/>
        </p:nvSpPr>
        <p:spPr>
          <a:xfrm>
            <a:off x="3517920" y="469908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30"/>
          <p:cNvSpPr/>
          <p:nvPr/>
        </p:nvSpPr>
        <p:spPr>
          <a:xfrm>
            <a:off x="4788000" y="462744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31"/>
          <p:cNvSpPr/>
          <p:nvPr/>
        </p:nvSpPr>
        <p:spPr>
          <a:xfrm>
            <a:off x="5886360" y="4554360"/>
            <a:ext cx="14472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32"/>
          <p:cNvSpPr/>
          <p:nvPr/>
        </p:nvSpPr>
        <p:spPr>
          <a:xfrm>
            <a:off x="6721560" y="449892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33"/>
          <p:cNvSpPr/>
          <p:nvPr/>
        </p:nvSpPr>
        <p:spPr>
          <a:xfrm>
            <a:off x="8067600" y="369900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34"/>
          <p:cNvSpPr/>
          <p:nvPr/>
        </p:nvSpPr>
        <p:spPr>
          <a:xfrm>
            <a:off x="8637480" y="297828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35"/>
          <p:cNvSpPr/>
          <p:nvPr/>
        </p:nvSpPr>
        <p:spPr>
          <a:xfrm>
            <a:off x="97164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але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6"/>
          <p:cNvSpPr/>
          <p:nvPr/>
        </p:nvSpPr>
        <p:spPr>
          <a:xfrm>
            <a:off x="2343240" y="501336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з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7"/>
          <p:cNvSpPr/>
          <p:nvPr/>
        </p:nvSpPr>
        <p:spPr>
          <a:xfrm>
            <a:off x="3495240" y="48690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о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8"/>
          <p:cNvSpPr/>
          <p:nvPr/>
        </p:nvSpPr>
        <p:spPr>
          <a:xfrm rot="19141200">
            <a:off x="4419360" y="455112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ронзовый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9"/>
          <p:cNvSpPr/>
          <p:nvPr/>
        </p:nvSpPr>
        <p:spPr>
          <a:xfrm>
            <a:off x="5367960" y="49417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Железный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0"/>
          <p:cNvSpPr/>
          <p:nvPr/>
        </p:nvSpPr>
        <p:spPr>
          <a:xfrm>
            <a:off x="4797720" y="3605040"/>
            <a:ext cx="30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индустри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1"/>
          <p:cNvSpPr/>
          <p:nvPr/>
        </p:nvSpPr>
        <p:spPr>
          <a:xfrm>
            <a:off x="5460480" y="304812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дустри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3"/>
          <p:cNvSpPr/>
          <p:nvPr/>
        </p:nvSpPr>
        <p:spPr>
          <a:xfrm>
            <a:off x="5510880" y="24084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тиндустриальн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4"/>
          <p:cNvSpPr/>
          <p:nvPr/>
        </p:nvSpPr>
        <p:spPr>
          <a:xfrm>
            <a:off x="4356000" y="5805360"/>
            <a:ext cx="2519640" cy="368280"/>
          </a:xfrm>
          <a:prstGeom prst="rect">
            <a:avLst/>
          </a:prstGeom>
          <a:solidFill>
            <a:srgbClr val="c6b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Век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мет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45"/>
          <p:cNvSpPr/>
          <p:nvPr/>
        </p:nvSpPr>
        <p:spPr>
          <a:xfrm>
            <a:off x="1187280" y="5805360"/>
            <a:ext cx="3313440" cy="368280"/>
          </a:xfrm>
          <a:prstGeom prst="rect">
            <a:avLst/>
          </a:prstGeom>
          <a:solidFill>
            <a:srgbClr val="c6b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Каменный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47"/>
          <p:cNvSpPr/>
          <p:nvPr/>
        </p:nvSpPr>
        <p:spPr>
          <a:xfrm>
            <a:off x="4870440" y="5213520"/>
            <a:ext cx="23760" cy="140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8"/>
          <p:cNvSpPr/>
          <p:nvPr/>
        </p:nvSpPr>
        <p:spPr>
          <a:xfrm>
            <a:off x="722160" y="205416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ровень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49"/>
          <p:cNvSpPr/>
          <p:nvPr/>
        </p:nvSpPr>
        <p:spPr>
          <a:xfrm>
            <a:off x="6804000" y="5229360"/>
            <a:ext cx="23760" cy="140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6048360" cy="114300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Разные народы развиваются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 разной скоростью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2" descr="C:\Users\User\Desktop\a35064aed652.jpg"/>
          <p:cNvPicPr/>
          <p:nvPr/>
        </p:nvPicPr>
        <p:blipFill>
          <a:blip r:embed="rId1"/>
          <a:stretch/>
        </p:blipFill>
        <p:spPr>
          <a:xfrm>
            <a:off x="250920" y="1998720"/>
            <a:ext cx="4281480" cy="31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48" name="Picture 3" descr="C:\Users\User\Desktop\12.jpg"/>
          <p:cNvPicPr/>
          <p:nvPr/>
        </p:nvPicPr>
        <p:blipFill>
          <a:blip r:embed="rId2"/>
          <a:stretch/>
        </p:blipFill>
        <p:spPr>
          <a:xfrm>
            <a:off x="4643280" y="1989000"/>
            <a:ext cx="4267440" cy="3165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287280" y="0"/>
            <a:ext cx="8528040" cy="44258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163240"/>
            <a:ext cx="3983040" cy="443412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72314"/>
                </a:solidFill>
                <a:latin typeface="Corbel"/>
              </a:rPr>
              <a:t>Направление развития по нисходящей линии, для которого характерен переход от высшего к низшему, от лучшего к худшему, к деградации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Заголовок 1"/>
          <p:cNvSpPr/>
          <p:nvPr/>
        </p:nvSpPr>
        <p:spPr>
          <a:xfrm>
            <a:off x="4849920" y="2154240"/>
            <a:ext cx="3981240" cy="443232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Направление развития по восходящей линии, для которого характерен переход от низшего к высшему, от простого к более слож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58920" y="333000"/>
            <a:ext cx="8424720" cy="410364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Социальный прогресс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– глобальный всемирно-исторический процесс восхождения человеческих обществ от примитивных состояний (дикости) к вершинам цивилизованного состояния, основанного на высших научно-технических, политико-правовых, нравственно-этических достижениях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1"/>
          <p:cNvSpPr/>
          <p:nvPr/>
        </p:nvSpPr>
        <p:spPr>
          <a:xfrm>
            <a:off x="1403280" y="44280"/>
            <a:ext cx="619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Arial"/>
              </a:rPr>
              <a:t>ИСТОЧНИКИ ПРОГРЕС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Схема 2" descr=""/>
          <p:cNvPicPr/>
          <p:nvPr/>
        </p:nvPicPr>
        <p:blipFill>
          <a:blip r:embed="rId1"/>
          <a:stretch/>
        </p:blipFill>
        <p:spPr>
          <a:xfrm>
            <a:off x="244440" y="1139760"/>
            <a:ext cx="866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Схема 1" descr=""/>
          <p:cNvPicPr/>
          <p:nvPr/>
        </p:nvPicPr>
        <p:blipFill>
          <a:blip r:embed="rId1"/>
          <a:stretch/>
        </p:blipFill>
        <p:spPr>
          <a:xfrm>
            <a:off x="755640" y="1127160"/>
            <a:ext cx="8785080" cy="5614920"/>
          </a:xfrm>
          <a:prstGeom prst="rect">
            <a:avLst/>
          </a:prstGeom>
          <a:ln w="0">
            <a:noFill/>
          </a:ln>
        </p:spPr>
      </p:pic>
      <p:sp>
        <p:nvSpPr>
          <p:cNvPr id="356" name="Заголовок 1"/>
          <p:cNvSpPr/>
          <p:nvPr/>
        </p:nvSpPr>
        <p:spPr>
          <a:xfrm>
            <a:off x="179280" y="189000"/>
            <a:ext cx="5905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Arial"/>
              </a:rPr>
              <a:t>КРИТЕРИИ ПРОГРЕС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Заголовок 1"/>
          <p:cNvSpPr/>
          <p:nvPr/>
        </p:nvSpPr>
        <p:spPr>
          <a:xfrm>
            <a:off x="196920" y="68400"/>
            <a:ext cx="878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c00000"/>
                </a:solidFill>
                <a:latin typeface="Corbel"/>
                <a:ea typeface="Arial"/>
              </a:rPr>
              <a:t>ФОРМЫ СОЦИАЛЬНЫХ ИЗМЕНЕНИЙ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Схема 3" descr=""/>
          <p:cNvPicPr/>
          <p:nvPr/>
        </p:nvPicPr>
        <p:blipFill>
          <a:blip r:embed="rId1"/>
          <a:stretch/>
        </p:blipFill>
        <p:spPr>
          <a:xfrm>
            <a:off x="396720" y="1347840"/>
            <a:ext cx="83505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Содержимое 2"/>
          <p:cNvSpPr/>
          <p:nvPr/>
        </p:nvSpPr>
        <p:spPr>
          <a:xfrm>
            <a:off x="287280" y="333360"/>
            <a:ext cx="8569440" cy="205092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Реформа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"/>
              </a:rPr>
              <a:t> – усовершенствование в какой-либо сфере общественной жизни, не затрагивающее фундаментальные основы существующего социального стро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одержимое 2"/>
          <p:cNvSpPr/>
          <p:nvPr/>
        </p:nvSpPr>
        <p:spPr>
          <a:xfrm>
            <a:off x="287280" y="2540160"/>
            <a:ext cx="8569440" cy="3841560"/>
          </a:xfrm>
          <a:prstGeom prst="rect">
            <a:avLst/>
          </a:prstGeom>
          <a:solidFill>
            <a:srgbClr val="d4ebf1"/>
          </a:solidFill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  <a:ea typeface="Arial"/>
              </a:rPr>
              <a:t>Революция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Arial"/>
              </a:rPr>
              <a:t> – коренное, качественное изменение всех или большинства сторон общественной жизни, затрагивающее основы существующего социального стро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3:45:00Z</dcterms:created>
  <dc:creator>User</dc:creator>
  <dc:description/>
  <dc:language>en-US</dc:language>
  <cp:lastModifiedBy>lenovo</cp:lastModifiedBy>
  <dcterms:modified xsi:type="dcterms:W3CDTF">2022-05-02T04:22:33Z</dcterms:modified>
  <cp:revision>42</cp:revision>
  <dc:subject/>
  <dc:title>Обществознание. 8 класс. Учитель Гришакина О.П. Электронные материалы  урокам. 5-й урок.   Тема урока: «СОЦИАЛЬНЫЙ ПРОГРЕСС И РАЗВИТИЕ ОБЩЕСТВА»</dc:title>
</cp:coreProperties>
</file>