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769-E055-4389-BB8B-A42C89DF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FB4-8AF7-4DB3-A3C7-57B17813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57A-A434-41D8-8279-C5D8CA84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BB4-4E19-45FB-9C5B-ED3E3B00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927-1CEC-46D3-B96B-A8AD51C2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1CE-A484-485B-B480-893B556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9C7-BC89-43F1-A126-C2D8CC8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193-188F-4F91-B6A9-004F17E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846-7978-4467-A611-94371B00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B1B-30AC-4AF3-9BE4-D6C73B8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370-5F98-4384-A096-4A28068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4D7-07B1-40A3-B37C-3290B13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FDA-EA1D-4F92-B316-75E0ADAB27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12080" cy="689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Урок  русского  язы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6355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870600" cy="97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ды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11160"/>
            <a:ext cx="9144000" cy="4391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Текст–сообщение  </a:t>
            </a: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(Что произошло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(события, действия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Текст–описание   </a:t>
            </a: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(Какой?, Какая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(признаки предмет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Текст-рассуждение </a:t>
            </a: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(Почему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(причины, доказательств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Стрелка влево 6">
            <a:hlinkClick r:id="rId1"/>
          </p:cNvPr>
          <p:cNvSpPr/>
          <p:nvPr/>
        </p:nvSpPr>
        <p:spPr>
          <a:xfrm>
            <a:off x="7500960" y="6215040"/>
            <a:ext cx="928800" cy="2858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Списать текст и определить его ви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42508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оздняя осень. В саду тихо. Птицы давно улетели. Только воробьи прыгают по грядкам. Они ищут кор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Group 82"/>
          <p:cNvGrpSpPr/>
          <p:nvPr/>
        </p:nvGrpSpPr>
        <p:grpSpPr>
          <a:xfrm>
            <a:off x="6831000" y="4708440"/>
            <a:ext cx="1893960" cy="1933560"/>
            <a:chOff x="6831000" y="4708440"/>
            <a:chExt cx="1893960" cy="1933560"/>
          </a:xfrm>
        </p:grpSpPr>
        <p:sp>
          <p:nvSpPr>
            <p:cNvPr id="123" name="Freeform 15"/>
            <p:cNvSpPr/>
            <p:nvPr/>
          </p:nvSpPr>
          <p:spPr>
            <a:xfrm>
              <a:off x="7230960" y="4718160"/>
              <a:ext cx="723960" cy="43344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7226280" y="4863960"/>
              <a:ext cx="765360" cy="33660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7296120" y="6254640"/>
              <a:ext cx="1427040" cy="3762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7270920" y="5450040"/>
              <a:ext cx="1015920" cy="73152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7392960" y="5435640"/>
              <a:ext cx="509760" cy="2001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8066160" y="5265720"/>
              <a:ext cx="441360" cy="8096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7008840" y="4957920"/>
              <a:ext cx="1023840" cy="119376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450200" y="4986360"/>
              <a:ext cx="547560" cy="57636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237520" y="5477040"/>
              <a:ext cx="76320" cy="5364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7823160" y="5413320"/>
              <a:ext cx="54000" cy="604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7859880" y="5418000"/>
              <a:ext cx="396720" cy="119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7746840" y="5403960"/>
              <a:ext cx="100080" cy="58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7209000" y="6040440"/>
              <a:ext cx="150480" cy="1522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7105680" y="4916520"/>
              <a:ext cx="28584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7005600" y="5421240"/>
              <a:ext cx="947880" cy="73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7205760" y="5137200"/>
              <a:ext cx="22392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7318440" y="5092560"/>
              <a:ext cx="13968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7529400" y="5218200"/>
              <a:ext cx="3816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7835760" y="5167440"/>
              <a:ext cx="428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7667640" y="5297400"/>
              <a:ext cx="1062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7718400" y="5407200"/>
              <a:ext cx="64944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7781760" y="5256360"/>
              <a:ext cx="658800" cy="42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7597800" y="4811760"/>
              <a:ext cx="40464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7280280" y="4881600"/>
              <a:ext cx="1173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7323120" y="4811760"/>
              <a:ext cx="1573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7459560" y="4732200"/>
              <a:ext cx="2430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7713720" y="4708440"/>
              <a:ext cx="2253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7939080" y="5011560"/>
              <a:ext cx="10944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7972560" y="5057640"/>
              <a:ext cx="712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7335720" y="5513400"/>
              <a:ext cx="1189080" cy="9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8137440" y="5888160"/>
              <a:ext cx="139680" cy="16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8129520" y="5519880"/>
              <a:ext cx="1382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7196040" y="6048360"/>
              <a:ext cx="152892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7304040" y="6494400"/>
              <a:ext cx="67464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8074080" y="6391440"/>
              <a:ext cx="6350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1"/>
            <p:cNvSpPr/>
            <p:nvPr/>
          </p:nvSpPr>
          <p:spPr>
            <a:xfrm>
              <a:off x="7334280" y="6283440"/>
              <a:ext cx="2520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2"/>
            <p:cNvSpPr/>
            <p:nvPr/>
          </p:nvSpPr>
          <p:spPr>
            <a:xfrm>
              <a:off x="7356600" y="6288120"/>
              <a:ext cx="1062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3"/>
            <p:cNvSpPr/>
            <p:nvPr/>
          </p:nvSpPr>
          <p:spPr>
            <a:xfrm>
              <a:off x="7491240" y="6135840"/>
              <a:ext cx="763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4"/>
            <p:cNvSpPr/>
            <p:nvPr/>
          </p:nvSpPr>
          <p:spPr>
            <a:xfrm>
              <a:off x="7531200" y="6276960"/>
              <a:ext cx="11880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5"/>
            <p:cNvSpPr/>
            <p:nvPr/>
          </p:nvSpPr>
          <p:spPr>
            <a:xfrm>
              <a:off x="7656480" y="6159600"/>
              <a:ext cx="25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6"/>
            <p:cNvSpPr/>
            <p:nvPr/>
          </p:nvSpPr>
          <p:spPr>
            <a:xfrm>
              <a:off x="7680240" y="6140520"/>
              <a:ext cx="745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7"/>
            <p:cNvSpPr/>
            <p:nvPr/>
          </p:nvSpPr>
          <p:spPr>
            <a:xfrm>
              <a:off x="7742160" y="6275520"/>
              <a:ext cx="109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8"/>
            <p:cNvSpPr/>
            <p:nvPr/>
          </p:nvSpPr>
          <p:spPr>
            <a:xfrm>
              <a:off x="7751880" y="6357960"/>
              <a:ext cx="19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9"/>
            <p:cNvSpPr/>
            <p:nvPr/>
          </p:nvSpPr>
          <p:spPr>
            <a:xfrm>
              <a:off x="8043840" y="6134040"/>
              <a:ext cx="77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0"/>
            <p:cNvSpPr/>
            <p:nvPr/>
          </p:nvSpPr>
          <p:spPr>
            <a:xfrm>
              <a:off x="8086680" y="6181560"/>
              <a:ext cx="7956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1"/>
            <p:cNvSpPr/>
            <p:nvPr/>
          </p:nvSpPr>
          <p:spPr>
            <a:xfrm>
              <a:off x="8093160" y="6297480"/>
              <a:ext cx="489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2"/>
            <p:cNvSpPr/>
            <p:nvPr/>
          </p:nvSpPr>
          <p:spPr>
            <a:xfrm>
              <a:off x="8166240" y="6278400"/>
              <a:ext cx="11592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3"/>
            <p:cNvSpPr/>
            <p:nvPr/>
          </p:nvSpPr>
          <p:spPr>
            <a:xfrm>
              <a:off x="8318520" y="6173640"/>
              <a:ext cx="1350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8366040" y="6237360"/>
              <a:ext cx="2034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5"/>
            <p:cNvSpPr/>
            <p:nvPr/>
          </p:nvSpPr>
          <p:spPr>
            <a:xfrm>
              <a:off x="8139240" y="5450040"/>
              <a:ext cx="1555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6843600" y="6219720"/>
              <a:ext cx="447840" cy="30816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6837480" y="6365880"/>
              <a:ext cx="234720" cy="19224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7077240" y="6305400"/>
              <a:ext cx="212400" cy="25416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6892920" y="6335640"/>
              <a:ext cx="206280" cy="12564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7013520" y="6245280"/>
              <a:ext cx="227160" cy="146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7066080" y="6286680"/>
              <a:ext cx="23472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6831000" y="6213600"/>
              <a:ext cx="46980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6840360" y="6359400"/>
              <a:ext cx="23688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6886440" y="6359400"/>
              <a:ext cx="21924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6880320" y="6329520"/>
              <a:ext cx="22860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7008840" y="6242040"/>
              <a:ext cx="2430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6999120" y="6243480"/>
              <a:ext cx="140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7048440" y="6284880"/>
              <a:ext cx="1238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7093080" y="6261120"/>
              <a:ext cx="115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7091280" y="6284880"/>
              <a:ext cx="11916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7196040" y="6032520"/>
              <a:ext cx="1514520" cy="4921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040520" y="6259680"/>
              <a:ext cx="12384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Стрелка влево 71">
            <a:hlinkClick r:id="rId1"/>
          </p:cNvPr>
          <p:cNvSpPr/>
          <p:nvPr/>
        </p:nvSpPr>
        <p:spPr>
          <a:xfrm>
            <a:off x="3929040" y="6357960"/>
            <a:ext cx="928800" cy="35712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j0343343"/>
          <p:cNvPicPr/>
          <p:nvPr/>
        </p:nvPicPr>
        <p:blipFill>
          <a:blip r:embed="rId1"/>
          <a:stretch/>
        </p:blipFill>
        <p:spPr>
          <a:xfrm>
            <a:off x="3203640" y="1700280"/>
            <a:ext cx="3816360" cy="374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j0343343"/>
          <p:cNvPicPr/>
          <p:nvPr/>
        </p:nvPicPr>
        <p:blipFill>
          <a:blip r:embed="rId2"/>
          <a:stretch/>
        </p:blipFill>
        <p:spPr>
          <a:xfrm>
            <a:off x="5867280" y="3500280"/>
            <a:ext cx="3035520" cy="3157560"/>
          </a:xfrm>
          <a:prstGeom prst="rect">
            <a:avLst/>
          </a:prstGeom>
          <a:ln w="0">
            <a:noFill/>
          </a:ln>
        </p:spPr>
      </p:pic>
      <p:sp>
        <p:nvSpPr>
          <p:cNvPr id="194" name="Стрелка влево 4">
            <a:hlinkClick r:id="rId3"/>
          </p:cNvPr>
          <p:cNvSpPr/>
          <p:nvPr/>
        </p:nvSpPr>
        <p:spPr>
          <a:xfrm>
            <a:off x="3357720" y="6215040"/>
            <a:ext cx="928440" cy="3571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редели вид тек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986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1.    Я давно мечтала о заводной игрушке. И вот на день рождения мама подарила мне осл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4" descr="http://www.lenagold.ru/fon/clipart/o/osel/osel02.png"/>
          <p:cNvPicPr/>
          <p:nvPr/>
        </p:nvPicPr>
        <p:blipFill>
          <a:blip r:embed="rId1"/>
          <a:stretch/>
        </p:blipFill>
        <p:spPr>
          <a:xfrm>
            <a:off x="5219640" y="3573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Ослик был очень симпатичный: серенький, маленький, с беленькими мягкими ушками. Он забавно вертел хвостом. На конце хвостика крутилась пушистая кисто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j0343343"/>
          <p:cNvPicPr/>
          <p:nvPr/>
        </p:nvPicPr>
        <p:blipFill>
          <a:blip r:embed="rId1"/>
          <a:stretch/>
        </p:blipFill>
        <p:spPr>
          <a:xfrm>
            <a:off x="5867280" y="3500280"/>
            <a:ext cx="30355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11280" y="475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3.     Я люблю своего ослика, потому что с ним  весело  играть. Я берегу е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12" descr="http://i017.radikal.ru/0801/ba/4352a7d1cfad.png"/>
          <p:cNvPicPr/>
          <p:nvPr/>
        </p:nvPicPr>
        <p:blipFill>
          <a:blip r:embed="rId1"/>
          <a:stretch/>
        </p:blipFill>
        <p:spPr>
          <a:xfrm>
            <a:off x="5724360" y="2852640"/>
            <a:ext cx="2089440" cy="324180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лево 3"/>
          <p:cNvSpPr/>
          <p:nvPr/>
        </p:nvSpPr>
        <p:spPr>
          <a:xfrm>
            <a:off x="3000240" y="5929200"/>
            <a:ext cx="1214640" cy="35748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Задание (буквенный диктан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слушайте текст и определите его вид, записав начальной буквой в тетрадь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(описание – о, рассуждение – р, сообщение –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пример: р, о, е, р,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-181080" y="105228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етя часто болел. Его товарищи играли во дворе, а Петя только смотрел в окно. Надоело мальчику болеть. Стал он делать зарядку, обливаться холодной водой. Скоро Петя окреп и перестал боле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0920" y="151920"/>
            <a:ext cx="813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 виду рысь на кошку похожа, только крупная. Она плоская с боков, в груди узкая, только лапы толстые, сильные. Мех густой с пятнам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920" y="189000"/>
            <a:ext cx="8129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 полях белой скатертью лежит снег. А почему он не тает? Почему его ветром не сдувает? Зимой температура понижается, вот снег и не тает , накапливается. Поэтому и ветер не может его сдуть, так много снега лежи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284280"/>
            <a:ext cx="867564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ставайте дружно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Каждый раз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Когда учитель входит в класс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Парта – это не кровать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И на ней нельзя лежать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Ты сиди за партой стройно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И веди себя достойно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На уроках не болтай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Как заморский попугай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Ответить хочешь – не шуми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     А только руку подним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6" descr="ANTN029"/>
          <p:cNvPicPr/>
          <p:nvPr/>
        </p:nvPicPr>
        <p:blipFill>
          <a:blip r:embed="rId1"/>
          <a:stretch/>
        </p:blipFill>
        <p:spPr>
          <a:xfrm>
            <a:off x="7093080" y="2781360"/>
            <a:ext cx="216036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колько разных цветов на земле! Гвоздика красивый цветок. У неё узкие листья и тонкий, хрупкий стебель. И на тонкой, как соломинка, ножке полыхают яркие огонь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ступило лето. Яркое солнце греет землю. Всё кругом цветёт и зеленеет. На лугу уже скосили траву. Грызунам трудно стало прятаться от хищник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755640" y="115920"/>
            <a:ext cx="7696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Почему воробьи выбирают для ночлега самые освещённые места? А вот почему. К зиме филины, сычи переселяются из лесов на окраины городов и нападают на птиц. На голых деревьях в темноте они легко находят себе добычу. Это и заставляет птиц прятаться зимой от хищников в центре города. Хищники не прилетят сюда. Яркий                             свет ослепляет и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Стрелка влево 2"/>
          <p:cNvSpPr/>
          <p:nvPr/>
        </p:nvSpPr>
        <p:spPr>
          <a:xfrm>
            <a:off x="6357960" y="621504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696080" cy="475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703dff"/>
                </a:solidFill>
                <a:latin typeface="Arial"/>
              </a:rPr>
              <a:t>с, о, р, о, с, р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- «верно» или 1 неверный 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2 - 3 неверных отв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-  4 - 5 неверных ответов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Улыбающееся лицо 4"/>
          <p:cNvSpPr/>
          <p:nvPr/>
        </p:nvSpPr>
        <p:spPr>
          <a:xfrm>
            <a:off x="755640" y="2492280"/>
            <a:ext cx="79056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лыбающееся лицо 7"/>
          <p:cNvSpPr/>
          <p:nvPr/>
        </p:nvSpPr>
        <p:spPr>
          <a:xfrm>
            <a:off x="755640" y="3645000"/>
            <a:ext cx="720720" cy="647640"/>
          </a:xfrm>
          <a:prstGeom prst="smileyFace">
            <a:avLst>
              <a:gd name="adj" fmla="val -221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Улыбающееся лицо 6"/>
          <p:cNvSpPr/>
          <p:nvPr/>
        </p:nvSpPr>
        <p:spPr>
          <a:xfrm>
            <a:off x="755640" y="4653000"/>
            <a:ext cx="765360" cy="6444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лево 8"/>
          <p:cNvSpPr/>
          <p:nvPr/>
        </p:nvSpPr>
        <p:spPr>
          <a:xfrm>
            <a:off x="5857920" y="6286680"/>
            <a:ext cx="107136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Итог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Что не знали никогда, а на этом уроке узнал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9" descr="j0232128"/>
          <p:cNvPicPr/>
          <p:nvPr/>
        </p:nvPicPr>
        <p:blipFill>
          <a:blip r:embed="rId1"/>
          <a:stretch/>
        </p:blipFill>
        <p:spPr>
          <a:xfrm>
            <a:off x="5508720" y="3860640"/>
            <a:ext cx="2950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49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Что такое текс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зовите виды текстов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 какие вопросы они отвечаю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7" descr="_ЭМБЛЕМА"/>
          <p:cNvPicPr/>
          <p:nvPr/>
        </p:nvPicPr>
        <p:blipFill>
          <a:blip r:embed="rId1"/>
          <a:stretch/>
        </p:blipFill>
        <p:spPr>
          <a:xfrm>
            <a:off x="6948360" y="4581360"/>
            <a:ext cx="1255680" cy="1828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спомн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Стрелка влево 4"/>
          <p:cNvSpPr/>
          <p:nvPr/>
        </p:nvSpPr>
        <p:spPr>
          <a:xfrm>
            <a:off x="3286080" y="6000840"/>
            <a:ext cx="1214640" cy="428400"/>
          </a:xfrm>
          <a:prstGeom prst="leftArrow">
            <a:avLst>
              <a:gd name="adj1" fmla="val 50000"/>
              <a:gd name="adj2" fmla="val 50038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3880" y="1000080"/>
            <a:ext cx="7696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Составить текст и записать в тетрадь о своей любимой игрушке (5-6предлож.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–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Выполнить задание в учебнике с.81 упр.14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- Выполнить задание по карточк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5" descr="http://s50.radikal.ru/i128/1005/56/b17d8f879d67.png"/>
          <p:cNvPicPr/>
          <p:nvPr/>
        </p:nvPicPr>
        <p:blipFill>
          <a:blip r:embed="rId1"/>
          <a:stretch/>
        </p:blipFill>
        <p:spPr>
          <a:xfrm>
            <a:off x="2916360" y="5084640"/>
            <a:ext cx="475272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Улыбающееся лицо 4"/>
          <p:cNvSpPr/>
          <p:nvPr/>
        </p:nvSpPr>
        <p:spPr>
          <a:xfrm>
            <a:off x="214200" y="1143000"/>
            <a:ext cx="79056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лыбающееся лицо 5"/>
          <p:cNvSpPr/>
          <p:nvPr/>
        </p:nvSpPr>
        <p:spPr>
          <a:xfrm>
            <a:off x="214200" y="2928960"/>
            <a:ext cx="720720" cy="647640"/>
          </a:xfrm>
          <a:prstGeom prst="smileyFace">
            <a:avLst>
              <a:gd name="adj" fmla="val -221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лыбающееся лицо 6"/>
          <p:cNvSpPr/>
          <p:nvPr/>
        </p:nvSpPr>
        <p:spPr>
          <a:xfrm>
            <a:off x="214200" y="4214880"/>
            <a:ext cx="765360" cy="6444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7"/>
          <p:cNvSpPr/>
          <p:nvPr/>
        </p:nvSpPr>
        <p:spPr>
          <a:xfrm>
            <a:off x="7715160" y="6357960"/>
            <a:ext cx="928800" cy="35712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42560" y="404280"/>
            <a:ext cx="7178760" cy="22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1" lang="ru-RU" sz="9600" spc="-1" strike="noStrike">
                <a:solidFill>
                  <a:srgbClr val="00b2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66ff"/>
                </a:solidFill>
                <a:latin typeface="Comic Sans MS"/>
              </a:rPr>
              <a:t>л</a:t>
            </a:r>
            <a:r>
              <a:rPr b="1" lang="ru-RU" sz="9600" spc="-1" strike="noStrike">
                <a:solidFill>
                  <a:srgbClr val="ff66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ц</a:t>
            </a:r>
            <a:r>
              <a:rPr b="1" lang="ru-RU" sz="9600" spc="-1" strike="noStrike">
                <a:solidFill>
                  <a:srgbClr val="3399ff"/>
                </a:solidFill>
                <a:latin typeface="Comic Sans MS"/>
              </a:rPr>
              <a:t>ы</a:t>
            </a: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!!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3" descr="Картинка 91 из 180738"/>
          <p:cNvPicPr/>
          <p:nvPr/>
        </p:nvPicPr>
        <p:blipFill>
          <a:blip r:embed="rId1"/>
          <a:stretch/>
        </p:blipFill>
        <p:spPr>
          <a:xfrm>
            <a:off x="1763640" y="1989000"/>
            <a:ext cx="5977080" cy="439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11280" y="18900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зерв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Моя сестрёнка Вера заболела. Мама была на работе. Я попросил своего товарища вызвать врача. Доктор выписал Вере лекар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4360" y="764640"/>
            <a:ext cx="7696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Рысь ночное животное. Весь день лежит она на толстой ветке, либо заберётся в нору. Часами лежит, не шелохнётся. Ночью рысь на охоту отправляе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-360" y="1628280"/>
            <a:ext cx="83170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Без русского языка не сколотишь и сапог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5560" y="450720"/>
            <a:ext cx="80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бъясни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смысл пословицы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ILE1"/>
          <p:cNvPicPr/>
          <p:nvPr/>
        </p:nvPicPr>
        <p:blipFill>
          <a:blip r:embed="rId1"/>
          <a:stretch/>
        </p:blipFill>
        <p:spPr>
          <a:xfrm>
            <a:off x="5292720" y="3357720"/>
            <a:ext cx="2666880" cy="21938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лево 4">
            <a:hlinkClick r:id="rId2"/>
          </p:cNvPr>
          <p:cNvSpPr/>
          <p:nvPr/>
        </p:nvSpPr>
        <p:spPr>
          <a:xfrm>
            <a:off x="3000240" y="6286680"/>
            <a:ext cx="121464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Грачи прилетели. К больному приехал врач. Тает снег. Мальчик читает. Цветёт черёмуха. Мама купила фрукты и овощ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Скворец немного похож на чёрного дрозда. Однако скворец меньше, хвост  у него короче, а крылья треугольные и заострены на конц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Песня скворца это весьма разнообразная смесь свиста, щелчков и трес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920" y="151920"/>
            <a:ext cx="813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Барсук довольно крупный до 90 см зверь с серебристо-серой щетиной. От носа к затылку тянуться желтовато-белые полосы, а через глаза и уши - чёрная полоса. На мягком снегу хорошо видны следы его сильных лап с крепкими когтя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11280" y="18900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редели вид текста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Моя сестрёнка Вера заболела. Мама была на работе. Я попросил своего товарища вызвать врача. Доктор выписал Вере лекар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Стрелка влево 2"/>
          <p:cNvSpPr/>
          <p:nvPr/>
        </p:nvSpPr>
        <p:spPr>
          <a:xfrm>
            <a:off x="4572000" y="6000840"/>
            <a:ext cx="1143000" cy="42840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садка при письм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Я тетрадочку открою,</a:t>
            </a:r>
            <a:r>
              <a:rPr b="1" lang="en-US" sz="3600" spc="-1" strike="noStrike">
                <a:solidFill>
                  <a:srgbClr val="703dff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Уголочком положу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И от вас, друзья, не скрою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Ручку я, «вот-так» держу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Сяду прямо, не согнусь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За работу я возьмусь !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06" descr="j0343343"/>
          <p:cNvPicPr/>
          <p:nvPr/>
        </p:nvPicPr>
        <p:blipFill>
          <a:blip r:embed="rId1"/>
          <a:stretch/>
        </p:blipFill>
        <p:spPr>
          <a:xfrm>
            <a:off x="5867280" y="3500280"/>
            <a:ext cx="3035520" cy="315756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лево 4">
            <a:hlinkClick r:id="rId2"/>
          </p:cNvPr>
          <p:cNvSpPr/>
          <p:nvPr/>
        </p:nvSpPr>
        <p:spPr>
          <a:xfrm>
            <a:off x="2857680" y="5643720"/>
            <a:ext cx="107136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6981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В  белом  поле  синие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ротянулись  линии,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А  по  ним  друзья  идут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Друг  друга  за  руки  ведут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" descr="ANTN029"/>
          <p:cNvPicPr/>
          <p:nvPr/>
        </p:nvPicPr>
        <p:blipFill>
          <a:blip r:embed="rId1"/>
          <a:stretch/>
        </p:blipFill>
        <p:spPr>
          <a:xfrm>
            <a:off x="6877080" y="2924280"/>
            <a:ext cx="255096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196640" y="306360"/>
            <a:ext cx="526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тгадайте загадку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лево 4">
            <a:hlinkClick r:id="rId2"/>
          </p:cNvPr>
          <p:cNvSpPr/>
          <p:nvPr/>
        </p:nvSpPr>
        <p:spPr>
          <a:xfrm>
            <a:off x="3000240" y="607212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468360" y="333360"/>
            <a:ext cx="8388360" cy="115092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b800"/>
                </a:solidFill>
                <a:latin typeface="Arial"/>
              </a:rPr>
              <a:t>Чистописание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908000" y="1700280"/>
            <a:ext cx="616608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Arial"/>
              </a:rPr>
              <a:t>Т е  к    с  т</a:t>
            </a:r>
            <a:r>
              <a:rPr b="1" lang="ru-RU" sz="87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i="1" lang="en-US" sz="8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j0232133"/>
          <p:cNvPicPr/>
          <p:nvPr/>
        </p:nvPicPr>
        <p:blipFill>
          <a:blip r:embed="rId1"/>
          <a:stretch/>
        </p:blipFill>
        <p:spPr>
          <a:xfrm>
            <a:off x="6084720" y="3716280"/>
            <a:ext cx="287820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4">
            <a:hlinkClick r:id="rId2"/>
          </p:cNvPr>
          <p:cNvSpPr/>
          <p:nvPr/>
        </p:nvSpPr>
        <p:spPr>
          <a:xfrm>
            <a:off x="3786120" y="5929200"/>
            <a:ext cx="1143000" cy="4287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197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Текст- это два или несколько предложений, связанных между собой по смысл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Текст можно озаглавить. В литературе используются разные виды текст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69236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Что знаю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Что </a:t>
            </a:r>
            <a:r>
              <a:rPr b="1" lang="ru-RU" sz="4400" spc="-1" strike="noStrike">
                <a:solidFill>
                  <a:srgbClr val="703dff"/>
                </a:solidFill>
                <a:latin typeface="Arial"/>
              </a:rPr>
              <a:t>хочу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узнать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лево 3">
            <a:hlinkClick r:id="rId1"/>
          </p:cNvPr>
          <p:cNvSpPr/>
          <p:nvPr/>
        </p:nvSpPr>
        <p:spPr>
          <a:xfrm>
            <a:off x="6500880" y="635796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Тема: Виды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ознакомимся с разными видами текст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Будем учиться распознавать их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Стрелка влево 3">
            <a:hlinkClick r:id="rId1"/>
          </p:cNvPr>
          <p:cNvSpPr/>
          <p:nvPr/>
        </p:nvSpPr>
        <p:spPr>
          <a:xfrm>
            <a:off x="4000680" y="6143760"/>
            <a:ext cx="100008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чера я был в цирке и видел тигров. Что они только не выделывали! Сначала вставали на задние лапы, потом прыгали с тумбы на тумбу и даже через горящие кольца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1916280"/>
            <a:ext cx="8893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чера я был в цирке и видел тигров. Какие они красивые и сильные! Шкура у них полосатая, яркая, глаза горят зелёным огнём, лапы упругие. А когда тигры рычат, видны белые клык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378936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чера я был в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цирке и видел тигров. Почему такие сильные звери слушаются дрессировщика? Может, потому что человек их не боится? Или потому что дрессировщик заботится о них? А как вы думаете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1"/>
          </p:cNvPr>
          <p:cNvSpPr/>
          <p:nvPr/>
        </p:nvSpPr>
        <p:spPr>
          <a:xfrm>
            <a:off x="4714920" y="6143760"/>
            <a:ext cx="100008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Мастер</cp:lastModifiedBy>
  <dcterms:modified xsi:type="dcterms:W3CDTF">2022-05-02T14:15:31Z</dcterms:modified>
  <cp:revision>27</cp:revision>
  <dc:subject>русский  язык</dc:subject>
  <dc:title>PowerPoint Presentation</dc:title>
</cp:coreProperties>
</file>