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CC4-1996-4EA6-A93F-20F60987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46FF-6A14-4012-A79D-76098EF6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92D-46DA-4E77-8122-9161BE7F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FF4-F33C-4B2F-A209-01FFFA7D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56FB-8B61-434A-A3C2-855AE33D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519-11E7-4D25-84AA-7BBE71FA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AE3-B9E1-40CC-ACAB-9ECD4D31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8DF-0A40-481B-B143-4D262F6F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E5D-CAB3-4006-BAE7-A7CB39AC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FD0-04D8-41FA-B91D-B2EB3F6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CCC-CBD6-4F39-BA17-D9355829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6BF-78FD-4F51-B34F-42F8C6C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2454-87C0-4596-95F2-1BBE293771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4;&#1091;&#1083;&#1100;&#1090;&#1080;&#1084;&#1077;&#1076;&#1080;&#1081;&#1085;&#1072;&#1103;%20&#1087;&#1088;&#1077;&#1079;&#1077;&#1085;&#1090;&#1072;&#1094;&#1080;&#1103;%20&#1091;&#1088;&#1086;&#1082;&#1072;789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12080" cy="689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Урок  русского  язы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32000" y="1699920"/>
            <a:ext cx="663552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870600" cy="97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ды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11160"/>
            <a:ext cx="9144000" cy="4391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Текст–сообщение  </a:t>
            </a: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(Что произошло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(события, действия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Текст–описание   </a:t>
            </a: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(Какой?, Какая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(признаки предмет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Текст-рассуждение </a:t>
            </a: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(Почему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b800"/>
                </a:solidFill>
                <a:latin typeface="Comic Sans MS"/>
              </a:rPr>
              <a:t>         </a:t>
            </a:r>
            <a:r>
              <a:rPr b="1" lang="ru-RU" sz="3600" spc="-1" strike="noStrike">
                <a:solidFill>
                  <a:srgbClr val="6600cc"/>
                </a:solidFill>
                <a:latin typeface="Comic Sans MS"/>
              </a:rPr>
              <a:t>(причины, доказательств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Стрелка влево 6">
            <a:hlinkClick r:id="rId1"/>
          </p:cNvPr>
          <p:cNvSpPr/>
          <p:nvPr/>
        </p:nvSpPr>
        <p:spPr>
          <a:xfrm>
            <a:off x="7500960" y="6215040"/>
            <a:ext cx="928800" cy="2858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Списать текст и определить его ви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42508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оздняя осень. В саду тихо. Птицы давно улетели. Только воробьи прыгают по грядкам. Они ищут кор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Group 82"/>
          <p:cNvGrpSpPr/>
          <p:nvPr/>
        </p:nvGrpSpPr>
        <p:grpSpPr>
          <a:xfrm>
            <a:off x="6831000" y="4708440"/>
            <a:ext cx="1893960" cy="1933560"/>
            <a:chOff x="6831000" y="4708440"/>
            <a:chExt cx="1893960" cy="1933560"/>
          </a:xfrm>
        </p:grpSpPr>
        <p:sp>
          <p:nvSpPr>
            <p:cNvPr id="123" name="Freeform 15"/>
            <p:cNvSpPr/>
            <p:nvPr/>
          </p:nvSpPr>
          <p:spPr>
            <a:xfrm>
              <a:off x="7230960" y="4718160"/>
              <a:ext cx="723960" cy="433440"/>
            </a:xfrm>
            <a:prstGeom prst="pie">
              <a:avLst/>
            </a:pr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7226280" y="4863960"/>
              <a:ext cx="765360" cy="336600"/>
            </a:xfrm>
            <a:prstGeom prst="pie">
              <a:avLst/>
            </a:pr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7296120" y="6254640"/>
              <a:ext cx="1427040" cy="37620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7270920" y="5450040"/>
              <a:ext cx="1015920" cy="731520"/>
            </a:xfrm>
            <a:prstGeom prst="pie">
              <a:avLst/>
            </a:prstGeom>
            <a:solidFill>
              <a:srgbClr val="a1b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7392960" y="5435640"/>
              <a:ext cx="509760" cy="2001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8066160" y="5265720"/>
              <a:ext cx="441360" cy="8096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7008840" y="4957920"/>
              <a:ext cx="1023840" cy="119376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450200" y="4986360"/>
              <a:ext cx="547560" cy="57636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237520" y="5477040"/>
              <a:ext cx="76320" cy="53640"/>
            </a:xfrm>
            <a:prstGeom prst="pie">
              <a:avLst/>
            </a:pr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7823160" y="5413320"/>
              <a:ext cx="54000" cy="6048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7859880" y="5418000"/>
              <a:ext cx="396720" cy="119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7746840" y="5403960"/>
              <a:ext cx="100080" cy="58680"/>
            </a:xfrm>
            <a:prstGeom prst="pie">
              <a:avLst/>
            </a:pr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7209000" y="6040440"/>
              <a:ext cx="150480" cy="152280"/>
            </a:xfrm>
            <a:prstGeom prst="pie">
              <a:avLst/>
            </a:pr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7105680" y="4916520"/>
              <a:ext cx="28584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7005600" y="5421240"/>
              <a:ext cx="947880" cy="73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7205760" y="5137200"/>
              <a:ext cx="223920" cy="28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7318440" y="5092560"/>
              <a:ext cx="13968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7529400" y="5218200"/>
              <a:ext cx="3816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7835760" y="5167440"/>
              <a:ext cx="428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7667640" y="5297400"/>
              <a:ext cx="1062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7718400" y="5407200"/>
              <a:ext cx="649440" cy="13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7781760" y="5256360"/>
              <a:ext cx="658800" cy="42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7597800" y="4811760"/>
              <a:ext cx="40464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7280280" y="4881600"/>
              <a:ext cx="11736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7323120" y="4811760"/>
              <a:ext cx="1573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7459560" y="4732200"/>
              <a:ext cx="24300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7713720" y="4708440"/>
              <a:ext cx="22536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7939080" y="5011560"/>
              <a:ext cx="109440" cy="41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7972560" y="5057640"/>
              <a:ext cx="7128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7335720" y="5513400"/>
              <a:ext cx="1189080" cy="9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8137440" y="5888160"/>
              <a:ext cx="139680" cy="16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8129520" y="5519880"/>
              <a:ext cx="138240" cy="11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7196040" y="6048360"/>
              <a:ext cx="1528920" cy="51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7304040" y="6494400"/>
              <a:ext cx="67464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8074080" y="6391440"/>
              <a:ext cx="6350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1"/>
            <p:cNvSpPr/>
            <p:nvPr/>
          </p:nvSpPr>
          <p:spPr>
            <a:xfrm>
              <a:off x="7334280" y="6283440"/>
              <a:ext cx="25200" cy="2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2"/>
            <p:cNvSpPr/>
            <p:nvPr/>
          </p:nvSpPr>
          <p:spPr>
            <a:xfrm>
              <a:off x="7356600" y="6288120"/>
              <a:ext cx="106200" cy="9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3"/>
            <p:cNvSpPr/>
            <p:nvPr/>
          </p:nvSpPr>
          <p:spPr>
            <a:xfrm>
              <a:off x="7491240" y="6135840"/>
              <a:ext cx="7632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4"/>
            <p:cNvSpPr/>
            <p:nvPr/>
          </p:nvSpPr>
          <p:spPr>
            <a:xfrm>
              <a:off x="7531200" y="6276960"/>
              <a:ext cx="118800" cy="10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5"/>
            <p:cNvSpPr/>
            <p:nvPr/>
          </p:nvSpPr>
          <p:spPr>
            <a:xfrm>
              <a:off x="7656480" y="6159600"/>
              <a:ext cx="2556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6"/>
            <p:cNvSpPr/>
            <p:nvPr/>
          </p:nvSpPr>
          <p:spPr>
            <a:xfrm>
              <a:off x="7680240" y="6140520"/>
              <a:ext cx="7452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7"/>
            <p:cNvSpPr/>
            <p:nvPr/>
          </p:nvSpPr>
          <p:spPr>
            <a:xfrm>
              <a:off x="7742160" y="6275520"/>
              <a:ext cx="1094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8"/>
            <p:cNvSpPr/>
            <p:nvPr/>
          </p:nvSpPr>
          <p:spPr>
            <a:xfrm>
              <a:off x="7751880" y="6357960"/>
              <a:ext cx="19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9"/>
            <p:cNvSpPr/>
            <p:nvPr/>
          </p:nvSpPr>
          <p:spPr>
            <a:xfrm>
              <a:off x="8043840" y="6134040"/>
              <a:ext cx="77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0"/>
            <p:cNvSpPr/>
            <p:nvPr/>
          </p:nvSpPr>
          <p:spPr>
            <a:xfrm>
              <a:off x="8086680" y="6181560"/>
              <a:ext cx="7956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1"/>
            <p:cNvSpPr/>
            <p:nvPr/>
          </p:nvSpPr>
          <p:spPr>
            <a:xfrm>
              <a:off x="8093160" y="6297480"/>
              <a:ext cx="4896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2"/>
            <p:cNvSpPr/>
            <p:nvPr/>
          </p:nvSpPr>
          <p:spPr>
            <a:xfrm>
              <a:off x="8166240" y="6278400"/>
              <a:ext cx="11592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3"/>
            <p:cNvSpPr/>
            <p:nvPr/>
          </p:nvSpPr>
          <p:spPr>
            <a:xfrm>
              <a:off x="8318520" y="6173640"/>
              <a:ext cx="1350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8366040" y="6237360"/>
              <a:ext cx="203400" cy="77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5"/>
            <p:cNvSpPr/>
            <p:nvPr/>
          </p:nvSpPr>
          <p:spPr>
            <a:xfrm>
              <a:off x="8139240" y="5450040"/>
              <a:ext cx="15552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6843600" y="6219720"/>
              <a:ext cx="447840" cy="308160"/>
            </a:xfrm>
            <a:prstGeom prst="pie">
              <a:avLst/>
            </a:pr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6837480" y="6365880"/>
              <a:ext cx="234720" cy="192240"/>
            </a:xfrm>
            <a:prstGeom prst="pie">
              <a:avLst/>
            </a:prstGeom>
            <a:solidFill>
              <a:srgbClr val="a6bf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7077240" y="6305400"/>
              <a:ext cx="212400" cy="254160"/>
            </a:xfrm>
            <a:prstGeom prst="pie">
              <a:avLst/>
            </a:prstGeom>
            <a:solidFill>
              <a:srgbClr val="9cb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6892920" y="6335640"/>
              <a:ext cx="206280" cy="125640"/>
            </a:xfrm>
            <a:prstGeom prst="pie">
              <a:avLst/>
            </a:prstGeom>
            <a:solidFill>
              <a:srgbClr val="dbd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7013520" y="6245280"/>
              <a:ext cx="227160" cy="146160"/>
            </a:xfrm>
            <a:prstGeom prst="pie">
              <a:avLst/>
            </a:prstGeom>
            <a:solidFill>
              <a:srgbClr val="cc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7066080" y="6286680"/>
              <a:ext cx="23472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6831000" y="6213600"/>
              <a:ext cx="469800" cy="35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6840360" y="6359400"/>
              <a:ext cx="236880" cy="13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6886440" y="6359400"/>
              <a:ext cx="219240" cy="10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6880320" y="6329520"/>
              <a:ext cx="22860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7008840" y="6242040"/>
              <a:ext cx="2430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6999120" y="6243480"/>
              <a:ext cx="14004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7048440" y="6284880"/>
              <a:ext cx="12384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7093080" y="6261120"/>
              <a:ext cx="11592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7091280" y="6284880"/>
              <a:ext cx="11916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7"/>
            <p:cNvSpPr/>
            <p:nvPr/>
          </p:nvSpPr>
          <p:spPr>
            <a:xfrm>
              <a:off x="7196040" y="6032520"/>
              <a:ext cx="1514520" cy="4921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040520" y="6259680"/>
              <a:ext cx="12384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Стрелка влево 71">
            <a:hlinkClick r:id="rId1"/>
          </p:cNvPr>
          <p:cNvSpPr/>
          <p:nvPr/>
        </p:nvSpPr>
        <p:spPr>
          <a:xfrm>
            <a:off x="3929040" y="6357960"/>
            <a:ext cx="928800" cy="35712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абота в пар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4" descr="j0343343"/>
          <p:cNvPicPr/>
          <p:nvPr/>
        </p:nvPicPr>
        <p:blipFill>
          <a:blip r:embed="rId1"/>
          <a:stretch/>
        </p:blipFill>
        <p:spPr>
          <a:xfrm>
            <a:off x="3203640" y="1700280"/>
            <a:ext cx="3816360" cy="374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j0343343"/>
          <p:cNvPicPr/>
          <p:nvPr/>
        </p:nvPicPr>
        <p:blipFill>
          <a:blip r:embed="rId2"/>
          <a:stretch/>
        </p:blipFill>
        <p:spPr>
          <a:xfrm>
            <a:off x="5867280" y="3500280"/>
            <a:ext cx="3035520" cy="3157560"/>
          </a:xfrm>
          <a:prstGeom prst="rect">
            <a:avLst/>
          </a:prstGeom>
          <a:ln w="0">
            <a:noFill/>
          </a:ln>
        </p:spPr>
      </p:pic>
      <p:sp>
        <p:nvSpPr>
          <p:cNvPr id="194" name="Стрелка влево 4">
            <a:hlinkClick r:id="rId3"/>
          </p:cNvPr>
          <p:cNvSpPr/>
          <p:nvPr/>
        </p:nvSpPr>
        <p:spPr>
          <a:xfrm>
            <a:off x="3357720" y="6215040"/>
            <a:ext cx="928440" cy="3571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редели вид текс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986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1.    Я давно мечтала о заводной игрушке. И вот на день рождения мама подарила мне осли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4" descr="http://www.lenagold.ru/fon/clipart/o/osel/osel02.png"/>
          <p:cNvPicPr/>
          <p:nvPr/>
        </p:nvPicPr>
        <p:blipFill>
          <a:blip r:embed="rId1"/>
          <a:stretch/>
        </p:blipFill>
        <p:spPr>
          <a:xfrm>
            <a:off x="5219640" y="3573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Ослик был очень симпатичный: серенький, маленький, с беленькими мягкими ушками. Он забавно вертел хвостом. На конце хвостика крутилась пушистая кисто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5" descr="j0343343"/>
          <p:cNvPicPr/>
          <p:nvPr/>
        </p:nvPicPr>
        <p:blipFill>
          <a:blip r:embed="rId1"/>
          <a:stretch/>
        </p:blipFill>
        <p:spPr>
          <a:xfrm>
            <a:off x="5867280" y="3500280"/>
            <a:ext cx="30355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11280" y="475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3.     Я люблю своего ослика, потому что с ним  весело  играть. Я берегу ег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12" descr="http://i017.radikal.ru/0801/ba/4352a7d1cfad.png"/>
          <p:cNvPicPr/>
          <p:nvPr/>
        </p:nvPicPr>
        <p:blipFill>
          <a:blip r:embed="rId1"/>
          <a:stretch/>
        </p:blipFill>
        <p:spPr>
          <a:xfrm>
            <a:off x="5724360" y="2852640"/>
            <a:ext cx="2089440" cy="324180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лево 3"/>
          <p:cNvSpPr/>
          <p:nvPr/>
        </p:nvSpPr>
        <p:spPr>
          <a:xfrm>
            <a:off x="3000240" y="5929200"/>
            <a:ext cx="1214640" cy="357480"/>
          </a:xfrm>
          <a:prstGeom prst="leftArrow">
            <a:avLst>
              <a:gd name="adj1" fmla="val 50000"/>
              <a:gd name="adj2" fmla="val 4996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Задание (буквенный диктант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слушайте текст и определите его вид, записав начальной буквой в тетрадь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(описание – о, рассуждение – р, сообщение –е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пример: р, о, е, р,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-181080" y="1052280"/>
            <a:ext cx="9074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етя часто болел. Его товарищи играли во дворе, а Петя только смотрел в окно. Надоело мальчику болеть. Стал он делать зарядку, обливаться холодной водой. Скоро Петя окреп и перестал болет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50920" y="151920"/>
            <a:ext cx="813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 виду рысь на кошку похожа, только крупная. Она плоская с боков, в груди узкая, только лапы толстые, сильные. Мех густой с пятнам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0920" y="189000"/>
            <a:ext cx="8129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 полях белой скатертью лежит снег. А почему он не тает? Почему его ветром не сдувает? Зимой температура понижается, вот снег и не тает , накапливается. Поэтому и ветер не может его сдуть, так много снега лежит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3284280"/>
            <a:ext cx="8675640" cy="33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74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Вставайте дружно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Каждый раз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Когда учитель входит в класс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Парта – это не кровать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И на ней нельзя лежать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Ты сиди за партой стройно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И веди себя достойно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На уроках не болтай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Как заморский попугай.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Ответить хочешь – не шуми,</a:t>
            </a:r>
            <a:br>
              <a:rPr sz="3600"/>
            </a:b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         А только руку подним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6" descr="ANTN029"/>
          <p:cNvPicPr/>
          <p:nvPr/>
        </p:nvPicPr>
        <p:blipFill>
          <a:blip r:embed="rId1"/>
          <a:stretch/>
        </p:blipFill>
        <p:spPr>
          <a:xfrm>
            <a:off x="7093080" y="2781360"/>
            <a:ext cx="216036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колько разных цветов на земле! Гвоздика красивый цветок. У неё узкие листья и тонкий, хрупкий стебель. И на тонкой, как соломинка, ножке полыхают яркие огонь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151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ступило лето. Яркое солнце греет землю. Всё кругом цветёт и зеленеет. На лугу уже скосили траву. Грызунам трудно стало прятаться от хищник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755640" y="115920"/>
            <a:ext cx="7696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Почему воробьи выбирают для ночлега самые освещённые места? А вот почему. К зиме филины, сычи переселяются из лесов на окраины городов и нападают на птиц. На голых деревьях в темноте они легко находят себе добычу. Это и заставляет птиц прятаться зимой от хищников в центре города. Хищники не прилетят сюда. Яркий                             свет ослепляет и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Стрелка влево 2"/>
          <p:cNvSpPr/>
          <p:nvPr/>
        </p:nvSpPr>
        <p:spPr>
          <a:xfrm>
            <a:off x="6357960" y="621504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696080" cy="4753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703dff"/>
                </a:solidFill>
                <a:latin typeface="Arial"/>
              </a:rPr>
              <a:t>с, о, р, о, с, р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- «верно» или 1 неверный отв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2 - 3 неверных отв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-  4 - 5 неверных ответов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Улыбающееся лицо 4"/>
          <p:cNvSpPr/>
          <p:nvPr/>
        </p:nvSpPr>
        <p:spPr>
          <a:xfrm>
            <a:off x="755640" y="2492280"/>
            <a:ext cx="79056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Улыбающееся лицо 7"/>
          <p:cNvSpPr/>
          <p:nvPr/>
        </p:nvSpPr>
        <p:spPr>
          <a:xfrm>
            <a:off x="755640" y="3645000"/>
            <a:ext cx="720720" cy="647640"/>
          </a:xfrm>
          <a:prstGeom prst="smileyFace">
            <a:avLst>
              <a:gd name="adj" fmla="val -221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Улыбающееся лицо 6"/>
          <p:cNvSpPr/>
          <p:nvPr/>
        </p:nvSpPr>
        <p:spPr>
          <a:xfrm>
            <a:off x="755640" y="4653000"/>
            <a:ext cx="765360" cy="6444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лево 8"/>
          <p:cNvSpPr/>
          <p:nvPr/>
        </p:nvSpPr>
        <p:spPr>
          <a:xfrm>
            <a:off x="5857920" y="6286680"/>
            <a:ext cx="107136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Итог уро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Что не знали никогда, а на этом уроке узнали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9" descr="j0232128"/>
          <p:cNvPicPr/>
          <p:nvPr/>
        </p:nvPicPr>
        <p:blipFill>
          <a:blip r:embed="rId1"/>
          <a:stretch/>
        </p:blipFill>
        <p:spPr>
          <a:xfrm>
            <a:off x="5508720" y="3860640"/>
            <a:ext cx="2950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8491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Что такое текс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зовите виды текстов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На какие вопросы они отвечают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7" descr="_ЭМБЛЕМА"/>
          <p:cNvPicPr/>
          <p:nvPr/>
        </p:nvPicPr>
        <p:blipFill>
          <a:blip r:embed="rId1"/>
          <a:stretch/>
        </p:blipFill>
        <p:spPr>
          <a:xfrm>
            <a:off x="6948360" y="4581360"/>
            <a:ext cx="1255680" cy="1828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спомн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Стрелка влево 4"/>
          <p:cNvSpPr/>
          <p:nvPr/>
        </p:nvSpPr>
        <p:spPr>
          <a:xfrm>
            <a:off x="3286080" y="6000840"/>
            <a:ext cx="1214640" cy="428400"/>
          </a:xfrm>
          <a:prstGeom prst="leftArrow">
            <a:avLst>
              <a:gd name="adj1" fmla="val 50000"/>
              <a:gd name="adj2" fmla="val 50038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3880" y="1000080"/>
            <a:ext cx="7696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1" lang="ru-RU" sz="40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Составить текст и записать в тетрадь о своей любимой игрушке (5-6предлож.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–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Выполнить задание в учебнике с.81 упр.14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- Выполнить задание по карточке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5" descr="http://s50.radikal.ru/i128/1005/56/b17d8f879d67.png"/>
          <p:cNvPicPr/>
          <p:nvPr/>
        </p:nvPicPr>
        <p:blipFill>
          <a:blip r:embed="rId1"/>
          <a:stretch/>
        </p:blipFill>
        <p:spPr>
          <a:xfrm>
            <a:off x="2916360" y="5084640"/>
            <a:ext cx="4752720" cy="1440000"/>
          </a:xfrm>
          <a:prstGeom prst="rect">
            <a:avLst/>
          </a:prstGeom>
          <a:ln w="0">
            <a:noFill/>
          </a:ln>
        </p:spPr>
      </p:pic>
      <p:sp>
        <p:nvSpPr>
          <p:cNvPr id="228" name="Улыбающееся лицо 4"/>
          <p:cNvSpPr/>
          <p:nvPr/>
        </p:nvSpPr>
        <p:spPr>
          <a:xfrm>
            <a:off x="214200" y="1143000"/>
            <a:ext cx="790560" cy="647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лыбающееся лицо 5"/>
          <p:cNvSpPr/>
          <p:nvPr/>
        </p:nvSpPr>
        <p:spPr>
          <a:xfrm>
            <a:off x="214200" y="2928960"/>
            <a:ext cx="720720" cy="647640"/>
          </a:xfrm>
          <a:prstGeom prst="smileyFace">
            <a:avLst>
              <a:gd name="adj" fmla="val -2212"/>
            </a:avLst>
          </a:prstGeom>
          <a:solidFill>
            <a:srgbClr val="33cc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лыбающееся лицо 6"/>
          <p:cNvSpPr/>
          <p:nvPr/>
        </p:nvSpPr>
        <p:spPr>
          <a:xfrm>
            <a:off x="214200" y="4214880"/>
            <a:ext cx="765360" cy="64440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трелка влево 7"/>
          <p:cNvSpPr/>
          <p:nvPr/>
        </p:nvSpPr>
        <p:spPr>
          <a:xfrm>
            <a:off x="7715160" y="6357960"/>
            <a:ext cx="928800" cy="35712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42560" y="404280"/>
            <a:ext cx="7178760" cy="22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1" lang="ru-RU" sz="9600" spc="-1" strike="noStrike">
                <a:solidFill>
                  <a:srgbClr val="00b2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0066ff"/>
                </a:solidFill>
                <a:latin typeface="Comic Sans MS"/>
              </a:rPr>
              <a:t>л</a:t>
            </a:r>
            <a:r>
              <a:rPr b="1" lang="ru-RU" sz="9600" spc="-1" strike="noStrike">
                <a:solidFill>
                  <a:srgbClr val="ff6600"/>
                </a:solidFill>
                <a:latin typeface="Comic Sans MS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mic Sans MS"/>
              </a:rPr>
              <a:t>д</a:t>
            </a:r>
            <a:r>
              <a:rPr b="1" lang="ru-RU" sz="9600" spc="-1" strike="noStrike">
                <a:solidFill>
                  <a:srgbClr val="ffff00"/>
                </a:solidFill>
                <a:latin typeface="Comic Sans MS"/>
              </a:rPr>
              <a:t>ц</a:t>
            </a:r>
            <a:r>
              <a:rPr b="1" lang="ru-RU" sz="9600" spc="-1" strike="noStrike">
                <a:solidFill>
                  <a:srgbClr val="3399ff"/>
                </a:solidFill>
                <a:latin typeface="Comic Sans MS"/>
              </a:rPr>
              <a:t>ы</a:t>
            </a:r>
            <a:r>
              <a:rPr b="1" lang="ru-RU" sz="9600" spc="-1" strike="noStrike">
                <a:solidFill>
                  <a:srgbClr val="ff0000"/>
                </a:solidFill>
                <a:latin typeface="Comic Sans MS"/>
              </a:rPr>
              <a:t>!!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3" descr="Картинка 91 из 180738"/>
          <p:cNvPicPr/>
          <p:nvPr/>
        </p:nvPicPr>
        <p:blipFill>
          <a:blip r:embed="rId1"/>
          <a:stretch/>
        </p:blipFill>
        <p:spPr>
          <a:xfrm>
            <a:off x="1763640" y="1989000"/>
            <a:ext cx="5977080" cy="439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11280" y="18900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зерв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Моя сестрёнка Вера заболела. Мама была на работе. Я попросил своего товарища вызвать врача. Доктор выписал Вере лекар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4360" y="764640"/>
            <a:ext cx="7696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Рысь ночное животное. Весь день лежит она на толстой ветке, либо заберётся в нору. Часами лежит, не шелохнётся. Ночью рысь на охоту отправляет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-360" y="1628280"/>
            <a:ext cx="831708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Без русского языка не сколотишь и сапог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5560" y="450720"/>
            <a:ext cx="80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бъясни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смысл пословицы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ILE1"/>
          <p:cNvPicPr/>
          <p:nvPr/>
        </p:nvPicPr>
        <p:blipFill>
          <a:blip r:embed="rId1"/>
          <a:stretch/>
        </p:blipFill>
        <p:spPr>
          <a:xfrm>
            <a:off x="5292720" y="3357720"/>
            <a:ext cx="2666880" cy="2193840"/>
          </a:xfrm>
          <a:prstGeom prst="rect">
            <a:avLst/>
          </a:prstGeom>
          <a:ln w="0">
            <a:noFill/>
          </a:ln>
        </p:spPr>
      </p:pic>
      <p:sp>
        <p:nvSpPr>
          <p:cNvPr id="94" name="Стрелка влево 4">
            <a:hlinkClick r:id="rId2"/>
          </p:cNvPr>
          <p:cNvSpPr/>
          <p:nvPr/>
        </p:nvSpPr>
        <p:spPr>
          <a:xfrm>
            <a:off x="3000240" y="6286680"/>
            <a:ext cx="1214640" cy="35712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Грачи прилетели. К больному приехал врач. Тает снег. Мальчик читает. Цветёт черёмуха. Мама купила фрукты и овощ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Скворец немного похож на чёрного дрозда. Однако скворец меньше, хвост  у него короче, а крылья треугольные и заострены на конца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Песня скворца это весьма разнообразная смесь свиста, щелчков и трес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50920" y="151920"/>
            <a:ext cx="813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Барсук довольно крупный до 90 см зверь с серебристо-серой щетиной. От носа к затылку тянуться желтовато-белые полосы, а через глаза и уши - чёрная полоса. На мягком снегу хорошо видны следы его сильных лап с крепкими когтя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11280" y="18900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редели вид текста и запиши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703dff"/>
                </a:solidFill>
                <a:latin typeface="Arial"/>
              </a:rPr>
              <a:t>Моя сестрёнка Вера заболела. Мама была на работе. Я попросил своего товарища вызвать врача. Доктор выписал Вере лекар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Стрелка влево 2"/>
          <p:cNvSpPr/>
          <p:nvPr/>
        </p:nvSpPr>
        <p:spPr>
          <a:xfrm>
            <a:off x="4572000" y="6000840"/>
            <a:ext cx="1143000" cy="42840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садка при письм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Я тетрадочку открою,</a:t>
            </a:r>
            <a:r>
              <a:rPr b="1" lang="en-US" sz="3600" spc="-1" strike="noStrike">
                <a:solidFill>
                  <a:srgbClr val="703dff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Уголочком положу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И от вас, друзья, не скрою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Ручку я, «вот-так» держу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Сяду прямо, не согнусь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За работу я возьмусь !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106" descr="j0343343"/>
          <p:cNvPicPr/>
          <p:nvPr/>
        </p:nvPicPr>
        <p:blipFill>
          <a:blip r:embed="rId1"/>
          <a:stretch/>
        </p:blipFill>
        <p:spPr>
          <a:xfrm>
            <a:off x="5867280" y="3500280"/>
            <a:ext cx="3035520" cy="3157560"/>
          </a:xfrm>
          <a:prstGeom prst="rect">
            <a:avLst/>
          </a:prstGeom>
          <a:ln w="0">
            <a:noFill/>
          </a:ln>
        </p:spPr>
      </p:pic>
      <p:sp>
        <p:nvSpPr>
          <p:cNvPr id="98" name="Стрелка влево 4">
            <a:hlinkClick r:id="rId2"/>
          </p:cNvPr>
          <p:cNvSpPr/>
          <p:nvPr/>
        </p:nvSpPr>
        <p:spPr>
          <a:xfrm>
            <a:off x="2857680" y="5643720"/>
            <a:ext cx="107136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698184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В  белом  поле  синие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ротянулись  линии,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А  по  ним  друзья  идут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Друг  друга  за  руки  ведут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4" descr="ANTN029"/>
          <p:cNvPicPr/>
          <p:nvPr/>
        </p:nvPicPr>
        <p:blipFill>
          <a:blip r:embed="rId1"/>
          <a:stretch/>
        </p:blipFill>
        <p:spPr>
          <a:xfrm>
            <a:off x="6877080" y="2924280"/>
            <a:ext cx="255096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1196640" y="306360"/>
            <a:ext cx="526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тгадайте загадку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лево 4">
            <a:hlinkClick r:id="rId2"/>
          </p:cNvPr>
          <p:cNvSpPr/>
          <p:nvPr/>
        </p:nvSpPr>
        <p:spPr>
          <a:xfrm>
            <a:off x="3000240" y="607212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468360" y="333360"/>
            <a:ext cx="8388360" cy="1150920"/>
          </a:xfrm>
          <a:prstGeom prst="rect">
            <a:avLst/>
          </a:prstGeom>
          <a:noFill/>
          <a:ln w="9360">
            <a:solidFill>
              <a:srgbClr val="ffef66"/>
            </a:solidFill>
            <a:miter/>
          </a:ln>
          <a:effectLst>
            <a:outerShdw dist="40186" dir="4303641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b800"/>
                </a:solidFill>
                <a:latin typeface="Arial"/>
              </a:rPr>
              <a:t>Чистописание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908000" y="1700280"/>
            <a:ext cx="6166080" cy="41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Arial"/>
              </a:rPr>
              <a:t>Т е  к    с  т</a:t>
            </a:r>
            <a:r>
              <a:rPr b="1" lang="ru-RU" sz="87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i="1" lang="en-US" sz="8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j0232133"/>
          <p:cNvPicPr/>
          <p:nvPr/>
        </p:nvPicPr>
        <p:blipFill>
          <a:blip r:embed="rId1"/>
          <a:stretch/>
        </p:blipFill>
        <p:spPr>
          <a:xfrm>
            <a:off x="6084720" y="3716280"/>
            <a:ext cx="287820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Стрелка влево 4">
            <a:hlinkClick r:id="rId2"/>
          </p:cNvPr>
          <p:cNvSpPr/>
          <p:nvPr/>
        </p:nvSpPr>
        <p:spPr>
          <a:xfrm>
            <a:off x="3786120" y="5929200"/>
            <a:ext cx="1143000" cy="42876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197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Текст- это два или несколько предложений, связанных между собой по смыслу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Текст можно озаглавить. В литературе используются разные виды текст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692360" y="333360"/>
            <a:ext cx="532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Что знаю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Что </a:t>
            </a:r>
            <a:r>
              <a:rPr b="1" lang="ru-RU" sz="4400" spc="-1" strike="noStrike">
                <a:solidFill>
                  <a:srgbClr val="703dff"/>
                </a:solidFill>
                <a:latin typeface="Arial"/>
              </a:rPr>
              <a:t>хочу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узнать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лево 3">
            <a:hlinkClick r:id="rId1"/>
          </p:cNvPr>
          <p:cNvSpPr/>
          <p:nvPr/>
        </p:nvSpPr>
        <p:spPr>
          <a:xfrm>
            <a:off x="6500880" y="635796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Тема: Виды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Познакомимся с разными видами текст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703d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Будем учиться распознавать их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Стрелка влево 3">
            <a:hlinkClick r:id="rId1"/>
          </p:cNvPr>
          <p:cNvSpPr/>
          <p:nvPr/>
        </p:nvSpPr>
        <p:spPr>
          <a:xfrm>
            <a:off x="4000680" y="6143760"/>
            <a:ext cx="100008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чера я был в цирке и видел тигров. Что они только не выделывали! Сначала вставали на задние лапы, потом прыгали с тумбы на тумбу и даже через горящие кольца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1916280"/>
            <a:ext cx="8893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чера я был в цирке и видел тигров. Какие они красивые и сильные! Шкура у них полосатая, яркая, глаза горят зелёным огнём, лапы упругие. А когда тигры рычат, видны белые клык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378936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Вчера я был в</a:t>
            </a:r>
            <a:r>
              <a:rPr b="1" lang="ru-RU" sz="36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03dff"/>
                </a:solidFill>
                <a:latin typeface="Arial"/>
              </a:rPr>
              <a:t>цирке и видел тигров. Почему такие сильные звери слушаются дрессировщика? Может, потому что человек их не боится? Или потому что дрессировщик заботится о них? А как вы думаете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лево 4">
            <a:hlinkClick r:id="rId1"/>
          </p:cNvPr>
          <p:cNvSpPr/>
          <p:nvPr/>
        </p:nvSpPr>
        <p:spPr>
          <a:xfrm>
            <a:off x="4714920" y="6143760"/>
            <a:ext cx="100008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олчанова  М.А.</dc:creator>
  <dc:description/>
  <dc:language>en-US</dc:language>
  <cp:lastModifiedBy>Мастер</cp:lastModifiedBy>
  <dcterms:modified xsi:type="dcterms:W3CDTF">2022-05-02T14:15:31Z</dcterms:modified>
  <cp:revision>27</cp:revision>
  <dc:subject>русский  язык</dc:subject>
  <dc:title>PowerPoint Presentation</dc:title>
</cp:coreProperties>
</file>