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0FB-D6C2-4311-849E-6EC29729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9B8-C57B-4F33-9A85-3B6AC28B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027-14DE-463A-8646-E91C8985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92D-7A3A-4305-973D-9A0648CB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825-A6F6-4184-A942-C3AAE292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0CD-5603-415D-9582-86D41151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5A5-2453-406F-951B-EBA5BB80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08D-5F4E-4C5D-B41D-416D6CAE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C93-664B-4161-9AA1-10395F4B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A1B-8805-4756-B2D3-E8A33351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BA4-F526-4EED-822A-63EC14B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003-E6A7-4EF9-945B-6E267275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6E05-AEFD-4D7E-B203-E5949D8CC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0;&#1075;&#1088;&#1099;&#1079;&#1089;&#1082;&#1080;&#1081;_&#1088;&#1072;&#1081;&#1086;&#1085;" TargetMode="External"/><Relationship Id="rId3" Type="http://schemas.openxmlformats.org/officeDocument/2006/relationships/hyperlink" Target="https://ru.wikipedia.org/wiki/&#1040;&#1075;&#1088;&#1099;&#1079;&#1089;&#1082;&#1080;&#1081;_&#1088;&#1072;&#1081;&#1086;&#1085;" TargetMode="External"/><Relationship Id="rId4" Type="http://schemas.openxmlformats.org/officeDocument/2006/relationships/hyperlink" Target="http://agryz.tatarstan.ru/rus/about/istoria.htm" TargetMode="External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304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Республиканский конкурс  краеведческих математ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«Татарстан в математических задач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8120" y="114300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Номинация конкурса: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«Моя малая Родина в математических задач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58000" y="205668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«Агрызский район в математических задач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0880" y="2971440"/>
            <a:ext cx="659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втор:  ученица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класса Шакирова Азалия Ильга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Шакирова Зульфия Хайд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466416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Девятернинская основ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и Лябиба Айтуг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рыз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и Татарст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1592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6 600 чел –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 чел          - 58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6 600 * 58  : 100 = 21 228 (тат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способ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8% = 0,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6 600 * 0,58= 21 228 (тат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 228 татар живет в Агрызском райо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66680" y="-432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Задача №5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24 году Агрызский кантон был преобразован в Агрызский район, определены его границы. Агрыз стал районным цент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27  году в Агрызском районе проживали татары, русские, удмурты. Татаров было 41 546 человек.  Русских было на 24 610 человек меньше, чем татары. А удмурты проживали на 8 раз меньше, чем русские. Сколько людей проживал в 1927 году в Агрызском райо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-46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838080"/>
          <a:ext cx="8229600" cy="2193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та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мурт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 546 челове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 на 24 610 человек меньше, чем татары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на 8 раз меньше, чем русски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523880" y="3001320"/>
            <a:ext cx="7419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 546 - 24 610 = 16 936 (чел) – 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936 : 8= 2 117 (чел) – удму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 546 + 16 936 + 2 117 = 60 599 (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способ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 546 + (41 546 - 24 610) + ((41 546 - 24 610):8) = 60 599 (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 599 человек  проживал в 1927 году в Агрызском район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3016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Задача №6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г. Агрыз  до г.Казани  304 км , а  до Ижевска 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 км. Во сколько раз больше расстояние до Казани, чем в Ижев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14800" y="3398760"/>
            <a:ext cx="5029200" cy="345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434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280" y="194400"/>
            <a:ext cx="83822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            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способ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04: 38= (8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 * х = 3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=  304 :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= 8 (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твет:  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 больше расстояние до Казани, чем в Ижев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76760" y="0"/>
            <a:ext cx="44672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460440"/>
            <a:ext cx="822960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итература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ru.wikipedia.org/wiki/Агрызский_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йонная газета «Агрызские вест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грызский район. История и геральд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gryz.tatarstan.ru/rus/about/istori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арданов Р.Ф.,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Һадиев И.Г. Әгерҗе төбәге тарихы.-казан: “Тамга “ нәшр.,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5.  Документы из школьного муз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00200" y="1295280"/>
            <a:ext cx="6781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5000" y="3657600"/>
            <a:ext cx="2933640" cy="1866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Coat of Arms of Agryz rayon (Tatarstan).png"/>
          <p:cNvPicPr/>
          <p:nvPr/>
        </p:nvPicPr>
        <p:blipFill>
          <a:blip r:embed="rId3"/>
          <a:stretch/>
        </p:blipFill>
        <p:spPr>
          <a:xfrm>
            <a:off x="0" y="0"/>
            <a:ext cx="1657440" cy="2076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lag of Agryz rayon (Tatarstan).png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5200" y="152280"/>
            <a:ext cx="556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рызский район (Әгерҗе районы) —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ый район в составе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и Татарстан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ся на северо-востоке реги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ничит с  Удмуртской Республи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9029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алеком прошлом Агрыз, небольшой типич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тарский поселок с кривыми и грязными улоч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лагался в живописной местности недале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устья речки Агрызки, впадающей в реку И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4240" y="4998600"/>
            <a:ext cx="67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десь поселились тата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инувшие Казань и прилег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ней территории, спасаясь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естокой эксплуатации Ивана IV Грозно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287640"/>
            <a:ext cx="86104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Задача №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рвые Агрыз упоминается в перепис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гах 1646 года, есть все основания считать эт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д  началом основания поселения Агрыз-Агер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лет прошло со дня осн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еления Агрыз-Агер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5181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3501720"/>
            <a:ext cx="8610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71 (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71 год прошел со д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ния поселения   Агрыз-Агер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О"/>
          <p:cNvPicPr/>
          <p:nvPr/>
        </p:nvPicPr>
        <p:blipFill>
          <a:blip r:embed="rId2"/>
          <a:stretch/>
        </p:blipFill>
        <p:spPr>
          <a:xfrm rot="20980200">
            <a:off x="241200" y="455400"/>
            <a:ext cx="4953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0200" y="4739760"/>
            <a:ext cx="75438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Задача №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в уравнение, вы найд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района в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х – 3 024,14=2 365,72  –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22860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ызский рай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ло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еверо-вост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тарст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однож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рапуль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ыш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берегу реки Иж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358560"/>
            <a:ext cx="8610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х – 3 024,14=2 365,72  –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х + х= 2 365,72 + 3 024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х= 5 389,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= 5 389,86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= 1 796,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Площадь района — 1796,62  км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4420080"/>
            <a:ext cx="861048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дача №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площадь, покрытая лесом,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2 548 га, из которых хвойные породы – 20 52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, твердолиственные - 1 718 га, а осталь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гколиственные.   Сколько га составляет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гколиственные породы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1237000">
            <a:off x="228600" y="228240"/>
            <a:ext cx="5619600" cy="419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943600" y="144792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394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3520" y="990720"/>
          <a:ext cx="8229600" cy="200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йные пор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олиств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ягк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нны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площадь лес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528 г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8 г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548 г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143000" y="3152880"/>
            <a:ext cx="7800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способ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2 548 га - 20 528 га - 1 718 га =  20302( га ) – мягколиственные  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спосо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 528 га + 1 718 га) = 22 246 (га) – хвойные и твердолиственные 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2 548 га - 22 246 га = 20302( га ) - мягколиственные 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302  га составляют   мягколиственные  ле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0200" y="4038480"/>
            <a:ext cx="75438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Задача №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численность населения  Агрызского района  составляет  36 600 человека. 58% составляют  татары. Сколько татар живет в Агрызском райо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ашем районе живут люди разной национальности. Русские, татары, удмурты, марийцы живут в мире и в согла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Оп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2T17:47:41Z</dcterms:created>
  <dc:creator>Зульфия Хайдаровна</dc:creator>
  <dc:description/>
  <dc:language>en-US</dc:language>
  <cp:lastModifiedBy>User</cp:lastModifiedBy>
  <dcterms:modified xsi:type="dcterms:W3CDTF">2017-03-24T08:23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