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56E1-25AB-4B00-BAAB-62F76207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F1B5-8C03-473D-8C0C-90A53D49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EF03-E86E-4EDC-A1B9-0AEDB8DF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B70-8024-47BA-8422-A4C496E8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51E6-B611-4CAF-8FD2-237D2234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6C19-5985-474F-B70D-6BA9FF20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7486-81C5-48D4-A819-D2F59B60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31B-9F1A-43DE-BC48-A4492E3A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A95E-04F2-4115-9EFC-3C91B7FE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52E4-D206-4C55-9524-E7E70F83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909F-F6A9-440D-ABC9-2A97C46E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028B-71B7-4C37-9DD0-F786AC52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8151-B380-4DE1-AE9E-E7E04A23A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40;&#1075;&#1088;&#1099;&#1079;&#1089;&#1082;&#1080;&#1081;_&#1088;&#1072;&#1081;&#1086;&#1085;" TargetMode="External"/><Relationship Id="rId3" Type="http://schemas.openxmlformats.org/officeDocument/2006/relationships/hyperlink" Target="https://ru.wikipedia.org/wiki/&#1040;&#1075;&#1088;&#1099;&#1079;&#1089;&#1082;&#1080;&#1081;_&#1088;&#1072;&#1081;&#1086;&#1085;" TargetMode="External"/><Relationship Id="rId4" Type="http://schemas.openxmlformats.org/officeDocument/2006/relationships/hyperlink" Target="http://agryz.tatarstan.ru/rus/about/istoria.htm" TargetMode="External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304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Республиканский конкурс  краеведческих математически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«Татарстан в математических задач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8120" y="1143000"/>
            <a:ext cx="81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Номинация конкурса: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«Моя малая Родина в математических задач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58000" y="205668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ем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 «Агрызский район в математических задач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80880" y="2971440"/>
            <a:ext cx="659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втор:  ученица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класса Шакирова Азалия Ильгам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уководитель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Шакирова Зульфия Хайда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466416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«Девятернинская основна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ни Лябиба Айтуг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грызского муниципальн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спублики Татарста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15920"/>
            <a:ext cx="86104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Реш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 спосо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6 600 чел –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 чел          - 58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6 600 * 58  : 100 = 21 228 (тата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 способ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8% = 0,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6 600 * 0,58= 21 228 (тата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1 228 татар живет в Агрызском район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66680" y="-4320"/>
            <a:ext cx="754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Задача №5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924 году Агрызский кантон был преобразован в Агрызский район, определены его границы. Агрыз стал районным центр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927  году в Агрызском районе проживали татары, русские, удмурты. Татаров было 41 546 человек.  Русских было на 24 610 человек меньше, чем татары. А удмурты проживали на 8 раз меньше, чем русские. Сколько людей проживал в 1927 году в Агрызском райо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-46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Реш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3520" y="838080"/>
          <a:ext cx="8229600" cy="2193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тар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мурт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 546 человек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 на 24 610 человек меньше, чем татары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на 8 раз меньше, чем русские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523880" y="3001320"/>
            <a:ext cx="7419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 спосо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1 546 - 24 610 = 16 936 (чел) – рус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6936 : 8= 2 117 (чел) – удму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1 546 + 16 936 + 2 117 = 60 599 ( че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 способ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1 546 + (41 546 - 24 610) + ((41 546 - 24 610):8) = 60 599 ( че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0 599 человек  проживал в 1927 году в Агрызском район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2000" y="30168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Задача №6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 г. Агрыз  до г.Казани  304 км , а  до Ижевска 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 км. Во сколько раз больше расстояние до Казани, чем в Ижевс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14800" y="3398760"/>
            <a:ext cx="5029200" cy="3459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3434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52280" y="194400"/>
            <a:ext cx="83822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            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Решение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способ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304: 38= (8 ра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спосо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 * х = 3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 =  304 : 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 = 8 (ра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Ответ:  8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 больше расстояние до Казани, чем в Ижев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76760" y="0"/>
            <a:ext cx="44672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2120" y="460440"/>
            <a:ext cx="8229600" cy="41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Литература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ru.wikipedia.org/wiki/Агрызский_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Районная газета «Агрызские вест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грызский район. История и геральд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agryz.tatarstan.ru/rus/about/istoria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Марданов Р.Ф., 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Һадиев И.Г. Әгерҗе төбәге тарихы.-казан: “Тамга “ нәшр.,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5.  Документы из школьного музе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600200" y="1295280"/>
            <a:ext cx="67816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15000" y="3657600"/>
            <a:ext cx="2933640" cy="1866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Coat of Arms of Agryz rayon (Tatarstan).png"/>
          <p:cNvPicPr/>
          <p:nvPr/>
        </p:nvPicPr>
        <p:blipFill>
          <a:blip r:embed="rId3"/>
          <a:stretch/>
        </p:blipFill>
        <p:spPr>
          <a:xfrm>
            <a:off x="0" y="0"/>
            <a:ext cx="1657440" cy="2076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Flag of Agryz rayon (Tatarstan).png"/>
          <p:cNvPicPr/>
          <p:nvPr/>
        </p:nvPicPr>
        <p:blipFill>
          <a:blip r:embed="rId4"/>
          <a:stretch/>
        </p:blipFill>
        <p:spPr>
          <a:xfrm>
            <a:off x="7238880" y="0"/>
            <a:ext cx="1905120" cy="126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5200" y="152280"/>
            <a:ext cx="556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грызский район (Әгерҗе районы) —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ый район в составе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спублики Татарстан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ится на северо-востоке регио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ничит с  Удмуртской Республи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90296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алеком прошлом Агрыз, небольшой типич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тарский поселок с кривыми и грязными улочк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олагался в живописной местности недале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устья речки Агрызки, впадающей в реку Иж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4240" y="4998600"/>
            <a:ext cx="674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десь поселились тата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кинувшие Казань и прилега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ней территории, спасаясь 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естокой эксплуатации Ивана IV Грозног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287640"/>
            <a:ext cx="86104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Задача №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ервые Агрыз упоминается в перепис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нигах 1646 года, есть все основания считать эт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д  началом основания поселения Агрыз-Агер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лет прошло со дня осн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еления Агрыз-Агерж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5181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38080" y="3501720"/>
            <a:ext cx="8610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Реш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6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71 (г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71 год прошел со дн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ания поселения   Агрыз-Агер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О"/>
          <p:cNvPicPr/>
          <p:nvPr/>
        </p:nvPicPr>
        <p:blipFill>
          <a:blip r:embed="rId2"/>
          <a:stretch/>
        </p:blipFill>
        <p:spPr>
          <a:xfrm rot="20980200">
            <a:off x="241200" y="455400"/>
            <a:ext cx="4953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00200" y="4739760"/>
            <a:ext cx="75438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Задача №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ив уравнение, вы найд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района в км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х – 3 024,14=2 365,72  – 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228600"/>
            <a:ext cx="2971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грызский рай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оло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еверо-вост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тарст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поднож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рапуль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вышен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берегу реки Иж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358560"/>
            <a:ext cx="8610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Реш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х – 3 024,14=2 365,72  – 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х + х= 2 365,72 + 3 024,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х= 5 389,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 = 5 389,86 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 = 1 796,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Площадь района — 1796,62  км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4420080"/>
            <a:ext cx="861048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Задача №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ая площадь, покрытая лесом, составл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2 548 га, из которых хвойные породы – 20 528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, твердолиственные - 1 718 га, а остальн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ягколиственные.   Сколько га составляет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ягколиственные породы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 rot="21237000">
            <a:off x="228600" y="228240"/>
            <a:ext cx="5619600" cy="419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943600" y="1447920"/>
            <a:ext cx="3200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8600" y="39456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Реш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33520" y="990720"/>
          <a:ext cx="8229600" cy="2009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войные пор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ердолиствен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ягко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енны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площадь лес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528 г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18 г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548 г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1143000" y="3152880"/>
            <a:ext cx="7800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 способ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2 548 га - 20 528 га - 1 718 га =  20302( га ) – мягколиственные  л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 спосо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20 528 га + 1 718 га) = 22 246 (га) – хвойные и твердолиственные л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2 548 га - 22 246 га = 20302( га ) - мягколиственные  л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вет: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302  га составляют   мягколиственные  ле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00200" y="4038480"/>
            <a:ext cx="754380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Задача №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 численность населения  Агрызского района  составляет  36 600 человека. 58% составляют  татары. Сколько татар живет в Агрызском райо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04920"/>
            <a:ext cx="304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нашем районе живут люди разной национальности. Русские, татары, удмурты, марийцы живут в мире и в согла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Оп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2T17:47:41Z</dcterms:created>
  <dc:creator>Зульфия Хайдаровна</dc:creator>
  <dc:description/>
  <dc:language>en-US</dc:language>
  <cp:lastModifiedBy>User</cp:lastModifiedBy>
  <dcterms:modified xsi:type="dcterms:W3CDTF">2017-03-24T08:23:4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