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0D3-F0AF-4C31-B954-9D26F140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E28-F412-41FF-B91E-44280059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CCD-6A92-4B34-AA99-53FDE244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3E7-D8B6-4027-B5B3-7B99F087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6966-DBA0-49C2-AD53-800E71C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59D9-7108-4D26-A251-4F49A094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647D-0E62-4E3C-931E-8292084D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BCB-D4A9-47C3-9991-C07E4E31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CF77-FA4B-45B3-8390-403C6144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41ED-41CC-4F54-BE25-71DCFF7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6F8-E99D-4E5A-92D9-456606B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E60-360B-4BA7-A421-84A18DA2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C5E2-5BCC-4C9B-BC32-B0DC6F6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91C-D32A-4040-9A32-D938B0C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20CC-FB1B-4349-83FD-C37EF3E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B04-08DE-42AD-BFEC-8F28375E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DC6B-BA40-4711-9660-E75156C0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ECD-D960-46F6-87B9-6C7C4E4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B6D-294A-43F4-B072-5350DFA1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06F-BD54-485D-8B32-2DEE2C3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F60-C27D-478C-9F5C-BA11392D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BFD-2736-49E7-B834-75C68AE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9BF-E2BC-40FB-8289-D5BE1C1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3CE-BE34-46CF-81CE-5368027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1741-DC75-4F11-8F79-B8D299FB4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EF8-35C0-4B8B-877F-6AF4FB3E8E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z1.foto.rambler.ru/public/igorrr-64/1/171/1-webbig.jpg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z1.foto.rambler.ru/public/igorrr-64/1/171/1-webbig.jpg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МБОУ Девятернинская ООШ им. Л.Айтуганова Агрызского муниципального района Республики Татарстан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публиканский конк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едчески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их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атарстан в математических задач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оминация конкурс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Задачи о героях ВО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публики Татарста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ем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:  «Задачи о героях Девятернинского сельского поселения 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Их подвиг бессмерте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Выполнил ученик  2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Бурнышев Адель Иль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уководитель: Шакирова Зульфия Хайда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Картинка 1 из 47"/>
          <p:cNvPicPr/>
          <p:nvPr/>
        </p:nvPicPr>
        <p:blipFill>
          <a:blip r:embed="rId2"/>
          <a:stretch/>
        </p:blipFill>
        <p:spPr>
          <a:xfrm>
            <a:off x="0" y="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312408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5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838080"/>
            <a:ext cx="4572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Абдулл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Альф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Фатых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Родился в 1922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а в рядах Советской Армии с 1942 по 1946 год в составе 911 –го истребительного полка. С 1948 по 1975 год работала учителем русского языка и литературы в Девятернинской шк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ПАСИБО женщинам войны!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они в тылу шинели шили,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аду беды святыми жили,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пасая душу всей страны!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492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началась Великая Отечественная война  Абдуллиной Альфие Фатыховне, учителю русского языка и литературы,  было 19 лет. Если война продолжалась 48 месяцев, сколько исполнится учительнице в 1945 г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8 месяцев = 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 + 4 = 23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2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819520" cy="379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Картинка 1 из 47"/>
          <p:cNvPicPr/>
          <p:nvPr/>
        </p:nvPicPr>
        <p:blipFill>
          <a:blip r:embed="rId3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4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Картинка 1 из 47"/>
          <p:cNvPicPr/>
          <p:nvPr/>
        </p:nvPicPr>
        <p:blipFill>
          <a:blip r:embed="rId5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609480"/>
            <a:ext cx="3970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Шарифул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Габду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Шарифулл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Родился в 1920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 в рядах Советской Армии с 1940 по 1945 год. Учитель географии, черчения. Директор школы с 1947 по 1967 год, председатель сельского совета с 1981 по 1989 г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спомним всех поимен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горем вспомним своим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Это нужно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е мертвы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Это надо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живым!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8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бы  испечь  100 г блокадного  хлеба, взя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щевой целлюлозы—10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лопкового жмыха—10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йной пыли — 2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чной сметки и вытряски из мешков — 2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курузной муки — 3 г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 ржаной муки.  Найдите, сколько  г.  взяли  ржаной м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+10+2+2+3 = 27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-27 = 73 г. - мука  ржа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- 10-10-2-2-3 = 73 г. мука ржа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100 г.  блокадного хлеба взяли  73 г. ржаной м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Концерт 68-ой годовщине Победы в Великой Отечественной войне посвящается. . Ваш досуг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1400" y="609480"/>
            <a:ext cx="732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ы чтим Вас, помним, уважаем!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ам — СЛАВА — ВЕЧНАЯ, ЖИВА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3200"/>
            <a:ext cx="70866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ользованная литература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stihi.ru/2015/02/19/4609    Спасибо за победу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http://www.koipkro.kostroma.ru/«Люди, покуда сердца стучатся, помните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Фотографии из личного архи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16765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рез века, через года, –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тех, кто уже не придет никогда, -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плачь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горле сдержите стоны, горькие ст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мяти павших будьте достой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чно достой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4800600"/>
            <a:ext cx="61722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2" descr="Картинка 1 из 47"/>
          <p:cNvPicPr/>
          <p:nvPr/>
        </p:nvPicPr>
        <p:blipFill>
          <a:blip r:embed="rId4"/>
          <a:stretch/>
        </p:blipFill>
        <p:spPr>
          <a:xfrm rot="21223800">
            <a:off x="0" y="22824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Рисунок1.png"/>
          <p:cNvPicPr/>
          <p:nvPr/>
        </p:nvPicPr>
        <p:blipFill>
          <a:blip r:embed="rId2">
            <a:lum contrast="-20000"/>
          </a:blip>
          <a:srcRect l="0" t="0" r="-23" b="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82 молодых парней и девушек, мужчин и женщин из Девятернинского сельского совета участвовали в Великой Отечественной войн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2209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села Девятерня- 265 человек,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деревни Сосново– 166 челове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деревни Галеево – 50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03848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рнулись на Родину с Поб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село Девятерня – 110 челов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еревню Сосново – 57 челов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еревню  Галеево – 13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669400">
            <a:off x="380880" y="7621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гибли на фронтах Велик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течественной войн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029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села Девятерня – 155 челове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деревни Сосново – 109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деревни  Галеево – 37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-61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еревни Галеево ушло на фронт всего 50 человек. Но погибли на фронтах Великой Отечественной войны 37 жителей села. Сколько людей вернулось из войны в деревню Галее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способ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-37 = 13 (людей) – вернулись с фро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-37 = 50 – (30+7) = 50-30 – 7 = 13 (людей) -  вернулись из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13  людей вернулись из войны в деревню Галее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049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а 1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49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7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7120" y="304920"/>
            <a:ext cx="43459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Шарип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Фаз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Шарип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 в рядах Советской Арм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 1941 по 1942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3124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й прадед тоже воев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жили мы: и правнуки, и вну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солнышко светило в небе на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чтоб не знали мы ни горестей, ни му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шло уж много л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ыросли все дети, вну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на стене висит его портре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- память поколений, друг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-432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ик вклад в победу и тех, кто трудился в тылу - женщин, стариков и детей. Дети помогали взрослым. Они косили сено, боронили поля, сажали и убирали картофель. Когда закончилась война, нашей прабабушке было 70 лет.  Если моя  тетя моложе прабабушки на 57 лет,  сколько было моей т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0-57= 70 – (50+7)= (70-50)-7= 13(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ей тёте было 13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048120" cy="424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6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Картинка 1 из 47">
            <a:hlinkClick r:id="rId7"/>
          </p:cNvPr>
          <p:cNvPicPr/>
          <p:nvPr/>
        </p:nvPicPr>
        <p:blipFill>
          <a:blip r:embed="rId8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Вахитов Мингазетдин Вахитович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38480" y="1980720"/>
            <a:ext cx="4648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Родился в феврале 1902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До войны работал в колхозе бригадиром. В 1 сентября 1941 года ушел на фронт. Вернулся на Родину 1946 году. Оставшуюся жизнь отдал колхоз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688200"/>
            <a:ext cx="494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мя ударило в небо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ы помнишь, Род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ихо сказала: Вставайте на помощь…» Род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вы никто у тебя не спрашивал,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сто был у выбор у кажд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 или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е лучшее и дорогое –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ре твое – это наше горе, Род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9096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инград оказался в блокаде. Единственным продуктом питания был хлеб. За сутки для рабочих выдавали 250 г., а остальным 125г. Сколько выдавали на одну семью хлеба, если  там проживали мать и сы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0 г.+ 125 г.= 375 (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75 г. хлеба  выдавали на сем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3:39:32Z</dcterms:created>
  <dc:creator>Зульфия Хайдаровна</dc:creator>
  <dc:description/>
  <dc:language>en-US</dc:language>
  <cp:lastModifiedBy>User</cp:lastModifiedBy>
  <dcterms:modified xsi:type="dcterms:W3CDTF">2017-03-24T08:32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110000000000010291410207f7000400038000</vt:lpwstr>
  </property>
  <property fmtid="{D5CDD505-2E9C-101B-9397-08002B2CF9AE}" pid="3" name="Version">
    <vt:r8>1</vt:r8>
  </property>
</Properties>
</file>