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2A5-697B-4266-99B5-6ADF856F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1AA-6F4E-46F6-9EC3-E3B94E4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B57-1C07-434A-A8CD-6B05C75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80B-EA87-44BB-BD25-0D185F88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21C3-8BAE-48D8-BC1E-E08E7207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0F41-DC5D-43E6-A04E-B4329541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26A9-2E10-4E4A-86FC-E2A5FB2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B8E7-6520-45F1-91E9-9B292006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10CD-FEE5-4423-812E-4E295E26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DF70-DB87-4855-8F4D-A8D1306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826C-DA7B-4452-8660-C2EB125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E48-F0A3-423E-B501-2835F6CB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59B0-8BF1-45E3-8DB7-0E3F61AD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A360-DFCE-4DB1-B3A3-B96C9354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C882-2EBA-4CD2-A960-04C2C8B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2CCC-D959-4C57-A91A-6058D5AE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55B2-CB5E-41ED-AD12-192B9403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8DA-E82D-4902-ADA8-EE1E99D8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A0C-9ECB-4C02-9334-A4A3236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B1D-9E36-4062-9E0C-E863917C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FD20-D8FD-4B16-9584-8D5B606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8AB-67B3-442E-BE34-F6AC77BE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F35-0C1D-4EA8-9DE3-FDE6281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E47-C95C-474A-95DE-9AF5FC8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06C5-139E-4028-8602-695273E5C5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C24B-9078-4080-B75C-889B33F5B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z1.foto.rambler.ru/public/igorrr-64/1/171/1-webbig.jpg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z1.foto.rambler.ru/public/igorrr-64/1/171/1-webbig.jpg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hyperlink" Target="http://z1.foto.rambler.ru/public/igorrr-64/1/171/1-webbig.jpg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МБОУ Девятернинская ООШ им. Л.Айтуганова Агрызского муниципального района Республики Татарстан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спубликанский конкур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едчески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матических зада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атарстан в математических задачах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оминация конкурса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«Задачи о героях ВО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спублики Татарста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Тем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:  «Задачи о героях Девятернинского сельского поселения 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Их подвиг бессмертен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Выполнил ученик  2 клас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Бурнышев Адель Иль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уководитель: Шакирова Зульфия Хайда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Картинка 1 из 47"/>
          <p:cNvPicPr/>
          <p:nvPr/>
        </p:nvPicPr>
        <p:blipFill>
          <a:blip r:embed="rId2"/>
          <a:stretch/>
        </p:blipFill>
        <p:spPr>
          <a:xfrm>
            <a:off x="0" y="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312408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5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38480" y="838080"/>
            <a:ext cx="4572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Абдулл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Альф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Фатых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Родился в 1922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лужила в рядах Советской Армии с 1942 по 1946 год в составе 911 –го истребительного полка. С 1948 по 1975 год работала учителем русского языка и литературы в Девятернинской шк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ПАСИБО женщинам войны!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они в тылу шинели шили,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 аду беды святыми жили, 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спасая душу всей страны!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1492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 №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гда началась Великая Отечественная война  Абдуллиной Альфие Фатыховне, учителю русского языка и литературы,  было 19 лет. Если война продолжалась 48 месяцев, сколько исполнится учительнице в 1945 год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8 месяцев = 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 + 4 = 23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23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2819520" cy="379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Картинка 1 из 47"/>
          <p:cNvPicPr/>
          <p:nvPr/>
        </p:nvPicPr>
        <p:blipFill>
          <a:blip r:embed="rId3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" descr=""/>
          <p:cNvPicPr/>
          <p:nvPr/>
        </p:nvPicPr>
        <p:blipFill>
          <a:blip r:embed="rId4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Картинка 1 из 47"/>
          <p:cNvPicPr/>
          <p:nvPr/>
        </p:nvPicPr>
        <p:blipFill>
          <a:blip r:embed="rId5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67080" y="609480"/>
            <a:ext cx="397044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Шарифул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Габдул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Шарифулл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Родился в 1920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лужил в рядах Советской Армии с 1940 по 1945 год. Учитель географии, черчения. Директор школы с 1947 по 1967 год, председатель сельского совета с 1981 по 1989 г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Вспомним всех поимен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горем вспомним своим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Это нужно —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не мертвым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Это надо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живым!</a:t>
            </a:r>
            <a:r>
              <a:rPr b="0" lang="ru-RU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918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 №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бы  испечь  100 г блокадного  хлеба, взя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ищевой целлюлозы—10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лопкового жмыха—10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ойной пыли — 2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чной сметки и вытряски из мешков — 2 г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укурузной муки — 3 г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  ржаной муки.  Найдите, сколько  г.  взяли  ржаной м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 спос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+10+2+2+3 = 27 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-27 = 73 г. - мука  ржа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спос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- 10-10-2-2-3 = 73 г. мука ржа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Ответ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100 г.  блокадного хлеба взяли  73 г. ржаной му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Концерт 68-ой годовщине Победы в Великой Отечественной войне посвящается. . Ваш досуг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1400" y="609480"/>
            <a:ext cx="732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ы чтим Вас, помним, уважаем!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ам — СЛАВА — ВЕЧНАЯ, ЖИВАЯ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3200"/>
            <a:ext cx="70866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                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спользованная литература: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http://www.stihi.ru/2015/02/19/4609    Спасибо за победу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http://www.koipkro.kostroma.ru/«Люди, покуда сердца стучатся, помните!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Фотографии из личного архив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8280" y="167652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ерез века, через года, –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 тех, кто уже не придет никогда, - помни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е плачь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горле сдержите стоны, горькие ст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амяти павших будьте достой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ечно достой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4800600"/>
            <a:ext cx="61722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2" descr="Картинка 1 из 47"/>
          <p:cNvPicPr/>
          <p:nvPr/>
        </p:nvPicPr>
        <p:blipFill>
          <a:blip r:embed="rId4"/>
          <a:stretch/>
        </p:blipFill>
        <p:spPr>
          <a:xfrm rot="21223800">
            <a:off x="0" y="22824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Рисунок1.png"/>
          <p:cNvPicPr/>
          <p:nvPr/>
        </p:nvPicPr>
        <p:blipFill>
          <a:blip r:embed="rId2">
            <a:lum contrast="-20000"/>
          </a:blip>
          <a:srcRect l="0" t="0" r="-23" b="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3152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482 молодых парней и девушек, мужчин и женщин из Девятернинского сельского совета участвовали в Великой Отечественной войн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22093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из села Девятерня- 265 человек,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из деревни Сосново– 166 челове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из деревни Галеево – 50 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03848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рнулись на Родину с Побе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село Девятерня – 110 челов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деревню Сосново – 57 челове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 деревню  Галеево – 13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20669400">
            <a:off x="380880" y="762120"/>
            <a:ext cx="729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огибли на фронтах Велик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Отечественной войн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0292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села Девятерня – 155 челове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деревни Сосново – 109 челове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 деревни  Галеево – 37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-61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 деревни Галеево ушло на фронт всего 50 человек. Но погибли на фронтах Великой Отечественной войны 37 жителей села. Сколько людей вернулось из войны в деревню Галее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 способ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-37 = 13 (людей) – вернулись с фрон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 спосо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-37 = 50 – (30+7) = 50-30 – 7 = 13 (людей) -  вернулись из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13  людей вернулись из войны в деревню Галее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049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Картинка 1 из 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49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7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7120" y="304920"/>
            <a:ext cx="434592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Шарип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Фаз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Шарип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лужил в рядах Советской Арм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с 1941 по 1942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3124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й прадед тоже воевал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жили мы: и правнуки, и вну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 солнышко светило в небе на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чтоб не знали мы ни горестей, ни му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шло уж много л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выросли все дети, внук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на стене висит его портрет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 - память поколений, друг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-4320"/>
            <a:ext cx="8839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 №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лик вклад в победу и тех, кто трудился в тылу - женщин, стариков и детей. Дети помогали взрослым. Они косили сено, боронили поля, сажали и убирали картофель. Когда закончилась война, нашей прабабушке было 70 лет.  Если моя  тетя моложе прабабушки на 57 лет,  сколько было моей т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70-57= 70 – (50+7)= (70-50)-7= 13(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: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ей тёте было 13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048120" cy="4249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Картинка 1 из 47">
            <a:hlinkClick r:id="rId3"/>
          </p:cNvPr>
          <p:cNvPicPr/>
          <p:nvPr/>
        </p:nvPicPr>
        <p:blipFill>
          <a:blip r:embed="rId4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5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"/>
          <p:cNvPicPr/>
          <p:nvPr/>
        </p:nvPicPr>
        <p:blipFill>
          <a:blip r:embed="rId6"/>
          <a:stretch/>
        </p:blipFill>
        <p:spPr>
          <a:xfrm>
            <a:off x="3809880" y="5877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Картинка 1 из 47">
            <a:hlinkClick r:id="rId7"/>
          </p:cNvPr>
          <p:cNvPicPr/>
          <p:nvPr/>
        </p:nvPicPr>
        <p:blipFill>
          <a:blip r:embed="rId8"/>
          <a:stretch/>
        </p:blipFill>
        <p:spPr>
          <a:xfrm rot="21327000">
            <a:off x="0" y="304560"/>
            <a:ext cx="407520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Вахитов Мингазетдин Вахитович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038480" y="1980720"/>
            <a:ext cx="4648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Родился в феврале 1902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До войны работал в колхозе бригадиром. В 1 сентября 1941 года ушел на фронт. Вернулся на Родину 1946 году. Оставшуюся жизнь отдал колхоз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688200"/>
            <a:ext cx="4943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амя ударило в небо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ы помнишь, Роди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ихо сказала: Вставайте на помощь…» Род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вы никто у тебя не спрашивал,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сто был у выбор у каждог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Я или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мое лучшее и дорогое – Род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оре твое – это наше горе, Род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390960"/>
            <a:ext cx="8686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а №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инград оказался в блокаде. Единственным продуктом питания был хлеб. За сутки для рабочих выдавали 250 г., а остальным 125г. Сколько выдавали на одну семью хлеба, если  там проживали мать и сы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0 г.+ 125 г.= 375 (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твет: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75 г. хлеба  выдавали на сем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3:39:32Z</dcterms:created>
  <dc:creator>Зульфия Хайдаровна</dc:creator>
  <dc:description/>
  <dc:language>en-US</dc:language>
  <cp:lastModifiedBy>User</cp:lastModifiedBy>
  <dcterms:modified xsi:type="dcterms:W3CDTF">2017-03-24T08:32:5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110000000000010291410207f7000400038000</vt:lpwstr>
  </property>
  <property fmtid="{D5CDD505-2E9C-101B-9397-08002B2CF9AE}" pid="3" name="Version">
    <vt:r8>1</vt:r8>
  </property>
</Properties>
</file>