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4920" cy="40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284c"/>
                </a:solidFill>
                <a:latin typeface="Arial"/>
              </a:rPr>
              <a:t>Click to move the slide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2814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dt" idx="7"/>
          </p:nvPr>
        </p:nvSpPr>
        <p:spPr>
          <a:xfrm>
            <a:off x="4277880" y="0"/>
            <a:ext cx="32814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8"/>
          </p:nvPr>
        </p:nvSpPr>
        <p:spPr>
          <a:xfrm>
            <a:off x="-36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 type="sldNum" idx="9"/>
          </p:nvPr>
        </p:nvSpPr>
        <p:spPr>
          <a:xfrm>
            <a:off x="427788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0E7CC-B206-4C47-8B99-04C3BCF7BE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6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AA4DE-E186-40A9-9D6F-D4C204CAAE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6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27A50-6521-4121-A003-B2A5149B72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6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A2312-351D-49F9-AB25-81168DAEC4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6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79D67-A1FF-4CF5-9052-26AE10DDB0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6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DE2AB-5692-42DA-AF50-D97F90EB3F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6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DB796-EAAB-4A4C-80B3-FD5EF87CFF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6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AC8DD-143C-4B15-830F-C02A395C33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6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FD0AF-C1E9-4CDA-BCE8-57C1264B85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6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266DD-AC56-4088-9051-EB40117C8F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6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908D2-34CF-45AB-8219-90C76A6A71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6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C8C46-042A-4A2C-BE97-9772389CAD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6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45B2F-6FE0-4F38-8B84-5BE482CABC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6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1AF62-3018-4B2C-A396-AEA711BF6C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6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50D34-7B43-4CEF-91D9-E5E9E56C81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6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9DBAD-D58F-4D04-A93D-E184FDD7F3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6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3D596-8BF7-4061-999D-4F31D3017A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6938-5AAB-40D5-A9CC-484F62726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1880" y="4626000"/>
            <a:ext cx="84186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6270-4201-4439-9E04-CAE1EA8A9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9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760" y="2138040"/>
            <a:ext cx="41079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1880" y="4626000"/>
            <a:ext cx="41079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760" y="4626000"/>
            <a:ext cx="41079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86B2-48FE-440A-BB39-02A151C16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1044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68400" y="2138040"/>
            <a:ext cx="271044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14560" y="2138040"/>
            <a:ext cx="271044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1880" y="4626000"/>
            <a:ext cx="271044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68400" y="4626000"/>
            <a:ext cx="271044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14560" y="4626000"/>
            <a:ext cx="271044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ABBB-1FD5-408F-800D-C01B9AE6A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5B759-ADD9-4631-95CB-DA1CBAEEA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37026-3884-4283-A607-70DDCBE93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4613D-C232-4243-B282-B091AF4E2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96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35760" y="2138040"/>
            <a:ext cx="410796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104FD-F75F-4C5A-ABD7-633ADA06B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2CC72-BBBF-4187-9AFA-A36789332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41240" y="699840"/>
            <a:ext cx="8607600" cy="58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46E98-9C5E-4432-919C-0E1782DAB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9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35760" y="2138040"/>
            <a:ext cx="410796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21880" y="4626000"/>
            <a:ext cx="41079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03540-B527-464C-934E-2AA844488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A9D5-A6B3-41F9-B5E8-C4CE85E80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96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35760" y="2138040"/>
            <a:ext cx="41079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35760" y="4626000"/>
            <a:ext cx="41079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4D384-E410-4DBB-B0C0-7184B975C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9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35760" y="2138040"/>
            <a:ext cx="41079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21880" y="4626000"/>
            <a:ext cx="84186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C75B2-FE3C-4FB1-BC43-8FAEDCE7F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21880" y="4626000"/>
            <a:ext cx="84186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C5E31-677F-4F9D-8F88-1F9C583B4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9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35760" y="2138040"/>
            <a:ext cx="41079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21880" y="4626000"/>
            <a:ext cx="41079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35760" y="4626000"/>
            <a:ext cx="41079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95EFE-BE67-4E96-91D9-49D61F9D9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1044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68400" y="2138040"/>
            <a:ext cx="271044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14560" y="2138040"/>
            <a:ext cx="271044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21880" y="4626000"/>
            <a:ext cx="271044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68400" y="4626000"/>
            <a:ext cx="271044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14560" y="4626000"/>
            <a:ext cx="271044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26F9A-8A40-4AAD-8BD9-0CFCCA7D7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96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35760" y="2138040"/>
            <a:ext cx="410796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0CDA-C228-4F3C-87F2-6B9431820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741240" y="699840"/>
            <a:ext cx="8607600" cy="58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9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35760" y="2138040"/>
            <a:ext cx="410796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821880" y="4626000"/>
            <a:ext cx="41079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96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35760" y="2138040"/>
            <a:ext cx="41079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135760" y="4626000"/>
            <a:ext cx="41079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9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35760" y="2138040"/>
            <a:ext cx="41079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1880" y="4626000"/>
            <a:ext cx="84186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821880" y="4626000"/>
            <a:ext cx="84186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9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35760" y="2138040"/>
            <a:ext cx="41079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21880" y="4626000"/>
            <a:ext cx="41079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5135760" y="4626000"/>
            <a:ext cx="41079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1044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668400" y="2138040"/>
            <a:ext cx="271044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514560" y="2138040"/>
            <a:ext cx="271044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821880" y="4626000"/>
            <a:ext cx="271044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668400" y="4626000"/>
            <a:ext cx="271044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514560" y="4626000"/>
            <a:ext cx="271044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96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760" y="2138040"/>
            <a:ext cx="410796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E625-E852-44EE-B460-9F285AFB9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C5EB-6927-4640-8285-199F4F0AA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1240" y="699840"/>
            <a:ext cx="8607600" cy="58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06D1-CB99-454C-99D8-3AB2E732D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9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760" y="2138040"/>
            <a:ext cx="410796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1880" y="4626000"/>
            <a:ext cx="41079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C6F0-289E-405E-88BD-288BC6C9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96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760" y="2138040"/>
            <a:ext cx="41079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760" y="4626000"/>
            <a:ext cx="41079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E5C4-DD29-447A-9451-97A5239FC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9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760" y="2138040"/>
            <a:ext cx="410796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1880" y="4626000"/>
            <a:ext cx="841860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29D9-4345-451C-A270-362296C91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546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936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792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EA954-6572-49D0-B6ED-9924C11DAE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546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3280" y="6886080"/>
            <a:ext cx="234936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080"/>
            <a:ext cx="319392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080"/>
            <a:ext cx="234792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BBBF9-5C8B-46A4-8C74-534689612DE1}" type="slidenum">
              <a:rPr b="0" lang="de-DE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685800" indent="-22860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658960" y="2792520"/>
            <a:ext cx="4680000" cy="305892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20720" y="823320"/>
            <a:ext cx="8607600" cy="20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400" spc="-1" strike="noStrike">
                <a:solidFill>
                  <a:srgbClr val="99284c"/>
                </a:solidFill>
                <a:latin typeface="Times New Roman"/>
              </a:rPr>
              <a:t>Занятие по развитию речи для детей раннего возраста на тему: «Домашние животные»</a:t>
            </a:r>
            <a:endParaRPr b="1" i="1" lang="en-US" sz="4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0" name="TextBox 3"/>
          <p:cNvSpPr/>
          <p:nvPr/>
        </p:nvSpPr>
        <p:spPr>
          <a:xfrm>
            <a:off x="4140360" y="5830920"/>
            <a:ext cx="52196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99284c"/>
                </a:solidFill>
                <a:latin typeface="Times New Roman"/>
                <a:ea typeface="Arial Unicode MS"/>
              </a:rPr>
              <a:t>Воспитатель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99284c"/>
                </a:solidFill>
                <a:latin typeface="Times New Roman"/>
                <a:ea typeface="Arial Unicode MS"/>
              </a:rPr>
              <a:t>Махонина Елена Владимиров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741240" y="700200"/>
            <a:ext cx="8607600" cy="62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400" spc="-1" strike="noStrike">
                <a:solidFill>
                  <a:srgbClr val="99284c"/>
                </a:solidFill>
                <a:latin typeface="Times New Roman"/>
              </a:rPr>
              <a:t>Мычит: «Му-у-у»,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400" spc="-1" strike="noStrike">
                <a:solidFill>
                  <a:srgbClr val="99284c"/>
                </a:solidFill>
                <a:latin typeface="Times New Roman"/>
              </a:rPr>
              <a:t>— </a:t>
            </a:r>
            <a:r>
              <a:rPr b="0" i="1" lang="de-DE" sz="4400" spc="-1" strike="noStrike">
                <a:solidFill>
                  <a:srgbClr val="99284c"/>
                </a:solidFill>
                <a:latin typeface="Times New Roman"/>
              </a:rPr>
              <a:t>Кто это — не пойму!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741240" y="700200"/>
            <a:ext cx="8607600" cy="62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1069920" y="1023840"/>
            <a:ext cx="7929720" cy="545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741240" y="700200"/>
            <a:ext cx="8607600" cy="62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400" spc="-1" strike="noStrike">
                <a:solidFill>
                  <a:srgbClr val="99284c"/>
                </a:solidFill>
                <a:latin typeface="Times New Roman"/>
              </a:rPr>
              <a:t>Вместо носа пятачок,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400" spc="-1" strike="noStrike">
                <a:solidFill>
                  <a:srgbClr val="99284c"/>
                </a:solidFill>
                <a:latin typeface="Times New Roman"/>
              </a:rPr>
              <a:t>Вместо хвостика крючок.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400" spc="-1" strike="noStrike">
                <a:solidFill>
                  <a:srgbClr val="99284c"/>
                </a:solidFill>
                <a:latin typeface="Times New Roman"/>
              </a:rPr>
              <a:t>«Хрю-хрю-хрю!» — он нам кричит,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400" spc="-1" strike="noStrike">
                <a:solidFill>
                  <a:srgbClr val="99284c"/>
                </a:solidFill>
                <a:latin typeface="Times New Roman"/>
              </a:rPr>
              <a:t>«Здравствуйте!» — он говорит.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741240" y="700200"/>
            <a:ext cx="8607600" cy="62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900000" y="900000"/>
            <a:ext cx="8143920" cy="543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741240" y="700200"/>
            <a:ext cx="8607600" cy="62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400" spc="-1" strike="noStrike">
                <a:solidFill>
                  <a:srgbClr val="99284c"/>
                </a:solidFill>
                <a:latin typeface="Times New Roman"/>
              </a:rPr>
              <a:t>Быстрее ветра я скачу,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400" spc="-1" strike="noStrike">
                <a:solidFill>
                  <a:srgbClr val="99284c"/>
                </a:solidFill>
                <a:latin typeface="Times New Roman"/>
              </a:rPr>
              <a:t>«Цок-цок», – копытами стучу,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400" spc="-1" strike="noStrike">
                <a:solidFill>
                  <a:srgbClr val="99284c"/>
                </a:solidFill>
                <a:latin typeface="Times New Roman"/>
              </a:rPr>
              <a:t>Я громко «иго-го» кричу,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400" spc="-1" strike="noStrike">
                <a:solidFill>
                  <a:srgbClr val="99284c"/>
                </a:solidFill>
                <a:latin typeface="Times New Roman"/>
              </a:rPr>
              <a:t>Садись на спину – прокачу!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741240" y="700200"/>
            <a:ext cx="8607600" cy="62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1468440" y="896760"/>
            <a:ext cx="7143840" cy="576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400" spc="-1" strike="noStrike">
                <a:solidFill>
                  <a:srgbClr val="99284c"/>
                </a:solidFill>
                <a:latin typeface="Times New Roman"/>
              </a:rPr>
              <a:t>СПАСИБО ЗА ВНИМАНИЕ!!!</a:t>
            </a:r>
            <a:endParaRPr b="1" i="1" lang="en-US" sz="44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440000" y="2162160"/>
            <a:ext cx="7019640" cy="431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741240" y="700200"/>
            <a:ext cx="8607600" cy="62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400" spc="-1" strike="noStrike">
                <a:solidFill>
                  <a:srgbClr val="99284c"/>
                </a:solidFill>
                <a:latin typeface="Times New Roman"/>
              </a:rPr>
              <a:t>С хозяином дружит,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400" spc="-1" strike="noStrike">
                <a:solidFill>
                  <a:srgbClr val="99284c"/>
                </a:solidFill>
                <a:latin typeface="Times New Roman"/>
              </a:rPr>
              <a:t>Дом сторожит,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400" spc="-1" strike="noStrike">
                <a:solidFill>
                  <a:srgbClr val="99284c"/>
                </a:solidFill>
                <a:latin typeface="Times New Roman"/>
              </a:rPr>
              <a:t>Живёт под крылечком,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400" spc="-1" strike="noStrike">
                <a:solidFill>
                  <a:srgbClr val="99284c"/>
                </a:solidFill>
                <a:latin typeface="Times New Roman"/>
              </a:rPr>
              <a:t>А хвост колечком.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741240" y="700200"/>
            <a:ext cx="8607600" cy="62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rcRect l="0" t="0" r="10618" b="0"/>
          <a:stretch/>
        </p:blipFill>
        <p:spPr>
          <a:xfrm>
            <a:off x="936720" y="1260360"/>
            <a:ext cx="8243640" cy="470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741240" y="700200"/>
            <a:ext cx="8607600" cy="62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400" spc="-1" strike="noStrike">
                <a:solidFill>
                  <a:srgbClr val="99284c"/>
                </a:solidFill>
                <a:latin typeface="Times New Roman"/>
              </a:rPr>
              <a:t>Мягкие лапки,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400" spc="-1" strike="noStrike">
                <a:solidFill>
                  <a:srgbClr val="99284c"/>
                </a:solidFill>
                <a:latin typeface="Times New Roman"/>
              </a:rPr>
              <a:t>А в лапках царапки.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741240" y="700200"/>
            <a:ext cx="8607600" cy="62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1104840" y="1336680"/>
            <a:ext cx="7715160" cy="514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741240" y="700200"/>
            <a:ext cx="8607600" cy="62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400" spc="-1" strike="noStrike">
                <a:solidFill>
                  <a:srgbClr val="99284c"/>
                </a:solidFill>
                <a:latin typeface="Times New Roman"/>
              </a:rPr>
              <a:t>«М-е-е!»- Ребяток кто зовёт?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400" spc="-1" strike="noStrike">
                <a:solidFill>
                  <a:srgbClr val="99284c"/>
                </a:solidFill>
                <a:latin typeface="Times New Roman"/>
              </a:rPr>
              <a:t>Бородою кто трясёт?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400" spc="-1" strike="noStrike">
                <a:solidFill>
                  <a:srgbClr val="99284c"/>
                </a:solidFill>
                <a:latin typeface="Times New Roman"/>
              </a:rPr>
              <a:t>У кого витые рожки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400" spc="-1" strike="noStrike">
                <a:solidFill>
                  <a:srgbClr val="99284c"/>
                </a:solidFill>
                <a:latin typeface="Times New Roman"/>
              </a:rPr>
              <a:t>И как ягодки глаза?    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400" spc="-1" strike="noStrike">
                <a:solidFill>
                  <a:srgbClr val="99284c"/>
                </a:solidFill>
                <a:latin typeface="Times New Roman"/>
              </a:rPr>
              <a:t>Это к деткам по дорожке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400" spc="-1" strike="noStrike">
                <a:solidFill>
                  <a:srgbClr val="99284c"/>
                </a:solidFill>
                <a:latin typeface="Times New Roman"/>
              </a:rPr>
              <a:t>Приближается…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741240" y="700200"/>
            <a:ext cx="8607600" cy="62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720720" y="900000"/>
            <a:ext cx="8213760" cy="562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741240" y="700200"/>
            <a:ext cx="8607600" cy="62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400" spc="-1" strike="noStrike">
                <a:solidFill>
                  <a:srgbClr val="99284c"/>
                </a:solidFill>
                <a:latin typeface="Times New Roman"/>
              </a:rPr>
              <a:t>Блеет жалобно: «Б-е-е, б-е-е!»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400" spc="-1" strike="noStrike">
                <a:solidFill>
                  <a:srgbClr val="99284c"/>
                </a:solidFill>
                <a:latin typeface="Times New Roman"/>
              </a:rPr>
              <a:t>Травку щиплет во дворе,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400" spc="-1" strike="noStrike">
                <a:solidFill>
                  <a:srgbClr val="99284c"/>
                </a:solidFill>
                <a:latin typeface="Times New Roman"/>
              </a:rPr>
              <a:t>Шубка в завитых колечках,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400" spc="-1" strike="noStrike">
                <a:solidFill>
                  <a:srgbClr val="99284c"/>
                </a:solidFill>
                <a:latin typeface="Times New Roman"/>
              </a:rPr>
              <a:t>А зовут её …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741240" y="700200"/>
            <a:ext cx="8607600" cy="62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1104840" y="720720"/>
            <a:ext cx="7715160" cy="6230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11:32:32Z</dcterms:created>
  <dc:creator/>
  <dc:description/>
  <dc:language>en-US</dc:language>
  <cp:lastModifiedBy>word</cp:lastModifiedBy>
  <dcterms:modified xsi:type="dcterms:W3CDTF">2022-05-03T17:07:09Z</dcterms:modified>
  <cp:revision>16</cp:revision>
  <dc:subject/>
  <dc:title>Занятие по развитию речи для детей раннего возраста на тему: «Домашние животные»</dc:title>
</cp:coreProperties>
</file>