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DFA-520B-40F5-8518-948A27C81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C24-89EE-4BC4-AB6C-3DA463479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9123-6168-401D-85FA-4493D4768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7D7D-E65A-4436-AD69-7921E33B0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F84-2063-404E-9AD3-63F953215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425B-ACE5-4228-A0D9-FDCD9B65A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90E-57E4-40BA-ACC2-743B236AC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6EA-7492-4E0B-B3E4-00AD81F2E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D9B8-5835-43D2-9DC8-6793343CF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AA4D-67A7-42DD-8066-5770B0C15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2995-7ACD-41A4-B9D1-E4A8A7BEC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16D6-F34F-4E89-9D6B-FA94A01FF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52FB-D327-4A0C-B50D-99A20E19C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558-8673-4BA3-B2D8-80EF827E4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636-9574-4B1B-B4F3-54B882C49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84ED-7948-4CE4-B572-F15A4A2E7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254-3DC5-40D1-A777-540923346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85A-E0F1-46A4-992C-E9C9E1A9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C4B-864A-4B26-A92D-9D0E7E9B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641-04F6-41B7-85FF-4092454F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456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456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637-FFE4-4337-AA19-6E9FAE44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6BB7-F6F4-49E1-9FF1-47D1AE7C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D0BE-7A73-43BF-B7E6-86B2C74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50C6-5FB3-4938-A0E1-CA1E704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7323-F80C-4363-9545-88B2EE97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BDAC-46D4-455D-9EC2-99622B4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FDD-EC6E-4F0E-A04F-98505BF7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D57F-D602-4E91-9337-C532244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205-AD31-4FEC-88F2-61208846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5A52-7FDF-43B2-9867-7CFCCCE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5342-9A75-4CF8-838C-1C5CC0F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17B-D3A6-4D75-9F40-E2AA8F8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79FD-C17A-4C83-884F-659FA5A3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840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456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840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456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919F-78A5-4385-B029-DAE6D520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504-FFE0-453D-9F3A-64B2794D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840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1456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840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1456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1A4-49BA-4F99-9DB5-FC339DD1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F5F-5937-49CE-AB65-FE94F483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9C7-3E48-4A9B-90EA-102EEE33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B3A-8DA2-4FB3-A90E-53A9CD0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AD3-1918-49E2-B30F-2E0A5732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6EC-BB58-4F11-9A7C-5F63A4F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BD75-8859-42E3-8381-16C59D65A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DE2-38A7-4EB5-9DC8-A496CEE8A2A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858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58960" y="2792520"/>
            <a:ext cx="4680000" cy="3058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823320"/>
            <a:ext cx="8607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99284c"/>
                </a:solidFill>
                <a:latin typeface="Times New Roman"/>
              </a:rPr>
              <a:t>Занятие по развитию речи для детей раннего возраста на тему: «Домашние животные»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140360" y="5830920"/>
            <a:ext cx="521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Воспита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Махонина Еле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Мычит: «Му-у-у»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— </a:t>
            </a: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Кто это — не пойму!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69920" y="1023840"/>
            <a:ext cx="792972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Вместо носа пятачок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Вместо хвостика крючок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Хрю-хрю-хрю!» — он нам кричит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Здравствуйте!» — он говорит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814392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Быстрее ветра я скачу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Цок-цок», – копытами стучу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Я громко «иго-го» кричу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Садись на спину – прокачу!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468440" y="896760"/>
            <a:ext cx="714384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99284c"/>
                </a:solidFill>
                <a:latin typeface="Times New Roman"/>
              </a:rPr>
              <a:t>СПАСИБО ЗА ВНИМАНИЕ!!!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0000" y="2162160"/>
            <a:ext cx="701964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С хозяином дружит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Дом сторожит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Живёт под крылечком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А хвост колечком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0" r="10618" b="0"/>
          <a:stretch/>
        </p:blipFill>
        <p:spPr>
          <a:xfrm>
            <a:off x="936720" y="1260360"/>
            <a:ext cx="824364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Мягкие лапки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А в лапках царапки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104840" y="1336680"/>
            <a:ext cx="771516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М-е-е!»- Ребяток кто зовёт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Бородою кто трясёт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У кого витые рожки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И как ягодки глаза?  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Это к деткам по дорожке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Приближается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8213760" cy="562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Блеет жалобно: «Б-е-е, б-е-е!»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Травку щиплет во дворе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Шубка в завитых колечках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А зовут её 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104840" y="720720"/>
            <a:ext cx="7715160" cy="623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/>
  <dc:description/>
  <dc:language>en-US</dc:language>
  <cp:lastModifiedBy>word</cp:lastModifiedBy>
  <dcterms:modified xsi:type="dcterms:W3CDTF">2022-05-03T17:07:09Z</dcterms:modified>
  <cp:revision>16</cp:revision>
  <dc:subject/>
  <dc:title>Занятие по развитию речи для детей раннего возраста на тему: «Домашние животные»</dc:title>
</cp:coreProperties>
</file>