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92B-C5CF-4A39-BDEE-13421C78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9D7-7B1E-42ED-8187-C099435A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92B-BB9B-4DD0-A784-DA2479A4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7044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496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7044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22D3-D32F-49CF-B2F6-46EF786D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789F-B3F8-4F5A-9121-EEC83C5E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7DE1-AE63-4521-8C61-1F825464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68D5-BC20-4AAB-BB68-01DB0A90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9ABF-B84F-429D-883A-CD01BA31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3264-A2C2-41BC-B1B5-6481AA37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9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67E5-3543-4243-BBD5-3BEBA341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677F-5818-4B17-9ECC-A40B0306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6F4-465B-49D5-95F5-695BF577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DA62-2040-4332-9C6E-F63B29DF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463A-FB98-4110-A7FB-C9612726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0856-E7A4-49AF-AB2F-7524038C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F690-A535-40FC-B7D6-593D1B6C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44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496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44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BD82-9372-4F77-9762-25D4C449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632DC-C427-418B-AD32-61FEEAD3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08C47-36A9-4161-BD6F-772CD5BB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7565F-B69D-458E-9068-B2C3C2E8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CB700-9090-4181-A00A-DA0C46E2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250AD-77C7-48C7-9181-7EFBBB4C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E5F-7844-4EEF-8F51-EDC79231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9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BB770-E261-4C2C-A3E7-FE8BD72E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247EE-7406-482E-A333-7E381480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F3FA2-AAAB-4A8C-82BA-C8650717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4F349-A3A9-4E26-A453-5BEBAF3D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FC646-5FF5-4B72-A666-C3E27762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3830A-28ED-4642-B2DD-985FF58F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1BEB7-020F-441A-AFAE-6667158A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1AC01A-54B4-44B4-838D-956F35B5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105EF7-1E2A-42F6-BC5C-18D64BD1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D82340-1ACD-4CFA-8DD6-5F360026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9D6-B5DD-4232-A566-C54ECB0E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C9AA67-FD79-439A-B607-8EB7971F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8161C-BAE8-4F9A-BFF1-ACF9D319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9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C839E5-24BF-40F5-9F6E-F4E67B04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1009DE-09DD-4B77-B4EA-96AABCDC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4FB751-4485-4170-86AF-59F21CF1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8D4E5-45C7-4491-BDB0-50EF61C4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D7D6F0-3CEB-4A90-B470-B9EE0E98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896B45-FB14-4E53-A0CC-75C28DE5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FFFD79-746D-4E35-BB02-6E3AF200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03962-1403-4D15-B8ED-08D9F6D2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830-3A08-4A74-A973-4D5D3478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F1A786-D585-4BC3-8237-6D8D11D4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25607-3519-45B4-B728-BB908B33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3043E-D76D-4BBD-9AC8-E9AF1F3B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3B756-12D2-483B-8090-A43448BC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9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36058D-D514-4EC6-BA18-E140AC02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9C682F-9211-4D8D-AE19-661A7B8A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6F27F-DB90-48DB-9BEA-CE86AF6C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EF4F32-AD80-4B15-BCCB-7B25F054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F5B87-B5C4-44E4-B958-8F00B043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68FA2C-B237-4DCC-8748-6BB11628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9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930-4062-45D9-9F2F-E3EE5372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2105C1-7D48-4DC6-B25D-33FD8DCC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07CCD-4556-44B9-97EE-028A855E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975A4-7EB2-4301-981A-5E2C30CA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FD5CD-27CC-4387-A651-33A3FCE9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13C0E-BC91-4F84-BD75-94C903C0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3AFEB-DEA0-4F14-B17B-10A9E9E6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9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BB9C4-F2E1-4C6A-A5C5-B93116C0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5F23D-846B-4B05-97B5-5DBC93BB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5C562-B322-4FEC-9A27-2052C87B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E57A2-917F-46B3-BA93-E4BC9364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0D5-8DFA-4886-A25C-AFCB88CC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34C3E-2956-42A4-9ADE-E86660E7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A0555-79DB-4F29-861A-F9629277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97044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43496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97044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2CEE0-E533-4473-A390-A34382B1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C9898-ACEE-4CE8-A0C6-8FDB471E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AAEBD-31A9-4A82-9846-E077F6BB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D9A47-619F-4529-9031-0B33D67B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12CBA-31D1-484E-92A1-AB4DC330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2259D-A0BF-4744-9E90-922D8130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9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F99F5-BF84-4FF0-97F1-533B5F52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EC5A4-6558-4381-A72F-86596C54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936-D278-4A66-ADCB-9E8FA282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4938B-5C54-435D-94AE-65EE7FE8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3EE8C-771A-46CD-A7E9-255A8D62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5C742-9938-4FC9-A69D-3D7ADB04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3384C-0F54-4BF0-97DB-5B2068F4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97044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43496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97044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56A17-89A4-4189-9854-557A7A00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A39-ADF6-4187-9ED5-B7FAE839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097B865-17F2-4A42-B80A-41AFBF4E40CC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ирог 6" hidden="1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7" name="Овал 7" hidden="1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8" name="Кольцо 10" hidden="1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Прямоугольник 11" hidden="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Прямоугольник 14" hidden="1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1014480" y="0"/>
            <a:ext cx="81291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F0CE974-9BB0-4553-A0FA-D600586D10C1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5276160" y="1523880"/>
            <a:ext cx="3657240" cy="466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6F8B278-0D72-472A-B0D6-CFC1489D7FF4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2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3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4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body"/>
          </p:nvPr>
        </p:nvSpPr>
        <p:spPr>
          <a:xfrm>
            <a:off x="5257800" y="1981080"/>
            <a:ext cx="3428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6C7898D-5CD3-4FF2-9439-62A740626281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dt" idx="12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9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9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91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92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body"/>
          </p:nvPr>
        </p:nvSpPr>
        <p:spPr>
          <a:xfrm>
            <a:off x="5257800" y="1981080"/>
            <a:ext cx="3428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3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4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56025E0-2697-434A-9C03-CE35F47B7F5A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dt" idx="15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ирог 6" hidden="1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36" name="Овал 7" hidden="1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37" name="Кольцо 10" hidden="1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38" name="Прямоугольник 11" hidden="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39" name="Прямоугольник 14" hidden="1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16720"/>
            <a:ext cx="380952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ts val="2001"/>
              </a:lnSpc>
              <a:buNone/>
            </a:pPr>
            <a:r>
              <a:rPr b="1" lang="ru-RU" sz="2200" spc="-1" strike="noStrike" cap="all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406880"/>
            <a:ext cx="3809520" cy="698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body"/>
          </p:nvPr>
        </p:nvSpPr>
        <p:spPr>
          <a:xfrm>
            <a:off x="457200" y="2133720"/>
            <a:ext cx="8152920" cy="3992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dt" idx="16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ftr" idx="17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sldNum" idx="18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A83DE30-5751-4990-902C-B377BC1CFCC8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3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4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5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6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7" name="Овал 3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288" name="Овал 4"/>
          <p:cNvSpPr/>
          <p:nvPr/>
        </p:nvSpPr>
        <p:spPr>
          <a:xfrm>
            <a:off x="1157400" y="1344600"/>
            <a:ext cx="63000" cy="6480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9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20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1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01FC7DE-4CD4-487D-A1A9-13C0996A2F78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36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221ba5"/>
                </a:solidFill>
                <a:latin typeface="Times New Roman"/>
              </a:rPr>
              <a:t>Бюджетное профессиональное образовательное учреждение </a:t>
            </a:r>
            <a:br>
              <a:rPr sz="2000"/>
            </a:br>
            <a:r>
              <a:rPr b="0" lang="ru-RU" sz="2000" spc="-1" strike="noStrike">
                <a:solidFill>
                  <a:srgbClr val="221ba5"/>
                </a:solidFill>
                <a:latin typeface="Times New Roman"/>
              </a:rPr>
              <a:t>Воронежской области </a:t>
            </a:r>
            <a:br>
              <a:rPr sz="2000"/>
            </a:br>
            <a:r>
              <a:rPr b="0" lang="ru-RU" sz="2000" spc="-1" strike="noStrike">
                <a:solidFill>
                  <a:srgbClr val="221ba5"/>
                </a:solidFill>
                <a:latin typeface="Times New Roman"/>
              </a:rPr>
              <a:t>«Борисоглебский медицинский колледж»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20864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221ba5"/>
                </a:solidFill>
                <a:latin typeface="Times New Roman"/>
              </a:rPr>
              <a:t>Методический семинар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221ba5"/>
                </a:solidFill>
                <a:latin typeface="Times New Roman"/>
              </a:rPr>
              <a:t>«Имидж педагога»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221ba5"/>
                </a:solidFill>
                <a:latin typeface="Times New Roman"/>
              </a:rPr>
              <a:t>Подготовила: И.М. Архирейская,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221ba5"/>
                </a:solidFill>
                <a:latin typeface="Times New Roman"/>
              </a:rPr>
              <a:t>преподавател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72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Структурные компоненты  имиджа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071720"/>
            <a:ext cx="7499160" cy="517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нешняя  составляющая имидж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мимика, жесты,  одежда, походк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оцессуальная составл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ющая -деловые качества и профессиональные манеры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нутренняя составляющая-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ховное и интеллектуальное развитие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440028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200000"/>
              </a:lnSpc>
              <a:buNone/>
            </a:pPr>
            <a:r>
              <a:rPr b="1" lang="ru-RU" sz="2800" spc="-1" strike="noStrike" cap="all">
                <a:solidFill>
                  <a:srgbClr val="572314"/>
                </a:solidFill>
                <a:latin typeface="Times New Roman"/>
              </a:rPr>
              <a:t>Одежда- визитная карточка педагога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7120" y="571320"/>
            <a:ext cx="414288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2" descr="https://avatars.mds.yandex.net/get-zen_doc/40274/pub_5b64ff9935269000a986945b_5b66e91757714b00aaa72e4a/scale_600"/>
          <p:cNvPicPr/>
          <p:nvPr/>
        </p:nvPicPr>
        <p:blipFill>
          <a:blip r:embed="rId1"/>
          <a:stretch/>
        </p:blipFill>
        <p:spPr>
          <a:xfrm>
            <a:off x="5000760" y="642960"/>
            <a:ext cx="3642840" cy="5357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2252160" cy="12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0" y="285840"/>
            <a:ext cx="4142880" cy="5810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Основной стиль педагога – это классика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ассический стиль – это стиль, одобренный временем, но с включением модных элементов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деальная форма- деловой костюм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8" descr="https://modnica.info/wp-content/uploads/2013/10/3010-34.jpg"/>
          <p:cNvPicPr/>
          <p:nvPr/>
        </p:nvPicPr>
        <p:blipFill>
          <a:blip r:embed="rId1"/>
          <a:stretch/>
        </p:blipFill>
        <p:spPr>
          <a:xfrm>
            <a:off x="1071360" y="214200"/>
            <a:ext cx="2857320" cy="3214440"/>
          </a:xfrm>
          <a:prstGeom prst="rect">
            <a:avLst/>
          </a:prstGeom>
          <a:ln w="9525">
            <a:noFill/>
          </a:ln>
        </p:spPr>
      </p:pic>
      <p:pic>
        <p:nvPicPr>
          <p:cNvPr id="364" name="Picture 12" descr="https://i.a4vn.com/2019/2/23/phong-cach-an-mac-di-doi-voi-kha-nang-thanh-cong-d08aba.jpg"/>
          <p:cNvPicPr/>
          <p:nvPr/>
        </p:nvPicPr>
        <p:blipFill>
          <a:blip r:embed="rId2"/>
          <a:stretch/>
        </p:blipFill>
        <p:spPr>
          <a:xfrm rot="21354600">
            <a:off x="508320" y="3495600"/>
            <a:ext cx="39628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6" name="Picture 4" descr="https://emoda.kz/assets/resource/product/small_58270a.jpg?5249"/>
          <p:cNvPicPr/>
          <p:nvPr/>
        </p:nvPicPr>
        <p:blipFill>
          <a:blip r:embed="rId1"/>
          <a:stretch/>
        </p:blipFill>
        <p:spPr>
          <a:xfrm>
            <a:off x="3714840" y="1285920"/>
            <a:ext cx="2428560" cy="3500280"/>
          </a:xfrm>
          <a:prstGeom prst="rect">
            <a:avLst/>
          </a:prstGeom>
          <a:ln w="9525">
            <a:noFill/>
          </a:ln>
        </p:spPr>
      </p:pic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328680"/>
            <a:ext cx="402228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Picture 2" descr="http://wlooks.ru/images/article/cropped/220-308/2017/03/kakoj-dliny-dolzhen-byt-galstuk-3.jpg"/>
          <p:cNvPicPr/>
          <p:nvPr/>
        </p:nvPicPr>
        <p:blipFill>
          <a:blip r:embed="rId2"/>
          <a:stretch/>
        </p:blipFill>
        <p:spPr>
          <a:xfrm>
            <a:off x="6429240" y="2500200"/>
            <a:ext cx="2356920" cy="3928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https://avatars.mds.yandex.net/get-pdb/70729/14df00d7-a5de-490b-9a27-bd04e2e7dccd/s280"/>
          <p:cNvPicPr/>
          <p:nvPr/>
        </p:nvPicPr>
        <p:blipFill>
          <a:blip r:embed="rId3"/>
          <a:stretch/>
        </p:blipFill>
        <p:spPr>
          <a:xfrm>
            <a:off x="428760" y="357120"/>
            <a:ext cx="28573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43080" y="274680"/>
            <a:ext cx="67910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Значение цветов в вашей одежде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!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14280" y="1143000"/>
            <a:ext cx="7648200" cy="5071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символизирует открытость и оптимизм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расны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активность, эмоциональность, требовательность к себе и другим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Фиолетов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 уравновешенность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221ba5"/>
                </a:solidFill>
                <a:latin typeface="Times New Roman"/>
              </a:rPr>
              <a:t>Си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ассудительность и педантизм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3e1c"/>
                </a:solidFill>
                <a:latin typeface="Times New Roman"/>
              </a:rPr>
              <a:t>Зеленый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спокойствие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515151"/>
                </a:solidFill>
                <a:latin typeface="Times New Roman"/>
              </a:rPr>
              <a:t>Сер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стремление скрыть чувства и эмоции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82402e"/>
                </a:solidFill>
                <a:latin typeface="Times New Roman"/>
              </a:rPr>
              <a:t>Коричнев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актичность и солидность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714840" y="457200"/>
            <a:ext cx="497160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Украшения и аксессуары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https://i0.wp.com/taa.ge/wp-content/uploads/2010/12/wear-in-office-15.jpg"/>
          <p:cNvPicPr/>
          <p:nvPr/>
        </p:nvPicPr>
        <p:blipFill>
          <a:blip r:embed="rId1"/>
          <a:stretch/>
        </p:blipFill>
        <p:spPr>
          <a:xfrm>
            <a:off x="285840" y="3000240"/>
            <a:ext cx="3857400" cy="2771280"/>
          </a:xfrm>
          <a:prstGeom prst="rect">
            <a:avLst/>
          </a:prstGeom>
          <a:ln w="9525">
            <a:noFill/>
          </a:ln>
        </p:spPr>
      </p:pic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071960" y="1214280"/>
            <a:ext cx="4614480" cy="488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рашения и аксессуары  следует выбирать неброские из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благородных металлов  и натуральных камней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ки должны быть точно подобраны к чертам лица и не должны отвлекать от мимики и выражения ваших глаз.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5" name="Picture 2" descr="Деловой макияж - пошаговое фото, видео"/>
          <p:cNvPicPr/>
          <p:nvPr/>
        </p:nvPicPr>
        <p:blipFill>
          <a:blip r:embed="rId2"/>
          <a:stretch/>
        </p:blipFill>
        <p:spPr>
          <a:xfrm>
            <a:off x="428760" y="285840"/>
            <a:ext cx="29286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0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Деловые качества и профессиональные манеры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14280" y="1857240"/>
            <a:ext cx="7500600" cy="371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Профессиональная  компетентность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Уважение к чужому труду, к чужому времен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отребность в самообразовани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Соблюдение делового  этикета  в общении со студентами,  коллегами, родителями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5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Специфика речи педагог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928800"/>
            <a:ext cx="7499160" cy="531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действие речи педагога зависит от следующих факторов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Умение убеждать, логическое построение речи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Владение техникой речи: дыханием, голосом, дикцие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Экспрессивные умения: образность речи, ее интонационная выразительность, логические акценты и паузы, мелодика речи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72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Специфика речи педагог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28800" y="1500120"/>
            <a:ext cx="8005320" cy="4748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Использование вспомогательных средств: жестов, мимики, пластики, дистанции общения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Умение проводить дискуссии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Перцептивные умения, связанные с учетом реакции слушателей, умение использовать наглядность 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862400" cy="8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Коммуникативные  качества речи педагог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500120"/>
            <a:ext cx="7499160" cy="4748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Правильность реч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Точность реч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Логичность реч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Чистота реч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Сжатость реч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Живость реч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4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Задача «Гостиница»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28760" y="1071720"/>
            <a:ext cx="8505360" cy="517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остинице есть три свободных номера. Администратору дано указание – поселить в них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дагог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Однако информация, которой он владеет,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четк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он не знает ни пола, ни возраста, ни конкретной специализации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дагог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и целей их приезда. Возле своего окошка он поместил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абличк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: «Места только для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дагогов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месте с тем он обнаружил, что сегодня в гостиницу большой наплыв приезжих, а мест нет, он вынужден отказывать. Администратору известно, что люди, желающие получить место, прибегают к разным уловкам, пытаются выдать себя за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даг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Ему нужно быть начеку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ы считаете, что будет ключевым в оценивании человека как педагога?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14720" y="360000"/>
            <a:ext cx="662436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Требования к голосу педагог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28840" y="1714320"/>
            <a:ext cx="7410240" cy="4785840"/>
          </a:xfrm>
          <a:prstGeom prst="rect">
            <a:avLst/>
          </a:prstGeom>
          <a:noFill/>
          <a:ln w="9360">
            <a:noFill/>
          </a:ln>
        </p:spPr>
        <p:txBody>
          <a:bodyPr numCol="1" spcCol="0" tIns="0" anchor="t">
            <a:noAutofit/>
          </a:bodyPr>
          <a:p>
            <a:pPr marL="54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61309"/>
                </a:solidFill>
                <a:latin typeface="Times New Roman"/>
              </a:rPr>
              <a:t>1.Голос должен обладать благозвуч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61309"/>
                </a:solidFill>
                <a:latin typeface="Times New Roman"/>
              </a:rPr>
              <a:t>2. Педагогу необходимо изменять характеристики своего голоса с учетом ситуации 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61309"/>
                </a:solidFill>
                <a:latin typeface="Times New Roman"/>
              </a:rPr>
              <a:t>3. Голос должен обладать полет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61309"/>
                </a:solidFill>
                <a:latin typeface="Times New Roman"/>
              </a:rPr>
              <a:t>4.  С помощью голоса преподаватель должен уметь внушить студенту определенные требования и добиться их вы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61309"/>
                </a:solidFill>
                <a:latin typeface="Times New Roman"/>
              </a:rPr>
              <a:t>5.  Голос должен быть достаточно выносли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https://mobile-cdn.123rf.com/300wm/andreypopov/andreypopov1406/andreypopov140600771/29323147-side-view-of-young-female-student-screaming-on-megaphone-against-blackboard.jpg?ver=6"/>
          <p:cNvPicPr/>
          <p:nvPr/>
        </p:nvPicPr>
        <p:blipFill>
          <a:blip r:embed="rId1"/>
          <a:stretch/>
        </p:blipFill>
        <p:spPr>
          <a:xfrm>
            <a:off x="214200" y="214200"/>
            <a:ext cx="1856880" cy="1356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8760" y="216720"/>
            <a:ext cx="814356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ts val="2001"/>
              </a:lnSpc>
              <a:buNone/>
            </a:pPr>
            <a:r>
              <a:rPr b="1" lang="ru-RU" sz="2800" spc="-1" strike="noStrike" cap="all">
                <a:solidFill>
                  <a:srgbClr val="221ba5"/>
                </a:solidFill>
                <a:latin typeface="Times New Roman"/>
              </a:rPr>
              <a:t>Голос- звучащий имидж педагог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28800" y="1000080"/>
            <a:ext cx="6929280" cy="13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ди, голос которых всегда звучит в громком «ругательном» режиме, сразу отталкивают от себя других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педагога такая голосовая манера – сигнал о профессиональной непригодности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" name="Picture 2" descr="https://simg.sputnik.ru/?key=f1b71b46bbbc8533f7f043ff7bfe64114e8589db"/>
          <p:cNvPicPr/>
          <p:nvPr/>
        </p:nvPicPr>
        <p:blipFill>
          <a:blip r:embed="rId1"/>
          <a:stretch/>
        </p:blipFill>
        <p:spPr>
          <a:xfrm>
            <a:off x="1357200" y="3143160"/>
            <a:ext cx="6214680" cy="2984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214880" y="457200"/>
            <a:ext cx="447156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221ba5"/>
                </a:solidFill>
                <a:latin typeface="Times New Roman"/>
              </a:rPr>
              <a:t>Невербальное поведение – это проявление культуры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429080" y="2000160"/>
            <a:ext cx="4285800" cy="4095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нимательный взгляд ,  доброжелательная улыбка,  приветливые жесты действуют  располагающе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Picture 2" descr="https://gss0.baidu.com/7LsWdDW5_xN3otqbppnN2DJv/zhidao/pic/item/9922720e0cf3d7caee18ab1bf91fbe096a63a9f5.jpg"/>
          <p:cNvPicPr/>
          <p:nvPr/>
        </p:nvPicPr>
        <p:blipFill>
          <a:blip r:embed="rId1"/>
          <a:stretch/>
        </p:blipFill>
        <p:spPr>
          <a:xfrm>
            <a:off x="1143000" y="3786120"/>
            <a:ext cx="2999880" cy="2276640"/>
          </a:xfrm>
          <a:prstGeom prst="rect">
            <a:avLst/>
          </a:prstGeom>
          <a:ln w="9525">
            <a:noFill/>
          </a:ln>
        </p:spPr>
      </p:pic>
      <p:pic>
        <p:nvPicPr>
          <p:cNvPr id="393" name="Picture 4" descr="https://image.shutterstock.com/image-photo/male-teacher-listening-students-adult-260nw-388588465.jpg"/>
          <p:cNvPicPr/>
          <p:nvPr/>
        </p:nvPicPr>
        <p:blipFill>
          <a:blip r:embed="rId2"/>
          <a:stretch/>
        </p:blipFill>
        <p:spPr>
          <a:xfrm>
            <a:off x="1071360" y="785880"/>
            <a:ext cx="299988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Заключение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ество, порождая требования к профессиональному имиджу педагога, влияет на его содержание. Но из поколения в поколение неизменным остаются такие качества «идеального педагога», как любовь к детям, доброжелательность, искренность, умение общаться. Имидж такого педагога безупречен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85840"/>
            <a:ext cx="749916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5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100" spc="-1" strike="noStrike">
                <a:solidFill>
                  <a:srgbClr val="221ba5"/>
                </a:solidFill>
                <a:latin typeface="Times New Roman"/>
              </a:rPr>
              <a:t>СПИСОК ИСПОЛЬЗОВАННОЙ ЛИТЕРАТУРЫ</a:t>
            </a:r>
            <a:br>
              <a:rPr sz="4300"/>
            </a:b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9112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  Актерские способности в деятельности учителя: Метод. пособие/Сост. Л.А. Ильина. Магнитогорск, 1998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  Андреева И. Эмоциональная компетентность в работе учителя. /Народное образование №2, 2006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  Журавлев Д. Имидж учителя – необходимость или дань моде? // Народное образование №7, 2003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  Калюжный А.А. Технология построения имиджа учителя.//Имидж №5 Гуманитарное образование в школе: теория и практика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  Капустина З. Имидж современного педагога//Учитель №1, 2006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  Новокшонова М. Имидж педагога: знания, опыт, мастерство.//Учитель №3, 2005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   Попова Л. Имидж современного педагога. //Учитель №6, 2002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   Смирнова Н.Е. Имидж учителя.//Преподаватель, 2001, №1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929360" cy="29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Что такое имидж педагога?</a:t>
            </a:r>
            <a:br>
              <a:rPr sz="32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Имидж педагога-( от английского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image-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образ, изображение)- эмоционально окрашенный стереотип восприятия образа учителя в сознании воспитанников, коллег, социального окружения, в массовом сознании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icture 2"/>
          <p:cNvSpPr/>
          <p:nvPr/>
        </p:nvSpPr>
        <p:spPr>
          <a:xfrm>
            <a:off x="714240" y="3071880"/>
            <a:ext cx="8143560" cy="35715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9525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6400"/>
                </a:solidFill>
                <a:latin typeface="Times New Roman"/>
              </a:rPr>
              <a:t>Отношение к имиджу у самих педагогов разное…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https://www.kamumanset.com/images/upload/1_92.jpg"/>
          <p:cNvPicPr/>
          <p:nvPr/>
        </p:nvPicPr>
        <p:blipFill>
          <a:blip r:embed="rId1"/>
          <a:stretch/>
        </p:blipFill>
        <p:spPr>
          <a:xfrm>
            <a:off x="642960" y="1500120"/>
            <a:ext cx="4071600" cy="3575160"/>
          </a:xfrm>
          <a:prstGeom prst="rect">
            <a:avLst/>
          </a:prstGeom>
          <a:ln w="9525">
            <a:noFill/>
          </a:ln>
        </p:spPr>
      </p:pic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57840" y="1285920"/>
            <a:ext cx="4075560" cy="466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дагог, который занимается созданием собственного имиджа, не только лучше выглядит, но и лучше себя чувствует, более уверен, а в итоге и успешнее работает!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57760" y="457200"/>
            <a:ext cx="4828680" cy="8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Функции имиджа педагога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http://ctv7.ru/assets/cache/images/uploads/news_previews/fotoarhiv/zdravoohranenie/medsyostry-400x300-318.jpg"/>
          <p:cNvPicPr/>
          <p:nvPr/>
        </p:nvPicPr>
        <p:blipFill>
          <a:blip r:embed="rId1"/>
          <a:stretch/>
        </p:blipFill>
        <p:spPr>
          <a:xfrm>
            <a:off x="428760" y="3571920"/>
            <a:ext cx="3125880" cy="2785680"/>
          </a:xfrm>
          <a:prstGeom prst="rect">
            <a:avLst/>
          </a:prstGeom>
          <a:ln w="9525">
            <a:noFill/>
          </a:ln>
        </p:spPr>
      </p:pic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000320" y="1285920"/>
            <a:ext cx="4686120" cy="4809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3600" spc="-1" strike="noStrike">
                <a:solidFill>
                  <a:srgbClr val="221ba5"/>
                </a:solidFill>
                <a:latin typeface="Times New Roman"/>
              </a:rPr>
              <a:t>профессиональная;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3600" spc="-1" strike="noStrike">
                <a:solidFill>
                  <a:srgbClr val="221ba5"/>
                </a:solidFill>
                <a:latin typeface="Times New Roman"/>
              </a:rPr>
              <a:t>социальная;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3600" spc="-1" strike="noStrike">
                <a:solidFill>
                  <a:srgbClr val="221ba5"/>
                </a:solidFill>
                <a:latin typeface="Times New Roman"/>
              </a:rPr>
              <a:t>духовно-нравственная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2" name="Picture 2" descr="http://live4x.ru/foto/9/images/stories2/deti/nravstvennoe-vospitanie-podrostkov-1-1.jpg"/>
          <p:cNvPicPr/>
          <p:nvPr/>
        </p:nvPicPr>
        <p:blipFill>
          <a:blip r:embed="rId2"/>
          <a:stretch/>
        </p:blipFill>
        <p:spPr>
          <a:xfrm>
            <a:off x="285840" y="285840"/>
            <a:ext cx="3357360" cy="3071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https://image.shutterstock.com/image-photo/student-high-school-college-260nw-268243832.jpg"/>
          <p:cNvPicPr/>
          <p:nvPr/>
        </p:nvPicPr>
        <p:blipFill>
          <a:blip r:embed="rId3"/>
          <a:stretch/>
        </p:blipFill>
        <p:spPr>
          <a:xfrm>
            <a:off x="4357800" y="3714840"/>
            <a:ext cx="3504960" cy="26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221ba5"/>
                </a:solidFill>
                <a:latin typeface="Times New Roman"/>
              </a:rPr>
              <a:t>Как менялся имидж ….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0-е годы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https://pbs.twimg.com/media/EGGcjCyWwAAlPVa.jpg"/>
          <p:cNvPicPr/>
          <p:nvPr/>
        </p:nvPicPr>
        <p:blipFill>
          <a:blip r:embed="rId1"/>
          <a:stretch/>
        </p:blipFill>
        <p:spPr>
          <a:xfrm>
            <a:off x="1000080" y="1785960"/>
            <a:ext cx="3657240" cy="4000320"/>
          </a:xfrm>
          <a:prstGeom prst="rect">
            <a:avLst/>
          </a:prstGeom>
          <a:ln w="9525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86200" y="1500120"/>
            <a:ext cx="4146840" cy="468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9000"/>
          </a:bodyPr>
          <a:p>
            <a:pPr marL="35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ороший учитель – это…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5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Знание предмета и владение методикой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5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Хорошие взаимоотношения с учащимися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5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Умение правильно оценивать знания учащихся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5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Создание дисциплины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5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Внешний вид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520" y="285840"/>
            <a:ext cx="700992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0-е и 60-е годы…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71360" y="857160"/>
            <a:ext cx="4214520" cy="523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64000"/>
          </a:bodyPr>
          <a:p>
            <a:pPr marL="33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Times New Roman"/>
              </a:rPr>
              <a:t>40-е годы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  <a:p>
            <a:pPr marL="33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ученики в учителе ценили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знание предмета, общую эрудицию, политическую зрелость. 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  <a:p>
            <a:pPr marL="33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Times New Roman"/>
              </a:rPr>
              <a:t>60-е годы, перечислены качества: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  <a:p>
            <a:pPr marL="33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авторитет, знание предмета,  остроумие, приятная наружность,  умение говорить логично и выразительно, требовательность самостоятельности, любовь к педагогической работе. 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9" name="Picture 2" descr="https://www.bragazeta.ru/wp-content/uploads/2016/10/post-329.jpg"/>
          <p:cNvPicPr/>
          <p:nvPr/>
        </p:nvPicPr>
        <p:blipFill>
          <a:blip r:embed="rId1"/>
          <a:stretch/>
        </p:blipFill>
        <p:spPr>
          <a:xfrm>
            <a:off x="5286240" y="1500120"/>
            <a:ext cx="3499920" cy="3642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520" y="285840"/>
            <a:ext cx="700992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0-е годы…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00080" y="1071720"/>
            <a:ext cx="4214520" cy="528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5000"/>
          </a:bodyPr>
          <a:p>
            <a:pPr marL="37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читель должен быть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праведливым, умным, любящим свой предмет, энергичным, требовательным, авторитетный, хорошим организатором, приветливым, любящим детей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2" name="Picture 2" descr="https://newtonew.com/uploads/media/cache/thumb_top/uploads/blog/posts/4d0a58a2c286c3bcae4a540951670a58.jpg"/>
          <p:cNvPicPr/>
          <p:nvPr/>
        </p:nvPicPr>
        <p:blipFill>
          <a:blip r:embed="rId1"/>
          <a:stretch/>
        </p:blipFill>
        <p:spPr>
          <a:xfrm>
            <a:off x="5286240" y="1285920"/>
            <a:ext cx="3428640" cy="3837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</a:rPr>
              <a:t>90-годы…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https://avatars.mds.yandex.net/get-zen_doc/99845/pub_5d5cd9db027a1500ad1d6743_5d5ce1cb43fdc005395e757f/scale_600"/>
          <p:cNvPicPr/>
          <p:nvPr/>
        </p:nvPicPr>
        <p:blipFill>
          <a:blip r:embed="rId1"/>
          <a:stretch/>
        </p:blipFill>
        <p:spPr>
          <a:xfrm>
            <a:off x="214200" y="1000080"/>
            <a:ext cx="3428640" cy="3642840"/>
          </a:xfrm>
          <a:prstGeom prst="rect">
            <a:avLst/>
          </a:prstGeom>
          <a:ln w="9525">
            <a:noFill/>
          </a:ln>
        </p:spPr>
      </p:pic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786120" y="1000080"/>
            <a:ext cx="5147280" cy="500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с чувством юмора,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интересный в общении,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справедливый в требованиях,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понимающий,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уважающий своих учеников,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образованный,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. талантливый,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. внимательный,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9. готовый оказать помощь,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. красивый, добрый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919</TotalTime>
  <Application>LibreOffice/7.4.7.2$Linux_X86_64 LibreOffice_project/40$Build-2</Application>
  <AppVersion>15.0000</AppVersion>
  <Words>696</Words>
  <Paragraphs>10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04:59Z</dcterms:created>
  <dc:creator>1</dc:creator>
  <dc:description/>
  <dc:language>en-US</dc:language>
  <cp:lastModifiedBy>Asus</cp:lastModifiedBy>
  <dcterms:modified xsi:type="dcterms:W3CDTF">2022-05-03T19:47:45Z</dcterms:modified>
  <cp:revision>18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4</vt:r8>
  </property>
</Properties>
</file>