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109-94FF-4966-8928-F564D497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868-8236-41ED-8552-EB15AD82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C3D-B57E-49AB-A78F-23AAF066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1FCC-6985-40FA-8A56-EB870134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34B5-002D-4A22-A1BB-9C8B24DE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A62-0029-4066-B8BF-F4553D23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D03B-238D-43BD-B7EF-7384A3C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A9EB-6735-4111-8012-459FAA8F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7AC3-F934-4921-A151-C207769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884-4D24-4AB5-8DD0-2BE1BCD4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54FE-76FD-4669-8D49-F00F94B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E43-D12B-401D-8E55-FCFA69FA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C0C8-676D-4A5D-85A1-AAD29D2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7A04-54D2-48D6-8A0F-08E1CA0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657D-CF46-4989-ADB7-610D645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735A-9C1E-48FB-AD03-06933418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ADCE-7B8B-44DB-A558-96A588F8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9568-1FC0-44C7-9E9E-B7DC4ECB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697D-8B82-4054-9C99-F30AFE78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D35DD-B418-4E57-AFF2-D84D8B3B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714E-B36E-4A81-9450-A54BDD6E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D6A5-070C-41AD-BBD0-D1F47BA7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68A-937F-45C2-AFE0-F3A47991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C3C8-D7A3-4FF7-9E29-F9985BB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BA225-83D6-4E98-87FA-E246ED4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DAA46-59A0-4D51-85FE-09B3D0A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97EC-1257-40C2-B43F-85B9405C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200A-13E7-4024-8D4A-515508BD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D2C2-BC74-47DE-A5AE-BE65EF2E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2B4D-9896-4354-8D59-B8C78D12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09F27-3A02-4341-BCF3-27A52642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1261D-8B5A-4F81-9F0C-322B3B97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A490A-5B31-409E-98EC-64A6589B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798-9069-4D12-8862-09A64B71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08B44-2872-4C28-8D4F-00ADD4A7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2C86E-F6A9-49C4-AE65-6EA6920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E092D-5DDC-41F9-B4EE-EAF21DF6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08D3A-69B1-44C5-A8E7-142AFFCB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D5010-335E-4317-B4F1-0E9C558B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3E63F-7C91-4E61-94F5-8EEFF9AD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5181BB-75E1-452E-BA46-A3649737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5FBF6-D871-4E3D-B3DF-AFD6BDD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C8378-1DF0-4E82-95FD-0EB56C8E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0DAC7-5B9F-4F04-BE80-3212397A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797-ACD3-456A-8897-5D5C432F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7ACE3A-3AE9-48AC-A6EA-099CA9E5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05731-E907-4343-ACE1-696753E1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36CEA-2E5F-4ABA-9A7D-B5BD7CE4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2708E-D00E-42E2-866A-E2CF81C0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E328F-628E-4E12-9914-487ED6D0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D8153-835F-442D-A484-B8516B38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178BD-0832-463B-8E13-ABF01E48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7E990-FB90-4BF4-AFAF-551E47F6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226872-5175-43F3-A188-CAE699EF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3B07F-818E-47AE-9929-D03866C5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7A2-AB93-4B1E-919F-01C1DE61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31A7D-58BF-4001-84CE-E9FFB311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1825-D9A1-4B4D-A5B2-DA7C00EC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4D2CF-7D39-4CDA-9B86-AAF891B5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2BC6E-11F3-41AB-BE10-2FFD657C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C0045-52DA-43F1-A504-5CF4D03C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8BECA-E828-4AB8-9939-1117508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F0B89-0D83-49CF-B0D0-5CD1F63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2D92-EF3C-4BC5-B1D3-E277FDA6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3CD3-BB4D-45FF-B793-7A1297F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BC9D2-BEE1-4B78-8186-8AFFAD2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0F5-D360-4AE6-8A03-8818918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AAA7-A219-4354-9418-FF67753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76CE-79A7-4BD7-A612-6A63D498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23F3A-56BF-404A-A70E-2B45E677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3FC5-9BE0-462E-A0F1-375E0022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3F391-35DD-490A-9529-89F08112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8017D-E453-4117-B287-21E8DEA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904F2-1CBE-4D13-A9F1-60B75C60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A03E-F7D1-4060-8ADC-0EA1AD5C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91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C829-0A85-48CB-9E54-418BE412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E1A5-ED68-4F3D-8229-01FC890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04E-FCBF-4C5F-96A3-8F612F4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CE21F-DD51-4AC4-9102-E6720429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980ED-25A7-4677-86EC-9FE19FF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D10A2-4E43-4F25-9B28-198AC9D6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277A-18DE-4A10-9E7D-D6756AE8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97044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43496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97044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9E452-DE7E-4CE3-BEFE-27A37D78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9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4960" y="3955320"/>
            <a:ext cx="7499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5EA-ECE7-4829-85BC-235AB3D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71AF88-83DE-4A6B-AD4F-300C4F90237A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7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8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1014480" y="0"/>
            <a:ext cx="81291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5079AA-7359-43A7-8D8C-C489D6CE424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F7993E4-4F75-48D7-A7AC-B335B803438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2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3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C3B4BE3-BEEB-437B-A413-1E8B73481EC3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dt" idx="12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89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1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2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0099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body"/>
          </p:nvPr>
        </p:nvSpPr>
        <p:spPr>
          <a:xfrm>
            <a:off x="5257800" y="1981080"/>
            <a:ext cx="3428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BA5D2F-24A1-4BE4-BAFC-65D251F9677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dt" idx="15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ирог 6" hidden="1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6" name="Овал 7" hidden="1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7" name="Кольцо 10" hidden="1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8" name="Прямоугольник 11" hidden="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39" name="Прямоугольник 14" hidden="1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6720"/>
            <a:ext cx="3809520" cy="11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ts val="2001"/>
              </a:lnSpc>
              <a:buNone/>
            </a:pPr>
            <a:r>
              <a:rPr b="1" lang="ru-RU" sz="2200" spc="-1" strike="noStrike" cap="all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406880"/>
            <a:ext cx="3809520" cy="69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body"/>
          </p:nvPr>
        </p:nvSpPr>
        <p:spPr>
          <a:xfrm>
            <a:off x="457200" y="2133720"/>
            <a:ext cx="8152920" cy="3992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dt" idx="16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7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8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43CD09-68A8-4EA3-8415-78AE4B23446F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ирог 6"/>
          <p:cNvSpPr/>
          <p:nvPr/>
        </p:nvSpPr>
        <p:spPr>
          <a:xfrm>
            <a:off x="-816120" y="-816120"/>
            <a:ext cx="1638000" cy="163800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3" name="Овал 7"/>
          <p:cNvSpPr/>
          <p:nvPr/>
        </p:nvSpPr>
        <p:spPr>
          <a:xfrm>
            <a:off x="168120" y="20520"/>
            <a:ext cx="1703160" cy="170316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4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5" name="Прямоугольник 11"/>
          <p:cNvSpPr/>
          <p:nvPr/>
        </p:nvSpPr>
        <p:spPr>
          <a:xfrm>
            <a:off x="1012680" y="0"/>
            <a:ext cx="813096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6" name="Прямоугольник 14"/>
          <p:cNvSpPr/>
          <p:nvPr/>
        </p:nvSpPr>
        <p:spPr>
          <a:xfrm>
            <a:off x="101448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87" name="Овал 3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288" name="Овал 4"/>
          <p:cNvSpPr/>
          <p:nvPr/>
        </p:nvSpPr>
        <p:spPr>
          <a:xfrm>
            <a:off x="1157400" y="1344600"/>
            <a:ext cx="63000" cy="6480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9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0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1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F4906DE-FA44-433D-8249-E8084184FEEE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3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221ba5"/>
                </a:solidFill>
                <a:latin typeface="Times New Roman"/>
              </a:rPr>
              <a:t>Бюджетное профессиональное образовательное учреждение </a:t>
            </a:r>
            <a:br>
              <a:rPr sz="2000"/>
            </a:br>
            <a:r>
              <a:rPr b="0" lang="ru-RU" sz="2000" spc="-1" strike="noStrike">
                <a:solidFill>
                  <a:srgbClr val="221ba5"/>
                </a:solidFill>
                <a:latin typeface="Times New Roman"/>
              </a:rPr>
              <a:t>Воронежской области </a:t>
            </a:r>
            <a:br>
              <a:rPr sz="2000"/>
            </a:br>
            <a:r>
              <a:rPr b="0" lang="ru-RU" sz="2000" spc="-1" strike="noStrike">
                <a:solidFill>
                  <a:srgbClr val="221ba5"/>
                </a:solidFill>
                <a:latin typeface="Times New Roman"/>
              </a:rPr>
              <a:t>«Борисоглебский медицинский колледж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20864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Методический семинар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«Имидж педагога»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221ba5"/>
                </a:solidFill>
                <a:latin typeface="Times New Roman"/>
              </a:rPr>
              <a:t>Подготовила: И.М. Архирейская, 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221ba5"/>
                </a:solidFill>
                <a:latin typeface="Times New Roman"/>
              </a:rPr>
              <a:t>преподавател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72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Структурные компоненты  имидж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071720"/>
            <a:ext cx="7499160" cy="517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нешняя  составляющая имид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мика, жесты,  одежда, походка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оцессуальная составл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щая -деловые качества и профессиональные манеры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нутренняя составляющая-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ховное и интеллектуальное развити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440028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200000"/>
              </a:lnSpc>
              <a:buNone/>
            </a:pPr>
            <a:r>
              <a:rPr b="1" lang="ru-RU" sz="2800" spc="-1" strike="noStrike" cap="all">
                <a:solidFill>
                  <a:srgbClr val="572314"/>
                </a:solidFill>
                <a:latin typeface="Times New Roman"/>
              </a:rPr>
              <a:t>Одежда- визитная карточка педагога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571320"/>
            <a:ext cx="414288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2" descr="https://avatars.mds.yandex.net/get-zen_doc/40274/pub_5b64ff9935269000a986945b_5b66e91757714b00aaa72e4a/scale_600"/>
          <p:cNvPicPr/>
          <p:nvPr/>
        </p:nvPicPr>
        <p:blipFill>
          <a:blip r:embed="rId1"/>
          <a:stretch/>
        </p:blipFill>
        <p:spPr>
          <a:xfrm>
            <a:off x="5000760" y="642960"/>
            <a:ext cx="3642840" cy="5357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225216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0" y="285840"/>
            <a:ext cx="4142880" cy="581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Основной стиль педагога – это классика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ссический стиль – это стиль, одобренный временем, но с включением модных элементов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альная форма- деловой костю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8" descr="https://modnica.info/wp-content/uploads/2013/10/3010-34.jpg"/>
          <p:cNvPicPr/>
          <p:nvPr/>
        </p:nvPicPr>
        <p:blipFill>
          <a:blip r:embed="rId1"/>
          <a:stretch/>
        </p:blipFill>
        <p:spPr>
          <a:xfrm>
            <a:off x="1071360" y="214200"/>
            <a:ext cx="2857320" cy="3214440"/>
          </a:xfrm>
          <a:prstGeom prst="rect">
            <a:avLst/>
          </a:prstGeom>
          <a:ln w="9525">
            <a:noFill/>
          </a:ln>
        </p:spPr>
      </p:pic>
      <p:pic>
        <p:nvPicPr>
          <p:cNvPr id="364" name="Picture 12" descr="https://i.a4vn.com/2019/2/23/phong-cach-an-mac-di-doi-voi-kha-nang-thanh-cong-d08aba.jpg"/>
          <p:cNvPicPr/>
          <p:nvPr/>
        </p:nvPicPr>
        <p:blipFill>
          <a:blip r:embed="rId2"/>
          <a:stretch/>
        </p:blipFill>
        <p:spPr>
          <a:xfrm rot="21354600">
            <a:off x="508320" y="3495600"/>
            <a:ext cx="3962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6" name="Picture 4" descr="https://emoda.kz/assets/resource/product/small_58270a.jpg?5249"/>
          <p:cNvPicPr/>
          <p:nvPr/>
        </p:nvPicPr>
        <p:blipFill>
          <a:blip r:embed="rId1"/>
          <a:stretch/>
        </p:blipFill>
        <p:spPr>
          <a:xfrm>
            <a:off x="3714840" y="1285920"/>
            <a:ext cx="2428560" cy="3500280"/>
          </a:xfrm>
          <a:prstGeom prst="rect">
            <a:avLst/>
          </a:prstGeom>
          <a:ln w="9525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328680"/>
            <a:ext cx="402228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http://wlooks.ru/images/article/cropped/220-308/2017/03/kakoj-dliny-dolzhen-byt-galstuk-3.jpg"/>
          <p:cNvPicPr/>
          <p:nvPr/>
        </p:nvPicPr>
        <p:blipFill>
          <a:blip r:embed="rId2"/>
          <a:stretch/>
        </p:blipFill>
        <p:spPr>
          <a:xfrm>
            <a:off x="6429240" y="2500200"/>
            <a:ext cx="2356920" cy="3928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https://avatars.mds.yandex.net/get-pdb/70729/14df00d7-a5de-490b-9a27-bd04e2e7dccd/s280"/>
          <p:cNvPicPr/>
          <p:nvPr/>
        </p:nvPicPr>
        <p:blipFill>
          <a:blip r:embed="rId3"/>
          <a:stretch/>
        </p:blipFill>
        <p:spPr>
          <a:xfrm>
            <a:off x="428760" y="357120"/>
            <a:ext cx="2857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43080" y="274680"/>
            <a:ext cx="67910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Значение цветов в вашей одежд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!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7648200" cy="5071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символизирует открытость и оптимиз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активность, эмоциональность, требовательность к себе и други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 уравновешенност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21ba5"/>
                </a:solidFill>
                <a:latin typeface="Times New Roman"/>
              </a:rPr>
              <a:t>Си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ссудительность и педантиз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3e1c"/>
                </a:solidFill>
                <a:latin typeface="Times New Roman"/>
              </a:rPr>
              <a:t>Зеленый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покойствие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515151"/>
                </a:solidFill>
                <a:latin typeface="Times New Roman"/>
              </a:rPr>
              <a:t>Сер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стремление скрыть чувства и эмоци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82402e"/>
                </a:solidFill>
                <a:latin typeface="Times New Roman"/>
              </a:rPr>
              <a:t>Коричнев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актичность и солидност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714840" y="457200"/>
            <a:ext cx="497160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Украшения и аксессуар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https://i0.wp.com/taa.ge/wp-content/uploads/2010/12/wear-in-office-15.jpg"/>
          <p:cNvPicPr/>
          <p:nvPr/>
        </p:nvPicPr>
        <p:blipFill>
          <a:blip r:embed="rId1"/>
          <a:stretch/>
        </p:blipFill>
        <p:spPr>
          <a:xfrm>
            <a:off x="285840" y="3000240"/>
            <a:ext cx="3857400" cy="2771280"/>
          </a:xfrm>
          <a:prstGeom prst="rect">
            <a:avLst/>
          </a:prstGeom>
          <a:ln w="9525">
            <a:noFill/>
          </a:ln>
        </p:spPr>
      </p:pic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071960" y="1214280"/>
            <a:ext cx="4614480" cy="488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рашения и аксессуары  следует выбирать неброские из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благородных металлов  и натуральных камней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ки должны быть точно подобраны к чертам лица и не должны отвлекать от мимики и выражения ваших глаз.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5" name="Picture 2" descr="Деловой макияж - пошаговое фото, видео"/>
          <p:cNvPicPr/>
          <p:nvPr/>
        </p:nvPicPr>
        <p:blipFill>
          <a:blip r:embed="rId2"/>
          <a:stretch/>
        </p:blipFill>
        <p:spPr>
          <a:xfrm>
            <a:off x="428760" y="285840"/>
            <a:ext cx="29286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0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Деловые качества и профессиональные манер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14280" y="1857240"/>
            <a:ext cx="7500600" cy="371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рофессиональная  компетентност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Уважение к чужому труду, к чужому времен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требность в самообразовани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облюдение делового  этикета  в общении со студентами,  коллегами, родителями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Специфика речи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928800"/>
            <a:ext cx="7499160" cy="53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действие речи педагога зависит от следующих факторов: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Умение убеждать, логическое построение реч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Владение техникой речи: дыханием, голосом, дикцией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Экспрессивные умения: образность речи, ее интонационная выразительность, логические акценты и паузы, мелодика реч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72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Специфика речи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28800" y="1500120"/>
            <a:ext cx="8005320" cy="474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Использование вспомогательных средств: жестов, мимики, пластики, дистанции общения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Умение проводить дискуссии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 Перцептивные умения, связанные с учетом реакции слушателей, умение использовать наглядность 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86240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Коммуникативные  качества речи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500120"/>
            <a:ext cx="7499160" cy="4748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равильн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Точн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Логичн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Чистота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Сжат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Живость реч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43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Задача «Гостиница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505360" cy="517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остинице есть три свободных номера. Администратору дано указание – поселить в них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днако информация, которой он владеет,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чет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он не знает ни пола, ни возраста, ни конкретной специализации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и целей их приезда. Возле своего окошка он поместил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бличк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: «Места только для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дагогов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е с тем он обнаружил, что сегодня в гостиницу большой наплыв приезжих, а мест нет, он вынужден отказывать. Администратору известно, что люди, желающие получить место, прибегают к разным уловкам, пытаются выдать себя за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му нужно быть начеку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ы считаете, что будет ключевым в оценивании человека как педагога?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14720" y="360000"/>
            <a:ext cx="6624360" cy="9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Требования к голосу педагог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28840" y="1714320"/>
            <a:ext cx="7410240" cy="478584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0" anchor="t">
            <a:noAutofit/>
          </a:bodyPr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1.Голос должен обладать благозвуч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2. Педагогу необходимо изменять характеристики своего голоса с учетом ситуации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3. Голос должен обладать полет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4.  С помощью голоса преподаватель должен уметь внушить студенту определенные требования и добиться их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361309"/>
                </a:solidFill>
                <a:latin typeface="Times New Roman"/>
              </a:rPr>
              <a:t>5.  Голос должен быть достаточно выносли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https://mobile-cdn.123rf.com/300wm/andreypopov/andreypopov1406/andreypopov140600771/29323147-side-view-of-young-female-student-screaming-on-megaphone-against-blackboard.jpg?ver=6"/>
          <p:cNvPicPr/>
          <p:nvPr/>
        </p:nvPicPr>
        <p:blipFill>
          <a:blip r:embed="rId1"/>
          <a:stretch/>
        </p:blipFill>
        <p:spPr>
          <a:xfrm>
            <a:off x="214200" y="214200"/>
            <a:ext cx="1856880" cy="1356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8760" y="216720"/>
            <a:ext cx="814356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ts val="2001"/>
              </a:lnSpc>
              <a:buNone/>
            </a:pPr>
            <a:r>
              <a:rPr b="1" lang="ru-RU" sz="2800" spc="-1" strike="noStrike" cap="all">
                <a:solidFill>
                  <a:srgbClr val="221ba5"/>
                </a:solidFill>
                <a:latin typeface="Times New Roman"/>
              </a:rPr>
              <a:t>Голос- звучащий имидж педагог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28800" y="1000080"/>
            <a:ext cx="6929280" cy="13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ди, голос которых всегда звучит в громком «ругательном» режиме, сразу отталкивают от себя других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45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педагога такая голосовая манера – сигнал о профессиональной непригодности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" name="Picture 2" descr="https://simg.sputnik.ru/?key=f1b71b46bbbc8533f7f043ff7bfe64114e8589db"/>
          <p:cNvPicPr/>
          <p:nvPr/>
        </p:nvPicPr>
        <p:blipFill>
          <a:blip r:embed="rId1"/>
          <a:stretch/>
        </p:blipFill>
        <p:spPr>
          <a:xfrm>
            <a:off x="1357200" y="3143160"/>
            <a:ext cx="6214680" cy="2984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14880" y="457200"/>
            <a:ext cx="447156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21ba5"/>
                </a:solidFill>
                <a:latin typeface="Times New Roman"/>
              </a:rPr>
              <a:t>Невербальное поведение – это проявление культуры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429080" y="2000160"/>
            <a:ext cx="4285800" cy="4095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нимательный взгляд ,  доброжелательная улыбка,  приветливые жесты действуют  располагающе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2" name="Picture 2" descr="https://gss0.baidu.com/7LsWdDW5_xN3otqbppnN2DJv/zhidao/pic/item/9922720e0cf3d7caee18ab1bf91fbe096a63a9f5.jpg"/>
          <p:cNvPicPr/>
          <p:nvPr/>
        </p:nvPicPr>
        <p:blipFill>
          <a:blip r:embed="rId1"/>
          <a:stretch/>
        </p:blipFill>
        <p:spPr>
          <a:xfrm>
            <a:off x="1143000" y="3786120"/>
            <a:ext cx="2999880" cy="2276640"/>
          </a:xfrm>
          <a:prstGeom prst="rect">
            <a:avLst/>
          </a:prstGeom>
          <a:ln w="9525">
            <a:noFill/>
          </a:ln>
        </p:spPr>
      </p:pic>
      <p:pic>
        <p:nvPicPr>
          <p:cNvPr id="393" name="Picture 4" descr="https://image.shutterstock.com/image-photo/male-teacher-listening-students-adult-260nw-388588465.jpg"/>
          <p:cNvPicPr/>
          <p:nvPr/>
        </p:nvPicPr>
        <p:blipFill>
          <a:blip r:embed="rId2"/>
          <a:stretch/>
        </p:blipFill>
        <p:spPr>
          <a:xfrm>
            <a:off x="1071360" y="785880"/>
            <a:ext cx="299988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16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Заключение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9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ество, порождая требования к профессиональному имиджу педагога, влияет на его содержание. Но из поколения в поколение неизменным остаются такие качества «идеального педагога», как любовь к детям, доброжелательность, искренность, умение общаться. Имидж такого педагога безупречен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85840"/>
            <a:ext cx="749916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5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100" spc="-1" strike="noStrike">
                <a:solidFill>
                  <a:srgbClr val="221ba5"/>
                </a:solidFill>
                <a:latin typeface="Times New Roman"/>
              </a:rPr>
              <a:t>СПИСОК ИСПОЛЬЗОВАННОЙ ЛИТЕРАТУРЫ</a:t>
            </a:r>
            <a:br>
              <a:rPr sz="43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9112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  Актерские способности в деятельности учителя: Метод. пособие/Сост. Л.А. Ильина. Магнитогорск, 1998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  Андреева И. Эмоциональная компетентность в работе учителя. /Народное образование №2, 2006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  Журавлев Д. Имидж учителя – необходимость или дань моде? // Народное образование №7, 2003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  Калюжный А.А. Технология построения имиджа учителя.//Имидж №5 Гуманитарное образование в школе: теория и практика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  Капустина З. Имидж современного педагога//Учитель №1, 2006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  Новокшонова М. Имидж педагога: знания, опыт, мастерство.//Учитель №3, 2005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   Попова Л. Имидж современного педагога. //Учитель №6, 2002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   Смирнова Н.Е. Имидж учителя.//Преподаватель, 2001, №1.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929360" cy="29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221ba5"/>
                </a:solidFill>
                <a:latin typeface="Times New Roman"/>
              </a:rPr>
              <a:t>Что такое имидж педагога?</a:t>
            </a:r>
            <a:br>
              <a:rPr sz="32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Имидж педагога-( от английского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image-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браз, изображение)- эмоционально окрашенный стереотип восприятия образа учителя в сознании воспитанников, коллег, социального окружения, в массовом сознании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icture 2"/>
          <p:cNvSpPr/>
          <p:nvPr/>
        </p:nvSpPr>
        <p:spPr>
          <a:xfrm>
            <a:off x="714240" y="3071880"/>
            <a:ext cx="8143560" cy="3571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9525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400"/>
                </a:solidFill>
                <a:latin typeface="Times New Roman"/>
              </a:rPr>
              <a:t>Отношение к имиджу у самих педагогов разное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s://www.kamumanset.com/images/upload/1_92.jpg"/>
          <p:cNvPicPr/>
          <p:nvPr/>
        </p:nvPicPr>
        <p:blipFill>
          <a:blip r:embed="rId1"/>
          <a:stretch/>
        </p:blipFill>
        <p:spPr>
          <a:xfrm>
            <a:off x="642960" y="1500120"/>
            <a:ext cx="4071600" cy="3575160"/>
          </a:xfrm>
          <a:prstGeom prst="rect">
            <a:avLst/>
          </a:prstGeom>
          <a:ln w="9525">
            <a:noFill/>
          </a:ln>
        </p:spPr>
      </p:pic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57840" y="1285920"/>
            <a:ext cx="4075560" cy="466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, который занимается созданием собственного имиджа, не только лучше выглядит, но и лучше себя чувствует, более уверен, а в итоге и успешнее работает!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57760" y="457200"/>
            <a:ext cx="4828680" cy="8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Функции имиджа педагога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://ctv7.ru/assets/cache/images/uploads/news_previews/fotoarhiv/zdravoohranenie/medsyostry-400x300-318.jpg"/>
          <p:cNvPicPr/>
          <p:nvPr/>
        </p:nvPicPr>
        <p:blipFill>
          <a:blip r:embed="rId1"/>
          <a:stretch/>
        </p:blipFill>
        <p:spPr>
          <a:xfrm>
            <a:off x="428760" y="3571920"/>
            <a:ext cx="3125880" cy="2785680"/>
          </a:xfrm>
          <a:prstGeom prst="rect">
            <a:avLst/>
          </a:prstGeom>
          <a:ln w="9525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00320" y="1285920"/>
            <a:ext cx="4686120" cy="4809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профессиональная;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социальная;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3600" spc="-1" strike="noStrike">
                <a:solidFill>
                  <a:srgbClr val="221ba5"/>
                </a:solidFill>
                <a:latin typeface="Times New Roman"/>
              </a:rPr>
              <a:t>духовно-нравственная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2" descr="http://live4x.ru/foto/9/images/stories2/deti/nravstvennoe-vospitanie-podrostkov-1-1.jpg"/>
          <p:cNvPicPr/>
          <p:nvPr/>
        </p:nvPicPr>
        <p:blipFill>
          <a:blip r:embed="rId2"/>
          <a:stretch/>
        </p:blipFill>
        <p:spPr>
          <a:xfrm>
            <a:off x="285840" y="285840"/>
            <a:ext cx="3357360" cy="3071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s://image.shutterstock.com/image-photo/student-high-school-college-260nw-268243832.jpg"/>
          <p:cNvPicPr/>
          <p:nvPr/>
        </p:nvPicPr>
        <p:blipFill>
          <a:blip r:embed="rId3"/>
          <a:stretch/>
        </p:blipFill>
        <p:spPr>
          <a:xfrm>
            <a:off x="4357800" y="3714840"/>
            <a:ext cx="3504960" cy="26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221ba5"/>
                </a:solidFill>
                <a:latin typeface="Times New Roman"/>
              </a:rPr>
              <a:t>Как менялся имидж ….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0-е год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https://pbs.twimg.com/media/EGGcjCyWwAAlPVa.jpg"/>
          <p:cNvPicPr/>
          <p:nvPr/>
        </p:nvPicPr>
        <p:blipFill>
          <a:blip r:embed="rId1"/>
          <a:stretch/>
        </p:blipFill>
        <p:spPr>
          <a:xfrm>
            <a:off x="1000080" y="1785960"/>
            <a:ext cx="3657240" cy="4000320"/>
          </a:xfrm>
          <a:prstGeom prst="rect">
            <a:avLst/>
          </a:prstGeom>
          <a:ln w="9525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86200" y="1500120"/>
            <a:ext cx="4146840" cy="468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9000"/>
          </a:bodyPr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роший учитель – это…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Знание предмета и владение методик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Хорошие взаимоотношения с учащимися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Умение правильно оценивать знания учащихся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Создание дисциплины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51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нешний вид. 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520" y="285840"/>
            <a:ext cx="70099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0-е и 60-е годы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1360" y="857160"/>
            <a:ext cx="4214520" cy="523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4000"/>
          </a:bodyPr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40-е годы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ученики в учителе ценили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знание предмета, общую эрудицию, политическую зрелость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</a:rPr>
              <a:t>60-е годы, перечислены качества: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marL="334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авторитет, знание предмета,  остроумие, приятная наружность,  умение говорить логично и выразительно, требовательность самостоятельности, любовь к педагогической работе. </a:t>
            </a:r>
            <a:endParaRPr b="0" lang="ru-RU" sz="3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Picture 2" descr="https://www.bragazeta.ru/wp-content/uploads/2016/10/post-329.jpg"/>
          <p:cNvPicPr/>
          <p:nvPr/>
        </p:nvPicPr>
        <p:blipFill>
          <a:blip r:embed="rId1"/>
          <a:stretch/>
        </p:blipFill>
        <p:spPr>
          <a:xfrm>
            <a:off x="5286240" y="1500120"/>
            <a:ext cx="3499920" cy="3642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520" y="285840"/>
            <a:ext cx="70099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0-е годы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00080" y="1071720"/>
            <a:ext cx="4214520" cy="5285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5000"/>
          </a:bodyPr>
          <a:p>
            <a:pPr marL="37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читель должен быть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раведливым, умным, любящим свой предмет, энергичным, требовательным, авторитетный, хорошим организатором, приветливым, любящим детей. 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2" descr="https://newtonew.com/uploads/media/cache/thumb_top/uploads/blog/posts/4d0a58a2c286c3bcae4a540951670a58.jpg"/>
          <p:cNvPicPr/>
          <p:nvPr/>
        </p:nvPicPr>
        <p:blipFill>
          <a:blip r:embed="rId1"/>
          <a:stretch/>
        </p:blipFill>
        <p:spPr>
          <a:xfrm>
            <a:off x="5286240" y="1285920"/>
            <a:ext cx="3428640" cy="3837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</a:rPr>
              <a:t>90-годы…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s://avatars.mds.yandex.net/get-zen_doc/99845/pub_5d5cd9db027a1500ad1d6743_5d5ce1cb43fdc005395e757f/scale_600"/>
          <p:cNvPicPr/>
          <p:nvPr/>
        </p:nvPicPr>
        <p:blipFill>
          <a:blip r:embed="rId1"/>
          <a:stretch/>
        </p:blipFill>
        <p:spPr>
          <a:xfrm>
            <a:off x="214200" y="1000080"/>
            <a:ext cx="3428640" cy="3642840"/>
          </a:xfrm>
          <a:prstGeom prst="rect">
            <a:avLst/>
          </a:prstGeom>
          <a:ln w="9525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786120" y="1000080"/>
            <a:ext cx="514728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с чувством юмора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интересный в общении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праведливый в требованиях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понимающи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важающий своих учеников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образованны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 талантливы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внимательный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. готовый оказать помощь,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. красивый, добры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919</TotalTime>
  <Application>LibreOffice/7.4.7.2$Linux_X86_64 LibreOffice_project/40$Build-2</Application>
  <AppVersion>15.0000</AppVersion>
  <Words>696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04:59Z</dcterms:created>
  <dc:creator>1</dc:creator>
  <dc:description/>
  <dc:language>en-US</dc:language>
  <cp:lastModifiedBy>Asus</cp:lastModifiedBy>
  <dcterms:modified xsi:type="dcterms:W3CDTF">2022-05-03T19:47:45Z</dcterms:modified>
  <cp:revision>1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4</vt:r8>
  </property>
</Properties>
</file>