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3B0-3F05-405C-95C0-76670810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46F-034B-40F0-AD78-371E752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71A-2F18-4E85-AA93-BD72B5C0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086-D6A5-46DB-9835-8013B9F8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18DA-6D28-4CDD-A2D6-E610D6FE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BF7D-4BDA-4A76-82C6-BA62185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AFD1-2C9C-4AFF-A23F-D0AB6DD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3AC-71C4-4D5A-818E-8BC149E9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89A-DF66-49B2-B01C-FD37AFCC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8E3-D1FF-4EFC-BA70-E1C2614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598D-C1EC-423F-863A-C6F9A9B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00A-AE30-4254-A72F-0380462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2759-86E1-4F97-AADE-9251BE1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B38C-B3D2-4E6E-86B1-6AEDF10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8433-51BD-481C-9C8C-13731B0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FEAD-9CA1-4D5A-9720-89553695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D774-17E3-442A-B9B2-658ABF21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DF18-01DD-4E9F-AA06-67F06120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B82D-C9A9-43F7-902B-82D81F6A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F980-F5A9-4484-B0DC-BD77602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53DA-8643-435E-8BAA-B167180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6A5E-1525-4075-AACF-5CCB697B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E7B-1215-4AAD-A13B-30C2EBDC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565D-0B02-4816-846B-78A38E3A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3797-3BC6-4681-8CE7-90F171CE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C1CC-3477-4E90-950B-7ED0FF2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E404-1604-4213-9D1E-B972B65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A8B9-2C57-4110-8627-6009D8B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8BD8-40A1-430B-9404-90D37CD2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B3CB-C237-48B4-983B-73D9359E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668A-715C-4D7D-AB4B-AFDA08B3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A9C7-9AA8-44D7-B29B-3851C23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97DE-3D81-4ABF-93C0-E79B173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553-F71B-4587-95FA-60DFE0F0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161E-48AC-4F16-9C03-C96F034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565BF-09B4-4066-8D1F-BFE86F9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D8A6-232F-4ECE-BE86-AC04B790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6F2F-D54C-42AC-BC39-A373C80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F333-130A-4869-8287-EE6BB8B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CB3E-A41D-476E-9CAA-C151C54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F296-24B3-4AA8-82B9-751DC20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66F1-5AA8-4F7E-9075-EF1E8A82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7C94-1CA2-415B-9B30-E63083C4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754-69B7-4947-B5D0-CBE7E9B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9FB-5B0B-49CD-8334-D5577EE7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84E-23A7-4DB7-9731-79C44BBF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165-3344-4835-9EB7-62ED385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3DF-18F0-46EA-B3E1-6AF67F9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2BE1-ACFC-468A-AC74-E8972AFF55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ED1-D1D3-484A-831F-25FA57031B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94B8-4D78-465C-8616-97E4B14A44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az 6" descr=""/>
          <p:cNvPicPr/>
          <p:nvPr/>
        </p:nvPicPr>
        <p:blipFill>
          <a:blip r:embed="rId3"/>
          <a:stretch/>
        </p:blipFill>
        <p:spPr>
          <a:xfrm>
            <a:off x="628560" y="365040"/>
            <a:ext cx="7886880" cy="1281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5C00-9949-4582-B707-A197A1CE82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ytuł 1" descr=""/>
          <p:cNvPicPr/>
          <p:nvPr/>
        </p:nvPicPr>
        <p:blipFill>
          <a:blip r:embed="rId1"/>
          <a:stretch/>
        </p:blipFill>
        <p:spPr>
          <a:xfrm>
            <a:off x="536400" y="334800"/>
            <a:ext cx="8120160" cy="3310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097000" y="294444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учителя начальных классов МБОУ «Магистральнинская средняя общеобразовательная школа № 22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оловой Анны Вячеславов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 опыта работы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126080" y="1940040"/>
            <a:ext cx="736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труктура технологическ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р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92280" y="326880"/>
          <a:ext cx="7850160" cy="5110200"/>
        </p:xfrm>
        <a:graphic>
          <a:graphicData uri="http://schemas.openxmlformats.org/drawingml/2006/table">
            <a:tbl>
              <a:tblPr/>
              <a:tblGrid>
                <a:gridCol w="1776240"/>
                <a:gridCol w="2005200"/>
                <a:gridCol w="406872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0" rIns="0" tIns="0" bIns="0" anchor="t">
                      <a:noAutofit/>
                    </a:bodyPr>
                    <a:p>
                      <a:pPr marL="82440" indent="-1440">
                        <a:lnSpc>
                          <a:spcPct val="96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2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ирование на учебн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1054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аивает учеников на успешную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 indent="-1440">
                        <a:lnSpc>
                          <a:spcPct val="96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лагожелательной атмосферы урока, нацеленности н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3000"/>
                        </a:lnSpc>
                        <a:spcBef>
                          <a:spcPts val="462"/>
                        </a:spcBef>
                        <a:tabLst>
                          <a:tab algn="l" pos="0"/>
                          <a:tab algn="l" pos="1014480"/>
                          <a:tab algn="l" pos="2044800"/>
                          <a:tab algn="l" pos="2989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торение пройденного, выполнение заданий. Взаимопроверка и взаимо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lnSpc>
                          <a:spcPct val="9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1014480"/>
                          <a:tab algn="l" pos="2044800"/>
                          <a:tab algn="l" pos="2989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ем ученики получают задание, для решения которого не достаточно имеющихся ум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208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6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полагание, постановка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1000" indent="1440">
                        <a:lnSpc>
                          <a:spcPct val="95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одит учеников к определению границ знания и незнания, осознанию темы, целей и задач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овместной работе выявляются причины затруднения, выясняется проблема. Ученики самостоятельно формулируют тему и 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92280" y="326880"/>
          <a:ext cx="7850160" cy="4948560"/>
        </p:xfrm>
        <a:graphic>
          <a:graphicData uri="http://schemas.openxmlformats.org/drawingml/2006/table">
            <a:tbl>
              <a:tblPr/>
              <a:tblGrid>
                <a:gridCol w="1776240"/>
                <a:gridCol w="2005200"/>
                <a:gridCol w="406872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путей решения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lnSpc>
                          <a:spcPct val="9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путей достижения намеченной цели. Осуществление учебных действий по плану.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ая или групповая работа по решению практических зада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яют задание, которое сначала оказалось непосильным для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56640"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р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58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гает, советует, 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 indent="-1800">
                        <a:lnSpc>
                          <a:spcPct val="9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яют решение, выявляют, все ли справились с заданием, формулируют затруд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14520" y="326880"/>
          <a:ext cx="7927920" cy="4948560"/>
        </p:xfrm>
        <a:graphic>
          <a:graphicData uri="http://schemas.openxmlformats.org/drawingml/2006/table">
            <a:tbl>
              <a:tblPr/>
              <a:tblGrid>
                <a:gridCol w="2011320"/>
                <a:gridCol w="1847880"/>
                <a:gridCol w="406872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9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78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использованием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овой теме, самопроверка по этал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3240">
                        <a:lnSpc>
                          <a:spcPct val="9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атизац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6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14540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ует, направл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 algn="just">
                        <a:lnSpc>
                          <a:spcPct val="101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по выявлению связи изученной на уроке темы с изученным ранее материалом, связи с жизн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56640">
                <a:tc>
                  <a:txBody>
                    <a:bodyPr lIns="0" rIns="0" tIns="0" bIns="0" anchor="t">
                      <a:noAutofit/>
                    </a:bodyPr>
                    <a:p>
                      <a:pPr marL="82440" indent="-1440">
                        <a:lnSpc>
                          <a:spcPct val="95000"/>
                        </a:lnSpc>
                        <a:tabLst>
                          <a:tab algn="l" pos="0"/>
                          <a:tab algn="l" pos="1165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яснение домашнего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ъясняет, предлагает задания на вы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just"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учеников должна быть возможность выбора домашнего задания в соответствии со своими предпочтениями. Необходимо наличие заданий разного уровня слож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27120" y="444600"/>
          <a:ext cx="7929360" cy="3065400"/>
        </p:xfrm>
        <a:graphic>
          <a:graphicData uri="http://schemas.openxmlformats.org/drawingml/2006/table">
            <a:tbl>
              <a:tblPr/>
              <a:tblGrid>
                <a:gridCol w="2011320"/>
                <a:gridCol w="2143080"/>
                <a:gridCol w="3774960"/>
              </a:tblGrid>
              <a:tr h="46044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ывает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just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самостоятельно оценивают работу на (самооценка, взаимооценивание результатов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 однокласс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флексия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агодарит учеников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just"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называют тему урока, его этапы, перечисляют виды деятельности на каждом этапе, определяют предметное содержание. Делятся мнением о своей работе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8:35:46Z</dcterms:created>
  <dc:creator>Dmytro</dc:creator>
  <dc:description/>
  <dc:language>en-US</dc:language>
  <cp:lastModifiedBy>Admin</cp:lastModifiedBy>
  <dcterms:modified xsi:type="dcterms:W3CDTF">2021-02-23T07:27:23Z</dcterms:modified>
  <cp:revision>8</cp:revision>
  <dc:subject/>
  <dc:title>NAME OF PRESENTATION</dc:title>
</cp:coreProperties>
</file>