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37FF-8E95-4A98-A49D-9574C48A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E44D-E871-4ACB-B22D-816DCA11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3AA5-84C6-439C-83D7-F12E7640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A218-F040-4F7C-A16D-B660ABB7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734A-97F1-4A15-AA47-3FFCE953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6CA3-9236-404B-92E7-57441651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AEB9-D054-4669-B048-862C4EA3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FFEB-04C8-4CF3-B3FE-E678C05B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9808-B347-4D6A-9C01-8357637E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A099-B30A-4E1B-954E-7BE38B46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31F6-F450-4661-9B06-26B5C4A3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B720-5053-42D9-808D-CC3D11A2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53C9-E163-4A1C-9FCB-C78BA8DF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A58F-0589-4903-AD23-A1A52EB5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E757-91F2-4777-A847-E88F1A5A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222B-DD15-4D01-A1B6-C88CD4C64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A7A3-F7A1-43E7-A5B8-744F2F95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96ADA-2EDA-4E43-99ED-66D7A394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CE622-10A8-4A78-B3D3-9E70E8AA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21830-0992-4151-A764-8243A924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6195A-3E11-4C3C-92DB-088528B8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16C53-AF06-4212-A440-43F5C32F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F51F-A70D-4482-8B00-3379872F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DF747-2512-4095-93A0-65C8F5D1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903A9-32E5-42AF-BC30-307A7DF0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434DF-1D7B-4BE9-A675-3C3B42D0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5BF89-F15D-49EE-A1E5-41E0E608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FF5B0-8BC6-4CFC-9E93-02450CAF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DCB97-7224-4400-BCCE-86850A91A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0746F-9D16-41FE-8308-A2791A3B6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47284-4F61-453F-B85D-C0D303815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A9B08-2F33-496C-92DC-B25ACF7C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48535-E29E-44CB-AB35-A90FE2DC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263B-4BAB-4F7C-B490-3D1B65AB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9DD2B-36F9-416D-8AD1-33CE850B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05898-1662-477D-B195-DB08DA8D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997B4-A369-4089-8F5C-A92CD3D7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98E52-1C3F-4C6D-A1D9-B60DB286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89765-C58B-4598-B5A3-C4EAD071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9B27C-AD6C-4987-890F-4332443A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C1F96-42EC-4E3E-98F5-C6A46215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B37B7-4EAE-44A7-97E5-FC5C0A0A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A8635-DC4C-477B-BBB6-1DE4076D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7A5D-484B-4A8A-8585-F7196694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835D-29DF-4F93-A291-F3909AF4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70F5-CD56-405E-BE5F-649E8C34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43AF-958C-4A00-BBF6-F3377037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63DE-6560-4579-A3B8-2658DE6D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3998-9DB5-44C1-8423-C1178FBE989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750D-9EEC-4F85-B277-C882F46CE7F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0E1D-8405-416D-839C-8EDD115AE29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Obraz 6" descr=""/>
          <p:cNvPicPr/>
          <p:nvPr/>
        </p:nvPicPr>
        <p:blipFill>
          <a:blip r:embed="rId3"/>
          <a:stretch/>
        </p:blipFill>
        <p:spPr>
          <a:xfrm>
            <a:off x="628560" y="365040"/>
            <a:ext cx="7886880" cy="1281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C8B2-18D6-4B17-9CB3-07F903D4260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Tytuł 1" descr=""/>
          <p:cNvPicPr/>
          <p:nvPr/>
        </p:nvPicPr>
        <p:blipFill>
          <a:blip r:embed="rId1"/>
          <a:stretch/>
        </p:blipFill>
        <p:spPr>
          <a:xfrm>
            <a:off x="536400" y="334800"/>
            <a:ext cx="8120160" cy="33102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097000" y="294444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тупление учителя начальных классов МБОУ «Магистральнинская средняя общеобразовательная школа № 22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оловой Анны Вячеславов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из опыта работы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3"/>
          <p:cNvSpPr/>
          <p:nvPr/>
        </p:nvSpPr>
        <p:spPr>
          <a:xfrm>
            <a:off x="1126080" y="1940040"/>
            <a:ext cx="736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Структура технологическо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кар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692280" y="326880"/>
          <a:ext cx="7850160" cy="5110200"/>
        </p:xfrm>
        <a:graphic>
          <a:graphicData uri="http://schemas.openxmlformats.org/drawingml/2006/table">
            <a:tbl>
              <a:tblPr/>
              <a:tblGrid>
                <a:gridCol w="1776240"/>
                <a:gridCol w="2005200"/>
                <a:gridCol w="4068720"/>
              </a:tblGrid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276120">
                        <a:spcBef>
                          <a:spcPts val="4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44440">
                        <a:spcBef>
                          <a:spcPts val="4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я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91960" algn="ctr"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</a:tr>
              <a:tr h="929520">
                <a:tc>
                  <a:txBody>
                    <a:bodyPr lIns="0" rIns="0" tIns="0" bIns="0" anchor="t">
                      <a:noAutofit/>
                    </a:bodyPr>
                    <a:p>
                      <a:pPr marL="82440" indent="-1440">
                        <a:lnSpc>
                          <a:spcPct val="96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22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ирование на учебную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2440">
                        <a:lnSpc>
                          <a:spcPct val="9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1054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траивает учеников на успешную рабо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5680" indent="-1440">
                        <a:lnSpc>
                          <a:spcPct val="96000"/>
                        </a:lnSpc>
                        <a:spcBef>
                          <a:spcPts val="10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благожелательной атмосферы урока, нацеленности на рабо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туализация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сультиру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2440">
                        <a:lnSpc>
                          <a:spcPct val="93000"/>
                        </a:lnSpc>
                        <a:spcBef>
                          <a:spcPts val="462"/>
                        </a:spcBef>
                        <a:tabLst>
                          <a:tab algn="l" pos="0"/>
                          <a:tab algn="l" pos="1014480"/>
                          <a:tab algn="l" pos="2044800"/>
                          <a:tab algn="l" pos="2989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вторение пройденного, выполнение заданий. Взаимопроверка и взаимооцени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2440">
                        <a:lnSpc>
                          <a:spcPct val="95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1014480"/>
                          <a:tab algn="l" pos="2044800"/>
                          <a:tab algn="l" pos="2989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тем ученики получают задание, для решения которого не достаточно имеющихся ум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</a:tr>
              <a:tr h="208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6000"/>
                        </a:lnSpc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леполагание, постановка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1000" indent="1440">
                        <a:lnSpc>
                          <a:spcPct val="95000"/>
                        </a:lnSpc>
                        <a:spcBef>
                          <a:spcPts val="3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водит учеников к определению границ знания и незнания, осознанию темы, целей и задач уро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совместной работе выявляются причины затруднения, выясняется проблема. Ученики самостоятельно формулируют тему и 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692280" y="326880"/>
          <a:ext cx="7850160" cy="4948560"/>
        </p:xfrm>
        <a:graphic>
          <a:graphicData uri="http://schemas.openxmlformats.org/drawingml/2006/table">
            <a:tbl>
              <a:tblPr/>
              <a:tblGrid>
                <a:gridCol w="1776240"/>
                <a:gridCol w="2005200"/>
                <a:gridCol w="4068720"/>
              </a:tblGrid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276120">
                        <a:spcBef>
                          <a:spcPts val="4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44440">
                        <a:spcBef>
                          <a:spcPts val="4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я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91960" algn="ctr"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</a:tr>
              <a:tr h="1303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иск путей решения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иру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5680">
                        <a:lnSpc>
                          <a:spcPct val="9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ование путей достижения намеченной цели. Осуществление учебных действий по плану.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ивидуальная или групповая работа по решению практических зада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</a:tr>
              <a:tr h="1539720"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spcBef>
                          <a:spcPts val="10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шение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2440"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2440"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сультиру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2440"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2440"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полняют задание, которое сначала оказалось непосильным для реш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</a:tr>
              <a:tr h="1556640">
                <a:tc>
                  <a:txBody>
                    <a:bodyPr lIns="0" rIns="0" tIns="0" bIns="0" anchor="t">
                      <a:noAutofit/>
                    </a:bodyPr>
                    <a:p>
                      <a:pPr marL="82440"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ррек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2440">
                        <a:lnSpc>
                          <a:spcPct val="95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1058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могает, советует, консультиру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 indent="-1800">
                        <a:lnSpc>
                          <a:spcPct val="9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веряют решение, выявляют, все ли справились с заданием, формулируют затруд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614520" y="326880"/>
          <a:ext cx="7927920" cy="4948560"/>
        </p:xfrm>
        <a:graphic>
          <a:graphicData uri="http://schemas.openxmlformats.org/drawingml/2006/table">
            <a:tbl>
              <a:tblPr/>
              <a:tblGrid>
                <a:gridCol w="2011320"/>
                <a:gridCol w="1847880"/>
                <a:gridCol w="4068720"/>
              </a:tblGrid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276120">
                        <a:spcBef>
                          <a:spcPts val="4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44440">
                        <a:spcBef>
                          <a:spcPts val="4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я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91960" algn="ctr"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</a:tr>
              <a:tr h="1303200">
                <a:tc>
                  <a:txBody>
                    <a:bodyPr lIns="0" rIns="0" tIns="0" bIns="0" anchor="t">
                      <a:noAutofit/>
                    </a:bodyPr>
                    <a:p>
                      <a:pPr marL="79200">
                        <a:lnSpc>
                          <a:spcPct val="95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781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ая работа с использованием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учен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иру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жнени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новой теме, самопроверка по эталон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</a:tr>
              <a:tr h="1539720">
                <a:tc>
                  <a:txBody>
                    <a:bodyPr lIns="0" rIns="0" tIns="0" bIns="0" anchor="t">
                      <a:noAutofit/>
                    </a:bodyPr>
                    <a:p>
                      <a:pPr marL="84240" indent="-3240">
                        <a:lnSpc>
                          <a:spcPct val="95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стематизация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2440">
                        <a:lnSpc>
                          <a:spcPct val="96000"/>
                        </a:lnSpc>
                        <a:spcBef>
                          <a:spcPts val="1074"/>
                        </a:spcBef>
                        <a:tabLst>
                          <a:tab algn="l" pos="0"/>
                          <a:tab algn="l" pos="14540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сультирует, направля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4240" algn="just">
                        <a:lnSpc>
                          <a:spcPct val="101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по выявлению связи изученной на уроке темы с изученным ранее материалом, связи с жизнь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</a:tr>
              <a:tr h="1556640">
                <a:tc>
                  <a:txBody>
                    <a:bodyPr lIns="0" rIns="0" tIns="0" bIns="0" anchor="t">
                      <a:noAutofit/>
                    </a:bodyPr>
                    <a:p>
                      <a:pPr marL="82440" indent="-1440">
                        <a:lnSpc>
                          <a:spcPct val="95000"/>
                        </a:lnSpc>
                        <a:tabLst>
                          <a:tab algn="l" pos="0"/>
                          <a:tab algn="l" pos="1165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ъяснение домашнего 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ъясняет, предлагает задания на выб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2440" algn="just">
                        <a:lnSpc>
                          <a:spcPct val="95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 учеников должна быть возможность выбора домашнего задания в соответствии со своими предпочтениями. Необходимо наличие заданий разного уровня слож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627120" y="444600"/>
          <a:ext cx="7929360" cy="3065400"/>
        </p:xfrm>
        <a:graphic>
          <a:graphicData uri="http://schemas.openxmlformats.org/drawingml/2006/table">
            <a:tbl>
              <a:tblPr/>
              <a:tblGrid>
                <a:gridCol w="2011320"/>
                <a:gridCol w="2143080"/>
                <a:gridCol w="3774960"/>
              </a:tblGrid>
              <a:tr h="460440">
                <a:tc>
                  <a:txBody>
                    <a:bodyPr lIns="0" rIns="0" tIns="0" bIns="0" anchor="t">
                      <a:noAutofit/>
                    </a:bodyPr>
                    <a:p>
                      <a:pPr marL="276120">
                        <a:spcBef>
                          <a:spcPts val="4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44440">
                        <a:spcBef>
                          <a:spcPts val="4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я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91960" algn="ctr"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2440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1305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ирует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82440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1305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сновывает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2440" algn="just"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 самостоятельно оценивают работу на (самооценка, взаимооценивание результатов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ы одноклассник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</a:tr>
              <a:tr h="1563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флексия учеб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лагодарит учеников 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82440" algn="just">
                        <a:lnSpc>
                          <a:spcPct val="95000"/>
                        </a:lnSpc>
                        <a:spcBef>
                          <a:spcPts val="3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ащиеся называют тему урока, его этапы, перечисляют виды деятельности на каждом этапе, определяют предметное содержание. Делятся мнением о своей работе на уро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181818"/>
                      </a:solidFill>
                    </a:lnL>
                    <a:lnR w="5760">
                      <a:solidFill>
                        <a:srgbClr val="181818"/>
                      </a:solidFill>
                    </a:lnR>
                    <a:lnT w="5760">
                      <a:solidFill>
                        <a:srgbClr val="181818"/>
                      </a:solidFill>
                    </a:lnT>
                    <a:lnB w="5760">
                      <a:solidFill>
                        <a:srgbClr val="18181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2T08:35:46Z</dcterms:created>
  <dc:creator>Dmytro</dc:creator>
  <dc:description/>
  <dc:language>en-US</dc:language>
  <cp:lastModifiedBy>Admin</cp:lastModifiedBy>
  <dcterms:modified xsi:type="dcterms:W3CDTF">2021-02-23T07:27:23Z</dcterms:modified>
  <cp:revision>8</cp:revision>
  <dc:subject/>
  <dc:title>NAME OF PRESENTATION</dc:title>
</cp:coreProperties>
</file>