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8AE-5341-4F0F-A188-F3E65A1B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C03-2769-4090-B0BC-F53D819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53F-A13C-4A62-9720-96CB621C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A40-BAAF-4195-93CE-7414D1DC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01E-CA80-4B77-8807-D5AC96D6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48B-F477-4AC3-941A-614421A1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693-4F5C-45A6-B51A-1DC12178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43E-4300-4FDE-BADE-BE7D2072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1BD-AC73-4498-8978-0A8A6C06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52F-EE99-4F15-9858-B8CF3938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7E9-0FF4-40A0-A22B-2EBF798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928-0983-438B-9660-8981216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57D-AE21-4D55-836E-0248ECC362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6840" y="3720600"/>
            <a:ext cx="7358040" cy="14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62300"/>
                </a:solidFill>
                <a:latin typeface="Monotype Corsiva"/>
              </a:rPr>
              <a:t>Кодекс чести</a:t>
            </a:r>
            <a:br>
              <a:rPr sz="5400"/>
            </a:br>
            <a:r>
              <a:rPr b="1" i="1" lang="ru-RU" sz="4000" spc="-1" strike="noStrike">
                <a:solidFill>
                  <a:srgbClr val="462300"/>
                </a:solidFill>
                <a:latin typeface="Monotype Corsiva"/>
              </a:rPr>
              <a:t>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8280" y="0"/>
            <a:ext cx="865044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Государствен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Calibri"/>
              </a:rPr>
              <a:t>Детский сад № 35 Колпинского района г.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684360" y="5508720"/>
            <a:ext cx="90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Arial"/>
              </a:rPr>
              <a:t>Подготовила педагог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a452a"/>
                </a:solidFill>
                <a:latin typeface="Arial"/>
              </a:rPr>
              <a:t>Ильичёва Ан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Растём, подражая взросл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D:\Pictures\prevmus.jpg"/>
          <p:cNvPicPr/>
          <p:nvPr/>
        </p:nvPicPr>
        <p:blipFill>
          <a:blip r:embed="rId1"/>
          <a:stretch/>
        </p:blipFill>
        <p:spPr>
          <a:xfrm>
            <a:off x="1900080" y="2989440"/>
            <a:ext cx="5172120" cy="343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Чем ты занимался сегодня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59cba26ae05ea1ae9f3cad7988d1263c.jpg"/>
          <p:cNvPicPr/>
          <p:nvPr/>
        </p:nvPicPr>
        <p:blipFill>
          <a:blip r:embed="rId2"/>
          <a:stretch/>
        </p:blipFill>
        <p:spPr>
          <a:xfrm>
            <a:off x="571680" y="1832040"/>
            <a:ext cx="59338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3887640"/>
            <a:ext cx="7358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62300"/>
              </a:solidFill>
              <a:latin typeface="Monotype Corsi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00120" y="500040"/>
            <a:ext cx="7400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                 </a:t>
            </a: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Важно помнить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2.jpg"/>
          <p:cNvPicPr/>
          <p:nvPr/>
        </p:nvPicPr>
        <p:blipFill>
          <a:blip r:embed="rId2"/>
          <a:stretch/>
        </p:blipFill>
        <p:spPr>
          <a:xfrm>
            <a:off x="1928880" y="3286080"/>
            <a:ext cx="6072120" cy="2786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000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00" y="2286000"/>
            <a:ext cx="8515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«Честь – это внутреннее нравственное достоинство человека, благородство души и чистая совесть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         </a:t>
            </a: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В. Да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Здороваем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5" descr="1.jpg"/>
          <p:cNvPicPr/>
          <p:nvPr/>
        </p:nvPicPr>
        <p:blipFill>
          <a:blip r:embed="rId2"/>
          <a:stretch/>
        </p:blipFill>
        <p:spPr>
          <a:xfrm>
            <a:off x="928800" y="2357280"/>
            <a:ext cx="5467320" cy="307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Соблюдаем реж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5" descr="ca737a5de544.png"/>
          <p:cNvPicPr/>
          <p:nvPr/>
        </p:nvPicPr>
        <p:blipFill>
          <a:blip r:embed="rId1"/>
          <a:stretch/>
        </p:blipFill>
        <p:spPr>
          <a:xfrm>
            <a:off x="2571840" y="2813040"/>
            <a:ext cx="371484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Удобная одежда и обув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0Mcs1u0GQSY.jpg"/>
          <p:cNvPicPr/>
          <p:nvPr/>
        </p:nvPicPr>
        <p:blipFill>
          <a:blip r:embed="rId1"/>
          <a:stretch/>
        </p:blipFill>
        <p:spPr>
          <a:xfrm>
            <a:off x="468360" y="3213000"/>
            <a:ext cx="3456000" cy="23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Содержимое 4" descr="obuv-malisham-kupit.png"/>
          <p:cNvPicPr/>
          <p:nvPr/>
        </p:nvPicPr>
        <p:blipFill>
          <a:blip r:embed="rId2"/>
          <a:stretch/>
        </p:blipFill>
        <p:spPr>
          <a:xfrm>
            <a:off x="4334040" y="3213000"/>
            <a:ext cx="4252680" cy="23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62300"/>
                </a:solidFill>
                <a:latin typeface="Monotype Corsiva"/>
              </a:rPr>
              <a:t>Бережём здоровье дете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gerpes-6-tipa-u-detej-v-gorle.jpg"/>
          <p:cNvPicPr/>
          <p:nvPr/>
        </p:nvPicPr>
        <p:blipFill>
          <a:blip r:embed="rId1"/>
          <a:stretch/>
        </p:blipFill>
        <p:spPr>
          <a:xfrm>
            <a:off x="2130480" y="2946240"/>
            <a:ext cx="4727520" cy="341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1149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Утренник – это праздни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look.com_.ua-1321-1024x819.jpg"/>
          <p:cNvPicPr/>
          <p:nvPr/>
        </p:nvPicPr>
        <p:blipFill>
          <a:blip r:embed="rId2"/>
          <a:stretch/>
        </p:blipFill>
        <p:spPr>
          <a:xfrm>
            <a:off x="500040" y="1571760"/>
            <a:ext cx="6143760" cy="491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462300"/>
                </a:solidFill>
                <a:latin typeface="Monotype Corsiva"/>
              </a:rPr>
              <a:t>Хвалите ребёнка за рукотворный тр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image8.jpg"/>
          <p:cNvPicPr/>
          <p:nvPr/>
        </p:nvPicPr>
        <p:blipFill>
          <a:blip r:embed="rId1"/>
          <a:stretch/>
        </p:blipFill>
        <p:spPr>
          <a:xfrm>
            <a:off x="714240" y="3429000"/>
            <a:ext cx="4143600" cy="31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9" name="Рисунок 5" descr="254d5445.jpg"/>
          <p:cNvPicPr/>
          <p:nvPr/>
        </p:nvPicPr>
        <p:blipFill>
          <a:blip r:embed="rId2"/>
          <a:stretch/>
        </p:blipFill>
        <p:spPr>
          <a:xfrm>
            <a:off x="5429160" y="3929040"/>
            <a:ext cx="3121200" cy="23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Будем вежливы и </a:t>
            </a:r>
            <a:br>
              <a:rPr sz="4800"/>
            </a:b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коррект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Pictures\1390130229_1128841378.jpg"/>
          <p:cNvPicPr/>
          <p:nvPr/>
        </p:nvPicPr>
        <p:blipFill>
          <a:blip r:embed="rId2"/>
          <a:stretch/>
        </p:blipFill>
        <p:spPr>
          <a:xfrm>
            <a:off x="500040" y="2144880"/>
            <a:ext cx="6143760" cy="409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18:56:51Z</dcterms:created>
  <dc:creator>Дом</dc:creator>
  <dc:description/>
  <dc:language>en-US</dc:language>
  <cp:lastModifiedBy>Анна Ильичёва</cp:lastModifiedBy>
  <dcterms:modified xsi:type="dcterms:W3CDTF">2022-05-02T22:17:23Z</dcterms:modified>
  <cp:revision>28</cp:revision>
  <dc:subject/>
  <dc:title>Шаблон</dc:title>
</cp:coreProperties>
</file>