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1020-22CA-4DCE-88CE-C605678DBC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ACAD-2693-4E81-82E6-B601E7F56F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FF04-7E89-4303-ABCF-87DA2A3FBC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FC09-9953-4279-A920-91CDE53C29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BE4B-086D-4ADE-89EB-C1FDC0A7D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1A68-F409-4700-BD79-07E3345F4D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A31A-DB54-4736-AD92-FC9CFC1CC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B4A2-74E3-471F-AC69-7B52B061D2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7A5D-D957-4757-A6EC-F5C5017FC2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AC18-A997-4EC9-A722-ACCE80C3B0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547A-6DFE-47D6-A3DF-FFCE3BCFD1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C422-83A1-40C1-A4B5-AC17268C56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BFF-0424-43B6-951F-70E76D5A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AF1-A5F4-4B5B-8357-BF857184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4AA-5637-44A8-80A8-BD09DBD7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CC7-167E-4380-8876-53542969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60C-BCE5-4C97-90BD-6BD3879C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C3E-3C30-43F5-B0A3-52B8B53C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F67-05EC-4B96-80AF-8FC016A4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43A-2BB7-4402-B6DE-4B1C10C0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65A-9555-49F1-B667-133A8842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DBB-FAF0-4F12-B025-CF0FCD7B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EDA-4D42-497E-8152-30A3363C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BE6-EDF8-46D7-971F-61927B4D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02B5-2550-47E1-8744-D3ED8C8BB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Наталья Викторовна\Desktop\неделя космонавтики\конкурс\фото космонавтов\Космос\706069.JPG"/>
          <p:cNvPicPr/>
          <p:nvPr/>
        </p:nvPicPr>
        <p:blipFill>
          <a:blip r:embed="rId1"/>
          <a:stretch/>
        </p:blipFill>
        <p:spPr>
          <a:xfrm>
            <a:off x="-14292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935820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ВА ПОКОРИТЕЛЯМ КОСМОС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монавтик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Куб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931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адалка Геннадий Иван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padalka_03"/>
          <p:cNvPicPr/>
          <p:nvPr/>
        </p:nvPicPr>
        <p:blipFill>
          <a:blip r:embed="rId1"/>
          <a:stretch/>
        </p:blipFill>
        <p:spPr>
          <a:xfrm>
            <a:off x="2627280" y="692280"/>
            <a:ext cx="3516480" cy="4968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357120" y="56750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рой Российской Федер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тчик-космонавт Российской Федер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84-й космонавт мира, 89 космонавт Рос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рещев Сергей Евгень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treshchev"/>
          <p:cNvPicPr/>
          <p:nvPr/>
        </p:nvPicPr>
        <p:blipFill>
          <a:blip r:embed="rId1"/>
          <a:stretch/>
        </p:blipFill>
        <p:spPr>
          <a:xfrm>
            <a:off x="2428920" y="642960"/>
            <a:ext cx="4014720" cy="48020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1369080" y="5549760"/>
            <a:ext cx="661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тчик-космонавт Российской Федерации`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рой Российской Федера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420-й космонавт мира, 97-й космонавт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ервая группа космонавтов проходила предполётную практику в Краснодарском аэропорту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Scan20003"/>
          <p:cNvPicPr/>
          <p:nvPr/>
        </p:nvPicPr>
        <p:blipFill>
          <a:blip r:embed="rId1"/>
          <a:srcRect l="37686" t="-939" r="5231" b="62787"/>
          <a:stretch/>
        </p:blipFill>
        <p:spPr>
          <a:xfrm>
            <a:off x="1071720" y="1289160"/>
            <a:ext cx="7000560" cy="36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8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403920" y="6021360"/>
            <a:ext cx="85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8 выпускников КВВАУЛа стали летчиками-космонав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P1020950"/>
          <p:cNvPicPr/>
          <p:nvPr/>
        </p:nvPicPr>
        <p:blipFill>
          <a:blip r:embed="rId1"/>
          <a:stretch/>
        </p:blipFill>
        <p:spPr>
          <a:xfrm>
            <a:off x="500040" y="642960"/>
            <a:ext cx="4137120" cy="4859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P1020953"/>
          <p:cNvPicPr/>
          <p:nvPr/>
        </p:nvPicPr>
        <p:blipFill>
          <a:blip r:embed="rId2"/>
          <a:stretch/>
        </p:blipFill>
        <p:spPr>
          <a:xfrm>
            <a:off x="4929120" y="357120"/>
            <a:ext cx="403236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8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30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Yury-G"/>
          <p:cNvPicPr/>
          <p:nvPr/>
        </p:nvPicPr>
        <p:blipFill>
          <a:blip r:embed="rId1"/>
          <a:stretch/>
        </p:blipFill>
        <p:spPr>
          <a:xfrm>
            <a:off x="2000160" y="0"/>
            <a:ext cx="4680000" cy="6381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2 апреля 1961 года начался отсчет космической эры. Первый в мире космонавт Ю.А. Гагарин передал космическую эстафету кубанцам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44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Администратор\Рабочий стол\звёздное неб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42876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ГОРБАТКО ВИКТОР ВАСИЛЬЕВИЧ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одержимое 2"/>
          <p:cNvSpPr/>
          <p:nvPr/>
        </p:nvSpPr>
        <p:spPr>
          <a:xfrm>
            <a:off x="0" y="6072120"/>
            <a:ext cx="9001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ётчик – космонавт СССР, дважды Герой Советского Союза, генерал-майор авиации</a:t>
            </a: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8" descr="5.jpg"/>
          <p:cNvPicPr/>
          <p:nvPr/>
        </p:nvPicPr>
        <p:blipFill>
          <a:blip r:embed="rId2"/>
          <a:stretch/>
        </p:blipFill>
        <p:spPr>
          <a:xfrm>
            <a:off x="900000" y="1268280"/>
            <a:ext cx="68407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3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3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Администратор\Рабочий стол\звёздное неб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0" y="501336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949 году окончил 7 классов в средней школе №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 конезаводе «Восход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МОУСОШ № 16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952 году окончил 10 классов в средней школе №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 биофабрике №12 (МОБУСШ № 6 п. Прогре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539640" y="400536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1143000" y="285840"/>
            <a:ext cx="6572160" cy="42861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4"/>
          <p:cNvSpPr/>
          <p:nvPr/>
        </p:nvSpPr>
        <p:spPr>
          <a:xfrm>
            <a:off x="4286160" y="45007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ускной класс 1952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" presetSubtype="4">
                                  <p:stCondLst>
                                    <p:cond delay="55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57146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пускаемый аппарат, в котором приземлился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.В. Горбат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спуск аппарат"/>
          <p:cNvPicPr/>
          <p:nvPr/>
        </p:nvPicPr>
        <p:blipFill>
          <a:blip r:embed="rId1"/>
          <a:srcRect l="1209" t="0" r="0" b="7751"/>
          <a:stretch/>
        </p:blipFill>
        <p:spPr>
          <a:xfrm>
            <a:off x="900000" y="189000"/>
            <a:ext cx="755964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Администратор\Рабочий стол\звёздное неб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87296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евастьянов Виталий Иван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55004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важды Герой Советского Союза, лётчик – космонавт СССР, Заслуженный мастер спорта, 47-й космонавт мира, 22-й космонавт ССС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6" descr="6.jpg"/>
          <p:cNvPicPr/>
          <p:nvPr/>
        </p:nvPicPr>
        <p:blipFill>
          <a:blip r:embed="rId2"/>
          <a:srcRect l="0" t="0" r="5243" b="4992"/>
          <a:stretch/>
        </p:blipFill>
        <p:spPr>
          <a:xfrm>
            <a:off x="2500200" y="1143000"/>
            <a:ext cx="338472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Администратор\Рабочий стол\звёздное неб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Березовой Анатолий Николаевич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285840" y="592920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ётчик – космонавт СССР, Герой Советского Союз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07-й космонавт мира, 51-й космонавт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7" descr="1.jpg"/>
          <p:cNvPicPr/>
          <p:nvPr/>
        </p:nvPicPr>
        <p:blipFill>
          <a:blip r:embed="rId2"/>
          <a:stretch/>
        </p:blipFill>
        <p:spPr>
          <a:xfrm>
            <a:off x="2643120" y="1071720"/>
            <a:ext cx="3540240" cy="47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600"/>
                            </p:stCondLst>
                            <p:childTnLst>
                              <p:par>
                                <p:cTn id="1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09:23Z</dcterms:created>
  <dc:creator>Zver</dc:creator>
  <dc:description/>
  <dc:language>en-US</dc:language>
  <cp:lastModifiedBy>User</cp:lastModifiedBy>
  <dcterms:modified xsi:type="dcterms:W3CDTF">2022-05-03T13:51:45Z</dcterms:modified>
  <cp:revision>143</cp:revision>
  <dc:subject/>
  <dc:title>«PER ASPERA AD ASTRA»  («Сквозь тернии к звёздам») мультимедийная презентация о космонавтах - кубанцах</dc:title>
</cp:coreProperties>
</file>