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B204-60B5-4DFA-A2A6-9EEAB60FB2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B0F5-4A30-48DE-8C68-8455B92A9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22B-F60C-4198-BBDA-E832CBC48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C7C2-F609-4772-B622-E1A0D03F8A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9BB9-C1B2-4BCA-B210-092357E117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145E-56BF-4EBD-AD7A-16C3C8943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20DF-C9BE-4504-B897-1DC8A7E4D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6E83-DB8E-481F-890D-DB7D4665EE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82D5-375A-4195-B010-00A8A4496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D72B-F429-4B4F-A64B-367659964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338-7A39-45A1-AD16-0F5E705BE3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5C13-E025-44F2-B323-7BA727D16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F2D-6BCE-4AA8-8FA8-991D10D6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BC26-AC4E-419A-BE08-D974D8CA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CF7-DBE1-48F1-86AA-2B63D790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EB7-5C89-4F97-AC9F-E6539630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0B4-2708-48BC-B0E4-F1C8DDDE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A12-FCF0-4011-89BD-E442017E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E2C-DF82-435D-A6B2-E4F83B94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2CB-7A33-40C5-827A-EAAE4429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D26-BE6B-4C52-BBB3-661D9A8D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D98-1A62-43C6-8981-A9AD21C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C28-C750-497E-AEFC-278597C3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3CA-CCDD-4910-9DFE-F30CCB75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413-F9AF-4A26-BEB4-8DD7C36EA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Наталья Викторовна\Desktop\неделя космонавтики\конкурс\фото космонавтов\Космос\706069.JPG"/>
          <p:cNvPicPr/>
          <p:nvPr/>
        </p:nvPicPr>
        <p:blipFill>
          <a:blip r:embed="rId1"/>
          <a:stretch/>
        </p:blipFill>
        <p:spPr>
          <a:xfrm>
            <a:off x="-1429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35820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ВА ПОКОРИТЕЛЯМ КОСМОС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монавтик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Куб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931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адалка Геннадий Ива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padalka_03"/>
          <p:cNvPicPr/>
          <p:nvPr/>
        </p:nvPicPr>
        <p:blipFill>
          <a:blip r:embed="rId1"/>
          <a:stretch/>
        </p:blipFill>
        <p:spPr>
          <a:xfrm>
            <a:off x="2627280" y="692280"/>
            <a:ext cx="3516480" cy="4968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57120" y="567504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рой Российской Федер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чик-космонавт Российской Федер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384-й космонавт мира, 89 космонавт Рос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рещев Сергей Евген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eshchev"/>
          <p:cNvPicPr/>
          <p:nvPr/>
        </p:nvPicPr>
        <p:blipFill>
          <a:blip r:embed="rId1"/>
          <a:stretch/>
        </p:blipFill>
        <p:spPr>
          <a:xfrm>
            <a:off x="2428920" y="642960"/>
            <a:ext cx="4014720" cy="48020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369080" y="5549760"/>
            <a:ext cx="66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чик-космонавт Российской Федерации`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рой Российской Федера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420-й космонавт мира, 97-й космонавт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ервая группа космонавтов проходила предполётную практику в Краснодарском аэропорту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Scan20003"/>
          <p:cNvPicPr/>
          <p:nvPr/>
        </p:nvPicPr>
        <p:blipFill>
          <a:blip r:embed="rId1"/>
          <a:srcRect l="37686" t="-939" r="5231" b="62787"/>
          <a:stretch/>
        </p:blipFill>
        <p:spPr>
          <a:xfrm>
            <a:off x="1071720" y="1289160"/>
            <a:ext cx="7000560" cy="36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80"/>
                            </p:stCondLst>
                            <p:childTnLst>
                              <p:par>
                                <p:cTn id="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403920" y="602136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8 выпускников КВВАУЛа стали летчиками-космонав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P1020950"/>
          <p:cNvPicPr/>
          <p:nvPr/>
        </p:nvPicPr>
        <p:blipFill>
          <a:blip r:embed="rId1"/>
          <a:stretch/>
        </p:blipFill>
        <p:spPr>
          <a:xfrm>
            <a:off x="500040" y="642960"/>
            <a:ext cx="4137120" cy="4859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P1020953"/>
          <p:cNvPicPr/>
          <p:nvPr/>
        </p:nvPicPr>
        <p:blipFill>
          <a:blip r:embed="rId2"/>
          <a:stretch/>
        </p:blipFill>
        <p:spPr>
          <a:xfrm>
            <a:off x="4929120" y="357120"/>
            <a:ext cx="403236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8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3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Yury-G"/>
          <p:cNvPicPr/>
          <p:nvPr/>
        </p:nvPicPr>
        <p:blipFill>
          <a:blip r:embed="rId1"/>
          <a:stretch/>
        </p:blipFill>
        <p:spPr>
          <a:xfrm>
            <a:off x="2000160" y="0"/>
            <a:ext cx="4680000" cy="6381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2 апреля 1961 года начался отсчет космической эры. Первый в мире космонавт Ю.А. Гагарин передал космическую эстафету кубанца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44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Администратор\Рабочий стол\звёздное не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Calibri"/>
              </a:rPr>
              <a:t>ГОРБАТКО ВИКТОР ВАСИЛЬЕВИЧ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одержимое 2"/>
          <p:cNvSpPr/>
          <p:nvPr/>
        </p:nvSpPr>
        <p:spPr>
          <a:xfrm>
            <a:off x="0" y="6072120"/>
            <a:ext cx="9001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ётчик – космонавт СССР, дважды Герой Советского Союза, генерал-майор авиации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8" descr="5.jpg"/>
          <p:cNvPicPr/>
          <p:nvPr/>
        </p:nvPicPr>
        <p:blipFill>
          <a:blip r:embed="rId2"/>
          <a:stretch/>
        </p:blipFill>
        <p:spPr>
          <a:xfrm>
            <a:off x="900000" y="1268280"/>
            <a:ext cx="684072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3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3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nts and Settings\Администратор\Рабочий стол\звёздное не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0" y="501336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949 году окончил 7 классов в средней школе №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конезаводе «Восход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(МОУСОШ № 16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952 году окончил 10 классов в средней школе №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 биофабрике №12 (МОБУСШ № 6 п. Прогре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539640" y="400536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1143000" y="285840"/>
            <a:ext cx="6572160" cy="4286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4"/>
          <p:cNvSpPr/>
          <p:nvPr/>
        </p:nvSpPr>
        <p:spPr>
          <a:xfrm>
            <a:off x="4286160" y="45007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ускной класс 195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4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4">
                                  <p:stCondLst>
                                    <p:cond delay="55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5714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пускаемый аппарат, в котором приземлился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.В. Горбатк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спуск аппарат"/>
          <p:cNvPicPr/>
          <p:nvPr/>
        </p:nvPicPr>
        <p:blipFill>
          <a:blip r:embed="rId1"/>
          <a:srcRect l="1209" t="0" r="0" b="7751"/>
          <a:stretch/>
        </p:blipFill>
        <p:spPr>
          <a:xfrm>
            <a:off x="900000" y="189000"/>
            <a:ext cx="7559640" cy="54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звёздное не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87296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евастьянов Виталий Ива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55004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важды Герой Советского Союза, лётчик – космонавт СССР, Заслуженный мастер спорта, 47-й космонавт мира, 22-й космонавт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6" descr="6.jpg"/>
          <p:cNvPicPr/>
          <p:nvPr/>
        </p:nvPicPr>
        <p:blipFill>
          <a:blip r:embed="rId2"/>
          <a:srcRect l="0" t="0" r="5243" b="4992"/>
          <a:stretch/>
        </p:blipFill>
        <p:spPr>
          <a:xfrm>
            <a:off x="2500200" y="1143000"/>
            <a:ext cx="338472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Администратор\Рабочий стол\звёздное неб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ерезовой Анатолий Николаевич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285840" y="59292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ётчик – космонавт СССР, Герой Советского Сою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07-й космонавт мира, 51-й космонавт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7" descr="1.jpg"/>
          <p:cNvPicPr/>
          <p:nvPr/>
        </p:nvPicPr>
        <p:blipFill>
          <a:blip r:embed="rId2"/>
          <a:stretch/>
        </p:blipFill>
        <p:spPr>
          <a:xfrm>
            <a:off x="2643120" y="1071720"/>
            <a:ext cx="3540240" cy="473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6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09:23Z</dcterms:created>
  <dc:creator>Zver</dc:creator>
  <dc:description/>
  <dc:language>en-US</dc:language>
  <cp:lastModifiedBy>User</cp:lastModifiedBy>
  <dcterms:modified xsi:type="dcterms:W3CDTF">2022-05-03T13:51:45Z</dcterms:modified>
  <cp:revision>143</cp:revision>
  <dc:subject/>
  <dc:title>«PER ASPERA AD ASTRA»  («Сквозь тернии к звёздам») мультимедийная презентация о космонавтах - кубанцах</dc:title>
</cp:coreProperties>
</file>