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0E5-EDC8-4FF3-8039-A034AFA3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A0A-2826-4126-973F-942B6090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E64-3AE8-4C87-8AD5-F9C90AB4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B615-6F76-4C36-9159-E5FA626C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1E86-00D6-4AD8-A6E0-2E78515B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3014-9DE5-417A-B4FD-E12BEC12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CF15-6AEE-4037-849F-59C304F0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4E8A-D9C9-49FF-8410-8F9C36CB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5143-45BC-4DE2-AE4D-43272866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431280"/>
            <a:ext cx="719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0E8-2BDE-44B4-8774-221875AB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D80F-2C6A-4E10-8EF5-3BC89B84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AFC-5E4E-4385-A195-48725837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DF5C-C132-4575-B8B5-4E4D791F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2685-53AA-4350-B39B-6C5E689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21EF-DB5D-475D-A6B0-883F693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EDC1-DECF-46E3-9C78-8E1269E8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6F44-0E65-4CD2-9E7C-62130B36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7FC5-4A4A-4220-8158-146E47C8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82904-1F3D-4F6B-96E6-E6885894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79D64-5979-4DFF-9403-F558B526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C2D5-1CF2-436A-8027-6DD83378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26D36-906D-4090-9466-83C6002A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9E3-4571-47E3-A20F-1CC37138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2920" y="431280"/>
            <a:ext cx="719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0F9C-A483-47A1-B966-E1B06B13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4B8F9-54ED-4DBA-A48D-456693DD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B4C84-CA8B-449A-B7C0-D9511AD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84E5-DC8C-4A94-B03A-B23E386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5161-70D8-4725-BD8F-29C0BD5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FCEC-CF57-456D-9AEF-B0EB10DF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6940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5520" y="134928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29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6940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5520" y="3065400"/>
            <a:ext cx="29199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32C04-2654-4B51-8DA9-E8C0272A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DF4-9560-4B13-B909-DC7E49E9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6EC-7C33-4029-873E-0535EF2F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431280"/>
            <a:ext cx="719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2A6-CD13-4394-804D-C94A75AA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C6E-282C-4C4A-9E5A-04C48446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306540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478-EC22-4AEE-9876-B70AB04E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349280"/>
            <a:ext cx="442584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65400"/>
            <a:ext cx="906948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D1B-46DA-42DE-9C9F-7F64B90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216000"/>
            <a:ext cx="70149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368000"/>
            <a:ext cx="9067680" cy="32828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5163840"/>
            <a:ext cx="23432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280" y="5163840"/>
            <a:ext cx="319068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5163840"/>
            <a:ext cx="2343240" cy="3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8C200-B11A-41FD-8D92-51ED6E622C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349280"/>
            <a:ext cx="9069480" cy="328464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5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583E5-E42E-4C0E-9A28-6E2996C266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2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3280" y="1348920"/>
            <a:ext cx="9066240" cy="32814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03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47720" y="5165280"/>
            <a:ext cx="31892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226280" y="5165280"/>
            <a:ext cx="23414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87959-C87A-42CE-8A18-3B84BE6B41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9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8360" y="1079640"/>
            <a:ext cx="68580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спряталась на картинке? Наз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376360" y="1728720"/>
            <a:ext cx="5327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ови посуду, которую ты зн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чем нам нужна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есть у тебя на кух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9640" y="1944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95280" y="3184560"/>
            <a:ext cx="156708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6000"/>
          </a:bodyPr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итель-логопед ГБУ ДО ЦППМСП Петродворцового района «Доверие» Бузлаева И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177480"/>
            <a:ext cx="70200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экране по щелчку мышки будут появляться картинки. Спросите у ребёнка, что он видит? Как называется этот предмет? В конце назовите все предметы ещё раз и обозначьте их общим словом ПОС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814" t="0" r="11977" b="4713"/>
          <a:stretch/>
        </p:blipFill>
        <p:spPr>
          <a:xfrm>
            <a:off x="1008000" y="17287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696000" y="4319640"/>
            <a:ext cx="1513080" cy="836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0" t="3494" r="2038" b="8592"/>
          <a:stretch/>
        </p:blipFill>
        <p:spPr>
          <a:xfrm>
            <a:off x="938160" y="3168720"/>
            <a:ext cx="1581120" cy="83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632720" y="1658880"/>
            <a:ext cx="1670040" cy="717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rcRect l="4905" t="11070" r="4368" b="15001"/>
          <a:stretch/>
        </p:blipFill>
        <p:spPr>
          <a:xfrm>
            <a:off x="3816360" y="1584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3095640" y="4524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5543640" y="280836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8008920" y="3227400"/>
            <a:ext cx="99216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чем нам нужна посуда? Проговорите с ребёнком значение каждого предмета. Для чего нужна кастрюля? Чайник? Чашка? Тарелка? Ножик? Ложка? Вилка? Поварёшка? Стакан? Сковород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44720" y="1008000"/>
            <a:ext cx="5765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и и назови, какая посуда есть на кухне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какая посуда есть у тебя на кух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701" t="1714" r="2701" b="3443"/>
          <a:stretch/>
        </p:blipFill>
        <p:spPr>
          <a:xfrm>
            <a:off x="2592360" y="1224000"/>
            <a:ext cx="48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ожно делать с посудой?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мыть, вытирать, ставить на стол, убирать со стола, готови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27280" y="205416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15421" t="8030" r="20729" b="7962"/>
          <a:stretch/>
        </p:blipFill>
        <p:spPr>
          <a:xfrm>
            <a:off x="1123920" y="1584360"/>
            <a:ext cx="820800" cy="1079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36720" y="3816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rcRect l="5539" t="0" r="7225" b="0"/>
          <a:stretch/>
        </p:blipFill>
        <p:spPr>
          <a:xfrm>
            <a:off x="7926480" y="1871640"/>
            <a:ext cx="1288800" cy="1103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rcRect l="0" t="0" r="3857" b="0"/>
          <a:stretch/>
        </p:blipFill>
        <p:spPr>
          <a:xfrm>
            <a:off x="8136000" y="4032360"/>
            <a:ext cx="790560" cy="1079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H="1" flipV="1">
            <a:off x="2084040" y="2084400"/>
            <a:ext cx="1374840" cy="582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662200" y="3816360"/>
            <a:ext cx="101448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048360" y="2301840"/>
            <a:ext cx="1800360" cy="293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0" y="3600360"/>
            <a:ext cx="2160360" cy="863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Части посу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2072" t="8747" r="1605" b="9410"/>
          <a:stretch/>
        </p:blipFill>
        <p:spPr>
          <a:xfrm>
            <a:off x="3887640" y="2087640"/>
            <a:ext cx="2374920" cy="1511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48000" y="1800360"/>
            <a:ext cx="79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0720" y="1511280"/>
            <a:ext cx="1055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4720" y="2735280"/>
            <a:ext cx="796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40360" y="3887640"/>
            <a:ext cx="54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11640" y="208764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25840" y="1857240"/>
            <a:ext cx="293400" cy="446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6260760" y="2804760"/>
            <a:ext cx="438120" cy="22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181480" y="3524400"/>
            <a:ext cx="77760" cy="366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64000" y="3600360"/>
            <a:ext cx="87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600360" y="3092040"/>
            <a:ext cx="1224000" cy="582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гра на образование множественного числа существительны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ь ребёнку назвать картинки (это тарелка, а это что? - тарелки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4653" r="0" b="0"/>
          <a:stretch/>
        </p:blipFill>
        <p:spPr>
          <a:xfrm>
            <a:off x="576360" y="1728720"/>
            <a:ext cx="75564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rcRect l="5893" t="0" r="7698" b="0"/>
          <a:stretch/>
        </p:blipFill>
        <p:spPr>
          <a:xfrm>
            <a:off x="2341440" y="1720800"/>
            <a:ext cx="970200" cy="944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rcRect l="5325" t="18092" r="7307" b="28137"/>
          <a:stretch/>
        </p:blipFill>
        <p:spPr>
          <a:xfrm>
            <a:off x="569880" y="3110040"/>
            <a:ext cx="925560" cy="56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0" t="4653" r="0" b="4620"/>
          <a:stretch/>
        </p:blipFill>
        <p:spPr>
          <a:xfrm>
            <a:off x="2232000" y="3000240"/>
            <a:ext cx="977760" cy="887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rcRect l="0" t="11372" r="0" b="18058"/>
          <a:stretch/>
        </p:blipFill>
        <p:spPr>
          <a:xfrm>
            <a:off x="2117880" y="4392720"/>
            <a:ext cx="1122120" cy="79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rcRect l="10079" t="14732" r="9273" b="14698"/>
          <a:stretch/>
        </p:blipFill>
        <p:spPr>
          <a:xfrm>
            <a:off x="555480" y="4464000"/>
            <a:ext cx="73980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rcRect l="0" t="14732" r="0" b="14698"/>
          <a:stretch/>
        </p:blipFill>
        <p:spPr>
          <a:xfrm>
            <a:off x="5718240" y="1728720"/>
            <a:ext cx="1122120" cy="792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rcRect l="0" t="21451" r="0" b="21418"/>
          <a:stretch/>
        </p:blipFill>
        <p:spPr>
          <a:xfrm>
            <a:off x="7920000" y="1728720"/>
            <a:ext cx="1511280" cy="86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5950080" y="3645000"/>
            <a:ext cx="603000" cy="603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rcRect l="0" t="0" r="0" b="8898"/>
          <a:stretch/>
        </p:blipFill>
        <p:spPr>
          <a:xfrm>
            <a:off x="8008920" y="3532320"/>
            <a:ext cx="142236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гра «Чего не стало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ёнку нужно сначала назвать все картинки, а потом закрыть глаза (взрослый щёлкает мышкой, картинка исчезает), открыть глаза и отгадать, чего не стало. (три раза — не стало чашки, кастрюли, ножа или ножи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6719" t="4653" r="14010" b="4620"/>
          <a:stretch/>
        </p:blipFill>
        <p:spPr>
          <a:xfrm>
            <a:off x="1152360" y="2448000"/>
            <a:ext cx="943200" cy="107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rcRect l="8685" t="11372" r="7290" b="11339"/>
          <a:stretch/>
        </p:blipFill>
        <p:spPr>
          <a:xfrm>
            <a:off x="2735280" y="2519280"/>
            <a:ext cx="1095480" cy="1008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rcRect l="13981" t="0" r="16010" b="6164"/>
          <a:stretch/>
        </p:blipFill>
        <p:spPr>
          <a:xfrm>
            <a:off x="6408720" y="266220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417920" y="2519280"/>
            <a:ext cx="141444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14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Что лишнее?»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экране два ряда картинок. Ребёнок называет картинки в каждом ряду и ищет лишнюю картинку, которая не относится к меб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4905" t="11070" r="4368" b="15001"/>
          <a:stretch/>
        </p:blipFill>
        <p:spPr>
          <a:xfrm>
            <a:off x="792000" y="1757520"/>
            <a:ext cx="936720" cy="761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373480" y="1860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rcRect l="6719" t="4653" r="14010" b="4620"/>
          <a:stretch/>
        </p:blipFill>
        <p:spPr>
          <a:xfrm>
            <a:off x="5608800" y="1871640"/>
            <a:ext cx="583920" cy="668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959280" y="1944720"/>
            <a:ext cx="1152360" cy="65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rcRect l="22565" t="0" r="17225" b="0"/>
          <a:stretch/>
        </p:blipFill>
        <p:spPr>
          <a:xfrm>
            <a:off x="863640" y="3657600"/>
            <a:ext cx="631800" cy="1309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rcRect l="8685" t="8013" r="3948" b="14698"/>
          <a:stretch/>
        </p:blipFill>
        <p:spPr>
          <a:xfrm>
            <a:off x="4176720" y="3745080"/>
            <a:ext cx="976320" cy="86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rcRect l="0" t="10608" r="0" b="10579"/>
          <a:stretch/>
        </p:blipFill>
        <p:spPr>
          <a:xfrm>
            <a:off x="5730840" y="3743280"/>
            <a:ext cx="820800" cy="863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2160720" y="3938760"/>
            <a:ext cx="1079280" cy="59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1T19:48:21Z</dcterms:created>
  <dc:creator/>
  <dc:description/>
  <dc:language>en-US</dc:language>
  <cp:lastModifiedBy/>
  <dcterms:modified xsi:type="dcterms:W3CDTF">2022-02-02T09:46:42Z</dcterms:modified>
  <cp:revision>20</cp:revision>
  <dc:subject/>
  <dc:title>Bright Blue</dc:title>
</cp:coreProperties>
</file>