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191-0FA9-4DDC-920F-595C85D2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906948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3065400"/>
            <a:ext cx="906948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1B80-13D4-4EB4-AAFF-55F4F5CD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01C-11C2-4525-880E-8DBA4F88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34928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520" y="134928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306540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306540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520" y="306540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B746-5F49-4178-98BE-CCA34FBA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E712-BC46-4A81-8892-6208255E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349280"/>
            <a:ext cx="906948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14B1-EC5C-4AE7-BDB8-9B8468D6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906948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D2B5-0880-40F7-9FAF-48FDA70B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27F5-DF73-4D2C-A287-4CED985A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0FD5-1A02-468C-BDA1-8C073725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431280"/>
            <a:ext cx="719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FB22-42A4-42D8-9952-B35B1984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F39C-4067-408C-BC04-7564365C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349280"/>
            <a:ext cx="906948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F217-9F0F-4AEB-B3B6-9600EB6F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CEDF-E6A0-48BF-9A41-4945B33D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3065400"/>
            <a:ext cx="906948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6D8A-BF66-450F-BB2F-52998FD1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906948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3065400"/>
            <a:ext cx="906948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BC6A-9CB8-4484-A9C4-F4E92EAB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A62E-2F2B-4CF2-B1DE-823C36AE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34928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34928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306540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306540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306540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0988-B6A0-4FA3-8D79-75877766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3BD18-006B-4989-9E7D-D395D19F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349280"/>
            <a:ext cx="906948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47AFB-09C6-4054-96B0-BBBCF025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906948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1E6D3-FFA7-4618-8531-CABB54A4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58047-897C-4836-870F-63ECADFD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2B5CB-2C91-4606-BA69-26ABB31E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906948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638-FD14-4AD5-8414-A31A44F8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2920" y="431280"/>
            <a:ext cx="719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67BC0-4391-4E04-ADCD-D978854F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29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8108A-790D-48FE-9BBE-89A0CC8F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505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1522A-377A-4538-86AD-F8111B64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2920" y="3065400"/>
            <a:ext cx="906948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153B4-47E8-4F3D-9ACF-2D0B891A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906948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2920" y="3065400"/>
            <a:ext cx="906948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9F67D-D55E-4BDA-A80F-0DB1C10A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29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505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1EF64-0268-4F9F-A58B-51B2ABF3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69400" y="134928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35520" y="134928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2920" y="306540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69400" y="306540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635520" y="306540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74569-73BA-47BD-B0A4-C82E1C05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C8B-71C2-48A7-89B4-78E71D11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E390-E864-47D8-9D73-6233FF6D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431280"/>
            <a:ext cx="719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46B-78BD-4F62-83B9-45220A82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06CB-D2AA-4B7B-8A26-B088D376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FBFB-7F90-4E05-99F4-BFAF4227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3065400"/>
            <a:ext cx="906948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5B0A-7B3B-4568-8B79-80023BDD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58680" y="81000"/>
            <a:ext cx="7794720" cy="120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216000"/>
            <a:ext cx="701496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1368000"/>
            <a:ext cx="9067680" cy="3282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5163840"/>
            <a:ext cx="23432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6280" y="5163840"/>
            <a:ext cx="319068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5920" y="5163840"/>
            <a:ext cx="23432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1BE6E-0D71-4F39-8829-73CF92E5F6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566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349280"/>
            <a:ext cx="9069480" cy="328464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25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EAE8E-45BB-4D79-BE4D-5BE547F051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5668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03280" y="1348920"/>
            <a:ext cx="9066240" cy="32814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03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447720" y="5165280"/>
            <a:ext cx="31892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226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246A8-1246-4B3B-9DBE-CD20E95B9C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9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215640"/>
            <a:ext cx="70200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СУ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8360" y="1079640"/>
            <a:ext cx="6858000" cy="43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ая посуда спряталась на картинке? Наз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376360" y="1728720"/>
            <a:ext cx="532764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ОСУ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ови посуду, которую ты зна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чем нам нужна посу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ая посуда есть у тебя на кух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19640" y="1944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295280" y="3184560"/>
            <a:ext cx="1567080" cy="15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ОСУ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6000"/>
          </a:bodyPr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зентацию составила учитель-логопед ГБУ ДО ЦППМСП Петродворцового района «Доверие» Бузлаева И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177480"/>
            <a:ext cx="702000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экране по щелчку мышки будут появляться картинки. Спросите у ребёнка, что он видит? Как называется этот предмет? В конце назовите все предметы ещё раз и обозначьте их общим словом ПОСУ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9814" t="0" r="11977" b="4713"/>
          <a:stretch/>
        </p:blipFill>
        <p:spPr>
          <a:xfrm>
            <a:off x="1008000" y="1728720"/>
            <a:ext cx="1095480" cy="800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696000" y="4319640"/>
            <a:ext cx="1513080" cy="836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0" t="3494" r="2038" b="8592"/>
          <a:stretch/>
        </p:blipFill>
        <p:spPr>
          <a:xfrm>
            <a:off x="938160" y="3168720"/>
            <a:ext cx="1581120" cy="833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7632720" y="1658880"/>
            <a:ext cx="1670040" cy="717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rcRect l="4905" t="11070" r="4368" b="15001"/>
          <a:stretch/>
        </p:blipFill>
        <p:spPr>
          <a:xfrm>
            <a:off x="3816360" y="1584360"/>
            <a:ext cx="1368360" cy="1114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3095640" y="4524480"/>
            <a:ext cx="1298520" cy="658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5543640" y="280836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8008920" y="3227400"/>
            <a:ext cx="992160" cy="66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215640"/>
            <a:ext cx="70200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чем нам нужна посуда? Проговорите с ребёнком значение каждого предмета. Для чего нужна кастрюля? Чайник? Чашка? Тарелка? Ножик? Ложка? Вилка? Поварёшка? Стакан? Сковород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44720" y="1008000"/>
            <a:ext cx="57657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мотри и назови, какая посуда есть на кухне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какая посуда есть у тебя на кух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701" t="1714" r="2701" b="3443"/>
          <a:stretch/>
        </p:blipFill>
        <p:spPr>
          <a:xfrm>
            <a:off x="2592360" y="1224000"/>
            <a:ext cx="48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можно делать с посудой?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мыть, вытирать, ставить на стол, убирать со стола, готови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27280" y="2054160"/>
            <a:ext cx="2448000" cy="1833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rcRect l="15421" t="8030" r="20729" b="7962"/>
          <a:stretch/>
        </p:blipFill>
        <p:spPr>
          <a:xfrm>
            <a:off x="1123920" y="1584360"/>
            <a:ext cx="820800" cy="1079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936720" y="3816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rcRect l="5539" t="0" r="7225" b="0"/>
          <a:stretch/>
        </p:blipFill>
        <p:spPr>
          <a:xfrm>
            <a:off x="7926480" y="1871640"/>
            <a:ext cx="1288800" cy="1103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rcRect l="0" t="0" r="3857" b="0"/>
          <a:stretch/>
        </p:blipFill>
        <p:spPr>
          <a:xfrm>
            <a:off x="8136000" y="4032360"/>
            <a:ext cx="790560" cy="1079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 flipV="1">
            <a:off x="2084040" y="2084400"/>
            <a:ext cx="1374840" cy="582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662200" y="3816360"/>
            <a:ext cx="1014480" cy="647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048360" y="2301840"/>
            <a:ext cx="1800360" cy="293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0" y="3600360"/>
            <a:ext cx="2160360" cy="863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Части посуд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2072" t="8747" r="1605" b="9410"/>
          <a:stretch/>
        </p:blipFill>
        <p:spPr>
          <a:xfrm>
            <a:off x="3887640" y="2087640"/>
            <a:ext cx="2374920" cy="1511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48000" y="1800360"/>
            <a:ext cx="790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с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00720" y="1511280"/>
            <a:ext cx="1055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ы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24720" y="2735280"/>
            <a:ext cx="7966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у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40360" y="3887640"/>
            <a:ext cx="54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11640" y="208764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25840" y="1857240"/>
            <a:ext cx="293400" cy="446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6260760" y="2804760"/>
            <a:ext cx="438120" cy="222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181480" y="3524400"/>
            <a:ext cx="77760" cy="366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64000" y="3600360"/>
            <a:ext cx="87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600360" y="3092040"/>
            <a:ext cx="1224000" cy="5828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гра на образование множественного числа существительных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ь ребёнку назвать картинки (это тарелка, а это что? - тарелки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4653" r="0" b="0"/>
          <a:stretch/>
        </p:blipFill>
        <p:spPr>
          <a:xfrm>
            <a:off x="576360" y="1728720"/>
            <a:ext cx="755640" cy="720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rcRect l="5893" t="0" r="7698" b="0"/>
          <a:stretch/>
        </p:blipFill>
        <p:spPr>
          <a:xfrm>
            <a:off x="2341440" y="1720800"/>
            <a:ext cx="970200" cy="944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rcRect l="5325" t="18092" r="7307" b="28137"/>
          <a:stretch/>
        </p:blipFill>
        <p:spPr>
          <a:xfrm>
            <a:off x="569880" y="3110040"/>
            <a:ext cx="925560" cy="569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rcRect l="0" t="4653" r="0" b="4620"/>
          <a:stretch/>
        </p:blipFill>
        <p:spPr>
          <a:xfrm>
            <a:off x="2232000" y="3000240"/>
            <a:ext cx="977760" cy="887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rcRect l="0" t="11372" r="0" b="18058"/>
          <a:stretch/>
        </p:blipFill>
        <p:spPr>
          <a:xfrm>
            <a:off x="2117880" y="4392720"/>
            <a:ext cx="1122120" cy="792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rcRect l="10079" t="14732" r="9273" b="14698"/>
          <a:stretch/>
        </p:blipFill>
        <p:spPr>
          <a:xfrm>
            <a:off x="555480" y="4464000"/>
            <a:ext cx="739800" cy="647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rcRect l="0" t="14732" r="0" b="14698"/>
          <a:stretch/>
        </p:blipFill>
        <p:spPr>
          <a:xfrm>
            <a:off x="5718240" y="1728720"/>
            <a:ext cx="1122120" cy="792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rcRect l="0" t="21451" r="0" b="21418"/>
          <a:stretch/>
        </p:blipFill>
        <p:spPr>
          <a:xfrm>
            <a:off x="7920000" y="1728720"/>
            <a:ext cx="1511280" cy="863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5950080" y="3645000"/>
            <a:ext cx="603000" cy="603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0"/>
          <a:srcRect l="0" t="0" r="0" b="8898"/>
          <a:stretch/>
        </p:blipFill>
        <p:spPr>
          <a:xfrm>
            <a:off x="8008920" y="3532320"/>
            <a:ext cx="1422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гра «Чего не стало?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бёнку нужно сначала назвать все картинки, а потом закрыть глаза (взрослый щёлкает мышкой, картинка исчезает), открыть глаза и отгадать, чего не стало. (три раза — не стало чашки, кастрюли, ножа или ножик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6719" t="4653" r="14010" b="4620"/>
          <a:stretch/>
        </p:blipFill>
        <p:spPr>
          <a:xfrm>
            <a:off x="1152360" y="2448000"/>
            <a:ext cx="943200" cy="1079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rcRect l="8685" t="11372" r="7290" b="11339"/>
          <a:stretch/>
        </p:blipFill>
        <p:spPr>
          <a:xfrm>
            <a:off x="2735280" y="2519280"/>
            <a:ext cx="1095480" cy="1008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rcRect l="13981" t="0" r="16010" b="6164"/>
          <a:stretch/>
        </p:blipFill>
        <p:spPr>
          <a:xfrm>
            <a:off x="6408720" y="2662200"/>
            <a:ext cx="647640" cy="936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417920" y="2519280"/>
            <a:ext cx="1414440" cy="10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1436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ра «Что лишнее?»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экране два ряда картинок. Ребёнок называет картинки в каждом ряду и ищет лишнюю картинку, которая не относится к меб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4905" t="11070" r="4368" b="15001"/>
          <a:stretch/>
        </p:blipFill>
        <p:spPr>
          <a:xfrm>
            <a:off x="792000" y="1757520"/>
            <a:ext cx="936720" cy="761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373480" y="1860480"/>
            <a:ext cx="1298520" cy="658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rcRect l="6719" t="4653" r="14010" b="4620"/>
          <a:stretch/>
        </p:blipFill>
        <p:spPr>
          <a:xfrm>
            <a:off x="5608800" y="1871640"/>
            <a:ext cx="583920" cy="668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3959280" y="1944720"/>
            <a:ext cx="1152360" cy="650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rcRect l="22565" t="0" r="17225" b="0"/>
          <a:stretch/>
        </p:blipFill>
        <p:spPr>
          <a:xfrm>
            <a:off x="863640" y="3657600"/>
            <a:ext cx="631800" cy="1309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rcRect l="8685" t="8013" r="3948" b="14698"/>
          <a:stretch/>
        </p:blipFill>
        <p:spPr>
          <a:xfrm>
            <a:off x="4176720" y="3745080"/>
            <a:ext cx="976320" cy="863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rcRect l="0" t="10608" r="0" b="10579"/>
          <a:stretch/>
        </p:blipFill>
        <p:spPr>
          <a:xfrm>
            <a:off x="5730840" y="3743280"/>
            <a:ext cx="820800" cy="863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2160720" y="3938760"/>
            <a:ext cx="1079280" cy="59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1T19:48:21Z</dcterms:created>
  <dc:creator/>
  <dc:description/>
  <dc:language>en-US</dc:language>
  <cp:lastModifiedBy/>
  <dcterms:modified xsi:type="dcterms:W3CDTF">2022-02-02T09:46:42Z</dcterms:modified>
  <cp:revision>20</cp:revision>
  <dc:subject/>
  <dc:title>Bright Blue</dc:title>
</cp:coreProperties>
</file>