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30E-4302-4E5E-94AD-2503EA8D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BAA-733E-4F8E-8A14-1677B975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B47-6232-4875-ABCA-ED57C265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60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264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60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264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83D-F23D-4887-A69E-A889FB38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163A-B225-4914-B3EF-7FB93F74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C56B-F682-4EBB-A7E9-1C5A70C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1D08-1B0C-41D0-8D91-9787253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300-84AF-4588-BFC5-BC01CC06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991B-9692-4DC2-8CB6-E8EDE6B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136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46A-E630-4403-A388-2FB3805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F457-6BC9-438C-889E-6F20547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AA9-A204-4405-B674-44E07D6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D84A-134A-4E03-B847-59C21F3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286F-5476-4D2A-A14E-0F0B522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9671-2CB5-401F-8785-1D54AAE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E2A6-6D14-46A3-88D5-A41E6D5E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760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264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760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264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2DF3-5CB8-4AD2-A3AD-1193E441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F0D-6E56-43EE-BA42-A932338D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C2D-193B-475A-B064-CB16F916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C4-D967-4780-AFD2-268A585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136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639-374C-4318-AB84-FFC9905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19E-DB2E-45A8-819C-7BABF93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030-D69C-4CED-9185-8F3E1608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3FE-8A30-4347-A494-0DAC913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02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6300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C2D29-B52D-415F-88C2-E9C3F5CC2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78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528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A7A9-431F-410F-BA9E-A483FC6F9D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31280"/>
            <a:ext cx="71978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Из чего — какой?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относительных прилагатель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280" y="11779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текла -                                               из пластмасс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металла -                                            из бумаг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фарфора -                                           из глин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чугун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981" t="0" r="16010" b="6164"/>
          <a:stretch/>
        </p:blipFill>
        <p:spPr>
          <a:xfrm>
            <a:off x="649440" y="1224000"/>
            <a:ext cx="430200" cy="6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6360" y="1944720"/>
            <a:ext cx="65412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67120" y="2043000"/>
            <a:ext cx="73188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60240" y="3672000"/>
            <a:ext cx="70812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5342" t="18092" r="3931" b="11339"/>
          <a:stretch/>
        </p:blipFill>
        <p:spPr>
          <a:xfrm>
            <a:off x="4751280" y="116856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9814" t="0" r="11977" b="4713"/>
          <a:stretch/>
        </p:blipFill>
        <p:spPr>
          <a:xfrm>
            <a:off x="720720" y="2879640"/>
            <a:ext cx="576360" cy="42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24833" t="14462" r="23543" b="10683"/>
          <a:stretch/>
        </p:blipFill>
        <p:spPr>
          <a:xfrm>
            <a:off x="4896000" y="2664000"/>
            <a:ext cx="576000" cy="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 формы, размера бывает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части посуды ты зн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аких материалов делают посу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079640" y="3905280"/>
            <a:ext cx="156672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Как назвать все предметы общим слов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082600" y="2082600"/>
            <a:ext cx="1377720" cy="585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0760" y="3816360"/>
            <a:ext cx="101736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48360" y="2300400"/>
            <a:ext cx="1800360" cy="296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20800" y="1857240"/>
            <a:ext cx="30348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256080" y="2800440"/>
            <a:ext cx="447480" cy="231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176440" y="3519000"/>
            <a:ext cx="87480" cy="37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00360" y="3087360"/>
            <a:ext cx="1224000" cy="592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Сосчитай и назов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множественного числа существительных в родительном падеже: 5 тарелок, 6 ложек, 3 кастрюли, 6 чашек, 6 вилок, 3 сковород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653" r="0" b="4620"/>
          <a:stretch/>
        </p:blipFill>
        <p:spPr>
          <a:xfrm>
            <a:off x="4319640" y="3262320"/>
            <a:ext cx="1481040" cy="134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21451" r="0" b="21418"/>
          <a:stretch/>
        </p:blipFill>
        <p:spPr>
          <a:xfrm>
            <a:off x="7343640" y="1655640"/>
            <a:ext cx="188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06400" y="1573200"/>
            <a:ext cx="14684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0432" t="10123" r="9196" b="10085"/>
          <a:stretch/>
        </p:blipFill>
        <p:spPr>
          <a:xfrm>
            <a:off x="792000" y="3672000"/>
            <a:ext cx="19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2986" t="4994" r="0" b="12730"/>
          <a:stretch/>
        </p:blipFill>
        <p:spPr>
          <a:xfrm>
            <a:off x="7156440" y="3816360"/>
            <a:ext cx="2421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rcRect l="3780" t="13460" r="6477" b="13363"/>
          <a:stretch/>
        </p:blipFill>
        <p:spPr>
          <a:xfrm>
            <a:off x="4032360" y="1584360"/>
            <a:ext cx="23032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картинки в каждом ряду. Какая картинка лишняя и почему? Объясни свой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5914" t="0" r="8474" b="0"/>
          <a:stretch/>
        </p:blipFill>
        <p:spPr>
          <a:xfrm>
            <a:off x="887400" y="3743280"/>
            <a:ext cx="719280" cy="128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rcRect l="5947" t="4159" r="8060" b="4111"/>
          <a:stretch/>
        </p:blipFill>
        <p:spPr>
          <a:xfrm>
            <a:off x="3887640" y="3692520"/>
            <a:ext cx="936720" cy="1131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688000" y="3787920"/>
            <a:ext cx="82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51:46Z</dcterms:modified>
  <cp:revision>28</cp:revision>
  <dc:subject/>
  <dc:title>Bright Blue</dc:title>
</cp:coreProperties>
</file>