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11A-4CBE-45D1-8FF5-C2907CAB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F13-2009-474E-8ADC-D479492C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7CB-D2C2-44C1-919C-FC883A96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60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264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60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264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0F01-17AA-40E1-AB1A-2FFF85B9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033B-54A9-4521-8AC8-23DF27A5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CD63-B056-46BC-A14A-5171F83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78BE-A969-43D2-BEB1-00871303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0F4C-0180-4BEF-9F35-93F58BB8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04D3-73D6-450F-900E-3DB75648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136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510A-47B1-4A05-A783-4A6C29B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6307-A46F-4470-84F4-15BE7A4A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B2B-88E2-4A26-A397-F2A7210B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F609-3D34-46E0-9061-EB37379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CC90-B85A-4C3E-BF4F-9EAE068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E53A-C866-4CF7-A80B-7D6FD191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2120-DFBE-4404-8910-BDB6E842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760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2640" y="134892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760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2640" y="3062160"/>
            <a:ext cx="29185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9448-CC2D-4F9F-A4C1-CEB2AB1C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6CB-B3AC-484E-BE3B-959EB703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3065-91F9-4EB2-9D8E-735DF1B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9BF-F7D0-4A6F-B006-5DDD4C63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431640"/>
            <a:ext cx="719136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BD0-CC34-4B6C-B62D-814C0A8B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83E-B5FE-4523-B81C-C7DE23E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32799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7640" y="306216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167-2028-4F3D-9B10-8D7056C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7640" y="1348920"/>
            <a:ext cx="442332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3062160"/>
            <a:ext cx="9064440" cy="15642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24A-6603-4A0A-8FF6-6DE43710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58680" y="81000"/>
            <a:ext cx="7794720" cy="120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15640"/>
            <a:ext cx="701028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368360"/>
            <a:ext cx="906300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38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5164200"/>
            <a:ext cx="3186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385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AC633-4F12-42B2-89FB-13B80520F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566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1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348920"/>
            <a:ext cx="9064440" cy="32799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03280" y="516528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447720" y="5165280"/>
            <a:ext cx="31878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5165280"/>
            <a:ext cx="2340000" cy="3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DF9C2-AC22-4683-93D6-2F5FF8452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33.png"/><Relationship Id="rId6" Type="http://schemas.openxmlformats.org/officeDocument/2006/relationships/image" Target="../media/image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25.png"/><Relationship Id="rId4" Type="http://schemas.openxmlformats.org/officeDocument/2006/relationships/image" Target="../media/image29.png"/><Relationship Id="rId5" Type="http://schemas.openxmlformats.org/officeDocument/2006/relationships/image" Target="../media/image5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858000" cy="43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31280"/>
            <a:ext cx="719784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гра «Из чего — какой?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относительных прилагатель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7280" y="1177920"/>
            <a:ext cx="907092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стекла -                                               из пластмасс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металла -                                            из бумаги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фарфора -                                           из глины 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чугуна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981" t="0" r="16010" b="6164"/>
          <a:stretch/>
        </p:blipFill>
        <p:spPr>
          <a:xfrm>
            <a:off x="649440" y="1224000"/>
            <a:ext cx="430200" cy="623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6360" y="1944720"/>
            <a:ext cx="654120" cy="503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67120" y="2043000"/>
            <a:ext cx="731880" cy="405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60240" y="3672000"/>
            <a:ext cx="708120" cy="358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rcRect l="5342" t="18092" r="3931" b="11339"/>
          <a:stretch/>
        </p:blipFill>
        <p:spPr>
          <a:xfrm>
            <a:off x="4751280" y="1168560"/>
            <a:ext cx="720720" cy="5601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rcRect l="9814" t="0" r="11977" b="4713"/>
          <a:stretch/>
        </p:blipFill>
        <p:spPr>
          <a:xfrm>
            <a:off x="720720" y="2879640"/>
            <a:ext cx="576360" cy="42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rcRect l="24833" t="14462" r="23543" b="10683"/>
          <a:stretch/>
        </p:blipFill>
        <p:spPr>
          <a:xfrm>
            <a:off x="4896000" y="2664000"/>
            <a:ext cx="576000" cy="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спряталась на картинке? Наз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76360" y="1728720"/>
            <a:ext cx="53276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ови посуду, которую ты знае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чем нам нужна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й формы, размера бывает посу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ая посуда есть у тебя на кух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части посуды ты знаеш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063"/>
              </a:spcAft>
              <a:buClr>
                <a:srgbClr val="99cc66"/>
              </a:buClr>
              <a:buSzPct val="45000"/>
              <a:buFont typeface="Wingdings" charset="2"/>
              <a:buChar char=""/>
              <a:tabLst>
                <a:tab algn="l" pos="42552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аких материалов делают посу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9640" y="1944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079640" y="3905280"/>
            <a:ext cx="156672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2920" y="1348920"/>
            <a:ext cx="9072360" cy="3287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r">
              <a:lnSpc>
                <a:spcPct val="93000"/>
              </a:lnSpc>
              <a:spcAft>
                <a:spcPts val="1063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ю составила учитель-логопед ГБУ ДО ЦППМСП Петродворцового района «Доверие» Бузлаева И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177480"/>
            <a:ext cx="70200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экране по щелчку мышки будут появляться картинки. Спросите у ребёнка, что он видит? Как называется этот предмет? Как назвать все предметы общим слово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9814" t="0" r="11977" b="4713"/>
          <a:stretch/>
        </p:blipFill>
        <p:spPr>
          <a:xfrm>
            <a:off x="1008000" y="1728720"/>
            <a:ext cx="109548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696000" y="4319640"/>
            <a:ext cx="151308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3494" r="2038" b="8592"/>
          <a:stretch/>
        </p:blipFill>
        <p:spPr>
          <a:xfrm>
            <a:off x="938160" y="3168720"/>
            <a:ext cx="1581120" cy="833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632720" y="1658880"/>
            <a:ext cx="167004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4905" t="11070" r="4368" b="15001"/>
          <a:stretch/>
        </p:blipFill>
        <p:spPr>
          <a:xfrm>
            <a:off x="3816360" y="1584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3095640" y="4524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543640" y="280836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8008920" y="3227400"/>
            <a:ext cx="992160" cy="6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215640"/>
            <a:ext cx="70200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чем нам нужна посуда? Проговорите с ребёнком значение каждого предмета. Для чего нужна кастрюля? Чайник? Чашка? Тарелка? Ножик? Ложка? Вилка? Поварёшка? Стакан? Сковород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44720" y="1008000"/>
            <a:ext cx="576576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мотри и назови, какая посуда есть на кухне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какая посуда есть у тебя на кух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701" t="1714" r="2701" b="3443"/>
          <a:stretch/>
        </p:blipFill>
        <p:spPr>
          <a:xfrm>
            <a:off x="2592360" y="1224000"/>
            <a:ext cx="48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431280"/>
            <a:ext cx="7196040" cy="5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ожно делать с посудой?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мыть, вытирать, ставить на стол, убирать со стола, готови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27280" y="2054160"/>
            <a:ext cx="2448000" cy="1833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15421" t="8030" r="20729" b="7962"/>
          <a:stretch/>
        </p:blipFill>
        <p:spPr>
          <a:xfrm>
            <a:off x="1123920" y="1584360"/>
            <a:ext cx="820800" cy="1079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36720" y="3816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5539" t="0" r="7225" b="0"/>
          <a:stretch/>
        </p:blipFill>
        <p:spPr>
          <a:xfrm>
            <a:off x="7926480" y="1871640"/>
            <a:ext cx="1288800" cy="110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0" t="0" r="3857" b="0"/>
          <a:stretch/>
        </p:blipFill>
        <p:spPr>
          <a:xfrm>
            <a:off x="8136000" y="4032360"/>
            <a:ext cx="790560" cy="107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082600" y="2082600"/>
            <a:ext cx="1377720" cy="585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0760" y="3816360"/>
            <a:ext cx="101736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48360" y="2300400"/>
            <a:ext cx="1800360" cy="296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04000" y="3600360"/>
            <a:ext cx="2160360" cy="863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Части посу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072" t="8747" r="1605" b="9410"/>
          <a:stretch/>
        </p:blipFill>
        <p:spPr>
          <a:xfrm>
            <a:off x="3887640" y="2087640"/>
            <a:ext cx="2374920" cy="151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48000" y="1800360"/>
            <a:ext cx="7905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00720" y="1511280"/>
            <a:ext cx="1055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ры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24720" y="2735280"/>
            <a:ext cx="79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0360" y="3887640"/>
            <a:ext cx="54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1640" y="208764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20800" y="1857240"/>
            <a:ext cx="303480" cy="4464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256080" y="2800440"/>
            <a:ext cx="447480" cy="231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176440" y="3519000"/>
            <a:ext cx="87480" cy="376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4000" y="3600360"/>
            <a:ext cx="874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600360" y="3087360"/>
            <a:ext cx="1224000" cy="592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1440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Сосчитай и назов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разование множественного числа существительных в родительном падеже: 5 тарелок, 6 ложек, 3 кастрюли, 6 чашек, 6 вилок, 3 сковород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4653" r="0" b="4620"/>
          <a:stretch/>
        </p:blipFill>
        <p:spPr>
          <a:xfrm>
            <a:off x="4319640" y="3262320"/>
            <a:ext cx="1481040" cy="1344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21451" r="0" b="21418"/>
          <a:stretch/>
        </p:blipFill>
        <p:spPr>
          <a:xfrm>
            <a:off x="7343640" y="1655640"/>
            <a:ext cx="1889280" cy="1079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06400" y="1573200"/>
            <a:ext cx="1468440" cy="1235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rcRect l="10432" t="10123" r="9196" b="10085"/>
          <a:stretch/>
        </p:blipFill>
        <p:spPr>
          <a:xfrm>
            <a:off x="792000" y="3672000"/>
            <a:ext cx="1943280" cy="151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rcRect l="2986" t="4994" r="0" b="12730"/>
          <a:stretch/>
        </p:blipFill>
        <p:spPr>
          <a:xfrm>
            <a:off x="7156440" y="3816360"/>
            <a:ext cx="2421000" cy="1511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rcRect l="3780" t="13460" r="6477" b="13363"/>
          <a:stretch/>
        </p:blipFill>
        <p:spPr>
          <a:xfrm>
            <a:off x="4032360" y="1584360"/>
            <a:ext cx="230328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31640"/>
            <a:ext cx="719928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гра «Чего не стало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ёнку нужно сначала назвать все картинки, а потом закрыть глаза (взрослый щёлкает мышкой, картинка исчезает), открыть глаза и отгадать, чего не стало. (три раза — не стало чашки, кастрюли, ножа или ножик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6719" t="4653" r="14010" b="4620"/>
          <a:stretch/>
        </p:blipFill>
        <p:spPr>
          <a:xfrm>
            <a:off x="1152360" y="2448000"/>
            <a:ext cx="943200" cy="107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rcRect l="8685" t="11372" r="7290" b="11339"/>
          <a:stretch/>
        </p:blipFill>
        <p:spPr>
          <a:xfrm>
            <a:off x="2735280" y="2519280"/>
            <a:ext cx="109548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13981" t="0" r="16010" b="6164"/>
          <a:stretch/>
        </p:blipFill>
        <p:spPr>
          <a:xfrm>
            <a:off x="6408720" y="2662200"/>
            <a:ext cx="647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417920" y="2519280"/>
            <a:ext cx="1414440" cy="10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14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гра «Что лишнее?»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зови картинки в каждом ряду. Какая картинка лишняя и почему? Объясни свой выб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905" t="11070" r="4368" b="15001"/>
          <a:stretch/>
        </p:blipFill>
        <p:spPr>
          <a:xfrm>
            <a:off x="792000" y="1757520"/>
            <a:ext cx="936720" cy="761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73480" y="1860480"/>
            <a:ext cx="1298520" cy="65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6719" t="4653" r="14010" b="4620"/>
          <a:stretch/>
        </p:blipFill>
        <p:spPr>
          <a:xfrm>
            <a:off x="5608800" y="1871640"/>
            <a:ext cx="583920" cy="668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959280" y="1944720"/>
            <a:ext cx="1152360" cy="650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60720" y="3938760"/>
            <a:ext cx="1079280" cy="596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5914" t="0" r="8474" b="0"/>
          <a:stretch/>
        </p:blipFill>
        <p:spPr>
          <a:xfrm>
            <a:off x="887400" y="3743280"/>
            <a:ext cx="719280" cy="1282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rcRect l="5947" t="4159" r="8060" b="4111"/>
          <a:stretch/>
        </p:blipFill>
        <p:spPr>
          <a:xfrm>
            <a:off x="3887640" y="3692520"/>
            <a:ext cx="936720" cy="1131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688000" y="3787920"/>
            <a:ext cx="827280" cy="11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1T19:48:21Z</dcterms:created>
  <dc:creator/>
  <dc:description/>
  <dc:language>en-US</dc:language>
  <cp:lastModifiedBy/>
  <dcterms:modified xsi:type="dcterms:W3CDTF">2022-02-02T09:51:46Z</dcterms:modified>
  <cp:revision>28</cp:revision>
  <dc:subject/>
  <dc:title>Bright Blue</dc:title>
</cp:coreProperties>
</file>