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3FA-5B1C-4718-8108-141D83A9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249-0452-4705-92C1-E246A9F3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381-12FF-4B5F-B98B-BA42F116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0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44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0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44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4D9-FD5C-4BAA-A92B-90069382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60AC-A229-4326-A768-0E9C480D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D8F-E338-429A-8AED-B923B4D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196-5051-4EF3-B49A-0FF1FBC0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513-3BE1-4F4B-9AF2-77755303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690-934E-4B1D-AD0A-31AF4F9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2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1A5-37DF-45D2-B058-0193567D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A796-C542-4AA6-B8D1-01A53CE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82A-3CA8-4A4B-A8CD-7B03CDB4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0D99-1E86-48DC-A888-E5A2E599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AE8-3291-451D-8DCF-13CCB0E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225-CADE-4265-8904-0B3CF57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F555-93FE-48C8-A769-F7BBE113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0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4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0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4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6F8-842C-4C55-91EE-1999BEF4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5C9-97FC-4342-8353-83B94C6C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5D3-8CBA-459D-9CD1-8930288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BFA-4095-4996-998B-B5379D3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2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229-29FE-4C15-A01E-CB31A00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DC2-4D41-4612-ABCA-156E47A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30A-388C-4B61-B1E2-F8F6168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13C-6AA6-49B8-A5DD-94F0317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120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00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3280" y="516384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3840"/>
            <a:ext cx="31874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384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470BA-F71C-48D9-866E-BFB9E11378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E3B02-CD89-4CCD-B85F-DAAFF1963D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31280"/>
            <a:ext cx="71978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Из чего — какой?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относительных прилагатель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280" y="11779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текла -                                               из пластмасс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металла -                                            из бумаг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фарфора -                                           из глин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чугун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981" t="0" r="16010" b="6164"/>
          <a:stretch/>
        </p:blipFill>
        <p:spPr>
          <a:xfrm>
            <a:off x="649440" y="1224000"/>
            <a:ext cx="430200" cy="6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6360" y="1944720"/>
            <a:ext cx="65412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67120" y="2043000"/>
            <a:ext cx="73188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60240" y="3672000"/>
            <a:ext cx="70812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5342" t="18092" r="3931" b="11339"/>
          <a:stretch/>
        </p:blipFill>
        <p:spPr>
          <a:xfrm>
            <a:off x="4751280" y="116856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9814" t="0" r="11977" b="4713"/>
          <a:stretch/>
        </p:blipFill>
        <p:spPr>
          <a:xfrm>
            <a:off x="720720" y="2879640"/>
            <a:ext cx="576360" cy="42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24833" t="14462" r="23543" b="10683"/>
          <a:stretch/>
        </p:blipFill>
        <p:spPr>
          <a:xfrm>
            <a:off x="4896000" y="2664000"/>
            <a:ext cx="576000" cy="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куда полож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хар                       мы положим в сахар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леб                        мы положим в хлеб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ло                      мы положим в масл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ь                         мы положим в соло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7958" t="10801" r="6817" b="6568"/>
          <a:stretch/>
        </p:blipFill>
        <p:spPr>
          <a:xfrm>
            <a:off x="1440000" y="128916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27640" y="1152360"/>
            <a:ext cx="666720" cy="69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10720" t="6650" r="12301" b="6588"/>
          <a:stretch/>
        </p:blipFill>
        <p:spPr>
          <a:xfrm>
            <a:off x="1511280" y="216072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0" t="14732" r="0" b="14698"/>
          <a:stretch/>
        </p:blipFill>
        <p:spPr>
          <a:xfrm>
            <a:off x="5400720" y="2155680"/>
            <a:ext cx="720720" cy="508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60840" y="2949480"/>
            <a:ext cx="1235160" cy="65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rcRect l="18780" t="0" r="20729" b="4603"/>
          <a:stretch/>
        </p:blipFill>
        <p:spPr>
          <a:xfrm>
            <a:off x="5276880" y="3745080"/>
            <a:ext cx="41112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rcRect l="21542" t="0" r="0" b="0"/>
          <a:stretch/>
        </p:blipFill>
        <p:spPr>
          <a:xfrm>
            <a:off x="1494000" y="3816360"/>
            <a:ext cx="664920" cy="474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rcRect l="13855" t="6160" r="20870" b="6118"/>
          <a:stretch/>
        </p:blipFill>
        <p:spPr>
          <a:xfrm>
            <a:off x="1584360" y="2879640"/>
            <a:ext cx="65736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 формы, размера бывает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части посуды ты зн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аких материалов делают посу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79640" y="3905280"/>
            <a:ext cx="156672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Как назвать все предметы общим слов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084040" y="2084400"/>
            <a:ext cx="1374840" cy="5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2200" y="3816360"/>
            <a:ext cx="101448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48360" y="2301840"/>
            <a:ext cx="1800360" cy="29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22600" y="1857240"/>
            <a:ext cx="29988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257520" y="2801520"/>
            <a:ext cx="44460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178240" y="3521160"/>
            <a:ext cx="83880" cy="37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00360" y="3089160"/>
            <a:ext cx="1224000" cy="588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Сосчитай и назов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множественного числа существительных в родительном падеже: 5 тарелок, 6 ложек, 3 кастрюли, 6 чашек, 6 вилок, 3 сковород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653" r="0" b="4620"/>
          <a:stretch/>
        </p:blipFill>
        <p:spPr>
          <a:xfrm>
            <a:off x="4319640" y="3262320"/>
            <a:ext cx="1481040" cy="134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21451" r="0" b="21418"/>
          <a:stretch/>
        </p:blipFill>
        <p:spPr>
          <a:xfrm>
            <a:off x="7343640" y="1655640"/>
            <a:ext cx="188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06400" y="1573200"/>
            <a:ext cx="14684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0432" t="10123" r="9196" b="10085"/>
          <a:stretch/>
        </p:blipFill>
        <p:spPr>
          <a:xfrm>
            <a:off x="792000" y="3672000"/>
            <a:ext cx="19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2986" t="4994" r="0" b="12730"/>
          <a:stretch/>
        </p:blipFill>
        <p:spPr>
          <a:xfrm>
            <a:off x="7156440" y="3816360"/>
            <a:ext cx="2421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rcRect l="3780" t="13460" r="6477" b="13363"/>
          <a:stretch/>
        </p:blipFill>
        <p:spPr>
          <a:xfrm>
            <a:off x="4032360" y="1584360"/>
            <a:ext cx="23032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картинки в каждом ряду. Какая картинка лишняя и почему? Объясни свой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5914" t="0" r="8474" b="0"/>
          <a:stretch/>
        </p:blipFill>
        <p:spPr>
          <a:xfrm>
            <a:off x="887400" y="3743280"/>
            <a:ext cx="719280" cy="128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rcRect l="5947" t="4159" r="8060" b="4111"/>
          <a:stretch/>
        </p:blipFill>
        <p:spPr>
          <a:xfrm>
            <a:off x="3887640" y="3692520"/>
            <a:ext cx="936720" cy="1131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688000" y="3787920"/>
            <a:ext cx="82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51:12Z</dcterms:modified>
  <cp:revision>30</cp:revision>
  <dc:subject/>
  <dc:title>Bright Blue</dc:title>
</cp:coreProperties>
</file>