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FB5-CFE9-46A0-AFB7-5AFD044E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306288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B9D-A245-4B99-A8B1-03386243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EE7-3136-49AC-AD00-23135D0B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04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444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04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444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880-6433-41B8-A15D-837DB452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3089-AA1A-41A7-A416-FC3DE2C7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9F28-9222-47D3-AFBA-AE9A5E09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8E9E-186E-4AD2-8C41-06C0753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4BD9-8B67-4A7A-947D-E95D3250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C28C-24C6-4303-A1E9-31B3EECF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3280" y="431640"/>
            <a:ext cx="7192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5499-871B-4E32-AD57-D8E3E0AF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C997-2B7F-4F5B-A66E-B278122F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6FC-B6EE-4FF1-AD7E-C97C02B8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0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E70D-4270-45C4-BF8E-557E19DD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D1D1-4E46-4A47-8BAA-E9F6CA6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80" y="306288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A42B-8984-4B51-9FE4-3665A24D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0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3018-F0E9-404F-81AC-25F7824A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04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440" y="134892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328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04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440" y="3062880"/>
            <a:ext cx="2919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8F3B-9B9E-411C-9636-1F402A47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8908-85C2-4A10-9BDF-78801DF5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321-2EBE-4AE4-9189-72413EB0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376-2F37-4777-971B-C69113D5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31640"/>
            <a:ext cx="7192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1B3-3837-434D-8100-D0B9894B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E2D-AE2F-4606-82CF-3C110F7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32814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306288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9D1-8EF3-4ABC-9512-2FEFC64E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1348920"/>
            <a:ext cx="44240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3062880"/>
            <a:ext cx="9066240" cy="1564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546-6A59-4C50-AF56-152391E4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1208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36800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3280" y="5163840"/>
            <a:ext cx="23400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5163840"/>
            <a:ext cx="318744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3840"/>
            <a:ext cx="23400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899DB-1C20-4052-9D2B-4F34680F3D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EC1E6-EB38-43E6-A073-C706FC0FE1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33.png"/><Relationship Id="rId6" Type="http://schemas.openxmlformats.org/officeDocument/2006/relationships/image" Target="../media/image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5.png"/><Relationship Id="rId4" Type="http://schemas.openxmlformats.org/officeDocument/2006/relationships/image" Target="../media/image29.png"/><Relationship Id="rId5" Type="http://schemas.openxmlformats.org/officeDocument/2006/relationships/image" Target="../media/image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68360" y="1079640"/>
            <a:ext cx="68580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31280"/>
            <a:ext cx="719784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«Из чего — какой?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зование относительных прилагатель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280" y="11779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стекла -                                               из пластмассы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металла -                                            из бумаги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фарфора -                                           из глины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чугун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3981" t="0" r="16010" b="6164"/>
          <a:stretch/>
        </p:blipFill>
        <p:spPr>
          <a:xfrm>
            <a:off x="649440" y="1224000"/>
            <a:ext cx="430200" cy="623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6360" y="1944720"/>
            <a:ext cx="654120" cy="503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67120" y="2043000"/>
            <a:ext cx="731880" cy="405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60240" y="3672000"/>
            <a:ext cx="708120" cy="358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5342" t="18092" r="3931" b="11339"/>
          <a:stretch/>
        </p:blipFill>
        <p:spPr>
          <a:xfrm>
            <a:off x="4751280" y="116856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rcRect l="9814" t="0" r="11977" b="4713"/>
          <a:stretch/>
        </p:blipFill>
        <p:spPr>
          <a:xfrm>
            <a:off x="720720" y="2879640"/>
            <a:ext cx="576360" cy="420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rcRect l="24833" t="14462" r="23543" b="10683"/>
          <a:stretch/>
        </p:blipFill>
        <p:spPr>
          <a:xfrm>
            <a:off x="4896000" y="2664000"/>
            <a:ext cx="576000" cy="67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куда полож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хар                       мы положим в сахар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леб                        мы положим в хлеб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ло                      мы положим в маслё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ь                         мы положим в соло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7958" t="10801" r="6817" b="6568"/>
          <a:stretch/>
        </p:blipFill>
        <p:spPr>
          <a:xfrm>
            <a:off x="1440000" y="1289160"/>
            <a:ext cx="792000" cy="51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27640" y="1152360"/>
            <a:ext cx="666720" cy="694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10720" t="6650" r="12301" b="6588"/>
          <a:stretch/>
        </p:blipFill>
        <p:spPr>
          <a:xfrm>
            <a:off x="1511280" y="2160720"/>
            <a:ext cx="576360" cy="431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rcRect l="0" t="14732" r="0" b="14698"/>
          <a:stretch/>
        </p:blipFill>
        <p:spPr>
          <a:xfrm>
            <a:off x="5400720" y="2155680"/>
            <a:ext cx="720720" cy="508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460840" y="2949480"/>
            <a:ext cx="1235160" cy="650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rcRect l="18780" t="0" r="20729" b="4603"/>
          <a:stretch/>
        </p:blipFill>
        <p:spPr>
          <a:xfrm>
            <a:off x="5276880" y="3745080"/>
            <a:ext cx="41112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rcRect l="21542" t="0" r="0" b="0"/>
          <a:stretch/>
        </p:blipFill>
        <p:spPr>
          <a:xfrm>
            <a:off x="1494000" y="3816360"/>
            <a:ext cx="664920" cy="474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rcRect l="13855" t="6160" r="20870" b="6118"/>
          <a:stretch/>
        </p:blipFill>
        <p:spPr>
          <a:xfrm>
            <a:off x="1584360" y="2879640"/>
            <a:ext cx="65736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спряталась на картинке? Наз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76360" y="1728720"/>
            <a:ext cx="5327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ови посуду, которую ты зн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чем нам нужна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й формы, размера бывает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есть у тебя на кух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части посуды ты знае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каких материалов делают посу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119640" y="1944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79640" y="3905280"/>
            <a:ext cx="156672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6000"/>
          </a:bodyPr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итель-логопед ГБУ ДО ЦППМСП Петродворцового района «Доверие» Бузлаева И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177480"/>
            <a:ext cx="70200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экране по щелчку мышки будут появляться картинки. Спросите у ребёнка, что он видит? Как называется этот предмет? Как назвать все предметы общим слово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9814" t="0" r="11977" b="4713"/>
          <a:stretch/>
        </p:blipFill>
        <p:spPr>
          <a:xfrm>
            <a:off x="1008000" y="17287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96000" y="4319640"/>
            <a:ext cx="151308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494" r="2038" b="8592"/>
          <a:stretch/>
        </p:blipFill>
        <p:spPr>
          <a:xfrm>
            <a:off x="938160" y="3168720"/>
            <a:ext cx="1581120" cy="833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632720" y="1658880"/>
            <a:ext cx="167004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4905" t="11070" r="4368" b="15001"/>
          <a:stretch/>
        </p:blipFill>
        <p:spPr>
          <a:xfrm>
            <a:off x="3816360" y="1584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3095640" y="4524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5543640" y="280836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08920" y="3227400"/>
            <a:ext cx="99216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чем нам нужна посуда? Проговорите с ребёнком значение каждого предмета. Для чего нужна кастрюля? Чайник? Чашка? Тарелка? Ножик? Ложка? Вилка? Поварёшка? Стакан? Сковород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44720" y="1008000"/>
            <a:ext cx="5765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и и назови, какая посуда есть на кухне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какая посуда есть у тебя на кух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701" t="1714" r="2701" b="3443"/>
          <a:stretch/>
        </p:blipFill>
        <p:spPr>
          <a:xfrm>
            <a:off x="2592360" y="1224000"/>
            <a:ext cx="48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ожно делать с посудой?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мыть, вытирать, ставить на стол, убирать со стола, готови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27280" y="205416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5421" t="8030" r="20729" b="7962"/>
          <a:stretch/>
        </p:blipFill>
        <p:spPr>
          <a:xfrm>
            <a:off x="1123920" y="1584360"/>
            <a:ext cx="82080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36720" y="3816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5539" t="0" r="7225" b="0"/>
          <a:stretch/>
        </p:blipFill>
        <p:spPr>
          <a:xfrm>
            <a:off x="7926480" y="1871640"/>
            <a:ext cx="1288800" cy="110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0" t="0" r="3857" b="0"/>
          <a:stretch/>
        </p:blipFill>
        <p:spPr>
          <a:xfrm>
            <a:off x="8136000" y="4032360"/>
            <a:ext cx="790560" cy="107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084040" y="2084400"/>
            <a:ext cx="1374840" cy="582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2200" y="3816360"/>
            <a:ext cx="101448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48360" y="2301840"/>
            <a:ext cx="1800360" cy="293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04000" y="3600360"/>
            <a:ext cx="2160360" cy="863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Части посу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072" t="8747" r="1605" b="9410"/>
          <a:stretch/>
        </p:blipFill>
        <p:spPr>
          <a:xfrm>
            <a:off x="3887640" y="2087640"/>
            <a:ext cx="23749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48000" y="1800360"/>
            <a:ext cx="79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00720" y="1511280"/>
            <a:ext cx="1055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4720" y="2735280"/>
            <a:ext cx="796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0360" y="3887640"/>
            <a:ext cx="54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1640" y="208764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22600" y="1857240"/>
            <a:ext cx="299880" cy="446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257520" y="2801520"/>
            <a:ext cx="44460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178240" y="3521160"/>
            <a:ext cx="83880" cy="372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3600360"/>
            <a:ext cx="87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600360" y="3089160"/>
            <a:ext cx="1224000" cy="588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Сосчитай и назов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зование множественного числа существительных в родительном падеже: 5 тарелок, 6 ложек, 3 кастрюли, 6 чашек, 6 вилок, 3 сковород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4653" r="0" b="4620"/>
          <a:stretch/>
        </p:blipFill>
        <p:spPr>
          <a:xfrm>
            <a:off x="4319640" y="3262320"/>
            <a:ext cx="1481040" cy="1344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21451" r="0" b="21418"/>
          <a:stretch/>
        </p:blipFill>
        <p:spPr>
          <a:xfrm>
            <a:off x="7343640" y="1655640"/>
            <a:ext cx="1889280" cy="107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06400" y="1573200"/>
            <a:ext cx="1468440" cy="1235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10432" t="10123" r="9196" b="10085"/>
          <a:stretch/>
        </p:blipFill>
        <p:spPr>
          <a:xfrm>
            <a:off x="792000" y="3672000"/>
            <a:ext cx="1943280" cy="151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rcRect l="2986" t="4994" r="0" b="12730"/>
          <a:stretch/>
        </p:blipFill>
        <p:spPr>
          <a:xfrm>
            <a:off x="7156440" y="3816360"/>
            <a:ext cx="24210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rcRect l="3780" t="13460" r="6477" b="13363"/>
          <a:stretch/>
        </p:blipFill>
        <p:spPr>
          <a:xfrm>
            <a:off x="4032360" y="1584360"/>
            <a:ext cx="230328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гра «Чего не стало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ёнку нужно сначала назвать все картинки, а потом закрыть глаза (взрослый щёлкает мышкой, картинка исчезает), открыть глаза и отгадать, чего не стало. (три раза — не стало чашки, кастрюли, ножа или ножи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6719" t="4653" r="14010" b="4620"/>
          <a:stretch/>
        </p:blipFill>
        <p:spPr>
          <a:xfrm>
            <a:off x="1152360" y="2448000"/>
            <a:ext cx="94320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8685" t="11372" r="7290" b="11339"/>
          <a:stretch/>
        </p:blipFill>
        <p:spPr>
          <a:xfrm>
            <a:off x="2735280" y="2519280"/>
            <a:ext cx="109548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13981" t="0" r="16010" b="6164"/>
          <a:stretch/>
        </p:blipFill>
        <p:spPr>
          <a:xfrm>
            <a:off x="6408720" y="266220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417920" y="2519280"/>
            <a:ext cx="141444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14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Что лишнее?»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зови картинки в каждом ряду. Какая картинка лишняя и почему? Объясни свой выб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905" t="11070" r="4368" b="15001"/>
          <a:stretch/>
        </p:blipFill>
        <p:spPr>
          <a:xfrm>
            <a:off x="792000" y="1757520"/>
            <a:ext cx="936720" cy="76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73480" y="1860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6719" t="4653" r="14010" b="4620"/>
          <a:stretch/>
        </p:blipFill>
        <p:spPr>
          <a:xfrm>
            <a:off x="5608800" y="1871640"/>
            <a:ext cx="583920" cy="668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959280" y="1944720"/>
            <a:ext cx="1152360" cy="650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160720" y="3938760"/>
            <a:ext cx="1079280" cy="59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rcRect l="15914" t="0" r="8474" b="0"/>
          <a:stretch/>
        </p:blipFill>
        <p:spPr>
          <a:xfrm>
            <a:off x="887400" y="3743280"/>
            <a:ext cx="719280" cy="128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rcRect l="5947" t="4159" r="8060" b="4111"/>
          <a:stretch/>
        </p:blipFill>
        <p:spPr>
          <a:xfrm>
            <a:off x="3887640" y="3692520"/>
            <a:ext cx="936720" cy="1131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5688000" y="3787920"/>
            <a:ext cx="82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1T19:48:21Z</dcterms:created>
  <dc:creator/>
  <dc:description/>
  <dc:language>en-US</dc:language>
  <cp:lastModifiedBy/>
  <dcterms:modified xsi:type="dcterms:W3CDTF">2022-02-02T09:51:12Z</dcterms:modified>
  <cp:revision>30</cp:revision>
  <dc:subject/>
  <dc:title>Bright Blue</dc:title>
</cp:coreProperties>
</file>