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757-DB83-4E16-9A8F-E387AF0A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D22-20B8-433E-9D62-37064A86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2B8-31D1-44D4-8771-9FC0D0B8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054-C68E-4332-A494-058C8654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BE1-2429-40C3-8A33-652B00AC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6C2-0D73-4BFC-A155-C296A591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C02-E1C3-499E-B4E6-9569822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6E4-64F2-4306-89A7-FA9D551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7756-C9A3-4037-BCE4-D7DAF016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C8F-9371-4534-B6B5-3AACF57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5C63-9CBB-4182-B22D-CBCF88AC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3C7-3868-422F-A53B-E7AD376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37C3-4622-4674-B021-A5B67F299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479840" y="1185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_1_4_wmv_50863.wmv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77840" y="1136520"/>
            <a:ext cx="698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Война и дет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 рассказу А.П. Плато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Маленький солда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914400" y="1560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й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вооруженная борьба между государствами или народ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98560" y="2855880"/>
            <a:ext cx="83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Линия фронт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– расположение войск, линия, по которой развернуты передовые подраз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5800" y="18828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одвиг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– героический, самоотверженный поступ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79440" y="1447920"/>
            <a:ext cx="725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исать отзыв о рассказе  А.П.Платонова   «Маленький солд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ложить свой вариант ответа на вопрос: «Как сложилась дальнейшая судьба главного героя рассказа А.П.Плат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Маленький солдат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дготовить иллюстрации на 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Война и де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Папка Дети-Герои Войны к 9 мая &quot; ДЕТсад"/>
          <p:cNvPicPr/>
          <p:nvPr/>
        </p:nvPicPr>
        <p:blipFill>
          <a:blip r:embed="rId2"/>
          <a:stretch/>
        </p:blipFill>
        <p:spPr>
          <a:xfrm>
            <a:off x="171360" y="228600"/>
            <a:ext cx="8744040" cy="6400800"/>
          </a:xfrm>
          <a:prstGeom prst="rect">
            <a:avLst/>
          </a:prstGeom>
          <a:ln w="0">
            <a:noFill/>
          </a:ln>
        </p:spPr>
      </p:pic>
      <p:pic>
        <p:nvPicPr>
          <p:cNvPr id="74" name="Voennye_pesni_-_ZHuravli_minusovka_(iPlayer.fm) (1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4367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20:04:46Z</dcterms:created>
  <dc:creator>Lenovo</dc:creator>
  <dc:description/>
  <dc:language>en-US</dc:language>
  <cp:lastModifiedBy>Пользователь</cp:lastModifiedBy>
  <dcterms:modified xsi:type="dcterms:W3CDTF">2022-05-03T08:42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