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BD4-7D4E-4A3A-86A7-9781CDFA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456-1FDA-4561-894F-C9D52CD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A5F-8FA8-485D-AFF1-F8DF8973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E1C-9A2E-48FD-B814-5D95DF24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E99-C450-4FE8-BD8A-AF168CD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76D-EB48-40D5-A305-FA3E443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8F1-4A54-45B0-B49D-01F50A8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D8A-2364-4911-9032-FA93101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9ED-8709-4EBA-B7E8-0205B45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5BF-16F4-4735-9A72-9BDFD47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51E-3093-407A-897E-49625BE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5B1-04B8-4D4D-813F-1BCB3C2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75E-E104-44B1-B8B0-EA11E3F72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479840" y="1185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_1_4_wmv_50863.wmv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77840" y="1136520"/>
            <a:ext cx="69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Война и дет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 рассказу А.П. Плато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Маленький солд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14400" y="1560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й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оруженная борьба между государствами или наро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2855880"/>
            <a:ext cx="83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Линия фронт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расположение войск, линия, по которой развернуты передовые подраз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5800" y="1882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одвиг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– героический, самоотверженный поступ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79440" y="1447920"/>
            <a:ext cx="725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исать отзыв о рассказе  А.П.Платонова   «Маленький солд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ложить свой вариант ответа на вопрос: «Как сложилась дальнейшая судьба главного героя рассказа А.П.Пла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Маленький солдат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готовить иллюстрации на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йна и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Папка Дети-Герои Войны к 9 мая &quot; ДЕТсад"/>
          <p:cNvPicPr/>
          <p:nvPr/>
        </p:nvPicPr>
        <p:blipFill>
          <a:blip r:embed="rId2"/>
          <a:stretch/>
        </p:blipFill>
        <p:spPr>
          <a:xfrm>
            <a:off x="171360" y="228600"/>
            <a:ext cx="8744040" cy="6400800"/>
          </a:xfrm>
          <a:prstGeom prst="rect">
            <a:avLst/>
          </a:prstGeom>
          <a:ln w="0">
            <a:noFill/>
          </a:ln>
        </p:spPr>
      </p:pic>
      <p:pic>
        <p:nvPicPr>
          <p:cNvPr id="74" name="Voennye_pesni_-_ZHuravli_minusovka_(iPlayer.fm) (1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4367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20:04:46Z</dcterms:created>
  <dc:creator>Lenovo</dc:creator>
  <dc:description/>
  <dc:language>en-US</dc:language>
  <cp:lastModifiedBy>Пользователь</cp:lastModifiedBy>
  <dcterms:modified xsi:type="dcterms:W3CDTF">2022-05-03T08:4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